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947-B249-4F8D-9B9C-044AEA4E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DF5-0944-4678-B0AB-8DE529F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E08-4427-490D-9599-0B0908F0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08C-6510-4040-AF80-7B967684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495-B001-4494-85D9-8A7D069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134-E7EC-46D7-B29F-438A87D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124-F889-49AD-861A-10CCF53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27E-D515-4D2D-95BB-505DC3E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6AA-C01E-4A12-B101-FA33BD3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CBF-14B7-4B0F-A245-84447BE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257-8F10-4CFF-8621-300C8C4E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EFB-E1A7-4274-A4A6-0840B484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659-4246-4DCF-837A-3B24C22A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Number_Starters.ppt" TargetMode="External"/><Relationship Id="rId2" Type="http://schemas.openxmlformats.org/officeDocument/2006/relationships/hyperlink" Target="file:///L1_Number_Starters.ppt" TargetMode="External"/><Relationship Id="rId3" Type="http://schemas.openxmlformats.org/officeDocument/2006/relationships/hyperlink" Target="file:///L1_Number_Starters.ppt" TargetMode="External"/><Relationship Id="rId4" Type="http://schemas.openxmlformats.org/officeDocument/2006/relationships/hyperlink" Target="file:///L1_Number_Starters.ppt" TargetMode="External"/><Relationship Id="rId5" Type="http://schemas.openxmlformats.org/officeDocument/2006/relationships/hyperlink" Target="file:///L1_Number_Starters.ppt" TargetMode="External"/><Relationship Id="rId6" Type="http://schemas.openxmlformats.org/officeDocument/2006/relationships/hyperlink" Target="file:///L1_Number_Starters.ppt" TargetMode="External"/><Relationship Id="rId7" Type="http://schemas.openxmlformats.org/officeDocument/2006/relationships/hyperlink" Target="file:///L1_Number_Starters.ppt" TargetMode="External"/><Relationship Id="rId8" Type="http://schemas.openxmlformats.org/officeDocument/2006/relationships/hyperlink" Target="file:///L1_Number_Starters.ppt" TargetMode="External"/><Relationship Id="rId9" Type="http://schemas.openxmlformats.org/officeDocument/2006/relationships/hyperlink" Target="file:///L1_Number_Starters.ppt" TargetMode="External"/><Relationship Id="rId10" Type="http://schemas.openxmlformats.org/officeDocument/2006/relationships/hyperlink" Target="file:///L1_Number_Starters.ppt" TargetMode="External"/><Relationship Id="rId11" Type="http://schemas.openxmlformats.org/officeDocument/2006/relationships/hyperlink" Target="file:///L1_Number_Starters.ppt" TargetMode="External"/><Relationship Id="rId12" Type="http://schemas.openxmlformats.org/officeDocument/2006/relationships/hyperlink" Target="file:///L1_Number_Starters.ppt" TargetMode="External"/><Relationship Id="rId13" Type="http://schemas.openxmlformats.org/officeDocument/2006/relationships/slide" Target="slide14.xml"/><Relationship Id="rId14" Type="http://schemas.openxmlformats.org/officeDocument/2006/relationships/hyperlink" Target="file:///L1_Number_Starters.ppt" TargetMode="External"/><Relationship Id="rId15" Type="http://schemas.openxmlformats.org/officeDocument/2006/relationships/hyperlink" Target="file:///L1_Number_Starters.ppt" TargetMode="External"/><Relationship Id="rId16" Type="http://schemas.openxmlformats.org/officeDocument/2006/relationships/hyperlink" Target="file:///L1_Number_Starters.ppt" TargetMode="External"/><Relationship Id="rId17" Type="http://schemas.openxmlformats.org/officeDocument/2006/relationships/hyperlink" Target="file:///L1_Number_Starters.ppt" TargetMode="External"/><Relationship Id="rId18" Type="http://schemas.openxmlformats.org/officeDocument/2006/relationships/hyperlink" Target="file:///L1_Number_Starters.ppt" TargetMode="External"/><Relationship Id="rId19" Type="http://schemas.openxmlformats.org/officeDocument/2006/relationships/hyperlink" Target="file:///L1_Number_Starters.ppt" TargetMode="External"/><Relationship Id="rId20" Type="http://schemas.openxmlformats.org/officeDocument/2006/relationships/hyperlink" Target="file:///L1_Number_Starters.ppt" TargetMode="External"/><Relationship Id="rId21" Type="http://schemas.openxmlformats.org/officeDocument/2006/relationships/hyperlink" Target="file:///L1_Number_Starters.ppt" TargetMode="External"/><Relationship Id="rId22" Type="http://schemas.openxmlformats.org/officeDocument/2006/relationships/hyperlink" Target="file:///L1_Number_Starters.ppt" TargetMode="External"/><Relationship Id="rId23" Type="http://schemas.openxmlformats.org/officeDocument/2006/relationships/hyperlink" Target="file:///L1_Number_Starters.ppt" TargetMode="External"/><Relationship Id="rId24" Type="http://schemas.openxmlformats.org/officeDocument/2006/relationships/hyperlink" Target="file:///L1_Number_Starters.ppt" TargetMode="External"/><Relationship Id="rId25" Type="http://schemas.openxmlformats.org/officeDocument/2006/relationships/hyperlink" Target="file:///L1_Number_Starters.ppt" TargetMode="External"/><Relationship Id="rId26" Type="http://schemas.openxmlformats.org/officeDocument/2006/relationships/hyperlink" Target="file:///L1_Number_Starters.ppt" TargetMode="External"/><Relationship Id="rId27" Type="http://schemas.openxmlformats.org/officeDocument/2006/relationships/hyperlink" Target="file:///L1_Number_Starters.ppt" TargetMode="External"/><Relationship Id="rId28" Type="http://schemas.openxmlformats.org/officeDocument/2006/relationships/hyperlink" Target="file:///L1_Number_Starters.ppt" TargetMode="External"/><Relationship Id="rId29" Type="http://schemas.openxmlformats.org/officeDocument/2006/relationships/hyperlink" Target="file:///L1_Number_Starters.ppt" TargetMode="External"/><Relationship Id="rId30" Type="http://schemas.openxmlformats.org/officeDocument/2006/relationships/hyperlink" Target="file:///L1_Number_Starters.ppt" TargetMode="External"/><Relationship Id="rId31" Type="http://schemas.openxmlformats.org/officeDocument/2006/relationships/hyperlink" Target="file:///L1_Number_Starters.ppt" TargetMode="External"/><Relationship Id="rId32" Type="http://schemas.openxmlformats.org/officeDocument/2006/relationships/hyperlink" Target="file:///L1_Number_Starters.ppt" TargetMode="External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1840" y="331560"/>
            <a:ext cx="583416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evel 1 Number Star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11120" y="139068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neral Number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gers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DMA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ultiples, Factors &amp; Prim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owers &amp; Root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ounding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andard Form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lculator Us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raction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Decimals, fractions Percentag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1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Fractions &amp; % of thing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% change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3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ncrease, Decrease by a percentage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4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Profit &amp; Los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atio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6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Mixed Question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owers &amp;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-9 +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g(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39640" y="49118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Highest common factor of 42 &amp; 6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w(3w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950760" y="1992240"/>
                <a:ext cx="905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993600" y="255600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5"/>
              <p:cNvSpPr txBox="1"/>
              <p:nvPr/>
            </p:nvSpPr>
            <p:spPr>
              <a:xfrm>
                <a:off x="1042920" y="3141720"/>
                <a:ext cx="149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owers &amp; Root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-9 +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g(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539640" y="49118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Highest common factor of 42 &amp; 6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w(3w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3"/>
              <p:cNvSpPr txBox="1"/>
              <p:nvPr/>
            </p:nvSpPr>
            <p:spPr>
              <a:xfrm>
                <a:off x="950760" y="1992240"/>
                <a:ext cx="905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4"/>
              <p:cNvSpPr txBox="1"/>
              <p:nvPr/>
            </p:nvSpPr>
            <p:spPr>
              <a:xfrm>
                <a:off x="993600" y="255600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5"/>
              <p:cNvSpPr txBox="1"/>
              <p:nvPr/>
            </p:nvSpPr>
            <p:spPr>
              <a:xfrm>
                <a:off x="1042920" y="3141720"/>
                <a:ext cx="149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Round $3.53 to the nearest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Round 5.266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Round 9.827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Round 268 356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Round 0.002577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    to 3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Factors of 4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k(4k – 9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m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5"/>
              <p:cNvSpPr txBox="1"/>
              <p:nvPr/>
            </p:nvSpPr>
            <p:spPr>
              <a:xfrm>
                <a:off x="971640" y="3716280"/>
                <a:ext cx="151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900000" y="4303800"/>
                <a:ext cx="398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2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ounding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Round $3.53 to the nearest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Round 5.266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Round 9.827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Round 268 356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Round 0.002577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    to 3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Factors of 4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k(4k – 9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m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3"/>
              <p:cNvSpPr txBox="1"/>
              <p:nvPr/>
            </p:nvSpPr>
            <p:spPr>
              <a:xfrm>
                <a:off x="971640" y="3716280"/>
                <a:ext cx="151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4"/>
              <p:cNvSpPr txBox="1"/>
              <p:nvPr/>
            </p:nvSpPr>
            <p:spPr>
              <a:xfrm>
                <a:off x="900000" y="4303800"/>
                <a:ext cx="398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6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450 000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0 028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6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pent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Round 0.003957 to 3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h(h + 3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3"/>
              <p:cNvSpPr txBox="1"/>
              <p:nvPr/>
            </p:nvSpPr>
            <p:spPr>
              <a:xfrm>
                <a:off x="1012680" y="3716280"/>
                <a:ext cx="1428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9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A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450 000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0 028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6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pent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Round 0.003957 to 3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h(h + 3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3"/>
              <p:cNvSpPr txBox="1"/>
              <p:nvPr/>
            </p:nvSpPr>
            <p:spPr>
              <a:xfrm>
                <a:off x="1012680" y="3716280"/>
                <a:ext cx="1428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2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nk 15"/>
          <p:cNvSpPr/>
          <p:nvPr/>
        </p:nvSpPr>
        <p:spPr>
          <a:xfrm>
            <a:off x="7281720" y="2216160"/>
            <a:ext cx="1206720" cy="68400"/>
          </a:xfrm>
          <a:custGeom>
            <a:avLst/>
            <a:gdLst/>
            <a:ahLst/>
            <a:rect l="l" t="t" r="r" b="b"/>
            <a:pathLst>
              <a:path w="3350" h="192">
                <a:moveTo>
                  <a:pt x="20227" y="6346"/>
                </a:moveTo>
                <a:cubicBezTo>
                  <a:pt x="20249" y="6325"/>
                  <a:pt x="20246" y="6303"/>
                  <a:pt x="20281" y="6286"/>
                </a:cubicBezTo>
                <a:cubicBezTo>
                  <a:pt x="20337" y="6259"/>
                  <a:pt x="20411" y="6251"/>
                  <a:pt x="20472" y="6246"/>
                </a:cubicBezTo>
                <a:cubicBezTo>
                  <a:pt x="20888" y="6209"/>
                  <a:pt x="21312" y="6245"/>
                  <a:pt x="21729" y="6228"/>
                </a:cubicBezTo>
                <a:cubicBezTo>
                  <a:pt x="22270" y="6206"/>
                  <a:pt x="22830" y="6109"/>
                  <a:pt x="23371" y="6166"/>
                </a:cubicBezTo>
                <a:cubicBezTo>
                  <a:pt x="23448" y="6174"/>
                  <a:pt x="23508" y="6194"/>
                  <a:pt x="23576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nk 16"/>
          <p:cNvSpPr/>
          <p:nvPr/>
        </p:nvSpPr>
        <p:spPr>
          <a:xfrm>
            <a:off x="5589720" y="2546280"/>
            <a:ext cx="1174680" cy="346320"/>
          </a:xfrm>
          <a:custGeom>
            <a:avLst/>
            <a:gdLst/>
            <a:ahLst/>
            <a:rect l="l" t="t" r="r" b="b"/>
            <a:pathLst>
              <a:path w="3262" h="961">
                <a:moveTo>
                  <a:pt x="18053" y="7591"/>
                </a:moveTo>
                <a:cubicBezTo>
                  <a:pt x="18070" y="7583"/>
                  <a:pt x="18089" y="7575"/>
                  <a:pt x="18105" y="7565"/>
                </a:cubicBezTo>
                <a:cubicBezTo>
                  <a:pt x="18129" y="7549"/>
                  <a:pt x="18160" y="7535"/>
                  <a:pt x="18181" y="7515"/>
                </a:cubicBezTo>
                <a:cubicBezTo>
                  <a:pt x="18183" y="7512"/>
                  <a:pt x="18186" y="7508"/>
                  <a:pt x="18188" y="7505"/>
                </a:cubicBezTo>
                <a:cubicBezTo>
                  <a:pt x="18156" y="7521"/>
                  <a:pt x="18128" y="7536"/>
                  <a:pt x="18099" y="7557"/>
                </a:cubicBezTo>
                <a:cubicBezTo>
                  <a:pt x="18063" y="7584"/>
                  <a:pt x="18018" y="7619"/>
                  <a:pt x="18017" y="7669"/>
                </a:cubicBezTo>
                <a:cubicBezTo>
                  <a:pt x="18016" y="7723"/>
                  <a:pt x="18080" y="7758"/>
                  <a:pt x="18119" y="7782"/>
                </a:cubicBezTo>
                <a:cubicBezTo>
                  <a:pt x="18178" y="7819"/>
                  <a:pt x="18247" y="7844"/>
                  <a:pt x="18300" y="7890"/>
                </a:cubicBezTo>
                <a:cubicBezTo>
                  <a:pt x="18338" y="7923"/>
                  <a:pt x="18350" y="7958"/>
                  <a:pt x="18306" y="7991"/>
                </a:cubicBezTo>
                <a:cubicBezTo>
                  <a:pt x="18254" y="8029"/>
                  <a:pt x="18181" y="8038"/>
                  <a:pt x="18120" y="8029"/>
                </a:cubicBezTo>
                <a:cubicBezTo>
                  <a:pt x="18061" y="8020"/>
                  <a:pt x="18037" y="7993"/>
                  <a:pt x="17997" y="7954"/>
                </a:cubicBezTo>
              </a:path>
              <a:path w="3262" h="961">
                <a:moveTo>
                  <a:pt x="18111" y="7584"/>
                </a:moveTo>
                <a:cubicBezTo>
                  <a:pt x="18153" y="7559"/>
                  <a:pt x="18203" y="7525"/>
                  <a:pt x="18255" y="7524"/>
                </a:cubicBezTo>
                <a:cubicBezTo>
                  <a:pt x="18309" y="7523"/>
                  <a:pt x="18359" y="7553"/>
                  <a:pt x="18404" y="7578"/>
                </a:cubicBezTo>
                <a:cubicBezTo>
                  <a:pt x="18463" y="7611"/>
                  <a:pt x="18519" y="7640"/>
                  <a:pt x="18581" y="7666"/>
                </a:cubicBezTo>
              </a:path>
              <a:path w="3262" h="961">
                <a:moveTo>
                  <a:pt x="18788" y="7594"/>
                </a:moveTo>
                <a:cubicBezTo>
                  <a:pt x="18780" y="7614"/>
                  <a:pt x="18776" y="7633"/>
                  <a:pt x="18779" y="7655"/>
                </a:cubicBezTo>
                <a:cubicBezTo>
                  <a:pt x="18781" y="7669"/>
                  <a:pt x="18776" y="7647"/>
                  <a:pt x="18775" y="7633"/>
                </a:cubicBezTo>
              </a:path>
              <a:path w="3262" h="961">
                <a:moveTo>
                  <a:pt x="18704" y="7509"/>
                </a:moveTo>
                <a:cubicBezTo>
                  <a:pt x="18712" y="7503"/>
                  <a:pt x="18741" y="7516"/>
                  <a:pt x="18749" y="7491"/>
                </a:cubicBezTo>
                <a:cubicBezTo>
                  <a:pt x="18760" y="7455"/>
                  <a:pt x="18729" y="7423"/>
                  <a:pt x="18710" y="7397"/>
                </a:cubicBezTo>
                <a:cubicBezTo>
                  <a:pt x="18646" y="7311"/>
                  <a:pt x="18528" y="7253"/>
                  <a:pt x="18432" y="7214"/>
                </a:cubicBezTo>
                <a:cubicBezTo>
                  <a:pt x="18331" y="7173"/>
                  <a:pt x="18221" y="7162"/>
                  <a:pt x="18113" y="7184"/>
                </a:cubicBezTo>
                <a:cubicBezTo>
                  <a:pt x="18055" y="7196"/>
                  <a:pt x="18004" y="7222"/>
                  <a:pt x="17961" y="7262"/>
                </a:cubicBezTo>
                <a:cubicBezTo>
                  <a:pt x="17900" y="7319"/>
                  <a:pt x="17809" y="7433"/>
                  <a:pt x="17798" y="7519"/>
                </a:cubicBezTo>
                <a:cubicBezTo>
                  <a:pt x="17798" y="7529"/>
                  <a:pt x="17799" y="7533"/>
                  <a:pt x="17805" y="7539"/>
                </a:cubicBezTo>
                <a:cubicBezTo>
                  <a:pt x="17812" y="7517"/>
                  <a:pt x="17824" y="7501"/>
                  <a:pt x="17824" y="7471"/>
                </a:cubicBezTo>
                <a:cubicBezTo>
                  <a:pt x="17823" y="7398"/>
                  <a:pt x="17795" y="7339"/>
                  <a:pt x="17748" y="7285"/>
                </a:cubicBezTo>
                <a:cubicBezTo>
                  <a:pt x="17686" y="7214"/>
                  <a:pt x="17599" y="7198"/>
                  <a:pt x="17508" y="7204"/>
                </a:cubicBezTo>
                <a:cubicBezTo>
                  <a:pt x="17407" y="7211"/>
                  <a:pt x="17322" y="7272"/>
                  <a:pt x="17270" y="7357"/>
                </a:cubicBezTo>
                <a:cubicBezTo>
                  <a:pt x="17246" y="7396"/>
                  <a:pt x="17251" y="7421"/>
                  <a:pt x="17277" y="7457"/>
                </a:cubicBezTo>
                <a:cubicBezTo>
                  <a:pt x="17281" y="7458"/>
                  <a:pt x="17285" y="7458"/>
                  <a:pt x="17289" y="7459"/>
                </a:cubicBezTo>
                <a:cubicBezTo>
                  <a:pt x="17297" y="7416"/>
                  <a:pt x="17306" y="7382"/>
                  <a:pt x="17298" y="7335"/>
                </a:cubicBezTo>
                <a:cubicBezTo>
                  <a:pt x="17284" y="7250"/>
                  <a:pt x="17239" y="7163"/>
                  <a:pt x="17151" y="7135"/>
                </a:cubicBezTo>
                <a:cubicBezTo>
                  <a:pt x="17096" y="7118"/>
                  <a:pt x="17045" y="7138"/>
                  <a:pt x="16998" y="7165"/>
                </a:cubicBezTo>
                <a:cubicBezTo>
                  <a:pt x="16955" y="7189"/>
                  <a:pt x="16911" y="7220"/>
                  <a:pt x="16874" y="7252"/>
                </a:cubicBezTo>
                <a:cubicBezTo>
                  <a:pt x="16831" y="7289"/>
                  <a:pt x="16806" y="7327"/>
                  <a:pt x="16779" y="7373"/>
                </a:cubicBezTo>
                <a:cubicBezTo>
                  <a:pt x="16798" y="7306"/>
                  <a:pt x="16823" y="7234"/>
                  <a:pt x="16781" y="7169"/>
                </a:cubicBezTo>
                <a:cubicBezTo>
                  <a:pt x="16711" y="7060"/>
                  <a:pt x="16560" y="7052"/>
                  <a:pt x="16469" y="7131"/>
                </a:cubicBezTo>
                <a:cubicBezTo>
                  <a:pt x="16399" y="7192"/>
                  <a:pt x="16329" y="7294"/>
                  <a:pt x="16308" y="7386"/>
                </a:cubicBezTo>
                <a:cubicBezTo>
                  <a:pt x="16305" y="7399"/>
                  <a:pt x="16308" y="7411"/>
                  <a:pt x="16306" y="7424"/>
                </a:cubicBezTo>
                <a:cubicBezTo>
                  <a:pt x="16323" y="7413"/>
                  <a:pt x="16338" y="7405"/>
                  <a:pt x="16356" y="7391"/>
                </a:cubicBezTo>
              </a:path>
              <a:path w="3262" h="961">
                <a:moveTo>
                  <a:pt x="17447" y="7631"/>
                </a:moveTo>
                <a:cubicBezTo>
                  <a:pt x="17423" y="7618"/>
                  <a:pt x="17420" y="7617"/>
                  <a:pt x="17401" y="7629"/>
                </a:cubicBezTo>
                <a:cubicBezTo>
                  <a:pt x="17367" y="7651"/>
                  <a:pt x="17350" y="7682"/>
                  <a:pt x="17328" y="7716"/>
                </a:cubicBezTo>
                <a:cubicBezTo>
                  <a:pt x="17300" y="7760"/>
                  <a:pt x="17274" y="7810"/>
                  <a:pt x="17263" y="7862"/>
                </a:cubicBezTo>
                <a:cubicBezTo>
                  <a:pt x="17256" y="7897"/>
                  <a:pt x="17253" y="7949"/>
                  <a:pt x="17290" y="7971"/>
                </a:cubicBezTo>
                <a:cubicBezTo>
                  <a:pt x="17327" y="7993"/>
                  <a:pt x="17390" y="7979"/>
                  <a:pt x="17426" y="7963"/>
                </a:cubicBezTo>
                <a:cubicBezTo>
                  <a:pt x="17493" y="7933"/>
                  <a:pt x="17553" y="7877"/>
                  <a:pt x="17568" y="7803"/>
                </a:cubicBezTo>
                <a:cubicBezTo>
                  <a:pt x="17579" y="7751"/>
                  <a:pt x="17557" y="7703"/>
                  <a:pt x="17517" y="7669"/>
                </a:cubicBezTo>
                <a:cubicBezTo>
                  <a:pt x="17478" y="7636"/>
                  <a:pt x="17425" y="7627"/>
                  <a:pt x="17376" y="7626"/>
                </a:cubicBezTo>
                <a:cubicBezTo>
                  <a:pt x="17344" y="7627"/>
                  <a:pt x="17336" y="7627"/>
                  <a:pt x="17316" y="7630"/>
                </a:cubicBezTo>
              </a:path>
              <a:path w="3262" h="961">
                <a:moveTo>
                  <a:pt x="16835" y="7566"/>
                </a:moveTo>
                <a:cubicBezTo>
                  <a:pt x="16813" y="7581"/>
                  <a:pt x="16784" y="7602"/>
                  <a:pt x="16772" y="7627"/>
                </a:cubicBezTo>
                <a:cubicBezTo>
                  <a:pt x="16755" y="7663"/>
                  <a:pt x="16744" y="7717"/>
                  <a:pt x="16749" y="7757"/>
                </a:cubicBezTo>
                <a:cubicBezTo>
                  <a:pt x="16754" y="7799"/>
                  <a:pt x="16778" y="7834"/>
                  <a:pt x="16819" y="7847"/>
                </a:cubicBezTo>
                <a:cubicBezTo>
                  <a:pt x="16863" y="7861"/>
                  <a:pt x="16911" y="7841"/>
                  <a:pt x="16945" y="7815"/>
                </a:cubicBezTo>
                <a:cubicBezTo>
                  <a:pt x="16986" y="7784"/>
                  <a:pt x="17008" y="7737"/>
                  <a:pt x="17010" y="7686"/>
                </a:cubicBezTo>
                <a:cubicBezTo>
                  <a:pt x="17012" y="7632"/>
                  <a:pt x="16985" y="7592"/>
                  <a:pt x="16941" y="7564"/>
                </a:cubicBezTo>
                <a:cubicBezTo>
                  <a:pt x="16896" y="7535"/>
                  <a:pt x="16842" y="7532"/>
                  <a:pt x="16791" y="7540"/>
                </a:cubicBezTo>
                <a:cubicBezTo>
                  <a:pt x="16762" y="7545"/>
                  <a:pt x="16738" y="7556"/>
                  <a:pt x="16712" y="7567"/>
                </a:cubicBezTo>
              </a:path>
              <a:path w="3262" h="961">
                <a:moveTo>
                  <a:pt x="16469" y="7509"/>
                </a:moveTo>
                <a:cubicBezTo>
                  <a:pt x="16447" y="7514"/>
                  <a:pt x="16425" y="7526"/>
                  <a:pt x="16411" y="7545"/>
                </a:cubicBezTo>
                <a:cubicBezTo>
                  <a:pt x="16387" y="7578"/>
                  <a:pt x="16375" y="7621"/>
                  <a:pt x="16369" y="7661"/>
                </a:cubicBezTo>
                <a:cubicBezTo>
                  <a:pt x="16362" y="7705"/>
                  <a:pt x="16360" y="7752"/>
                  <a:pt x="16382" y="7792"/>
                </a:cubicBezTo>
                <a:cubicBezTo>
                  <a:pt x="16401" y="7828"/>
                  <a:pt x="16438" y="7832"/>
                  <a:pt x="16472" y="7819"/>
                </a:cubicBezTo>
                <a:cubicBezTo>
                  <a:pt x="16520" y="7802"/>
                  <a:pt x="16547" y="7760"/>
                  <a:pt x="16568" y="7717"/>
                </a:cubicBezTo>
                <a:cubicBezTo>
                  <a:pt x="16586" y="7679"/>
                  <a:pt x="16600" y="7626"/>
                  <a:pt x="16577" y="7586"/>
                </a:cubicBezTo>
                <a:cubicBezTo>
                  <a:pt x="16558" y="7552"/>
                  <a:pt x="16526" y="7550"/>
                  <a:pt x="16492" y="7553"/>
                </a:cubicBezTo>
                <a:cubicBezTo>
                  <a:pt x="16486" y="7554"/>
                  <a:pt x="16479" y="7554"/>
                  <a:pt x="16473" y="7555"/>
                </a:cubicBezTo>
              </a:path>
              <a:path w="3262" h="961">
                <a:moveTo>
                  <a:pt x="16111" y="7671"/>
                </a:moveTo>
                <a:cubicBezTo>
                  <a:pt x="16124" y="7655"/>
                  <a:pt x="16128" y="7651"/>
                  <a:pt x="16124" y="7631"/>
                </a:cubicBezTo>
                <a:cubicBezTo>
                  <a:pt x="16113" y="7644"/>
                  <a:pt x="16103" y="7658"/>
                  <a:pt x="16092" y="7671"/>
                </a:cubicBezTo>
                <a:cubicBezTo>
                  <a:pt x="16080" y="7685"/>
                  <a:pt x="16065" y="7701"/>
                  <a:pt x="16063" y="7720"/>
                </a:cubicBezTo>
                <a:cubicBezTo>
                  <a:pt x="16063" y="7723"/>
                  <a:pt x="16064" y="7726"/>
                  <a:pt x="16064" y="7729"/>
                </a:cubicBezTo>
                <a:cubicBezTo>
                  <a:pt x="16086" y="7741"/>
                  <a:pt x="16096" y="7739"/>
                  <a:pt x="16118" y="7723"/>
                </a:cubicBezTo>
                <a:cubicBezTo>
                  <a:pt x="16140" y="7707"/>
                  <a:pt x="16157" y="7686"/>
                  <a:pt x="16168" y="7662"/>
                </a:cubicBezTo>
                <a:cubicBezTo>
                  <a:pt x="16176" y="7644"/>
                  <a:pt x="16174" y="7638"/>
                  <a:pt x="16168" y="7621"/>
                </a:cubicBezTo>
                <a:cubicBezTo>
                  <a:pt x="16145" y="7610"/>
                  <a:pt x="16131" y="7613"/>
                  <a:pt x="16108" y="7625"/>
                </a:cubicBezTo>
                <a:cubicBezTo>
                  <a:pt x="16088" y="7635"/>
                  <a:pt x="16062" y="7658"/>
                  <a:pt x="16060" y="7682"/>
                </a:cubicBezTo>
                <a:cubicBezTo>
                  <a:pt x="16058" y="7711"/>
                  <a:pt x="16094" y="7714"/>
                  <a:pt x="16114" y="7713"/>
                </a:cubicBezTo>
                <a:cubicBezTo>
                  <a:pt x="16145" y="7711"/>
                  <a:pt x="16176" y="7700"/>
                  <a:pt x="16199" y="7679"/>
                </a:cubicBezTo>
                <a:cubicBezTo>
                  <a:pt x="16226" y="7654"/>
                  <a:pt x="16168" y="7653"/>
                  <a:pt x="16158" y="7652"/>
                </a:cubicBezTo>
                <a:cubicBezTo>
                  <a:pt x="16154" y="7651"/>
                  <a:pt x="16151" y="7651"/>
                  <a:pt x="16147" y="7650"/>
                </a:cubicBezTo>
              </a:path>
              <a:path w="3262" h="961">
                <a:moveTo>
                  <a:pt x="15760" y="7463"/>
                </a:moveTo>
                <a:cubicBezTo>
                  <a:pt x="15749" y="7467"/>
                  <a:pt x="15742" y="7466"/>
                  <a:pt x="15725" y="7480"/>
                </a:cubicBezTo>
                <a:cubicBezTo>
                  <a:pt x="15701" y="7501"/>
                  <a:pt x="15679" y="7524"/>
                  <a:pt x="15659" y="7549"/>
                </a:cubicBezTo>
                <a:cubicBezTo>
                  <a:pt x="15595" y="7629"/>
                  <a:pt x="15528" y="7732"/>
                  <a:pt x="15527" y="7839"/>
                </a:cubicBezTo>
                <a:cubicBezTo>
                  <a:pt x="15527" y="7876"/>
                  <a:pt x="15539" y="7915"/>
                  <a:pt x="15569" y="7938"/>
                </a:cubicBezTo>
                <a:cubicBezTo>
                  <a:pt x="15596" y="7959"/>
                  <a:pt x="15635" y="7961"/>
                  <a:pt x="15667" y="7952"/>
                </a:cubicBezTo>
                <a:cubicBezTo>
                  <a:pt x="15713" y="7939"/>
                  <a:pt x="15752" y="7906"/>
                  <a:pt x="15783" y="7871"/>
                </a:cubicBezTo>
                <a:cubicBezTo>
                  <a:pt x="15825" y="7823"/>
                  <a:pt x="15857" y="7764"/>
                  <a:pt x="15879" y="7704"/>
                </a:cubicBezTo>
                <a:cubicBezTo>
                  <a:pt x="15901" y="7644"/>
                  <a:pt x="15913" y="7568"/>
                  <a:pt x="15879" y="7510"/>
                </a:cubicBezTo>
                <a:cubicBezTo>
                  <a:pt x="15856" y="7471"/>
                  <a:pt x="15819" y="7454"/>
                  <a:pt x="15779" y="7442"/>
                </a:cubicBezTo>
                <a:cubicBezTo>
                  <a:pt x="15743" y="7431"/>
                  <a:pt x="15708" y="7422"/>
                  <a:pt x="15673" y="7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nk 17"/>
          <p:cNvSpPr/>
          <p:nvPr/>
        </p:nvSpPr>
        <p:spPr>
          <a:xfrm>
            <a:off x="5657760" y="1941480"/>
            <a:ext cx="1117800" cy="277920"/>
          </a:xfrm>
          <a:custGeom>
            <a:avLst/>
            <a:gdLst/>
            <a:ahLst/>
            <a:rect l="l" t="t" r="r" b="b"/>
            <a:pathLst>
              <a:path w="3104" h="774">
                <a:moveTo>
                  <a:pt x="15734" y="5641"/>
                </a:moveTo>
                <a:cubicBezTo>
                  <a:pt x="15739" y="5616"/>
                  <a:pt x="15712" y="5637"/>
                  <a:pt x="15732" y="5598"/>
                </a:cubicBezTo>
                <a:cubicBezTo>
                  <a:pt x="15756" y="5551"/>
                  <a:pt x="15815" y="5511"/>
                  <a:pt x="15856" y="5481"/>
                </a:cubicBezTo>
                <a:cubicBezTo>
                  <a:pt x="15903" y="5446"/>
                  <a:pt x="15996" y="5383"/>
                  <a:pt x="16060" y="5403"/>
                </a:cubicBezTo>
                <a:cubicBezTo>
                  <a:pt x="16122" y="5423"/>
                  <a:pt x="16121" y="5461"/>
                  <a:pt x="16131" y="5517"/>
                </a:cubicBezTo>
                <a:cubicBezTo>
                  <a:pt x="16138" y="5558"/>
                  <a:pt x="16149" y="5603"/>
                  <a:pt x="16158" y="5638"/>
                </a:cubicBezTo>
                <a:cubicBezTo>
                  <a:pt x="16192" y="5599"/>
                  <a:pt x="16225" y="5558"/>
                  <a:pt x="16264" y="5524"/>
                </a:cubicBezTo>
                <a:cubicBezTo>
                  <a:pt x="16346" y="5452"/>
                  <a:pt x="16474" y="5387"/>
                  <a:pt x="16575" y="5461"/>
                </a:cubicBezTo>
                <a:cubicBezTo>
                  <a:pt x="16611" y="5487"/>
                  <a:pt x="16629" y="5530"/>
                  <a:pt x="16638" y="5572"/>
                </a:cubicBezTo>
                <a:cubicBezTo>
                  <a:pt x="16646" y="5609"/>
                  <a:pt x="16647" y="5667"/>
                  <a:pt x="16650" y="5695"/>
                </a:cubicBezTo>
                <a:cubicBezTo>
                  <a:pt x="16679" y="5656"/>
                  <a:pt x="16707" y="5616"/>
                  <a:pt x="16741" y="5581"/>
                </a:cubicBezTo>
                <a:cubicBezTo>
                  <a:pt x="16769" y="5552"/>
                  <a:pt x="16800" y="5524"/>
                  <a:pt x="16836" y="5503"/>
                </a:cubicBezTo>
                <a:cubicBezTo>
                  <a:pt x="16916" y="5457"/>
                  <a:pt x="17040" y="5410"/>
                  <a:pt x="17123" y="5469"/>
                </a:cubicBezTo>
                <a:cubicBezTo>
                  <a:pt x="17186" y="5514"/>
                  <a:pt x="17195" y="5591"/>
                  <a:pt x="17202" y="5662"/>
                </a:cubicBezTo>
                <a:cubicBezTo>
                  <a:pt x="17204" y="5681"/>
                  <a:pt x="17204" y="5700"/>
                  <a:pt x="17205" y="5719"/>
                </a:cubicBezTo>
                <a:cubicBezTo>
                  <a:pt x="17240" y="5674"/>
                  <a:pt x="17271" y="5624"/>
                  <a:pt x="17306" y="5579"/>
                </a:cubicBezTo>
                <a:cubicBezTo>
                  <a:pt x="17369" y="5499"/>
                  <a:pt x="17428" y="5454"/>
                  <a:pt x="17533" y="5461"/>
                </a:cubicBezTo>
                <a:cubicBezTo>
                  <a:pt x="17619" y="5467"/>
                  <a:pt x="17695" y="5491"/>
                  <a:pt x="17731" y="5573"/>
                </a:cubicBezTo>
                <a:cubicBezTo>
                  <a:pt x="17751" y="5618"/>
                  <a:pt x="17758" y="5686"/>
                  <a:pt x="17769" y="5725"/>
                </a:cubicBezTo>
                <a:cubicBezTo>
                  <a:pt x="17783" y="5647"/>
                  <a:pt x="17794" y="5567"/>
                  <a:pt x="17839" y="5499"/>
                </a:cubicBezTo>
                <a:cubicBezTo>
                  <a:pt x="17872" y="5450"/>
                  <a:pt x="17903" y="5435"/>
                  <a:pt x="17961" y="5438"/>
                </a:cubicBezTo>
                <a:cubicBezTo>
                  <a:pt x="18017" y="5441"/>
                  <a:pt x="18095" y="5480"/>
                  <a:pt x="18131" y="5522"/>
                </a:cubicBezTo>
                <a:cubicBezTo>
                  <a:pt x="18169" y="5566"/>
                  <a:pt x="18188" y="5643"/>
                  <a:pt x="18213" y="5691"/>
                </a:cubicBezTo>
                <a:cubicBezTo>
                  <a:pt x="18226" y="5672"/>
                  <a:pt x="18243" y="5655"/>
                  <a:pt x="18255" y="5633"/>
                </a:cubicBezTo>
                <a:cubicBezTo>
                  <a:pt x="18312" y="5527"/>
                  <a:pt x="18353" y="5423"/>
                  <a:pt x="18484" y="5397"/>
                </a:cubicBezTo>
                <a:cubicBezTo>
                  <a:pt x="18636" y="5367"/>
                  <a:pt x="18719" y="5468"/>
                  <a:pt x="18773" y="5592"/>
                </a:cubicBezTo>
                <a:cubicBezTo>
                  <a:pt x="18787" y="5623"/>
                  <a:pt x="18810" y="5663"/>
                  <a:pt x="18820" y="5691"/>
                </a:cubicBezTo>
                <a:cubicBezTo>
                  <a:pt x="18817" y="5688"/>
                  <a:pt x="18813" y="5684"/>
                  <a:pt x="18810" y="5681"/>
                </a:cubicBezTo>
              </a:path>
              <a:path w="3104" h="774">
                <a:moveTo>
                  <a:pt x="16844" y="5843"/>
                </a:moveTo>
                <a:cubicBezTo>
                  <a:pt x="16827" y="5831"/>
                  <a:pt x="16816" y="5840"/>
                  <a:pt x="16804" y="5860"/>
                </a:cubicBezTo>
                <a:cubicBezTo>
                  <a:pt x="16787" y="5889"/>
                  <a:pt x="16770" y="5920"/>
                  <a:pt x="16759" y="5952"/>
                </a:cubicBezTo>
                <a:cubicBezTo>
                  <a:pt x="16746" y="5989"/>
                  <a:pt x="16739" y="6028"/>
                  <a:pt x="16741" y="6067"/>
                </a:cubicBezTo>
                <a:cubicBezTo>
                  <a:pt x="16743" y="6097"/>
                  <a:pt x="16750" y="6128"/>
                  <a:pt x="16775" y="6148"/>
                </a:cubicBezTo>
                <a:cubicBezTo>
                  <a:pt x="16798" y="6166"/>
                  <a:pt x="16828" y="6167"/>
                  <a:pt x="16855" y="6161"/>
                </a:cubicBezTo>
                <a:cubicBezTo>
                  <a:pt x="16889" y="6154"/>
                  <a:pt x="16921" y="6133"/>
                  <a:pt x="16944" y="6107"/>
                </a:cubicBezTo>
                <a:cubicBezTo>
                  <a:pt x="16971" y="6077"/>
                  <a:pt x="16989" y="6037"/>
                  <a:pt x="17000" y="5999"/>
                </a:cubicBezTo>
                <a:cubicBezTo>
                  <a:pt x="17011" y="5960"/>
                  <a:pt x="17015" y="5918"/>
                  <a:pt x="17006" y="5879"/>
                </a:cubicBezTo>
                <a:cubicBezTo>
                  <a:pt x="16998" y="5842"/>
                  <a:pt x="16976" y="5823"/>
                  <a:pt x="16939" y="5819"/>
                </a:cubicBezTo>
                <a:cubicBezTo>
                  <a:pt x="16905" y="5815"/>
                  <a:pt x="16865" y="5837"/>
                  <a:pt x="16841" y="5861"/>
                </a:cubicBezTo>
                <a:cubicBezTo>
                  <a:pt x="16829" y="5877"/>
                  <a:pt x="16825" y="5881"/>
                  <a:pt x="16827" y="5895"/>
                </a:cubicBezTo>
              </a:path>
              <a:path w="3104" h="774">
                <a:moveTo>
                  <a:pt x="17331" y="5878"/>
                </a:moveTo>
                <a:cubicBezTo>
                  <a:pt x="17312" y="5862"/>
                  <a:pt x="17309" y="5863"/>
                  <a:pt x="17292" y="5879"/>
                </a:cubicBezTo>
                <a:cubicBezTo>
                  <a:pt x="17270" y="5899"/>
                  <a:pt x="17252" y="5923"/>
                  <a:pt x="17240" y="5951"/>
                </a:cubicBezTo>
                <a:cubicBezTo>
                  <a:pt x="17227" y="5982"/>
                  <a:pt x="17213" y="6019"/>
                  <a:pt x="17220" y="6053"/>
                </a:cubicBezTo>
                <a:cubicBezTo>
                  <a:pt x="17226" y="6085"/>
                  <a:pt x="17244" y="6104"/>
                  <a:pt x="17275" y="6111"/>
                </a:cubicBezTo>
                <a:cubicBezTo>
                  <a:pt x="17311" y="6120"/>
                  <a:pt x="17352" y="6108"/>
                  <a:pt x="17384" y="6091"/>
                </a:cubicBezTo>
                <a:cubicBezTo>
                  <a:pt x="17426" y="6069"/>
                  <a:pt x="17466" y="6037"/>
                  <a:pt x="17498" y="6002"/>
                </a:cubicBezTo>
                <a:cubicBezTo>
                  <a:pt x="17523" y="5975"/>
                  <a:pt x="17544" y="5941"/>
                  <a:pt x="17542" y="5903"/>
                </a:cubicBezTo>
                <a:cubicBezTo>
                  <a:pt x="17541" y="5877"/>
                  <a:pt x="17521" y="5857"/>
                  <a:pt x="17497" y="5847"/>
                </a:cubicBezTo>
                <a:cubicBezTo>
                  <a:pt x="17477" y="5839"/>
                  <a:pt x="17441" y="5836"/>
                  <a:pt x="17423" y="5851"/>
                </a:cubicBezTo>
                <a:cubicBezTo>
                  <a:pt x="17409" y="5862"/>
                  <a:pt x="17403" y="5892"/>
                  <a:pt x="17410" y="5908"/>
                </a:cubicBezTo>
                <a:cubicBezTo>
                  <a:pt x="17414" y="5914"/>
                  <a:pt x="17417" y="5919"/>
                  <a:pt x="17421" y="5925"/>
                </a:cubicBezTo>
              </a:path>
              <a:path w="3104" h="774">
                <a:moveTo>
                  <a:pt x="17944" y="5847"/>
                </a:moveTo>
                <a:cubicBezTo>
                  <a:pt x="17921" y="5824"/>
                  <a:pt x="17916" y="5826"/>
                  <a:pt x="17889" y="5842"/>
                </a:cubicBezTo>
                <a:cubicBezTo>
                  <a:pt x="17864" y="5856"/>
                  <a:pt x="17856" y="5876"/>
                  <a:pt x="17847" y="5903"/>
                </a:cubicBezTo>
                <a:cubicBezTo>
                  <a:pt x="17835" y="5939"/>
                  <a:pt x="17840" y="5973"/>
                  <a:pt x="17863" y="6004"/>
                </a:cubicBezTo>
                <a:cubicBezTo>
                  <a:pt x="17889" y="6038"/>
                  <a:pt x="17925" y="6040"/>
                  <a:pt x="17961" y="6023"/>
                </a:cubicBezTo>
                <a:cubicBezTo>
                  <a:pt x="17990" y="6009"/>
                  <a:pt x="18008" y="5985"/>
                  <a:pt x="18024" y="5958"/>
                </a:cubicBezTo>
                <a:cubicBezTo>
                  <a:pt x="18039" y="5934"/>
                  <a:pt x="18053" y="5900"/>
                  <a:pt x="18048" y="5871"/>
                </a:cubicBezTo>
                <a:cubicBezTo>
                  <a:pt x="18045" y="5850"/>
                  <a:pt x="18028" y="5830"/>
                  <a:pt x="18007" y="5823"/>
                </a:cubicBezTo>
                <a:cubicBezTo>
                  <a:pt x="17985" y="5816"/>
                  <a:pt x="17972" y="5825"/>
                  <a:pt x="17965" y="5842"/>
                </a:cubicBezTo>
                <a:cubicBezTo>
                  <a:pt x="17957" y="5861"/>
                  <a:pt x="17967" y="5873"/>
                  <a:pt x="17978" y="5888"/>
                </a:cubicBezTo>
              </a:path>
              <a:path w="3104" h="774">
                <a:moveTo>
                  <a:pt x="18426" y="5823"/>
                </a:moveTo>
                <a:cubicBezTo>
                  <a:pt x="18408" y="5816"/>
                  <a:pt x="18395" y="5823"/>
                  <a:pt x="18379" y="5839"/>
                </a:cubicBezTo>
                <a:cubicBezTo>
                  <a:pt x="18360" y="5858"/>
                  <a:pt x="18340" y="5885"/>
                  <a:pt x="18330" y="5911"/>
                </a:cubicBezTo>
                <a:cubicBezTo>
                  <a:pt x="18320" y="5938"/>
                  <a:pt x="18318" y="5965"/>
                  <a:pt x="18337" y="5988"/>
                </a:cubicBezTo>
                <a:cubicBezTo>
                  <a:pt x="18354" y="6009"/>
                  <a:pt x="18381" y="6015"/>
                  <a:pt x="18407" y="6011"/>
                </a:cubicBezTo>
                <a:cubicBezTo>
                  <a:pt x="18441" y="6005"/>
                  <a:pt x="18469" y="5987"/>
                  <a:pt x="18495" y="5966"/>
                </a:cubicBezTo>
                <a:cubicBezTo>
                  <a:pt x="18521" y="5944"/>
                  <a:pt x="18542" y="5917"/>
                  <a:pt x="18551" y="5884"/>
                </a:cubicBezTo>
                <a:cubicBezTo>
                  <a:pt x="18559" y="5852"/>
                  <a:pt x="18557" y="5810"/>
                  <a:pt x="18525" y="5792"/>
                </a:cubicBezTo>
                <a:cubicBezTo>
                  <a:pt x="18505" y="5780"/>
                  <a:pt x="18471" y="5783"/>
                  <a:pt x="18449" y="5790"/>
                </a:cubicBezTo>
                <a:cubicBezTo>
                  <a:pt x="18443" y="5793"/>
                  <a:pt x="18438" y="5795"/>
                  <a:pt x="18432" y="5798"/>
                </a:cubicBezTo>
              </a:path>
              <a:path w="3104" h="774">
                <a:moveTo>
                  <a:pt x="18728" y="5941"/>
                </a:moveTo>
                <a:cubicBezTo>
                  <a:pt x="18733" y="5956"/>
                  <a:pt x="18735" y="5959"/>
                  <a:pt x="18745" y="5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nk 18"/>
          <p:cNvSpPr/>
          <p:nvPr/>
        </p:nvSpPr>
        <p:spPr>
          <a:xfrm>
            <a:off x="7216920" y="2023920"/>
            <a:ext cx="1145880" cy="174600"/>
          </a:xfrm>
          <a:custGeom>
            <a:avLst/>
            <a:gdLst/>
            <a:ahLst/>
            <a:rect l="l" t="t" r="r" b="b"/>
            <a:pathLst>
              <a:path w="3183" h="486">
                <a:moveTo>
                  <a:pt x="20046" y="5678"/>
                </a:moveTo>
                <a:cubicBezTo>
                  <a:pt x="20064" y="5651"/>
                  <a:pt x="20074" y="5647"/>
                  <a:pt x="20105" y="5640"/>
                </a:cubicBezTo>
                <a:cubicBezTo>
                  <a:pt x="20146" y="5631"/>
                  <a:pt x="20190" y="5633"/>
                  <a:pt x="20231" y="5640"/>
                </a:cubicBezTo>
                <a:cubicBezTo>
                  <a:pt x="20273" y="5647"/>
                  <a:pt x="20321" y="5662"/>
                  <a:pt x="20340" y="5704"/>
                </a:cubicBezTo>
                <a:cubicBezTo>
                  <a:pt x="20361" y="5751"/>
                  <a:pt x="20333" y="5811"/>
                  <a:pt x="20309" y="5850"/>
                </a:cubicBezTo>
                <a:cubicBezTo>
                  <a:pt x="20264" y="5922"/>
                  <a:pt x="20197" y="5979"/>
                  <a:pt x="20135" y="6035"/>
                </a:cubicBezTo>
                <a:cubicBezTo>
                  <a:pt x="20111" y="6056"/>
                  <a:pt x="20094" y="6075"/>
                  <a:pt x="20080" y="6100"/>
                </a:cubicBezTo>
                <a:cubicBezTo>
                  <a:pt x="20114" y="6104"/>
                  <a:pt x="20143" y="6103"/>
                  <a:pt x="20179" y="6099"/>
                </a:cubicBezTo>
                <a:cubicBezTo>
                  <a:pt x="20247" y="6091"/>
                  <a:pt x="20313" y="6077"/>
                  <a:pt x="20380" y="6067"/>
                </a:cubicBezTo>
                <a:cubicBezTo>
                  <a:pt x="20420" y="6061"/>
                  <a:pt x="20454" y="6052"/>
                  <a:pt x="20490" y="6036"/>
                </a:cubicBezTo>
                <a:cubicBezTo>
                  <a:pt x="20497" y="6033"/>
                  <a:pt x="20504" y="6030"/>
                  <a:pt x="20511" y="6027"/>
                </a:cubicBezTo>
              </a:path>
              <a:path w="3183" h="486">
                <a:moveTo>
                  <a:pt x="20799" y="5635"/>
                </a:moveTo>
                <a:cubicBezTo>
                  <a:pt x="20789" y="5606"/>
                  <a:pt x="20767" y="5636"/>
                  <a:pt x="20752" y="5657"/>
                </a:cubicBezTo>
                <a:cubicBezTo>
                  <a:pt x="20714" y="5708"/>
                  <a:pt x="20681" y="5766"/>
                  <a:pt x="20658" y="5825"/>
                </a:cubicBezTo>
                <a:cubicBezTo>
                  <a:pt x="20637" y="5879"/>
                  <a:pt x="20609" y="5948"/>
                  <a:pt x="20623" y="6007"/>
                </a:cubicBezTo>
                <a:cubicBezTo>
                  <a:pt x="20635" y="6057"/>
                  <a:pt x="20672" y="6075"/>
                  <a:pt x="20719" y="6078"/>
                </a:cubicBezTo>
                <a:cubicBezTo>
                  <a:pt x="20770" y="6081"/>
                  <a:pt x="20819" y="6061"/>
                  <a:pt x="20859" y="6029"/>
                </a:cubicBezTo>
                <a:cubicBezTo>
                  <a:pt x="20882" y="6011"/>
                  <a:pt x="20909" y="5979"/>
                  <a:pt x="20882" y="5952"/>
                </a:cubicBezTo>
                <a:cubicBezTo>
                  <a:pt x="20861" y="5931"/>
                  <a:pt x="20823" y="5933"/>
                  <a:pt x="20796" y="5932"/>
                </a:cubicBezTo>
                <a:cubicBezTo>
                  <a:pt x="20790" y="5932"/>
                  <a:pt x="20784" y="5931"/>
                  <a:pt x="20778" y="5931"/>
                </a:cubicBezTo>
              </a:path>
              <a:path w="3183" h="486">
                <a:moveTo>
                  <a:pt x="21196" y="5628"/>
                </a:moveTo>
                <a:cubicBezTo>
                  <a:pt x="21169" y="5669"/>
                  <a:pt x="21132" y="5704"/>
                  <a:pt x="21107" y="5746"/>
                </a:cubicBezTo>
                <a:cubicBezTo>
                  <a:pt x="21077" y="5796"/>
                  <a:pt x="21046" y="5867"/>
                  <a:pt x="21046" y="5927"/>
                </a:cubicBezTo>
                <a:cubicBezTo>
                  <a:pt x="21046" y="5970"/>
                  <a:pt x="21073" y="6010"/>
                  <a:pt x="21116" y="6017"/>
                </a:cubicBezTo>
                <a:cubicBezTo>
                  <a:pt x="21156" y="6024"/>
                  <a:pt x="21203" y="6000"/>
                  <a:pt x="21227" y="5968"/>
                </a:cubicBezTo>
                <a:cubicBezTo>
                  <a:pt x="21249" y="5939"/>
                  <a:pt x="21254" y="5898"/>
                  <a:pt x="21230" y="5869"/>
                </a:cubicBezTo>
                <a:cubicBezTo>
                  <a:pt x="21207" y="5841"/>
                  <a:pt x="21162" y="5839"/>
                  <a:pt x="21130" y="5845"/>
                </a:cubicBezTo>
                <a:cubicBezTo>
                  <a:pt x="21112" y="5850"/>
                  <a:pt x="21107" y="5850"/>
                  <a:pt x="21100" y="5860"/>
                </a:cubicBezTo>
              </a:path>
              <a:path w="3183" h="486">
                <a:moveTo>
                  <a:pt x="21609" y="5707"/>
                </a:moveTo>
                <a:cubicBezTo>
                  <a:pt x="21589" y="5695"/>
                  <a:pt x="21571" y="5699"/>
                  <a:pt x="21552" y="5718"/>
                </a:cubicBezTo>
                <a:cubicBezTo>
                  <a:pt x="21522" y="5748"/>
                  <a:pt x="21492" y="5780"/>
                  <a:pt x="21470" y="5817"/>
                </a:cubicBezTo>
                <a:cubicBezTo>
                  <a:pt x="21453" y="5845"/>
                  <a:pt x="21424" y="5893"/>
                  <a:pt x="21441" y="5927"/>
                </a:cubicBezTo>
                <a:cubicBezTo>
                  <a:pt x="21458" y="5961"/>
                  <a:pt x="21510" y="5964"/>
                  <a:pt x="21541" y="5960"/>
                </a:cubicBezTo>
                <a:cubicBezTo>
                  <a:pt x="21590" y="5954"/>
                  <a:pt x="21640" y="5931"/>
                  <a:pt x="21676" y="5898"/>
                </a:cubicBezTo>
                <a:cubicBezTo>
                  <a:pt x="21703" y="5873"/>
                  <a:pt x="21727" y="5830"/>
                  <a:pt x="21714" y="5792"/>
                </a:cubicBezTo>
                <a:cubicBezTo>
                  <a:pt x="21700" y="5751"/>
                  <a:pt x="21655" y="5746"/>
                  <a:pt x="21619" y="5747"/>
                </a:cubicBezTo>
                <a:cubicBezTo>
                  <a:pt x="21587" y="5748"/>
                  <a:pt x="21538" y="5757"/>
                  <a:pt x="21525" y="5792"/>
                </a:cubicBezTo>
                <a:cubicBezTo>
                  <a:pt x="21525" y="5797"/>
                  <a:pt x="21525" y="5802"/>
                  <a:pt x="21525" y="5807"/>
                </a:cubicBezTo>
              </a:path>
              <a:path w="3183" h="486">
                <a:moveTo>
                  <a:pt x="22162" y="5690"/>
                </a:moveTo>
                <a:cubicBezTo>
                  <a:pt x="22137" y="5708"/>
                  <a:pt x="22102" y="5728"/>
                  <a:pt x="22081" y="5749"/>
                </a:cubicBezTo>
                <a:cubicBezTo>
                  <a:pt x="22052" y="5779"/>
                  <a:pt x="22016" y="5823"/>
                  <a:pt x="22003" y="5864"/>
                </a:cubicBezTo>
                <a:cubicBezTo>
                  <a:pt x="21992" y="5897"/>
                  <a:pt x="21996" y="5929"/>
                  <a:pt x="22029" y="5946"/>
                </a:cubicBezTo>
                <a:cubicBezTo>
                  <a:pt x="22067" y="5965"/>
                  <a:pt x="22115" y="5954"/>
                  <a:pt x="22153" y="5941"/>
                </a:cubicBezTo>
                <a:cubicBezTo>
                  <a:pt x="22190" y="5928"/>
                  <a:pt x="22231" y="5901"/>
                  <a:pt x="22245" y="5863"/>
                </a:cubicBezTo>
                <a:cubicBezTo>
                  <a:pt x="22257" y="5830"/>
                  <a:pt x="22239" y="5802"/>
                  <a:pt x="22210" y="5787"/>
                </a:cubicBezTo>
                <a:cubicBezTo>
                  <a:pt x="22181" y="5772"/>
                  <a:pt x="22145" y="5775"/>
                  <a:pt x="22120" y="5793"/>
                </a:cubicBezTo>
                <a:cubicBezTo>
                  <a:pt x="22088" y="5817"/>
                  <a:pt x="22120" y="5829"/>
                  <a:pt x="22142" y="5840"/>
                </a:cubicBezTo>
              </a:path>
              <a:path w="3183" h="486">
                <a:moveTo>
                  <a:pt x="22502" y="5763"/>
                </a:moveTo>
                <a:cubicBezTo>
                  <a:pt x="22486" y="5743"/>
                  <a:pt x="22468" y="5745"/>
                  <a:pt x="22443" y="5760"/>
                </a:cubicBezTo>
                <a:cubicBezTo>
                  <a:pt x="22421" y="5774"/>
                  <a:pt x="22396" y="5804"/>
                  <a:pt x="22414" y="5831"/>
                </a:cubicBezTo>
                <a:cubicBezTo>
                  <a:pt x="22438" y="5867"/>
                  <a:pt x="22498" y="5867"/>
                  <a:pt x="22535" y="5864"/>
                </a:cubicBezTo>
                <a:cubicBezTo>
                  <a:pt x="22583" y="5860"/>
                  <a:pt x="22647" y="5844"/>
                  <a:pt x="22682" y="5808"/>
                </a:cubicBezTo>
                <a:cubicBezTo>
                  <a:pt x="22707" y="5782"/>
                  <a:pt x="22715" y="5738"/>
                  <a:pt x="22694" y="5707"/>
                </a:cubicBezTo>
                <a:cubicBezTo>
                  <a:pt x="22676" y="5680"/>
                  <a:pt x="22631" y="5663"/>
                  <a:pt x="22599" y="5671"/>
                </a:cubicBezTo>
                <a:cubicBezTo>
                  <a:pt x="22569" y="5678"/>
                  <a:pt x="22550" y="5696"/>
                  <a:pt x="22561" y="5728"/>
                </a:cubicBezTo>
                <a:cubicBezTo>
                  <a:pt x="22572" y="5749"/>
                  <a:pt x="22577" y="5756"/>
                  <a:pt x="22589" y="5767"/>
                </a:cubicBezTo>
              </a:path>
              <a:path w="3183" h="486">
                <a:moveTo>
                  <a:pt x="22956" y="5724"/>
                </a:moveTo>
                <a:cubicBezTo>
                  <a:pt x="22944" y="5695"/>
                  <a:pt x="22933" y="5692"/>
                  <a:pt x="22903" y="5693"/>
                </a:cubicBezTo>
                <a:cubicBezTo>
                  <a:pt x="22874" y="5694"/>
                  <a:pt x="22849" y="5706"/>
                  <a:pt x="22829" y="5728"/>
                </a:cubicBezTo>
                <a:cubicBezTo>
                  <a:pt x="22808" y="5752"/>
                  <a:pt x="22800" y="5787"/>
                  <a:pt x="22816" y="5816"/>
                </a:cubicBezTo>
                <a:cubicBezTo>
                  <a:pt x="22840" y="5858"/>
                  <a:pt x="22898" y="5869"/>
                  <a:pt x="22941" y="5872"/>
                </a:cubicBezTo>
                <a:cubicBezTo>
                  <a:pt x="23005" y="5877"/>
                  <a:pt x="23081" y="5867"/>
                  <a:pt x="23141" y="5842"/>
                </a:cubicBezTo>
                <a:cubicBezTo>
                  <a:pt x="23173" y="5828"/>
                  <a:pt x="23236" y="5791"/>
                  <a:pt x="23228" y="5747"/>
                </a:cubicBezTo>
                <a:cubicBezTo>
                  <a:pt x="23219" y="5697"/>
                  <a:pt x="23143" y="5688"/>
                  <a:pt x="23105" y="5686"/>
                </a:cubicBezTo>
                <a:cubicBezTo>
                  <a:pt x="23049" y="5687"/>
                  <a:pt x="23030" y="5687"/>
                  <a:pt x="22992" y="5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Ink 19"/>
          <p:cNvSpPr/>
          <p:nvPr/>
        </p:nvSpPr>
        <p:spPr>
          <a:xfrm>
            <a:off x="6699240" y="1271520"/>
            <a:ext cx="282600" cy="177840"/>
          </a:xfrm>
          <a:custGeom>
            <a:avLst/>
            <a:gdLst/>
            <a:ahLst/>
            <a:rect l="l" t="t" r="r" b="b"/>
            <a:pathLst>
              <a:path w="786" h="494">
                <a:moveTo>
                  <a:pt x="19263" y="3578"/>
                </a:moveTo>
                <a:cubicBezTo>
                  <a:pt x="19259" y="3562"/>
                  <a:pt x="19262" y="3540"/>
                  <a:pt x="19233" y="3559"/>
                </a:cubicBezTo>
                <a:cubicBezTo>
                  <a:pt x="19205" y="3577"/>
                  <a:pt x="19175" y="3608"/>
                  <a:pt x="19155" y="3635"/>
                </a:cubicBezTo>
                <a:cubicBezTo>
                  <a:pt x="19130" y="3670"/>
                  <a:pt x="19116" y="3708"/>
                  <a:pt x="19132" y="3749"/>
                </a:cubicBezTo>
                <a:cubicBezTo>
                  <a:pt x="19150" y="3796"/>
                  <a:pt x="19205" y="3827"/>
                  <a:pt x="19245" y="3853"/>
                </a:cubicBezTo>
                <a:cubicBezTo>
                  <a:pt x="19278" y="3875"/>
                  <a:pt x="19337" y="3900"/>
                  <a:pt x="19341" y="3947"/>
                </a:cubicBezTo>
                <a:cubicBezTo>
                  <a:pt x="19345" y="3994"/>
                  <a:pt x="19273" y="4011"/>
                  <a:pt x="19241" y="4018"/>
                </a:cubicBezTo>
                <a:cubicBezTo>
                  <a:pt x="19183" y="4031"/>
                  <a:pt x="19071" y="4039"/>
                  <a:pt x="19037" y="3974"/>
                </a:cubicBezTo>
                <a:cubicBezTo>
                  <a:pt x="19007" y="3918"/>
                  <a:pt x="19080" y="3851"/>
                  <a:pt x="19114" y="3819"/>
                </a:cubicBezTo>
                <a:cubicBezTo>
                  <a:pt x="19180" y="3758"/>
                  <a:pt x="19255" y="3706"/>
                  <a:pt x="19325" y="3650"/>
                </a:cubicBezTo>
                <a:cubicBezTo>
                  <a:pt x="19362" y="3620"/>
                  <a:pt x="19376" y="3606"/>
                  <a:pt x="19393" y="3564"/>
                </a:cubicBezTo>
                <a:cubicBezTo>
                  <a:pt x="19365" y="3533"/>
                  <a:pt x="19332" y="3533"/>
                  <a:pt x="19288" y="3532"/>
                </a:cubicBezTo>
                <a:cubicBezTo>
                  <a:pt x="19248" y="3532"/>
                  <a:pt x="19235" y="3532"/>
                  <a:pt x="19209" y="3532"/>
                </a:cubicBezTo>
              </a:path>
              <a:path w="786" h="494">
                <a:moveTo>
                  <a:pt x="18619" y="3776"/>
                </a:moveTo>
                <a:cubicBezTo>
                  <a:pt x="18592" y="3774"/>
                  <a:pt x="18634" y="3770"/>
                  <a:pt x="18641" y="3770"/>
                </a:cubicBezTo>
                <a:cubicBezTo>
                  <a:pt x="18667" y="3768"/>
                  <a:pt x="18693" y="3766"/>
                  <a:pt x="18719" y="3761"/>
                </a:cubicBezTo>
                <a:cubicBezTo>
                  <a:pt x="18752" y="3755"/>
                  <a:pt x="18783" y="3747"/>
                  <a:pt x="18815" y="3738"/>
                </a:cubicBezTo>
                <a:cubicBezTo>
                  <a:pt x="18829" y="3734"/>
                  <a:pt x="18842" y="3730"/>
                  <a:pt x="18856" y="3725"/>
                </a:cubicBezTo>
                <a:cubicBezTo>
                  <a:pt x="18833" y="3716"/>
                  <a:pt x="18820" y="3721"/>
                  <a:pt x="18795" y="3725"/>
                </a:cubicBezTo>
                <a:cubicBezTo>
                  <a:pt x="18766" y="3730"/>
                  <a:pt x="18739" y="3739"/>
                  <a:pt x="18711" y="3747"/>
                </a:cubicBezTo>
                <a:cubicBezTo>
                  <a:pt x="18697" y="3751"/>
                  <a:pt x="18684" y="3755"/>
                  <a:pt x="18670" y="3760"/>
                </a:cubicBezTo>
                <a:cubicBezTo>
                  <a:pt x="18697" y="3763"/>
                  <a:pt x="18721" y="3759"/>
                  <a:pt x="18748" y="3758"/>
                </a:cubicBezTo>
                <a:cubicBezTo>
                  <a:pt x="18804" y="3755"/>
                  <a:pt x="18856" y="3747"/>
                  <a:pt x="18911" y="37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Ink 20"/>
          <p:cNvSpPr/>
          <p:nvPr/>
        </p:nvSpPr>
        <p:spPr>
          <a:xfrm>
            <a:off x="5834160" y="1528920"/>
            <a:ext cx="39600" cy="29880"/>
          </a:xfrm>
          <a:custGeom>
            <a:avLst/>
            <a:gdLst/>
            <a:ahLst/>
            <a:rect l="l" t="t" r="r" b="b"/>
            <a:pathLst>
              <a:path w="109" h="83">
                <a:moveTo>
                  <a:pt x="16271" y="4283"/>
                </a:moveTo>
                <a:cubicBezTo>
                  <a:pt x="16272" y="4278"/>
                  <a:pt x="16282" y="4243"/>
                  <a:pt x="16264" y="4250"/>
                </a:cubicBezTo>
                <a:cubicBezTo>
                  <a:pt x="16247" y="4257"/>
                  <a:pt x="16240" y="4290"/>
                  <a:pt x="16246" y="4304"/>
                </a:cubicBezTo>
                <a:cubicBezTo>
                  <a:pt x="16252" y="4318"/>
                  <a:pt x="16260" y="4317"/>
                  <a:pt x="16272" y="4317"/>
                </a:cubicBezTo>
                <a:cubicBezTo>
                  <a:pt x="16280" y="4305"/>
                  <a:pt x="16294" y="4284"/>
                  <a:pt x="16276" y="4272"/>
                </a:cubicBezTo>
                <a:cubicBezTo>
                  <a:pt x="16254" y="4258"/>
                  <a:pt x="16236" y="4281"/>
                  <a:pt x="16224" y="4295"/>
                </a:cubicBezTo>
                <a:cubicBezTo>
                  <a:pt x="16226" y="4314"/>
                  <a:pt x="16231" y="4326"/>
                  <a:pt x="16254" y="4318"/>
                </a:cubicBezTo>
                <a:cubicBezTo>
                  <a:pt x="16279" y="4310"/>
                  <a:pt x="16282" y="4296"/>
                  <a:pt x="16282" y="4272"/>
                </a:cubicBezTo>
                <a:cubicBezTo>
                  <a:pt x="16259" y="4261"/>
                  <a:pt x="16250" y="4265"/>
                  <a:pt x="16235" y="4290"/>
                </a:cubicBezTo>
                <a:cubicBezTo>
                  <a:pt x="16226" y="4304"/>
                  <a:pt x="16229" y="4308"/>
                  <a:pt x="16232" y="4324"/>
                </a:cubicBezTo>
                <a:cubicBezTo>
                  <a:pt x="16253" y="4329"/>
                  <a:pt x="16262" y="4330"/>
                  <a:pt x="16281" y="4318"/>
                </a:cubicBezTo>
                <a:cubicBezTo>
                  <a:pt x="16297" y="4308"/>
                  <a:pt x="16308" y="4295"/>
                  <a:pt x="16310" y="4276"/>
                </a:cubicBezTo>
                <a:cubicBezTo>
                  <a:pt x="16310" y="4266"/>
                  <a:pt x="16310" y="4262"/>
                  <a:pt x="16305" y="4256"/>
                </a:cubicBezTo>
                <a:cubicBezTo>
                  <a:pt x="16281" y="4247"/>
                  <a:pt x="16271" y="4244"/>
                  <a:pt x="16249" y="4259"/>
                </a:cubicBezTo>
                <a:cubicBezTo>
                  <a:pt x="16228" y="4273"/>
                  <a:pt x="16213" y="4299"/>
                  <a:pt x="16241" y="4316"/>
                </a:cubicBezTo>
                <a:cubicBezTo>
                  <a:pt x="16253" y="4324"/>
                  <a:pt x="16282" y="4318"/>
                  <a:pt x="16294" y="4314"/>
                </a:cubicBezTo>
                <a:cubicBezTo>
                  <a:pt x="16307" y="4309"/>
                  <a:pt x="16311" y="4306"/>
                  <a:pt x="16314" y="4295"/>
                </a:cubicBezTo>
                <a:cubicBezTo>
                  <a:pt x="16300" y="4278"/>
                  <a:pt x="16290" y="4277"/>
                  <a:pt x="16266" y="4282"/>
                </a:cubicBezTo>
                <a:cubicBezTo>
                  <a:pt x="16244" y="4287"/>
                  <a:pt x="16226" y="4296"/>
                  <a:pt x="16209" y="4309"/>
                </a:cubicBezTo>
                <a:cubicBezTo>
                  <a:pt x="16208" y="4334"/>
                  <a:pt x="16221" y="4328"/>
                  <a:pt x="16245" y="4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nk 21"/>
          <p:cNvSpPr/>
          <p:nvPr/>
        </p:nvSpPr>
        <p:spPr>
          <a:xfrm>
            <a:off x="5478480" y="2038320"/>
            <a:ext cx="458640" cy="225360"/>
          </a:xfrm>
          <a:custGeom>
            <a:avLst/>
            <a:gdLst/>
            <a:ahLst/>
            <a:rect l="l" t="t" r="r" b="b"/>
            <a:pathLst>
              <a:path w="1275" h="626">
                <a:moveTo>
                  <a:pt x="15232" y="5851"/>
                </a:moveTo>
                <a:cubicBezTo>
                  <a:pt x="15262" y="5829"/>
                  <a:pt x="15287" y="5814"/>
                  <a:pt x="15325" y="5809"/>
                </a:cubicBezTo>
                <a:cubicBezTo>
                  <a:pt x="15360" y="5805"/>
                  <a:pt x="15410" y="5802"/>
                  <a:pt x="15440" y="5824"/>
                </a:cubicBezTo>
                <a:cubicBezTo>
                  <a:pt x="15476" y="5850"/>
                  <a:pt x="15457" y="5895"/>
                  <a:pt x="15440" y="5925"/>
                </a:cubicBezTo>
                <a:cubicBezTo>
                  <a:pt x="15408" y="5984"/>
                  <a:pt x="15362" y="6034"/>
                  <a:pt x="15319" y="6085"/>
                </a:cubicBezTo>
                <a:cubicBezTo>
                  <a:pt x="15289" y="6120"/>
                  <a:pt x="15199" y="6205"/>
                  <a:pt x="15222" y="6261"/>
                </a:cubicBezTo>
                <a:cubicBezTo>
                  <a:pt x="15234" y="6290"/>
                  <a:pt x="15285" y="6287"/>
                  <a:pt x="15309" y="6288"/>
                </a:cubicBezTo>
                <a:cubicBezTo>
                  <a:pt x="15356" y="6289"/>
                  <a:pt x="15402" y="6281"/>
                  <a:pt x="15449" y="6273"/>
                </a:cubicBezTo>
                <a:cubicBezTo>
                  <a:pt x="15476" y="6268"/>
                  <a:pt x="15521" y="6266"/>
                  <a:pt x="15545" y="6249"/>
                </a:cubicBezTo>
                <a:cubicBezTo>
                  <a:pt x="15557" y="6240"/>
                  <a:pt x="15581" y="6220"/>
                  <a:pt x="15590" y="6208"/>
                </a:cubicBezTo>
                <a:cubicBezTo>
                  <a:pt x="15592" y="6204"/>
                  <a:pt x="15595" y="6199"/>
                  <a:pt x="15597" y="6195"/>
                </a:cubicBezTo>
              </a:path>
              <a:path w="1275" h="626">
                <a:moveTo>
                  <a:pt x="15946" y="5804"/>
                </a:moveTo>
                <a:cubicBezTo>
                  <a:pt x="15936" y="5834"/>
                  <a:pt x="15922" y="5863"/>
                  <a:pt x="15907" y="5891"/>
                </a:cubicBezTo>
                <a:cubicBezTo>
                  <a:pt x="15882" y="5940"/>
                  <a:pt x="15861" y="5988"/>
                  <a:pt x="15849" y="6043"/>
                </a:cubicBezTo>
                <a:cubicBezTo>
                  <a:pt x="15841" y="6079"/>
                  <a:pt x="15832" y="6129"/>
                  <a:pt x="15855" y="6162"/>
                </a:cubicBezTo>
                <a:cubicBezTo>
                  <a:pt x="15874" y="6189"/>
                  <a:pt x="15916" y="6183"/>
                  <a:pt x="15942" y="6173"/>
                </a:cubicBezTo>
                <a:cubicBezTo>
                  <a:pt x="15979" y="6158"/>
                  <a:pt x="16020" y="6127"/>
                  <a:pt x="16026" y="6086"/>
                </a:cubicBezTo>
                <a:cubicBezTo>
                  <a:pt x="16030" y="6054"/>
                  <a:pt x="15992" y="6056"/>
                  <a:pt x="15971" y="6057"/>
                </a:cubicBezTo>
                <a:cubicBezTo>
                  <a:pt x="15937" y="6059"/>
                  <a:pt x="15911" y="6075"/>
                  <a:pt x="15882" y="6092"/>
                </a:cubicBezTo>
              </a:path>
              <a:path w="1275" h="626">
                <a:moveTo>
                  <a:pt x="16391" y="5806"/>
                </a:moveTo>
                <a:cubicBezTo>
                  <a:pt x="16357" y="5819"/>
                  <a:pt x="16325" y="5841"/>
                  <a:pt x="16302" y="5871"/>
                </a:cubicBezTo>
                <a:cubicBezTo>
                  <a:pt x="16269" y="5913"/>
                  <a:pt x="16245" y="5972"/>
                  <a:pt x="16247" y="6026"/>
                </a:cubicBezTo>
                <a:cubicBezTo>
                  <a:pt x="16249" y="6080"/>
                  <a:pt x="16279" y="6120"/>
                  <a:pt x="16327" y="6142"/>
                </a:cubicBezTo>
                <a:cubicBezTo>
                  <a:pt x="16370" y="6162"/>
                  <a:pt x="16420" y="6156"/>
                  <a:pt x="16461" y="6135"/>
                </a:cubicBezTo>
                <a:cubicBezTo>
                  <a:pt x="16487" y="6122"/>
                  <a:pt x="16508" y="6094"/>
                  <a:pt x="16476" y="6073"/>
                </a:cubicBezTo>
                <a:cubicBezTo>
                  <a:pt x="16440" y="6049"/>
                  <a:pt x="16378" y="6062"/>
                  <a:pt x="16338" y="6065"/>
                </a:cubicBezTo>
                <a:cubicBezTo>
                  <a:pt x="16304" y="6068"/>
                  <a:pt x="16295" y="6068"/>
                  <a:pt x="16273" y="6072"/>
                </a:cubicBezTo>
              </a:path>
              <a:path w="1275" h="626">
                <a:moveTo>
                  <a:pt x="15676" y="5748"/>
                </a:moveTo>
                <a:cubicBezTo>
                  <a:pt x="15675" y="5745"/>
                  <a:pt x="15675" y="5742"/>
                  <a:pt x="15674" y="5739"/>
                </a:cubicBezTo>
                <a:cubicBezTo>
                  <a:pt x="15674" y="5712"/>
                  <a:pt x="15673" y="5766"/>
                  <a:pt x="15696" y="5736"/>
                </a:cubicBezTo>
                <a:cubicBezTo>
                  <a:pt x="15703" y="5727"/>
                  <a:pt x="15713" y="5702"/>
                  <a:pt x="15710" y="5690"/>
                </a:cubicBezTo>
                <a:cubicBezTo>
                  <a:pt x="15708" y="5686"/>
                  <a:pt x="15707" y="5683"/>
                  <a:pt x="15705" y="5679"/>
                </a:cubicBezTo>
                <a:cubicBezTo>
                  <a:pt x="15689" y="5693"/>
                  <a:pt x="15681" y="5704"/>
                  <a:pt x="15682" y="5727"/>
                </a:cubicBezTo>
                <a:cubicBezTo>
                  <a:pt x="15683" y="5738"/>
                  <a:pt x="15685" y="5743"/>
                  <a:pt x="15695" y="5746"/>
                </a:cubicBezTo>
                <a:cubicBezTo>
                  <a:pt x="15712" y="5730"/>
                  <a:pt x="15734" y="5713"/>
                  <a:pt x="15710" y="5691"/>
                </a:cubicBezTo>
                <a:cubicBezTo>
                  <a:pt x="15696" y="5685"/>
                  <a:pt x="15695" y="5678"/>
                  <a:pt x="15714" y="5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nk 22"/>
          <p:cNvSpPr/>
          <p:nvPr/>
        </p:nvSpPr>
        <p:spPr>
          <a:xfrm>
            <a:off x="5664240" y="1469880"/>
            <a:ext cx="422280" cy="211320"/>
          </a:xfrm>
          <a:custGeom>
            <a:avLst/>
            <a:gdLst/>
            <a:ahLst/>
            <a:rect l="l" t="t" r="r" b="b"/>
            <a:pathLst>
              <a:path w="1172" h="583">
                <a:moveTo>
                  <a:pt x="15734" y="4249"/>
                </a:moveTo>
                <a:cubicBezTo>
                  <a:pt x="15740" y="4226"/>
                  <a:pt x="15743" y="4201"/>
                  <a:pt x="15764" y="4184"/>
                </a:cubicBezTo>
                <a:cubicBezTo>
                  <a:pt x="15794" y="4161"/>
                  <a:pt x="15832" y="4143"/>
                  <a:pt x="15869" y="4134"/>
                </a:cubicBezTo>
                <a:cubicBezTo>
                  <a:pt x="15907" y="4125"/>
                  <a:pt x="15953" y="4122"/>
                  <a:pt x="15982" y="4152"/>
                </a:cubicBezTo>
                <a:cubicBezTo>
                  <a:pt x="16016" y="4187"/>
                  <a:pt x="15996" y="4249"/>
                  <a:pt x="15980" y="4287"/>
                </a:cubicBezTo>
                <a:cubicBezTo>
                  <a:pt x="15948" y="4360"/>
                  <a:pt x="15898" y="4427"/>
                  <a:pt x="15850" y="4490"/>
                </a:cubicBezTo>
                <a:cubicBezTo>
                  <a:pt x="15812" y="4540"/>
                  <a:pt x="15762" y="4591"/>
                  <a:pt x="15750" y="4653"/>
                </a:cubicBezTo>
                <a:cubicBezTo>
                  <a:pt x="15781" y="4673"/>
                  <a:pt x="15809" y="4667"/>
                  <a:pt x="15846" y="4660"/>
                </a:cubicBezTo>
                <a:cubicBezTo>
                  <a:pt x="15905" y="4649"/>
                  <a:pt x="15957" y="4622"/>
                  <a:pt x="16012" y="4600"/>
                </a:cubicBezTo>
                <a:cubicBezTo>
                  <a:pt x="16054" y="4584"/>
                  <a:pt x="16092" y="4567"/>
                  <a:pt x="16129" y="4541"/>
                </a:cubicBezTo>
                <a:cubicBezTo>
                  <a:pt x="16135" y="4537"/>
                  <a:pt x="16140" y="4532"/>
                  <a:pt x="16146" y="4528"/>
                </a:cubicBezTo>
              </a:path>
              <a:path w="1172" h="583">
                <a:moveTo>
                  <a:pt x="16227" y="4389"/>
                </a:moveTo>
                <a:cubicBezTo>
                  <a:pt x="16224" y="4381"/>
                  <a:pt x="16267" y="4372"/>
                  <a:pt x="16291" y="4364"/>
                </a:cubicBezTo>
              </a:path>
              <a:path w="1172" h="583">
                <a:moveTo>
                  <a:pt x="16606" y="4161"/>
                </a:moveTo>
                <a:cubicBezTo>
                  <a:pt x="16578" y="4155"/>
                  <a:pt x="16558" y="4153"/>
                  <a:pt x="16536" y="4176"/>
                </a:cubicBezTo>
                <a:cubicBezTo>
                  <a:pt x="16512" y="4201"/>
                  <a:pt x="16528" y="4234"/>
                  <a:pt x="16548" y="4256"/>
                </a:cubicBezTo>
                <a:cubicBezTo>
                  <a:pt x="16587" y="4298"/>
                  <a:pt x="16641" y="4324"/>
                  <a:pt x="16682" y="4364"/>
                </a:cubicBezTo>
                <a:cubicBezTo>
                  <a:pt x="16718" y="4399"/>
                  <a:pt x="16745" y="4446"/>
                  <a:pt x="16720" y="4496"/>
                </a:cubicBezTo>
                <a:cubicBezTo>
                  <a:pt x="16691" y="4553"/>
                  <a:pt x="16616" y="4582"/>
                  <a:pt x="16559" y="4598"/>
                </a:cubicBezTo>
                <a:cubicBezTo>
                  <a:pt x="16526" y="4607"/>
                  <a:pt x="16432" y="4628"/>
                  <a:pt x="16420" y="4573"/>
                </a:cubicBezTo>
                <a:cubicBezTo>
                  <a:pt x="16406" y="4509"/>
                  <a:pt x="16503" y="4434"/>
                  <a:pt x="16540" y="4401"/>
                </a:cubicBezTo>
                <a:cubicBezTo>
                  <a:pt x="16649" y="4303"/>
                  <a:pt x="16785" y="4231"/>
                  <a:pt x="16887" y="4125"/>
                </a:cubicBezTo>
                <a:cubicBezTo>
                  <a:pt x="16900" y="4106"/>
                  <a:pt x="16904" y="4104"/>
                  <a:pt x="16905" y="4090"/>
                </a:cubicBezTo>
                <a:cubicBezTo>
                  <a:pt x="16872" y="4090"/>
                  <a:pt x="16843" y="4087"/>
                  <a:pt x="16811" y="4106"/>
                </a:cubicBezTo>
                <a:cubicBezTo>
                  <a:pt x="16773" y="4128"/>
                  <a:pt x="16765" y="4150"/>
                  <a:pt x="16780" y="4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Ink 23"/>
          <p:cNvSpPr/>
          <p:nvPr/>
        </p:nvSpPr>
        <p:spPr>
          <a:xfrm>
            <a:off x="6249960" y="1509840"/>
            <a:ext cx="487440" cy="126720"/>
          </a:xfrm>
          <a:custGeom>
            <a:avLst/>
            <a:gdLst/>
            <a:ahLst/>
            <a:rect l="l" t="t" r="r" b="b"/>
            <a:pathLst>
              <a:path w="1354" h="354">
                <a:moveTo>
                  <a:pt x="17686" y="4233"/>
                </a:moveTo>
                <a:cubicBezTo>
                  <a:pt x="17659" y="4261"/>
                  <a:pt x="17634" y="4292"/>
                  <a:pt x="17606" y="4321"/>
                </a:cubicBezTo>
                <a:cubicBezTo>
                  <a:pt x="17546" y="4384"/>
                  <a:pt x="17487" y="4448"/>
                  <a:pt x="17422" y="4506"/>
                </a:cubicBezTo>
                <a:cubicBezTo>
                  <a:pt x="17401" y="4525"/>
                  <a:pt x="17384" y="4537"/>
                  <a:pt x="17359" y="4546"/>
                </a:cubicBezTo>
              </a:path>
              <a:path w="1354" h="354">
                <a:moveTo>
                  <a:pt x="17458" y="4297"/>
                </a:moveTo>
                <a:cubicBezTo>
                  <a:pt x="17488" y="4296"/>
                  <a:pt x="17503" y="4304"/>
                  <a:pt x="17528" y="4321"/>
                </a:cubicBezTo>
                <a:cubicBezTo>
                  <a:pt x="17567" y="4347"/>
                  <a:pt x="17599" y="4380"/>
                  <a:pt x="17639" y="4405"/>
                </a:cubicBezTo>
                <a:cubicBezTo>
                  <a:pt x="17676" y="4428"/>
                  <a:pt x="17708" y="4436"/>
                  <a:pt x="17749" y="4445"/>
                </a:cubicBezTo>
              </a:path>
              <a:path w="1354" h="354">
                <a:moveTo>
                  <a:pt x="18115" y="4228"/>
                </a:moveTo>
                <a:cubicBezTo>
                  <a:pt x="18099" y="4270"/>
                  <a:pt x="18077" y="4312"/>
                  <a:pt x="18067" y="4356"/>
                </a:cubicBezTo>
                <a:cubicBezTo>
                  <a:pt x="18058" y="4395"/>
                  <a:pt x="18037" y="4461"/>
                  <a:pt x="18065" y="4497"/>
                </a:cubicBezTo>
                <a:cubicBezTo>
                  <a:pt x="18073" y="4503"/>
                  <a:pt x="18081" y="4508"/>
                  <a:pt x="18089" y="4514"/>
                </a:cubicBezTo>
              </a:path>
              <a:path w="1354" h="354">
                <a:moveTo>
                  <a:pt x="18413" y="4263"/>
                </a:moveTo>
                <a:cubicBezTo>
                  <a:pt x="18388" y="4287"/>
                  <a:pt x="18374" y="4314"/>
                  <a:pt x="18376" y="4350"/>
                </a:cubicBezTo>
                <a:cubicBezTo>
                  <a:pt x="18378" y="4399"/>
                  <a:pt x="18405" y="4444"/>
                  <a:pt x="18449" y="4465"/>
                </a:cubicBezTo>
                <a:cubicBezTo>
                  <a:pt x="18504" y="4492"/>
                  <a:pt x="18574" y="4483"/>
                  <a:pt x="18627" y="4457"/>
                </a:cubicBezTo>
                <a:cubicBezTo>
                  <a:pt x="18677" y="4432"/>
                  <a:pt x="18712" y="4383"/>
                  <a:pt x="18712" y="4326"/>
                </a:cubicBezTo>
                <a:cubicBezTo>
                  <a:pt x="18712" y="4279"/>
                  <a:pt x="18675" y="4233"/>
                  <a:pt x="18633" y="4215"/>
                </a:cubicBezTo>
                <a:cubicBezTo>
                  <a:pt x="18594" y="4198"/>
                  <a:pt x="18552" y="4197"/>
                  <a:pt x="18511" y="4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24"/>
          <p:cNvSpPr/>
          <p:nvPr/>
        </p:nvSpPr>
        <p:spPr>
          <a:xfrm>
            <a:off x="5689440" y="868320"/>
            <a:ext cx="552600" cy="204840"/>
          </a:xfrm>
          <a:custGeom>
            <a:avLst/>
            <a:gdLst/>
            <a:ahLst/>
            <a:rect l="l" t="t" r="r" b="b"/>
            <a:pathLst>
              <a:path w="1531" h="572">
                <a:moveTo>
                  <a:pt x="16028" y="2460"/>
                </a:moveTo>
                <a:cubicBezTo>
                  <a:pt x="16031" y="2488"/>
                  <a:pt x="16015" y="2513"/>
                  <a:pt x="16003" y="2541"/>
                </a:cubicBezTo>
                <a:cubicBezTo>
                  <a:pt x="15976" y="2602"/>
                  <a:pt x="15947" y="2661"/>
                  <a:pt x="15917" y="2720"/>
                </a:cubicBezTo>
                <a:cubicBezTo>
                  <a:pt x="15887" y="2779"/>
                  <a:pt x="15853" y="2836"/>
                  <a:pt x="15824" y="2896"/>
                </a:cubicBezTo>
                <a:cubicBezTo>
                  <a:pt x="15806" y="2932"/>
                  <a:pt x="15808" y="2938"/>
                  <a:pt x="15818" y="2965"/>
                </a:cubicBezTo>
                <a:cubicBezTo>
                  <a:pt x="15861" y="2963"/>
                  <a:pt x="15900" y="2949"/>
                  <a:pt x="15941" y="2935"/>
                </a:cubicBezTo>
                <a:cubicBezTo>
                  <a:pt x="16029" y="2905"/>
                  <a:pt x="16116" y="2870"/>
                  <a:pt x="16207" y="2848"/>
                </a:cubicBezTo>
                <a:cubicBezTo>
                  <a:pt x="16250" y="2838"/>
                  <a:pt x="16249" y="2839"/>
                  <a:pt x="16260" y="2817"/>
                </a:cubicBezTo>
              </a:path>
              <a:path w="1531" h="572">
                <a:moveTo>
                  <a:pt x="16146" y="2696"/>
                </a:moveTo>
                <a:cubicBezTo>
                  <a:pt x="16129" y="2699"/>
                  <a:pt x="16140" y="2724"/>
                  <a:pt x="16139" y="2746"/>
                </a:cubicBezTo>
                <a:cubicBezTo>
                  <a:pt x="16137" y="2787"/>
                  <a:pt x="16140" y="2827"/>
                  <a:pt x="16145" y="2868"/>
                </a:cubicBezTo>
                <a:cubicBezTo>
                  <a:pt x="16149" y="2901"/>
                  <a:pt x="16151" y="2937"/>
                  <a:pt x="16172" y="2965"/>
                </a:cubicBezTo>
                <a:cubicBezTo>
                  <a:pt x="16186" y="2984"/>
                  <a:pt x="16195" y="2981"/>
                  <a:pt x="16216" y="2981"/>
                </a:cubicBezTo>
              </a:path>
              <a:path w="1531" h="572">
                <a:moveTo>
                  <a:pt x="16578" y="2624"/>
                </a:moveTo>
                <a:cubicBezTo>
                  <a:pt x="16579" y="2614"/>
                  <a:pt x="16579" y="2611"/>
                  <a:pt x="16579" y="2604"/>
                </a:cubicBezTo>
                <a:cubicBezTo>
                  <a:pt x="16596" y="2611"/>
                  <a:pt x="16606" y="2611"/>
                  <a:pt x="16624" y="2609"/>
                </a:cubicBezTo>
                <a:cubicBezTo>
                  <a:pt x="16642" y="2607"/>
                  <a:pt x="16649" y="2606"/>
                  <a:pt x="16661" y="2603"/>
                </a:cubicBezTo>
              </a:path>
              <a:path w="1531" h="572">
                <a:moveTo>
                  <a:pt x="16992" y="2436"/>
                </a:moveTo>
                <a:cubicBezTo>
                  <a:pt x="16970" y="2416"/>
                  <a:pt x="16958" y="2418"/>
                  <a:pt x="16929" y="2425"/>
                </a:cubicBezTo>
                <a:cubicBezTo>
                  <a:pt x="16898" y="2432"/>
                  <a:pt x="16861" y="2451"/>
                  <a:pt x="16851" y="2484"/>
                </a:cubicBezTo>
                <a:cubicBezTo>
                  <a:pt x="16838" y="2527"/>
                  <a:pt x="16887" y="2564"/>
                  <a:pt x="16916" y="2584"/>
                </a:cubicBezTo>
                <a:cubicBezTo>
                  <a:pt x="16966" y="2619"/>
                  <a:pt x="17023" y="2645"/>
                  <a:pt x="17067" y="2688"/>
                </a:cubicBezTo>
                <a:cubicBezTo>
                  <a:pt x="17104" y="2725"/>
                  <a:pt x="17106" y="2766"/>
                  <a:pt x="17069" y="2805"/>
                </a:cubicBezTo>
                <a:cubicBezTo>
                  <a:pt x="17026" y="2850"/>
                  <a:pt x="16950" y="2882"/>
                  <a:pt x="16890" y="2892"/>
                </a:cubicBezTo>
                <a:cubicBezTo>
                  <a:pt x="16842" y="2900"/>
                  <a:pt x="16821" y="2891"/>
                  <a:pt x="16782" y="2868"/>
                </a:cubicBezTo>
              </a:path>
              <a:path w="1531" h="572">
                <a:moveTo>
                  <a:pt x="16974" y="2475"/>
                </a:moveTo>
                <a:cubicBezTo>
                  <a:pt x="17016" y="2446"/>
                  <a:pt x="17061" y="2415"/>
                  <a:pt x="17114" y="2411"/>
                </a:cubicBezTo>
                <a:cubicBezTo>
                  <a:pt x="17170" y="2407"/>
                  <a:pt x="17212" y="2432"/>
                  <a:pt x="17259" y="2458"/>
                </a:cubicBezTo>
                <a:cubicBezTo>
                  <a:pt x="17298" y="2480"/>
                  <a:pt x="17311" y="2488"/>
                  <a:pt x="17336" y="2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25"/>
          <p:cNvSpPr/>
          <p:nvPr/>
        </p:nvSpPr>
        <p:spPr>
          <a:xfrm>
            <a:off x="6556320" y="762120"/>
            <a:ext cx="611280" cy="261720"/>
          </a:xfrm>
          <a:custGeom>
            <a:avLst/>
            <a:gdLst/>
            <a:ahLst/>
            <a:rect l="l" t="t" r="r" b="b"/>
            <a:pathLst>
              <a:path w="1696" h="728">
                <a:moveTo>
                  <a:pt x="18500" y="2604"/>
                </a:moveTo>
                <a:cubicBezTo>
                  <a:pt x="18509" y="2582"/>
                  <a:pt x="18514" y="2576"/>
                  <a:pt x="18500" y="2557"/>
                </a:cubicBezTo>
                <a:cubicBezTo>
                  <a:pt x="18470" y="2576"/>
                  <a:pt x="18447" y="2596"/>
                  <a:pt x="18422" y="2622"/>
                </a:cubicBezTo>
                <a:cubicBezTo>
                  <a:pt x="18378" y="2668"/>
                  <a:pt x="18333" y="2714"/>
                  <a:pt x="18288" y="2759"/>
                </a:cubicBezTo>
                <a:cubicBezTo>
                  <a:pt x="18260" y="2786"/>
                  <a:pt x="18238" y="2815"/>
                  <a:pt x="18212" y="2843"/>
                </a:cubicBezTo>
              </a:path>
              <a:path w="1696" h="728">
                <a:moveTo>
                  <a:pt x="18250" y="2617"/>
                </a:moveTo>
                <a:cubicBezTo>
                  <a:pt x="18278" y="2598"/>
                  <a:pt x="18290" y="2600"/>
                  <a:pt x="18319" y="2620"/>
                </a:cubicBezTo>
                <a:cubicBezTo>
                  <a:pt x="18355" y="2645"/>
                  <a:pt x="18389" y="2676"/>
                  <a:pt x="18420" y="2707"/>
                </a:cubicBezTo>
                <a:cubicBezTo>
                  <a:pt x="18457" y="2744"/>
                  <a:pt x="18491" y="2785"/>
                  <a:pt x="18541" y="2805"/>
                </a:cubicBezTo>
                <a:cubicBezTo>
                  <a:pt x="18552" y="2808"/>
                  <a:pt x="18562" y="2811"/>
                  <a:pt x="18573" y="2814"/>
                </a:cubicBezTo>
              </a:path>
              <a:path w="1696" h="728">
                <a:moveTo>
                  <a:pt x="18917" y="2533"/>
                </a:moveTo>
                <a:cubicBezTo>
                  <a:pt x="18905" y="2570"/>
                  <a:pt x="18889" y="2605"/>
                  <a:pt x="18881" y="2643"/>
                </a:cubicBezTo>
                <a:cubicBezTo>
                  <a:pt x="18871" y="2690"/>
                  <a:pt x="18861" y="2747"/>
                  <a:pt x="18890" y="2791"/>
                </a:cubicBezTo>
                <a:cubicBezTo>
                  <a:pt x="18912" y="2825"/>
                  <a:pt x="18940" y="2820"/>
                  <a:pt x="18975" y="2822"/>
                </a:cubicBezTo>
              </a:path>
              <a:path w="1696" h="728">
                <a:moveTo>
                  <a:pt x="19218" y="2541"/>
                </a:moveTo>
                <a:cubicBezTo>
                  <a:pt x="19186" y="2565"/>
                  <a:pt x="19163" y="2592"/>
                  <a:pt x="19151" y="2633"/>
                </a:cubicBezTo>
                <a:cubicBezTo>
                  <a:pt x="19137" y="2682"/>
                  <a:pt x="19137" y="2739"/>
                  <a:pt x="19172" y="2779"/>
                </a:cubicBezTo>
                <a:cubicBezTo>
                  <a:pt x="19209" y="2822"/>
                  <a:pt x="19278" y="2828"/>
                  <a:pt x="19331" y="2820"/>
                </a:cubicBezTo>
                <a:cubicBezTo>
                  <a:pt x="19381" y="2812"/>
                  <a:pt x="19435" y="2785"/>
                  <a:pt x="19454" y="2735"/>
                </a:cubicBezTo>
                <a:cubicBezTo>
                  <a:pt x="19471" y="2691"/>
                  <a:pt x="19441" y="2647"/>
                  <a:pt x="19407" y="2622"/>
                </a:cubicBezTo>
                <a:cubicBezTo>
                  <a:pt x="19370" y="2595"/>
                  <a:pt x="19314" y="2573"/>
                  <a:pt x="19268" y="2570"/>
                </a:cubicBezTo>
                <a:cubicBezTo>
                  <a:pt x="19226" y="2567"/>
                  <a:pt x="19231" y="2572"/>
                  <a:pt x="19276" y="2564"/>
                </a:cubicBezTo>
              </a:path>
              <a:path w="1696" h="728">
                <a:moveTo>
                  <a:pt x="19714" y="2190"/>
                </a:moveTo>
                <a:cubicBezTo>
                  <a:pt x="19696" y="2169"/>
                  <a:pt x="19679" y="2148"/>
                  <a:pt x="19649" y="2150"/>
                </a:cubicBezTo>
                <a:cubicBezTo>
                  <a:pt x="19643" y="2152"/>
                  <a:pt x="19637" y="2153"/>
                  <a:pt x="19631" y="2155"/>
                </a:cubicBezTo>
                <a:cubicBezTo>
                  <a:pt x="19609" y="2177"/>
                  <a:pt x="19607" y="2190"/>
                  <a:pt x="19631" y="2215"/>
                </a:cubicBezTo>
                <a:cubicBezTo>
                  <a:pt x="19668" y="2254"/>
                  <a:pt x="19719" y="2279"/>
                  <a:pt x="19760" y="2313"/>
                </a:cubicBezTo>
                <a:cubicBezTo>
                  <a:pt x="19800" y="2346"/>
                  <a:pt x="19843" y="2386"/>
                  <a:pt x="19831" y="2443"/>
                </a:cubicBezTo>
                <a:cubicBezTo>
                  <a:pt x="19821" y="2494"/>
                  <a:pt x="19765" y="2527"/>
                  <a:pt x="19720" y="2543"/>
                </a:cubicBezTo>
                <a:cubicBezTo>
                  <a:pt x="19684" y="2556"/>
                  <a:pt x="19665" y="2552"/>
                  <a:pt x="19631" y="2542"/>
                </a:cubicBezTo>
                <a:cubicBezTo>
                  <a:pt x="19619" y="2495"/>
                  <a:pt x="19644" y="2466"/>
                  <a:pt x="19676" y="2428"/>
                </a:cubicBezTo>
                <a:cubicBezTo>
                  <a:pt x="19728" y="2367"/>
                  <a:pt x="19793" y="2317"/>
                  <a:pt x="19846" y="2256"/>
                </a:cubicBezTo>
                <a:cubicBezTo>
                  <a:pt x="19880" y="2217"/>
                  <a:pt x="19906" y="2185"/>
                  <a:pt x="19902" y="2135"/>
                </a:cubicBezTo>
                <a:cubicBezTo>
                  <a:pt x="19865" y="2115"/>
                  <a:pt x="19835" y="2113"/>
                  <a:pt x="19792" y="2124"/>
                </a:cubicBezTo>
                <a:cubicBezTo>
                  <a:pt x="19766" y="2130"/>
                  <a:pt x="19741" y="2144"/>
                  <a:pt x="19717" y="2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26"/>
          <p:cNvSpPr/>
          <p:nvPr/>
        </p:nvSpPr>
        <p:spPr>
          <a:xfrm>
            <a:off x="7402680" y="839880"/>
            <a:ext cx="333360" cy="177840"/>
          </a:xfrm>
          <a:custGeom>
            <a:avLst/>
            <a:gdLst/>
            <a:ahLst/>
            <a:rect l="l" t="t" r="r" b="b"/>
            <a:pathLst>
              <a:path w="925" h="493">
                <a:moveTo>
                  <a:pt x="20744" y="2333"/>
                </a:moveTo>
                <a:cubicBezTo>
                  <a:pt x="20742" y="2363"/>
                  <a:pt x="20735" y="2388"/>
                  <a:pt x="20728" y="2417"/>
                </a:cubicBezTo>
                <a:cubicBezTo>
                  <a:pt x="20713" y="2476"/>
                  <a:pt x="20693" y="2533"/>
                  <a:pt x="20672" y="2590"/>
                </a:cubicBezTo>
                <a:cubicBezTo>
                  <a:pt x="20651" y="2648"/>
                  <a:pt x="20630" y="2704"/>
                  <a:pt x="20612" y="2762"/>
                </a:cubicBezTo>
                <a:cubicBezTo>
                  <a:pt x="20605" y="2784"/>
                  <a:pt x="20599" y="2805"/>
                  <a:pt x="20589" y="2825"/>
                </a:cubicBezTo>
              </a:path>
              <a:path w="925" h="493">
                <a:moveTo>
                  <a:pt x="20563" y="2730"/>
                </a:moveTo>
                <a:cubicBezTo>
                  <a:pt x="20572" y="2706"/>
                  <a:pt x="20590" y="2685"/>
                  <a:pt x="20612" y="2671"/>
                </a:cubicBezTo>
                <a:cubicBezTo>
                  <a:pt x="20654" y="2645"/>
                  <a:pt x="20703" y="2629"/>
                  <a:pt x="20748" y="2610"/>
                </a:cubicBezTo>
                <a:cubicBezTo>
                  <a:pt x="20790" y="2592"/>
                  <a:pt x="20833" y="2585"/>
                  <a:pt x="20875" y="2567"/>
                </a:cubicBezTo>
                <a:cubicBezTo>
                  <a:pt x="20888" y="2560"/>
                  <a:pt x="20891" y="2559"/>
                  <a:pt x="20899" y="2556"/>
                </a:cubicBezTo>
              </a:path>
              <a:path w="925" h="493">
                <a:moveTo>
                  <a:pt x="20862" y="2524"/>
                </a:moveTo>
                <a:cubicBezTo>
                  <a:pt x="20860" y="2545"/>
                  <a:pt x="20863" y="2565"/>
                  <a:pt x="20863" y="2586"/>
                </a:cubicBezTo>
                <a:cubicBezTo>
                  <a:pt x="20863" y="2613"/>
                  <a:pt x="20861" y="2651"/>
                  <a:pt x="20871" y="2677"/>
                </a:cubicBezTo>
                <a:cubicBezTo>
                  <a:pt x="20880" y="2701"/>
                  <a:pt x="20898" y="2728"/>
                  <a:pt x="20925" y="2733"/>
                </a:cubicBezTo>
                <a:cubicBezTo>
                  <a:pt x="20931" y="2733"/>
                  <a:pt x="20938" y="2733"/>
                  <a:pt x="20944" y="2733"/>
                </a:cubicBezTo>
              </a:path>
              <a:path w="925" h="493">
                <a:moveTo>
                  <a:pt x="21087" y="2603"/>
                </a:moveTo>
                <a:cubicBezTo>
                  <a:pt x="21100" y="2621"/>
                  <a:pt x="21110" y="2643"/>
                  <a:pt x="21133" y="2649"/>
                </a:cubicBezTo>
                <a:cubicBezTo>
                  <a:pt x="21151" y="2654"/>
                  <a:pt x="21173" y="2645"/>
                  <a:pt x="21190" y="2639"/>
                </a:cubicBezTo>
                <a:cubicBezTo>
                  <a:pt x="21217" y="2630"/>
                  <a:pt x="21227" y="2623"/>
                  <a:pt x="21251" y="2641"/>
                </a:cubicBezTo>
                <a:cubicBezTo>
                  <a:pt x="21269" y="2655"/>
                  <a:pt x="21286" y="2650"/>
                  <a:pt x="21308" y="2645"/>
                </a:cubicBezTo>
                <a:cubicBezTo>
                  <a:pt x="21335" y="2638"/>
                  <a:pt x="21361" y="2627"/>
                  <a:pt x="21389" y="2623"/>
                </a:cubicBezTo>
                <a:cubicBezTo>
                  <a:pt x="21411" y="2620"/>
                  <a:pt x="21426" y="2626"/>
                  <a:pt x="21434" y="2648"/>
                </a:cubicBezTo>
                <a:cubicBezTo>
                  <a:pt x="21449" y="2688"/>
                  <a:pt x="21452" y="2716"/>
                  <a:pt x="21487" y="2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27"/>
          <p:cNvSpPr/>
          <p:nvPr/>
        </p:nvSpPr>
        <p:spPr>
          <a:xfrm>
            <a:off x="1671480" y="825480"/>
            <a:ext cx="1189080" cy="146160"/>
          </a:xfrm>
          <a:custGeom>
            <a:avLst/>
            <a:gdLst/>
            <a:ahLst/>
            <a:rect l="l" t="t" r="r" b="b"/>
            <a:pathLst>
              <a:path w="3303" h="404">
                <a:moveTo>
                  <a:pt x="7941" y="2635"/>
                </a:moveTo>
                <a:cubicBezTo>
                  <a:pt x="7943" y="2602"/>
                  <a:pt x="7946" y="2571"/>
                  <a:pt x="7943" y="2538"/>
                </a:cubicBezTo>
                <a:cubicBezTo>
                  <a:pt x="7939" y="2489"/>
                  <a:pt x="7929" y="2441"/>
                  <a:pt x="7907" y="2397"/>
                </a:cubicBezTo>
                <a:cubicBezTo>
                  <a:pt x="7875" y="2334"/>
                  <a:pt x="7829" y="2288"/>
                  <a:pt x="7753" y="2294"/>
                </a:cubicBezTo>
                <a:cubicBezTo>
                  <a:pt x="7674" y="2301"/>
                  <a:pt x="7620" y="2397"/>
                  <a:pt x="7596" y="2464"/>
                </a:cubicBezTo>
                <a:cubicBezTo>
                  <a:pt x="7585" y="2496"/>
                  <a:pt x="7582" y="2531"/>
                  <a:pt x="7575" y="2564"/>
                </a:cubicBezTo>
                <a:cubicBezTo>
                  <a:pt x="7556" y="2532"/>
                  <a:pt x="7538" y="2493"/>
                  <a:pt x="7517" y="2459"/>
                </a:cubicBezTo>
                <a:cubicBezTo>
                  <a:pt x="7490" y="2414"/>
                  <a:pt x="7458" y="2369"/>
                  <a:pt x="7400" y="2366"/>
                </a:cubicBezTo>
                <a:cubicBezTo>
                  <a:pt x="7324" y="2362"/>
                  <a:pt x="7277" y="2451"/>
                  <a:pt x="7251" y="2508"/>
                </a:cubicBezTo>
                <a:cubicBezTo>
                  <a:pt x="7232" y="2550"/>
                  <a:pt x="7228" y="2587"/>
                  <a:pt x="7219" y="2630"/>
                </a:cubicBezTo>
                <a:cubicBezTo>
                  <a:pt x="7217" y="2600"/>
                  <a:pt x="7225" y="2573"/>
                  <a:pt x="7214" y="2540"/>
                </a:cubicBezTo>
                <a:cubicBezTo>
                  <a:pt x="7190" y="2467"/>
                  <a:pt x="7136" y="2403"/>
                  <a:pt x="7053" y="2402"/>
                </a:cubicBezTo>
                <a:cubicBezTo>
                  <a:pt x="6974" y="2401"/>
                  <a:pt x="6940" y="2448"/>
                  <a:pt x="6905" y="2512"/>
                </a:cubicBezTo>
                <a:cubicBezTo>
                  <a:pt x="6878" y="2562"/>
                  <a:pt x="6857" y="2617"/>
                  <a:pt x="6831" y="2668"/>
                </a:cubicBezTo>
                <a:cubicBezTo>
                  <a:pt x="6817" y="2649"/>
                  <a:pt x="6800" y="2630"/>
                  <a:pt x="6787" y="2609"/>
                </a:cubicBezTo>
                <a:cubicBezTo>
                  <a:pt x="6740" y="2533"/>
                  <a:pt x="6590" y="2311"/>
                  <a:pt x="6477" y="2343"/>
                </a:cubicBezTo>
                <a:cubicBezTo>
                  <a:pt x="6459" y="2348"/>
                  <a:pt x="6448" y="2369"/>
                  <a:pt x="6435" y="2387"/>
                </a:cubicBezTo>
                <a:cubicBezTo>
                  <a:pt x="6392" y="2445"/>
                  <a:pt x="6388" y="2521"/>
                  <a:pt x="6376" y="2589"/>
                </a:cubicBezTo>
                <a:cubicBezTo>
                  <a:pt x="6382" y="2509"/>
                  <a:pt x="6382" y="2435"/>
                  <a:pt x="6334" y="2363"/>
                </a:cubicBezTo>
                <a:cubicBezTo>
                  <a:pt x="6286" y="2290"/>
                  <a:pt x="6176" y="2263"/>
                  <a:pt x="6118" y="2343"/>
                </a:cubicBezTo>
                <a:cubicBezTo>
                  <a:pt x="6068" y="2412"/>
                  <a:pt x="6086" y="2535"/>
                  <a:pt x="6070" y="2616"/>
                </a:cubicBezTo>
                <a:cubicBezTo>
                  <a:pt x="6068" y="2620"/>
                  <a:pt x="6066" y="2624"/>
                  <a:pt x="6064" y="2628"/>
                </a:cubicBezTo>
                <a:cubicBezTo>
                  <a:pt x="6055" y="2598"/>
                  <a:pt x="6046" y="2565"/>
                  <a:pt x="6037" y="2534"/>
                </a:cubicBezTo>
                <a:cubicBezTo>
                  <a:pt x="6015" y="2459"/>
                  <a:pt x="5977" y="2346"/>
                  <a:pt x="5883" y="2339"/>
                </a:cubicBezTo>
                <a:cubicBezTo>
                  <a:pt x="5805" y="2333"/>
                  <a:pt x="5770" y="2406"/>
                  <a:pt x="5734" y="2463"/>
                </a:cubicBezTo>
                <a:cubicBezTo>
                  <a:pt x="5693" y="2527"/>
                  <a:pt x="5658" y="2592"/>
                  <a:pt x="5614" y="2654"/>
                </a:cubicBezTo>
                <a:cubicBezTo>
                  <a:pt x="5603" y="2669"/>
                  <a:pt x="5592" y="2682"/>
                  <a:pt x="5581" y="2697"/>
                </a:cubicBezTo>
                <a:cubicBezTo>
                  <a:pt x="5570" y="2678"/>
                  <a:pt x="5548" y="2668"/>
                  <a:pt x="5540" y="2636"/>
                </a:cubicBezTo>
                <a:cubicBezTo>
                  <a:pt x="5517" y="2549"/>
                  <a:pt x="5532" y="2446"/>
                  <a:pt x="5429" y="2407"/>
                </a:cubicBezTo>
                <a:cubicBezTo>
                  <a:pt x="5359" y="2381"/>
                  <a:pt x="5249" y="2418"/>
                  <a:pt x="5196" y="2464"/>
                </a:cubicBezTo>
                <a:cubicBezTo>
                  <a:pt x="5130" y="2520"/>
                  <a:pt x="5110" y="2619"/>
                  <a:pt x="5080" y="2697"/>
                </a:cubicBezTo>
                <a:cubicBezTo>
                  <a:pt x="5084" y="2654"/>
                  <a:pt x="5087" y="2611"/>
                  <a:pt x="5093" y="2567"/>
                </a:cubicBezTo>
                <a:cubicBezTo>
                  <a:pt x="5103" y="2487"/>
                  <a:pt x="5125" y="2392"/>
                  <a:pt x="5061" y="2329"/>
                </a:cubicBezTo>
                <a:cubicBezTo>
                  <a:pt x="5014" y="2283"/>
                  <a:pt x="4920" y="2307"/>
                  <a:pt x="4868" y="2328"/>
                </a:cubicBezTo>
                <a:cubicBezTo>
                  <a:pt x="4814" y="2350"/>
                  <a:pt x="4766" y="2391"/>
                  <a:pt x="4737" y="2442"/>
                </a:cubicBezTo>
                <a:cubicBezTo>
                  <a:pt x="4700" y="2509"/>
                  <a:pt x="4696" y="2583"/>
                  <a:pt x="4696" y="2652"/>
                </a:cubicBezTo>
                <a:cubicBezTo>
                  <a:pt x="4698" y="2632"/>
                  <a:pt x="4710" y="2616"/>
                  <a:pt x="4708" y="2593"/>
                </a:cubicBezTo>
                <a:cubicBezTo>
                  <a:pt x="4704" y="2531"/>
                  <a:pt x="4673" y="2486"/>
                  <a:pt x="4645" y="2436"/>
                </a:cubicBezTo>
                <a:cubicBezTo>
                  <a:pt x="4665" y="2492"/>
                  <a:pt x="4678" y="2552"/>
                  <a:pt x="4713" y="2600"/>
                </a:cubicBezTo>
                <a:cubicBezTo>
                  <a:pt x="4722" y="2610"/>
                  <a:pt x="4725" y="2614"/>
                  <a:pt x="4734" y="2615"/>
                </a:cubicBezTo>
                <a:cubicBezTo>
                  <a:pt x="4749" y="2590"/>
                  <a:pt x="4765" y="2563"/>
                  <a:pt x="4780" y="2535"/>
                </a:cubicBezTo>
                <a:cubicBezTo>
                  <a:pt x="4816" y="2465"/>
                  <a:pt x="4848" y="2443"/>
                  <a:pt x="4916" y="2406"/>
                </a:cubicBezTo>
                <a:cubicBezTo>
                  <a:pt x="4948" y="2391"/>
                  <a:pt x="4960" y="2385"/>
                  <a:pt x="4982" y="2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28"/>
          <p:cNvSpPr/>
          <p:nvPr/>
        </p:nvSpPr>
        <p:spPr>
          <a:xfrm>
            <a:off x="1752480" y="1368360"/>
            <a:ext cx="1225800" cy="184320"/>
          </a:xfrm>
          <a:custGeom>
            <a:avLst/>
            <a:gdLst/>
            <a:ahLst/>
            <a:rect l="l" t="t" r="r" b="b"/>
            <a:pathLst>
              <a:path w="3404" h="513">
                <a:moveTo>
                  <a:pt x="4879" y="4291"/>
                </a:moveTo>
                <a:cubicBezTo>
                  <a:pt x="4874" y="4302"/>
                  <a:pt x="4872" y="4305"/>
                  <a:pt x="4869" y="4312"/>
                </a:cubicBezTo>
                <a:cubicBezTo>
                  <a:pt x="4882" y="4288"/>
                  <a:pt x="4890" y="4263"/>
                  <a:pt x="4906" y="4240"/>
                </a:cubicBezTo>
                <a:cubicBezTo>
                  <a:pt x="4971" y="4151"/>
                  <a:pt x="5091" y="3998"/>
                  <a:pt x="5193" y="3951"/>
                </a:cubicBezTo>
                <a:cubicBezTo>
                  <a:pt x="5251" y="3924"/>
                  <a:pt x="5288" y="3963"/>
                  <a:pt x="5311" y="4016"/>
                </a:cubicBezTo>
                <a:cubicBezTo>
                  <a:pt x="5325" y="4048"/>
                  <a:pt x="5318" y="4085"/>
                  <a:pt x="5321" y="4118"/>
                </a:cubicBezTo>
                <a:cubicBezTo>
                  <a:pt x="5325" y="4111"/>
                  <a:pt x="5338" y="4094"/>
                  <a:pt x="5345" y="4081"/>
                </a:cubicBezTo>
                <a:cubicBezTo>
                  <a:pt x="5368" y="4036"/>
                  <a:pt x="5429" y="3875"/>
                  <a:pt x="5497" y="3886"/>
                </a:cubicBezTo>
                <a:cubicBezTo>
                  <a:pt x="5553" y="3895"/>
                  <a:pt x="5585" y="3996"/>
                  <a:pt x="5601" y="4040"/>
                </a:cubicBezTo>
                <a:cubicBezTo>
                  <a:pt x="5614" y="4075"/>
                  <a:pt x="5622" y="4112"/>
                  <a:pt x="5634" y="4147"/>
                </a:cubicBezTo>
                <a:cubicBezTo>
                  <a:pt x="5635" y="4150"/>
                  <a:pt x="5637" y="4154"/>
                  <a:pt x="5638" y="4157"/>
                </a:cubicBezTo>
                <a:cubicBezTo>
                  <a:pt x="5654" y="4131"/>
                  <a:pt x="5673" y="4101"/>
                  <a:pt x="5689" y="4072"/>
                </a:cubicBezTo>
                <a:cubicBezTo>
                  <a:pt x="5710" y="4035"/>
                  <a:pt x="5788" y="3878"/>
                  <a:pt x="5848" y="3894"/>
                </a:cubicBezTo>
                <a:cubicBezTo>
                  <a:pt x="5875" y="3901"/>
                  <a:pt x="5892" y="3960"/>
                  <a:pt x="5902" y="3982"/>
                </a:cubicBezTo>
                <a:cubicBezTo>
                  <a:pt x="5932" y="4047"/>
                  <a:pt x="5921" y="4120"/>
                  <a:pt x="5945" y="4184"/>
                </a:cubicBezTo>
                <a:cubicBezTo>
                  <a:pt x="5949" y="4185"/>
                  <a:pt x="5953" y="4185"/>
                  <a:pt x="5957" y="4186"/>
                </a:cubicBezTo>
                <a:cubicBezTo>
                  <a:pt x="5978" y="4141"/>
                  <a:pt x="5998" y="4096"/>
                  <a:pt x="6021" y="4052"/>
                </a:cubicBezTo>
                <a:cubicBezTo>
                  <a:pt x="6065" y="3967"/>
                  <a:pt x="6133" y="3905"/>
                  <a:pt x="6231" y="3895"/>
                </a:cubicBezTo>
                <a:cubicBezTo>
                  <a:pt x="6303" y="3888"/>
                  <a:pt x="6364" y="3902"/>
                  <a:pt x="6412" y="3958"/>
                </a:cubicBezTo>
                <a:cubicBezTo>
                  <a:pt x="6444" y="3996"/>
                  <a:pt x="6447" y="4086"/>
                  <a:pt x="6491" y="4110"/>
                </a:cubicBezTo>
                <a:cubicBezTo>
                  <a:pt x="6532" y="4132"/>
                  <a:pt x="6519" y="4113"/>
                  <a:pt x="6553" y="4088"/>
                </a:cubicBezTo>
                <a:cubicBezTo>
                  <a:pt x="6605" y="4050"/>
                  <a:pt x="6641" y="3930"/>
                  <a:pt x="6717" y="3927"/>
                </a:cubicBezTo>
                <a:cubicBezTo>
                  <a:pt x="6768" y="3925"/>
                  <a:pt x="6779" y="3974"/>
                  <a:pt x="6793" y="4016"/>
                </a:cubicBezTo>
                <a:cubicBezTo>
                  <a:pt x="6810" y="4068"/>
                  <a:pt x="6813" y="4135"/>
                  <a:pt x="6827" y="4182"/>
                </a:cubicBezTo>
                <a:cubicBezTo>
                  <a:pt x="6889" y="4110"/>
                  <a:pt x="7021" y="3895"/>
                  <a:pt x="7127" y="3901"/>
                </a:cubicBezTo>
                <a:cubicBezTo>
                  <a:pt x="7181" y="3904"/>
                  <a:pt x="7212" y="3998"/>
                  <a:pt x="7220" y="4042"/>
                </a:cubicBezTo>
                <a:cubicBezTo>
                  <a:pt x="7229" y="4096"/>
                  <a:pt x="7222" y="4153"/>
                  <a:pt x="7230" y="4203"/>
                </a:cubicBezTo>
                <a:cubicBezTo>
                  <a:pt x="7272" y="4165"/>
                  <a:pt x="7296" y="4139"/>
                  <a:pt x="7328" y="4085"/>
                </a:cubicBezTo>
                <a:cubicBezTo>
                  <a:pt x="7365" y="4022"/>
                  <a:pt x="7449" y="3869"/>
                  <a:pt x="7549" y="3903"/>
                </a:cubicBezTo>
                <a:cubicBezTo>
                  <a:pt x="7661" y="3942"/>
                  <a:pt x="7590" y="4034"/>
                  <a:pt x="7631" y="4100"/>
                </a:cubicBezTo>
                <a:cubicBezTo>
                  <a:pt x="7653" y="4136"/>
                  <a:pt x="7653" y="4138"/>
                  <a:pt x="7690" y="4111"/>
                </a:cubicBezTo>
                <a:cubicBezTo>
                  <a:pt x="7767" y="4055"/>
                  <a:pt x="7787" y="3908"/>
                  <a:pt x="7872" y="3839"/>
                </a:cubicBezTo>
                <a:cubicBezTo>
                  <a:pt x="7920" y="3800"/>
                  <a:pt x="7963" y="3784"/>
                  <a:pt x="8005" y="3835"/>
                </a:cubicBezTo>
                <a:cubicBezTo>
                  <a:pt x="8057" y="3898"/>
                  <a:pt x="8033" y="4042"/>
                  <a:pt x="8044" y="4118"/>
                </a:cubicBezTo>
                <a:cubicBezTo>
                  <a:pt x="8028" y="4076"/>
                  <a:pt x="8012" y="4033"/>
                  <a:pt x="7996" y="3991"/>
                </a:cubicBezTo>
                <a:cubicBezTo>
                  <a:pt x="8000" y="4019"/>
                  <a:pt x="7997" y="4048"/>
                  <a:pt x="8008" y="4077"/>
                </a:cubicBezTo>
                <a:cubicBezTo>
                  <a:pt x="8019" y="4106"/>
                  <a:pt x="8019" y="4139"/>
                  <a:pt x="8055" y="4135"/>
                </a:cubicBezTo>
                <a:cubicBezTo>
                  <a:pt x="8104" y="4129"/>
                  <a:pt x="8225" y="3943"/>
                  <a:pt x="8272" y="3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29"/>
          <p:cNvSpPr/>
          <p:nvPr/>
        </p:nvSpPr>
        <p:spPr>
          <a:xfrm>
            <a:off x="2622600" y="1725480"/>
            <a:ext cx="322200" cy="357480"/>
          </a:xfrm>
          <a:custGeom>
            <a:avLst/>
            <a:gdLst/>
            <a:ahLst/>
            <a:rect l="l" t="t" r="r" b="b"/>
            <a:pathLst>
              <a:path w="892" h="993">
                <a:moveTo>
                  <a:pt x="8177" y="4816"/>
                </a:moveTo>
                <a:cubicBezTo>
                  <a:pt x="8170" y="4799"/>
                  <a:pt x="8163" y="4794"/>
                  <a:pt x="8142" y="4800"/>
                </a:cubicBezTo>
                <a:cubicBezTo>
                  <a:pt x="8122" y="4805"/>
                  <a:pt x="8104" y="4814"/>
                  <a:pt x="8085" y="4822"/>
                </a:cubicBezTo>
                <a:cubicBezTo>
                  <a:pt x="8073" y="4827"/>
                  <a:pt x="8047" y="4843"/>
                  <a:pt x="8042" y="4855"/>
                </a:cubicBezTo>
                <a:cubicBezTo>
                  <a:pt x="8042" y="4859"/>
                  <a:pt x="8042" y="4864"/>
                  <a:pt x="8042" y="4868"/>
                </a:cubicBezTo>
                <a:cubicBezTo>
                  <a:pt x="8057" y="4881"/>
                  <a:pt x="8065" y="4885"/>
                  <a:pt x="8086" y="4882"/>
                </a:cubicBezTo>
                <a:cubicBezTo>
                  <a:pt x="8107" y="4879"/>
                  <a:pt x="8130" y="4867"/>
                  <a:pt x="8142" y="4849"/>
                </a:cubicBezTo>
                <a:cubicBezTo>
                  <a:pt x="8144" y="4846"/>
                  <a:pt x="8145" y="4842"/>
                  <a:pt x="8147" y="4839"/>
                </a:cubicBezTo>
                <a:cubicBezTo>
                  <a:pt x="8139" y="4820"/>
                  <a:pt x="8131" y="4809"/>
                  <a:pt x="8109" y="4806"/>
                </a:cubicBezTo>
                <a:cubicBezTo>
                  <a:pt x="8093" y="4804"/>
                  <a:pt x="8080" y="4808"/>
                  <a:pt x="8065" y="4814"/>
                </a:cubicBezTo>
                <a:cubicBezTo>
                  <a:pt x="8056" y="4842"/>
                  <a:pt x="8064" y="4851"/>
                  <a:pt x="8096" y="4855"/>
                </a:cubicBezTo>
                <a:cubicBezTo>
                  <a:pt x="8108" y="4856"/>
                  <a:pt x="8141" y="4854"/>
                  <a:pt x="8148" y="4841"/>
                </a:cubicBezTo>
                <a:cubicBezTo>
                  <a:pt x="8150" y="4835"/>
                  <a:pt x="8151" y="4828"/>
                  <a:pt x="8153" y="4822"/>
                </a:cubicBezTo>
                <a:cubicBezTo>
                  <a:pt x="8130" y="4803"/>
                  <a:pt x="8114" y="4795"/>
                  <a:pt x="8083" y="4792"/>
                </a:cubicBezTo>
                <a:cubicBezTo>
                  <a:pt x="8068" y="4791"/>
                  <a:pt x="8054" y="4793"/>
                  <a:pt x="8039" y="4795"/>
                </a:cubicBezTo>
                <a:cubicBezTo>
                  <a:pt x="8045" y="4810"/>
                  <a:pt x="8064" y="4811"/>
                  <a:pt x="8087" y="4814"/>
                </a:cubicBezTo>
                <a:cubicBezTo>
                  <a:pt x="8106" y="4816"/>
                  <a:pt x="8122" y="4821"/>
                  <a:pt x="8139" y="4829"/>
                </a:cubicBezTo>
              </a:path>
              <a:path w="892" h="993">
                <a:moveTo>
                  <a:pt x="7747" y="5520"/>
                </a:moveTo>
                <a:cubicBezTo>
                  <a:pt x="7725" y="5512"/>
                  <a:pt x="7718" y="5511"/>
                  <a:pt x="7693" y="5515"/>
                </a:cubicBezTo>
                <a:cubicBezTo>
                  <a:pt x="7620" y="5527"/>
                  <a:pt x="7541" y="5562"/>
                  <a:pt x="7482" y="5607"/>
                </a:cubicBezTo>
                <a:cubicBezTo>
                  <a:pt x="7464" y="5621"/>
                  <a:pt x="7446" y="5636"/>
                  <a:pt x="7429" y="5651"/>
                </a:cubicBezTo>
                <a:cubicBezTo>
                  <a:pt x="7412" y="5666"/>
                  <a:pt x="7397" y="5686"/>
                  <a:pt x="7379" y="5699"/>
                </a:cubicBezTo>
                <a:cubicBezTo>
                  <a:pt x="7363" y="5711"/>
                  <a:pt x="7337" y="5729"/>
                  <a:pt x="7316" y="5724"/>
                </a:cubicBezTo>
                <a:cubicBezTo>
                  <a:pt x="7297" y="5720"/>
                  <a:pt x="7300" y="5697"/>
                  <a:pt x="7302" y="5682"/>
                </a:cubicBezTo>
                <a:cubicBezTo>
                  <a:pt x="7304" y="5666"/>
                  <a:pt x="7310" y="5651"/>
                  <a:pt x="7315" y="5635"/>
                </a:cubicBezTo>
                <a:cubicBezTo>
                  <a:pt x="7320" y="5618"/>
                  <a:pt x="7324" y="5601"/>
                  <a:pt x="7330" y="5584"/>
                </a:cubicBezTo>
                <a:cubicBezTo>
                  <a:pt x="7308" y="5624"/>
                  <a:pt x="7290" y="5666"/>
                  <a:pt x="7286" y="5713"/>
                </a:cubicBezTo>
                <a:cubicBezTo>
                  <a:pt x="7284" y="5737"/>
                  <a:pt x="7280" y="5773"/>
                  <a:pt x="7308" y="5784"/>
                </a:cubicBezTo>
                <a:cubicBezTo>
                  <a:pt x="7330" y="5792"/>
                  <a:pt x="7365" y="5766"/>
                  <a:pt x="7382" y="5758"/>
                </a:cubicBezTo>
                <a:cubicBezTo>
                  <a:pt x="7424" y="5739"/>
                  <a:pt x="7464" y="5718"/>
                  <a:pt x="7506" y="5699"/>
                </a:cubicBezTo>
                <a:cubicBezTo>
                  <a:pt x="7518" y="5693"/>
                  <a:pt x="7531" y="5688"/>
                  <a:pt x="7543" y="5682"/>
                </a:cubicBezTo>
              </a:path>
              <a:path w="892" h="993">
                <a:moveTo>
                  <a:pt x="8128" y="5314"/>
                </a:moveTo>
                <a:cubicBezTo>
                  <a:pt x="8103" y="5307"/>
                  <a:pt x="8092" y="5313"/>
                  <a:pt x="8074" y="5335"/>
                </a:cubicBezTo>
                <a:cubicBezTo>
                  <a:pt x="8051" y="5363"/>
                  <a:pt x="8034" y="5392"/>
                  <a:pt x="8019" y="5425"/>
                </a:cubicBezTo>
                <a:cubicBezTo>
                  <a:pt x="8002" y="5462"/>
                  <a:pt x="7987" y="5510"/>
                  <a:pt x="8001" y="5551"/>
                </a:cubicBezTo>
                <a:cubicBezTo>
                  <a:pt x="8009" y="5577"/>
                  <a:pt x="8031" y="5591"/>
                  <a:pt x="8057" y="5595"/>
                </a:cubicBezTo>
                <a:cubicBezTo>
                  <a:pt x="8076" y="5598"/>
                  <a:pt x="8106" y="5593"/>
                  <a:pt x="8118" y="5576"/>
                </a:cubicBezTo>
                <a:cubicBezTo>
                  <a:pt x="8129" y="5561"/>
                  <a:pt x="8124" y="5543"/>
                  <a:pt x="8109" y="5534"/>
                </a:cubicBezTo>
                <a:cubicBezTo>
                  <a:pt x="8095" y="5526"/>
                  <a:pt x="8048" y="5515"/>
                  <a:pt x="8036" y="5532"/>
                </a:cubicBezTo>
                <a:cubicBezTo>
                  <a:pt x="8023" y="5552"/>
                  <a:pt x="8111" y="5557"/>
                  <a:pt x="8112" y="5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nk 30"/>
          <p:cNvSpPr/>
          <p:nvPr/>
        </p:nvSpPr>
        <p:spPr>
          <a:xfrm>
            <a:off x="3062160" y="1901880"/>
            <a:ext cx="468360" cy="177840"/>
          </a:xfrm>
          <a:custGeom>
            <a:avLst/>
            <a:gdLst/>
            <a:ahLst/>
            <a:rect l="l" t="t" r="r" b="b"/>
            <a:pathLst>
              <a:path w="1304" h="494">
                <a:moveTo>
                  <a:pt x="8590" y="5551"/>
                </a:moveTo>
                <a:cubicBezTo>
                  <a:pt x="8578" y="5580"/>
                  <a:pt x="8566" y="5611"/>
                  <a:pt x="8553" y="5640"/>
                </a:cubicBezTo>
                <a:cubicBezTo>
                  <a:pt x="8537" y="5675"/>
                  <a:pt x="8524" y="5711"/>
                  <a:pt x="8512" y="5747"/>
                </a:cubicBezTo>
                <a:cubicBezTo>
                  <a:pt x="8507" y="5761"/>
                  <a:pt x="8505" y="5765"/>
                  <a:pt x="8505" y="5775"/>
                </a:cubicBezTo>
                <a:cubicBezTo>
                  <a:pt x="8524" y="5734"/>
                  <a:pt x="8542" y="5692"/>
                  <a:pt x="8564" y="5652"/>
                </a:cubicBezTo>
                <a:cubicBezTo>
                  <a:pt x="8591" y="5602"/>
                  <a:pt x="8622" y="5552"/>
                  <a:pt x="8660" y="5509"/>
                </a:cubicBezTo>
                <a:cubicBezTo>
                  <a:pt x="8676" y="5491"/>
                  <a:pt x="8705" y="5455"/>
                  <a:pt x="8734" y="5472"/>
                </a:cubicBezTo>
                <a:cubicBezTo>
                  <a:pt x="8756" y="5485"/>
                  <a:pt x="8757" y="5521"/>
                  <a:pt x="8754" y="5543"/>
                </a:cubicBezTo>
                <a:cubicBezTo>
                  <a:pt x="8748" y="5580"/>
                  <a:pt x="8728" y="5613"/>
                  <a:pt x="8697" y="5633"/>
                </a:cubicBezTo>
                <a:cubicBezTo>
                  <a:pt x="8680" y="5644"/>
                  <a:pt x="8677" y="5643"/>
                  <a:pt x="8661" y="5636"/>
                </a:cubicBezTo>
                <a:cubicBezTo>
                  <a:pt x="8663" y="5608"/>
                  <a:pt x="8667" y="5599"/>
                  <a:pt x="8681" y="5573"/>
                </a:cubicBezTo>
              </a:path>
              <a:path w="1304" h="494">
                <a:moveTo>
                  <a:pt x="8950" y="5282"/>
                </a:moveTo>
                <a:cubicBezTo>
                  <a:pt x="8942" y="5314"/>
                  <a:pt x="8929" y="5344"/>
                  <a:pt x="8920" y="5376"/>
                </a:cubicBezTo>
                <a:cubicBezTo>
                  <a:pt x="8909" y="5416"/>
                  <a:pt x="8903" y="5458"/>
                  <a:pt x="8903" y="5499"/>
                </a:cubicBezTo>
                <a:cubicBezTo>
                  <a:pt x="8903" y="5527"/>
                  <a:pt x="8912" y="5567"/>
                  <a:pt x="8937" y="5585"/>
                </a:cubicBezTo>
                <a:cubicBezTo>
                  <a:pt x="8943" y="5588"/>
                  <a:pt x="8950" y="5590"/>
                  <a:pt x="8956" y="5593"/>
                </a:cubicBezTo>
              </a:path>
              <a:path w="1304" h="494">
                <a:moveTo>
                  <a:pt x="9136" y="5501"/>
                </a:moveTo>
                <a:cubicBezTo>
                  <a:pt x="9140" y="5486"/>
                  <a:pt x="9143" y="5483"/>
                  <a:pt x="9136" y="5475"/>
                </a:cubicBezTo>
                <a:cubicBezTo>
                  <a:pt x="9114" y="5471"/>
                  <a:pt x="9099" y="5479"/>
                  <a:pt x="9079" y="5489"/>
                </a:cubicBezTo>
                <a:cubicBezTo>
                  <a:pt x="9057" y="5500"/>
                  <a:pt x="9030" y="5516"/>
                  <a:pt x="9019" y="5539"/>
                </a:cubicBezTo>
                <a:cubicBezTo>
                  <a:pt x="9018" y="5543"/>
                  <a:pt x="9018" y="5546"/>
                  <a:pt x="9017" y="5550"/>
                </a:cubicBezTo>
                <a:cubicBezTo>
                  <a:pt x="9045" y="5563"/>
                  <a:pt x="9062" y="5562"/>
                  <a:pt x="9093" y="5551"/>
                </a:cubicBezTo>
                <a:cubicBezTo>
                  <a:pt x="9115" y="5543"/>
                  <a:pt x="9174" y="5507"/>
                  <a:pt x="9155" y="5520"/>
                </a:cubicBezTo>
                <a:cubicBezTo>
                  <a:pt x="9127" y="5540"/>
                  <a:pt x="9169" y="5530"/>
                  <a:pt x="9181" y="5530"/>
                </a:cubicBezTo>
              </a:path>
              <a:path w="1304" h="494">
                <a:moveTo>
                  <a:pt x="9363" y="5450"/>
                </a:moveTo>
                <a:cubicBezTo>
                  <a:pt x="9367" y="5441"/>
                  <a:pt x="9368" y="5438"/>
                  <a:pt x="9372" y="5432"/>
                </a:cubicBezTo>
                <a:cubicBezTo>
                  <a:pt x="9348" y="5438"/>
                  <a:pt x="9331" y="5450"/>
                  <a:pt x="9315" y="5470"/>
                </a:cubicBezTo>
                <a:cubicBezTo>
                  <a:pt x="9294" y="5496"/>
                  <a:pt x="9276" y="5528"/>
                  <a:pt x="9269" y="5561"/>
                </a:cubicBezTo>
                <a:cubicBezTo>
                  <a:pt x="9263" y="5590"/>
                  <a:pt x="9271" y="5605"/>
                  <a:pt x="9296" y="5616"/>
                </a:cubicBezTo>
                <a:cubicBezTo>
                  <a:pt x="9318" y="5625"/>
                  <a:pt x="9332" y="5618"/>
                  <a:pt x="9354" y="5612"/>
                </a:cubicBezTo>
              </a:path>
              <a:path w="1304" h="494">
                <a:moveTo>
                  <a:pt x="9489" y="5534"/>
                </a:moveTo>
                <a:cubicBezTo>
                  <a:pt x="9508" y="5523"/>
                  <a:pt x="9527" y="5514"/>
                  <a:pt x="9545" y="5503"/>
                </a:cubicBezTo>
                <a:cubicBezTo>
                  <a:pt x="9569" y="5488"/>
                  <a:pt x="9582" y="5480"/>
                  <a:pt x="9596" y="5456"/>
                </a:cubicBezTo>
                <a:cubicBezTo>
                  <a:pt x="9568" y="5452"/>
                  <a:pt x="9552" y="5463"/>
                  <a:pt x="9530" y="5483"/>
                </a:cubicBezTo>
                <a:cubicBezTo>
                  <a:pt x="9506" y="5504"/>
                  <a:pt x="9481" y="5538"/>
                  <a:pt x="9491" y="5572"/>
                </a:cubicBezTo>
                <a:cubicBezTo>
                  <a:pt x="9501" y="5607"/>
                  <a:pt x="9555" y="5612"/>
                  <a:pt x="9584" y="5610"/>
                </a:cubicBezTo>
                <a:cubicBezTo>
                  <a:pt x="9633" y="5606"/>
                  <a:pt x="9685" y="5585"/>
                  <a:pt x="9726" y="5560"/>
                </a:cubicBezTo>
                <a:cubicBezTo>
                  <a:pt x="9755" y="5543"/>
                  <a:pt x="9781" y="5520"/>
                  <a:pt x="9801" y="5492"/>
                </a:cubicBezTo>
                <a:cubicBezTo>
                  <a:pt x="9803" y="5489"/>
                  <a:pt x="9805" y="5485"/>
                  <a:pt x="9807" y="5482"/>
                </a:cubicBezTo>
                <a:cubicBezTo>
                  <a:pt x="9807" y="5508"/>
                  <a:pt x="9803" y="5535"/>
                  <a:pt x="9796" y="5561"/>
                </a:cubicBezTo>
                <a:cubicBezTo>
                  <a:pt x="9785" y="5604"/>
                  <a:pt x="9771" y="5648"/>
                  <a:pt x="9738" y="5679"/>
                </a:cubicBezTo>
                <a:cubicBezTo>
                  <a:pt x="9710" y="5705"/>
                  <a:pt x="9662" y="5733"/>
                  <a:pt x="9626" y="5703"/>
                </a:cubicBezTo>
                <a:cubicBezTo>
                  <a:pt x="9621" y="5695"/>
                  <a:pt x="9616" y="5687"/>
                  <a:pt x="9611" y="5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Ink 31"/>
          <p:cNvSpPr/>
          <p:nvPr/>
        </p:nvSpPr>
        <p:spPr>
          <a:xfrm>
            <a:off x="2382840" y="2541600"/>
            <a:ext cx="165240" cy="101520"/>
          </a:xfrm>
          <a:custGeom>
            <a:avLst/>
            <a:gdLst/>
            <a:ahLst/>
            <a:rect l="l" t="t" r="r" b="b"/>
            <a:pathLst>
              <a:path w="457" h="284">
                <a:moveTo>
                  <a:pt x="7070" y="7104"/>
                </a:moveTo>
                <a:cubicBezTo>
                  <a:pt x="7075" y="7084"/>
                  <a:pt x="7076" y="7062"/>
                  <a:pt x="7047" y="7059"/>
                </a:cubicBezTo>
                <a:cubicBezTo>
                  <a:pt x="7024" y="7056"/>
                  <a:pt x="6996" y="7065"/>
                  <a:pt x="6975" y="7073"/>
                </a:cubicBezTo>
                <a:cubicBezTo>
                  <a:pt x="6935" y="7089"/>
                  <a:pt x="6895" y="7112"/>
                  <a:pt x="6858" y="7135"/>
                </a:cubicBezTo>
                <a:cubicBezTo>
                  <a:pt x="6816" y="7161"/>
                  <a:pt x="6774" y="7188"/>
                  <a:pt x="6735" y="7218"/>
                </a:cubicBezTo>
                <a:cubicBezTo>
                  <a:pt x="6706" y="7240"/>
                  <a:pt x="6679" y="7263"/>
                  <a:pt x="6652" y="7288"/>
                </a:cubicBezTo>
                <a:cubicBezTo>
                  <a:pt x="6640" y="7299"/>
                  <a:pt x="6637" y="7301"/>
                  <a:pt x="6631" y="7309"/>
                </a:cubicBezTo>
                <a:cubicBezTo>
                  <a:pt x="6600" y="7337"/>
                  <a:pt x="6655" y="7285"/>
                  <a:pt x="6658" y="7281"/>
                </a:cubicBezTo>
                <a:cubicBezTo>
                  <a:pt x="6685" y="7249"/>
                  <a:pt x="6711" y="7216"/>
                  <a:pt x="6735" y="7181"/>
                </a:cubicBezTo>
                <a:cubicBezTo>
                  <a:pt x="6753" y="7155"/>
                  <a:pt x="6769" y="7127"/>
                  <a:pt x="6784" y="7099"/>
                </a:cubicBezTo>
                <a:cubicBezTo>
                  <a:pt x="6763" y="7129"/>
                  <a:pt x="6744" y="7161"/>
                  <a:pt x="6730" y="7196"/>
                </a:cubicBezTo>
                <a:cubicBezTo>
                  <a:pt x="6716" y="7230"/>
                  <a:pt x="6696" y="7273"/>
                  <a:pt x="6701" y="7311"/>
                </a:cubicBezTo>
                <a:cubicBezTo>
                  <a:pt x="6706" y="7345"/>
                  <a:pt x="6742" y="7343"/>
                  <a:pt x="6767" y="7339"/>
                </a:cubicBezTo>
                <a:cubicBezTo>
                  <a:pt x="6807" y="7333"/>
                  <a:pt x="6845" y="7317"/>
                  <a:pt x="6883" y="7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Ink 32"/>
          <p:cNvSpPr/>
          <p:nvPr/>
        </p:nvSpPr>
        <p:spPr>
          <a:xfrm>
            <a:off x="2695680" y="2503440"/>
            <a:ext cx="118800" cy="123840"/>
          </a:xfrm>
          <a:custGeom>
            <a:avLst/>
            <a:gdLst/>
            <a:ahLst/>
            <a:rect l="l" t="t" r="r" b="b"/>
            <a:pathLst>
              <a:path w="329" h="348">
                <a:moveTo>
                  <a:pt x="7658" y="6952"/>
                </a:moveTo>
                <a:cubicBezTo>
                  <a:pt x="7639" y="6971"/>
                  <a:pt x="7619" y="6990"/>
                  <a:pt x="7602" y="7011"/>
                </a:cubicBezTo>
                <a:cubicBezTo>
                  <a:pt x="7575" y="7045"/>
                  <a:pt x="7548" y="7079"/>
                  <a:pt x="7524" y="7115"/>
                </a:cubicBezTo>
                <a:cubicBezTo>
                  <a:pt x="7507" y="7140"/>
                  <a:pt x="7487" y="7167"/>
                  <a:pt x="7489" y="7199"/>
                </a:cubicBezTo>
                <a:cubicBezTo>
                  <a:pt x="7491" y="7228"/>
                  <a:pt x="7521" y="7226"/>
                  <a:pt x="7543" y="7226"/>
                </a:cubicBezTo>
                <a:cubicBezTo>
                  <a:pt x="7588" y="7226"/>
                  <a:pt x="7631" y="7217"/>
                  <a:pt x="7674" y="7208"/>
                </a:cubicBezTo>
                <a:cubicBezTo>
                  <a:pt x="7714" y="7200"/>
                  <a:pt x="7750" y="7192"/>
                  <a:pt x="7788" y="7178"/>
                </a:cubicBezTo>
                <a:cubicBezTo>
                  <a:pt x="7804" y="7172"/>
                  <a:pt x="7808" y="7171"/>
                  <a:pt x="7817" y="7165"/>
                </a:cubicBezTo>
              </a:path>
              <a:path w="329" h="348">
                <a:moveTo>
                  <a:pt x="7766" y="7072"/>
                </a:moveTo>
                <a:cubicBezTo>
                  <a:pt x="7747" y="7098"/>
                  <a:pt x="7742" y="7120"/>
                  <a:pt x="7733" y="7150"/>
                </a:cubicBezTo>
                <a:cubicBezTo>
                  <a:pt x="7722" y="7189"/>
                  <a:pt x="7711" y="7230"/>
                  <a:pt x="7729" y="7268"/>
                </a:cubicBezTo>
                <a:cubicBezTo>
                  <a:pt x="7740" y="7290"/>
                  <a:pt x="7751" y="7292"/>
                  <a:pt x="7772" y="7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Ink 33"/>
          <p:cNvSpPr/>
          <p:nvPr/>
        </p:nvSpPr>
        <p:spPr>
          <a:xfrm>
            <a:off x="2979720" y="2460600"/>
            <a:ext cx="506520" cy="201600"/>
          </a:xfrm>
          <a:custGeom>
            <a:avLst/>
            <a:gdLst/>
            <a:ahLst/>
            <a:rect l="l" t="t" r="r" b="b"/>
            <a:pathLst>
              <a:path w="1407" h="557">
                <a:moveTo>
                  <a:pt x="8331" y="7211"/>
                </a:moveTo>
                <a:cubicBezTo>
                  <a:pt x="8342" y="7236"/>
                  <a:pt x="8335" y="7258"/>
                  <a:pt x="8325" y="7285"/>
                </a:cubicBezTo>
                <a:cubicBezTo>
                  <a:pt x="8313" y="7317"/>
                  <a:pt x="8299" y="7349"/>
                  <a:pt x="8284" y="7380"/>
                </a:cubicBezTo>
                <a:cubicBezTo>
                  <a:pt x="8282" y="7384"/>
                  <a:pt x="8279" y="7389"/>
                  <a:pt x="8277" y="7393"/>
                </a:cubicBezTo>
                <a:cubicBezTo>
                  <a:pt x="8311" y="7370"/>
                  <a:pt x="8338" y="7335"/>
                  <a:pt x="8364" y="7302"/>
                </a:cubicBezTo>
                <a:cubicBezTo>
                  <a:pt x="8409" y="7246"/>
                  <a:pt x="8451" y="7188"/>
                  <a:pt x="8496" y="7132"/>
                </a:cubicBezTo>
                <a:cubicBezTo>
                  <a:pt x="8522" y="7100"/>
                  <a:pt x="8544" y="7069"/>
                  <a:pt x="8582" y="7052"/>
                </a:cubicBezTo>
                <a:cubicBezTo>
                  <a:pt x="8586" y="7096"/>
                  <a:pt x="8571" y="7120"/>
                  <a:pt x="8544" y="7157"/>
                </a:cubicBezTo>
                <a:cubicBezTo>
                  <a:pt x="8514" y="7197"/>
                  <a:pt x="8480" y="7221"/>
                  <a:pt x="8439" y="7246"/>
                </a:cubicBezTo>
                <a:cubicBezTo>
                  <a:pt x="8395" y="7273"/>
                  <a:pt x="8412" y="7239"/>
                  <a:pt x="8425" y="7210"/>
                </a:cubicBezTo>
              </a:path>
              <a:path w="1407" h="557">
                <a:moveTo>
                  <a:pt x="8790" y="6837"/>
                </a:moveTo>
                <a:cubicBezTo>
                  <a:pt x="8805" y="6869"/>
                  <a:pt x="8777" y="6895"/>
                  <a:pt x="8760" y="6929"/>
                </a:cubicBezTo>
                <a:cubicBezTo>
                  <a:pt x="8734" y="6982"/>
                  <a:pt x="8705" y="7036"/>
                  <a:pt x="8691" y="7093"/>
                </a:cubicBezTo>
                <a:cubicBezTo>
                  <a:pt x="8682" y="7129"/>
                  <a:pt x="8679" y="7175"/>
                  <a:pt x="8716" y="7195"/>
                </a:cubicBezTo>
                <a:cubicBezTo>
                  <a:pt x="8743" y="7210"/>
                  <a:pt x="8781" y="7201"/>
                  <a:pt x="8809" y="7199"/>
                </a:cubicBezTo>
              </a:path>
              <a:path w="1407" h="557">
                <a:moveTo>
                  <a:pt x="9031" y="7090"/>
                </a:moveTo>
                <a:cubicBezTo>
                  <a:pt x="9019" y="7067"/>
                  <a:pt x="9000" y="7069"/>
                  <a:pt x="8974" y="7078"/>
                </a:cubicBezTo>
                <a:cubicBezTo>
                  <a:pt x="8942" y="7090"/>
                  <a:pt x="8909" y="7107"/>
                  <a:pt x="8885" y="7132"/>
                </a:cubicBezTo>
                <a:cubicBezTo>
                  <a:pt x="8868" y="7149"/>
                  <a:pt x="8852" y="7171"/>
                  <a:pt x="8882" y="7183"/>
                </a:cubicBezTo>
                <a:cubicBezTo>
                  <a:pt x="8913" y="7196"/>
                  <a:pt x="8955" y="7194"/>
                  <a:pt x="8987" y="7190"/>
                </a:cubicBezTo>
                <a:cubicBezTo>
                  <a:pt x="9019" y="7186"/>
                  <a:pt x="9049" y="7182"/>
                  <a:pt x="9080" y="7174"/>
                </a:cubicBezTo>
                <a:cubicBezTo>
                  <a:pt x="9090" y="7170"/>
                  <a:pt x="9093" y="7169"/>
                  <a:pt x="9099" y="7166"/>
                </a:cubicBezTo>
              </a:path>
              <a:path w="1407" h="557">
                <a:moveTo>
                  <a:pt x="9214" y="7118"/>
                </a:moveTo>
                <a:cubicBezTo>
                  <a:pt x="9193" y="7129"/>
                  <a:pt x="9167" y="7139"/>
                  <a:pt x="9150" y="7156"/>
                </a:cubicBezTo>
                <a:cubicBezTo>
                  <a:pt x="9142" y="7164"/>
                  <a:pt x="9117" y="7194"/>
                  <a:pt x="9121" y="7208"/>
                </a:cubicBezTo>
                <a:cubicBezTo>
                  <a:pt x="9129" y="7235"/>
                  <a:pt x="9151" y="7236"/>
                  <a:pt x="9175" y="7233"/>
                </a:cubicBezTo>
                <a:cubicBezTo>
                  <a:pt x="9209" y="7229"/>
                  <a:pt x="9241" y="7216"/>
                  <a:pt x="9271" y="7201"/>
                </a:cubicBezTo>
                <a:cubicBezTo>
                  <a:pt x="9302" y="7186"/>
                  <a:pt x="9325" y="7167"/>
                  <a:pt x="9349" y="7143"/>
                </a:cubicBezTo>
                <a:cubicBezTo>
                  <a:pt x="9365" y="7127"/>
                  <a:pt x="9370" y="7117"/>
                  <a:pt x="9378" y="7097"/>
                </a:cubicBezTo>
                <a:cubicBezTo>
                  <a:pt x="9349" y="7113"/>
                  <a:pt x="9335" y="7129"/>
                  <a:pt x="9315" y="7155"/>
                </a:cubicBezTo>
                <a:cubicBezTo>
                  <a:pt x="9334" y="7179"/>
                  <a:pt x="9351" y="7185"/>
                  <a:pt x="9384" y="7183"/>
                </a:cubicBezTo>
                <a:cubicBezTo>
                  <a:pt x="9423" y="7181"/>
                  <a:pt x="9461" y="7172"/>
                  <a:pt x="9496" y="7156"/>
                </a:cubicBezTo>
                <a:cubicBezTo>
                  <a:pt x="9550" y="7131"/>
                  <a:pt x="9592" y="7090"/>
                  <a:pt x="9628" y="7044"/>
                </a:cubicBezTo>
                <a:cubicBezTo>
                  <a:pt x="9647" y="7020"/>
                  <a:pt x="9661" y="6993"/>
                  <a:pt x="9675" y="6966"/>
                </a:cubicBezTo>
                <a:cubicBezTo>
                  <a:pt x="9685" y="7004"/>
                  <a:pt x="9681" y="7040"/>
                  <a:pt x="9677" y="7080"/>
                </a:cubicBezTo>
                <a:cubicBezTo>
                  <a:pt x="9671" y="7135"/>
                  <a:pt x="9661" y="7189"/>
                  <a:pt x="9640" y="7241"/>
                </a:cubicBezTo>
                <a:cubicBezTo>
                  <a:pt x="9626" y="7274"/>
                  <a:pt x="9596" y="7336"/>
                  <a:pt x="9551" y="7334"/>
                </a:cubicBezTo>
                <a:cubicBezTo>
                  <a:pt x="9518" y="7332"/>
                  <a:pt x="9504" y="7288"/>
                  <a:pt x="9502" y="7262"/>
                </a:cubicBezTo>
                <a:cubicBezTo>
                  <a:pt x="9502" y="7254"/>
                  <a:pt x="9503" y="7247"/>
                  <a:pt x="9503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Ink 34"/>
          <p:cNvSpPr/>
          <p:nvPr/>
        </p:nvSpPr>
        <p:spPr>
          <a:xfrm>
            <a:off x="3755880" y="2435400"/>
            <a:ext cx="366840" cy="172800"/>
          </a:xfrm>
          <a:custGeom>
            <a:avLst/>
            <a:gdLst/>
            <a:ahLst/>
            <a:rect l="l" t="t" r="r" b="b"/>
            <a:pathLst>
              <a:path w="1021" h="479">
                <a:moveTo>
                  <a:pt x="10485" y="6879"/>
                </a:moveTo>
                <a:cubicBezTo>
                  <a:pt x="10490" y="6908"/>
                  <a:pt x="10484" y="6937"/>
                  <a:pt x="10480" y="6968"/>
                </a:cubicBezTo>
                <a:cubicBezTo>
                  <a:pt x="10472" y="7033"/>
                  <a:pt x="10455" y="7096"/>
                  <a:pt x="10443" y="7161"/>
                </a:cubicBezTo>
                <a:cubicBezTo>
                  <a:pt x="10439" y="7180"/>
                  <a:pt x="10422" y="7223"/>
                  <a:pt x="10441" y="7241"/>
                </a:cubicBezTo>
                <a:cubicBezTo>
                  <a:pt x="10452" y="7244"/>
                  <a:pt x="10456" y="7245"/>
                  <a:pt x="10463" y="7241"/>
                </a:cubicBezTo>
              </a:path>
              <a:path w="1021" h="479">
                <a:moveTo>
                  <a:pt x="10592" y="7148"/>
                </a:moveTo>
                <a:cubicBezTo>
                  <a:pt x="10615" y="7161"/>
                  <a:pt x="10631" y="7164"/>
                  <a:pt x="10657" y="7161"/>
                </a:cubicBezTo>
                <a:cubicBezTo>
                  <a:pt x="10698" y="7156"/>
                  <a:pt x="10733" y="7140"/>
                  <a:pt x="10768" y="7119"/>
                </a:cubicBezTo>
                <a:cubicBezTo>
                  <a:pt x="10794" y="7104"/>
                  <a:pt x="10815" y="7090"/>
                  <a:pt x="10817" y="7061"/>
                </a:cubicBezTo>
                <a:cubicBezTo>
                  <a:pt x="10788" y="7047"/>
                  <a:pt x="10764" y="7051"/>
                  <a:pt x="10733" y="7064"/>
                </a:cubicBezTo>
                <a:cubicBezTo>
                  <a:pt x="10695" y="7080"/>
                  <a:pt x="10655" y="7106"/>
                  <a:pt x="10635" y="7143"/>
                </a:cubicBezTo>
                <a:cubicBezTo>
                  <a:pt x="10617" y="7177"/>
                  <a:pt x="10638" y="7203"/>
                  <a:pt x="10673" y="7208"/>
                </a:cubicBezTo>
                <a:cubicBezTo>
                  <a:pt x="10735" y="7217"/>
                  <a:pt x="10807" y="7197"/>
                  <a:pt x="10866" y="7182"/>
                </a:cubicBezTo>
                <a:cubicBezTo>
                  <a:pt x="10886" y="7176"/>
                  <a:pt x="10907" y="7171"/>
                  <a:pt x="10927" y="7165"/>
                </a:cubicBezTo>
              </a:path>
              <a:path w="1021" h="479">
                <a:moveTo>
                  <a:pt x="11275" y="6813"/>
                </a:moveTo>
                <a:cubicBezTo>
                  <a:pt x="11265" y="6787"/>
                  <a:pt x="11258" y="6767"/>
                  <a:pt x="11227" y="6766"/>
                </a:cubicBezTo>
                <a:cubicBezTo>
                  <a:pt x="11187" y="6765"/>
                  <a:pt x="11160" y="6802"/>
                  <a:pt x="11137" y="6831"/>
                </a:cubicBezTo>
                <a:cubicBezTo>
                  <a:pt x="11098" y="6880"/>
                  <a:pt x="11076" y="6942"/>
                  <a:pt x="11063" y="7003"/>
                </a:cubicBezTo>
                <a:cubicBezTo>
                  <a:pt x="11053" y="7049"/>
                  <a:pt x="11046" y="7110"/>
                  <a:pt x="11057" y="7157"/>
                </a:cubicBezTo>
                <a:cubicBezTo>
                  <a:pt x="11062" y="7177"/>
                  <a:pt x="11073" y="7189"/>
                  <a:pt x="11087" y="7201"/>
                </a:cubicBezTo>
              </a:path>
              <a:path w="1021" h="479">
                <a:moveTo>
                  <a:pt x="11057" y="7046"/>
                </a:moveTo>
                <a:cubicBezTo>
                  <a:pt x="11083" y="7043"/>
                  <a:pt x="11107" y="7050"/>
                  <a:pt x="11135" y="7049"/>
                </a:cubicBezTo>
                <a:cubicBezTo>
                  <a:pt x="11187" y="7047"/>
                  <a:pt x="11240" y="7036"/>
                  <a:pt x="11290" y="7022"/>
                </a:cubicBezTo>
                <a:cubicBezTo>
                  <a:pt x="11303" y="7018"/>
                  <a:pt x="11317" y="7013"/>
                  <a:pt x="11330" y="7009"/>
                </a:cubicBezTo>
              </a:path>
              <a:path w="1021" h="479">
                <a:moveTo>
                  <a:pt x="11406" y="6810"/>
                </a:moveTo>
                <a:cubicBezTo>
                  <a:pt x="11372" y="6848"/>
                  <a:pt x="11354" y="6883"/>
                  <a:pt x="11335" y="6931"/>
                </a:cubicBezTo>
                <a:cubicBezTo>
                  <a:pt x="11312" y="6989"/>
                  <a:pt x="11296" y="7051"/>
                  <a:pt x="11291" y="7114"/>
                </a:cubicBezTo>
                <a:cubicBezTo>
                  <a:pt x="11288" y="7149"/>
                  <a:pt x="11290" y="7184"/>
                  <a:pt x="11304" y="7216"/>
                </a:cubicBezTo>
              </a:path>
              <a:path w="1021" h="479">
                <a:moveTo>
                  <a:pt x="11314" y="7074"/>
                </a:moveTo>
                <a:cubicBezTo>
                  <a:pt x="11327" y="7052"/>
                  <a:pt x="11345" y="7047"/>
                  <a:pt x="11372" y="7042"/>
                </a:cubicBezTo>
                <a:cubicBezTo>
                  <a:pt x="11410" y="7037"/>
                  <a:pt x="11425" y="7034"/>
                  <a:pt x="11452" y="7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Ink 35"/>
          <p:cNvSpPr/>
          <p:nvPr/>
        </p:nvSpPr>
        <p:spPr>
          <a:xfrm>
            <a:off x="957240" y="3036960"/>
            <a:ext cx="298440" cy="142920"/>
          </a:xfrm>
          <a:custGeom>
            <a:avLst/>
            <a:gdLst/>
            <a:ahLst/>
            <a:rect l="l" t="t" r="r" b="b"/>
            <a:pathLst>
              <a:path w="827" h="399">
                <a:moveTo>
                  <a:pt x="2672" y="8552"/>
                </a:moveTo>
                <a:cubicBezTo>
                  <a:pt x="2664" y="8534"/>
                  <a:pt x="2652" y="8528"/>
                  <a:pt x="2674" y="8514"/>
                </a:cubicBezTo>
                <a:cubicBezTo>
                  <a:pt x="2700" y="8498"/>
                  <a:pt x="2719" y="8492"/>
                  <a:pt x="2750" y="8494"/>
                </a:cubicBezTo>
                <a:cubicBezTo>
                  <a:pt x="2778" y="8496"/>
                  <a:pt x="2800" y="8506"/>
                  <a:pt x="2817" y="8528"/>
                </a:cubicBezTo>
                <a:cubicBezTo>
                  <a:pt x="2839" y="8555"/>
                  <a:pt x="2828" y="8590"/>
                  <a:pt x="2817" y="8619"/>
                </a:cubicBezTo>
                <a:cubicBezTo>
                  <a:pt x="2797" y="8673"/>
                  <a:pt x="2762" y="8716"/>
                  <a:pt x="2728" y="8762"/>
                </a:cubicBezTo>
                <a:cubicBezTo>
                  <a:pt x="2713" y="8783"/>
                  <a:pt x="2695" y="8801"/>
                  <a:pt x="2684" y="8824"/>
                </a:cubicBezTo>
                <a:cubicBezTo>
                  <a:pt x="2701" y="8831"/>
                  <a:pt x="2707" y="8831"/>
                  <a:pt x="2732" y="8824"/>
                </a:cubicBezTo>
                <a:cubicBezTo>
                  <a:pt x="2766" y="8814"/>
                  <a:pt x="2799" y="8804"/>
                  <a:pt x="2832" y="8792"/>
                </a:cubicBezTo>
                <a:cubicBezTo>
                  <a:pt x="2861" y="8782"/>
                  <a:pt x="2889" y="8775"/>
                  <a:pt x="2916" y="8763"/>
                </a:cubicBezTo>
                <a:cubicBezTo>
                  <a:pt x="2932" y="8756"/>
                  <a:pt x="2946" y="8747"/>
                  <a:pt x="2961" y="8738"/>
                </a:cubicBezTo>
              </a:path>
              <a:path w="827" h="399">
                <a:moveTo>
                  <a:pt x="3100" y="8632"/>
                </a:moveTo>
                <a:cubicBezTo>
                  <a:pt x="3102" y="8629"/>
                  <a:pt x="3103" y="8626"/>
                  <a:pt x="3105" y="8623"/>
                </a:cubicBezTo>
                <a:cubicBezTo>
                  <a:pt x="3108" y="8652"/>
                  <a:pt x="3115" y="8648"/>
                  <a:pt x="3142" y="8643"/>
                </a:cubicBezTo>
              </a:path>
              <a:path w="827" h="399">
                <a:moveTo>
                  <a:pt x="3367" y="8434"/>
                </a:moveTo>
                <a:cubicBezTo>
                  <a:pt x="3347" y="8462"/>
                  <a:pt x="3332" y="8494"/>
                  <a:pt x="3323" y="8527"/>
                </a:cubicBezTo>
                <a:cubicBezTo>
                  <a:pt x="3309" y="8575"/>
                  <a:pt x="3297" y="8635"/>
                  <a:pt x="3307" y="8685"/>
                </a:cubicBezTo>
                <a:cubicBezTo>
                  <a:pt x="3315" y="8725"/>
                  <a:pt x="3341" y="8750"/>
                  <a:pt x="3382" y="8742"/>
                </a:cubicBezTo>
                <a:cubicBezTo>
                  <a:pt x="3422" y="8735"/>
                  <a:pt x="3461" y="8702"/>
                  <a:pt x="3479" y="8666"/>
                </a:cubicBezTo>
                <a:cubicBezTo>
                  <a:pt x="3494" y="8635"/>
                  <a:pt x="3482" y="8602"/>
                  <a:pt x="3445" y="8598"/>
                </a:cubicBezTo>
                <a:cubicBezTo>
                  <a:pt x="3406" y="8594"/>
                  <a:pt x="3364" y="8607"/>
                  <a:pt x="3324" y="8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Ink 36"/>
          <p:cNvSpPr/>
          <p:nvPr/>
        </p:nvSpPr>
        <p:spPr>
          <a:xfrm>
            <a:off x="1444680" y="3063960"/>
            <a:ext cx="360360" cy="160200"/>
          </a:xfrm>
          <a:custGeom>
            <a:avLst/>
            <a:gdLst/>
            <a:ahLst/>
            <a:rect l="l" t="t" r="r" b="b"/>
            <a:pathLst>
              <a:path w="1003" h="445">
                <a:moveTo>
                  <a:pt x="4064" y="8599"/>
                </a:moveTo>
                <a:cubicBezTo>
                  <a:pt x="4058" y="8626"/>
                  <a:pt x="4055" y="8652"/>
                  <a:pt x="4052" y="8679"/>
                </a:cubicBezTo>
                <a:cubicBezTo>
                  <a:pt x="4048" y="8722"/>
                  <a:pt x="4039" y="8763"/>
                  <a:pt x="4029" y="8805"/>
                </a:cubicBezTo>
                <a:cubicBezTo>
                  <a:pt x="4025" y="8821"/>
                  <a:pt x="4005" y="8871"/>
                  <a:pt x="4017" y="8886"/>
                </a:cubicBezTo>
                <a:cubicBezTo>
                  <a:pt x="4027" y="8899"/>
                  <a:pt x="4041" y="8863"/>
                  <a:pt x="4042" y="8862"/>
                </a:cubicBezTo>
              </a:path>
              <a:path w="1003" h="445">
                <a:moveTo>
                  <a:pt x="4040" y="8657"/>
                </a:moveTo>
                <a:cubicBezTo>
                  <a:pt x="4047" y="8628"/>
                  <a:pt x="4056" y="8622"/>
                  <a:pt x="4078" y="8603"/>
                </a:cubicBezTo>
                <a:cubicBezTo>
                  <a:pt x="4109" y="8576"/>
                  <a:pt x="4147" y="8557"/>
                  <a:pt x="4186" y="8543"/>
                </a:cubicBezTo>
                <a:cubicBezTo>
                  <a:pt x="4226" y="8529"/>
                  <a:pt x="4273" y="8513"/>
                  <a:pt x="4315" y="8511"/>
                </a:cubicBezTo>
                <a:cubicBezTo>
                  <a:pt x="4336" y="8510"/>
                  <a:pt x="4345" y="8511"/>
                  <a:pt x="4359" y="8522"/>
                </a:cubicBezTo>
                <a:cubicBezTo>
                  <a:pt x="4351" y="8544"/>
                  <a:pt x="4344" y="8553"/>
                  <a:pt x="4328" y="8572"/>
                </a:cubicBezTo>
              </a:path>
              <a:path w="1003" h="445">
                <a:moveTo>
                  <a:pt x="4067" y="8798"/>
                </a:moveTo>
                <a:cubicBezTo>
                  <a:pt x="4092" y="8790"/>
                  <a:pt x="4111" y="8777"/>
                  <a:pt x="4134" y="8765"/>
                </a:cubicBezTo>
                <a:cubicBezTo>
                  <a:pt x="4168" y="8748"/>
                  <a:pt x="4206" y="8731"/>
                  <a:pt x="4243" y="8724"/>
                </a:cubicBezTo>
                <a:cubicBezTo>
                  <a:pt x="4258" y="8721"/>
                  <a:pt x="4299" y="8715"/>
                  <a:pt x="4294" y="8742"/>
                </a:cubicBezTo>
                <a:cubicBezTo>
                  <a:pt x="4292" y="8748"/>
                  <a:pt x="4289" y="8753"/>
                  <a:pt x="4287" y="8759"/>
                </a:cubicBezTo>
              </a:path>
              <a:path w="1003" h="445">
                <a:moveTo>
                  <a:pt x="4070" y="8945"/>
                </a:moveTo>
                <a:cubicBezTo>
                  <a:pt x="4082" y="8964"/>
                  <a:pt x="4101" y="8944"/>
                  <a:pt x="4122" y="8936"/>
                </a:cubicBezTo>
                <a:cubicBezTo>
                  <a:pt x="4170" y="8917"/>
                  <a:pt x="4217" y="8898"/>
                  <a:pt x="4263" y="8876"/>
                </a:cubicBezTo>
                <a:cubicBezTo>
                  <a:pt x="4299" y="8859"/>
                  <a:pt x="4333" y="8842"/>
                  <a:pt x="4368" y="8823"/>
                </a:cubicBezTo>
              </a:path>
              <a:path w="1003" h="445">
                <a:moveTo>
                  <a:pt x="4427" y="8711"/>
                </a:moveTo>
                <a:cubicBezTo>
                  <a:pt x="4449" y="8703"/>
                  <a:pt x="4464" y="8707"/>
                  <a:pt x="4487" y="8714"/>
                </a:cubicBezTo>
                <a:cubicBezTo>
                  <a:pt x="4509" y="8721"/>
                  <a:pt x="4529" y="8731"/>
                  <a:pt x="4540" y="8752"/>
                </a:cubicBezTo>
                <a:cubicBezTo>
                  <a:pt x="4553" y="8778"/>
                  <a:pt x="4536" y="8801"/>
                  <a:pt x="4520" y="8820"/>
                </a:cubicBezTo>
                <a:cubicBezTo>
                  <a:pt x="4511" y="8831"/>
                  <a:pt x="4477" y="8871"/>
                  <a:pt x="4458" y="8862"/>
                </a:cubicBezTo>
                <a:cubicBezTo>
                  <a:pt x="4452" y="8850"/>
                  <a:pt x="4452" y="8845"/>
                  <a:pt x="4464" y="8838"/>
                </a:cubicBezTo>
              </a:path>
              <a:path w="1003" h="445">
                <a:moveTo>
                  <a:pt x="4721" y="8649"/>
                </a:moveTo>
                <a:cubicBezTo>
                  <a:pt x="4690" y="8677"/>
                  <a:pt x="4658" y="8706"/>
                  <a:pt x="4633" y="8740"/>
                </a:cubicBezTo>
                <a:cubicBezTo>
                  <a:pt x="4620" y="8758"/>
                  <a:pt x="4596" y="8795"/>
                  <a:pt x="4614" y="8817"/>
                </a:cubicBezTo>
                <a:cubicBezTo>
                  <a:pt x="4636" y="8845"/>
                  <a:pt x="4672" y="8838"/>
                  <a:pt x="4702" y="8834"/>
                </a:cubicBezTo>
                <a:cubicBezTo>
                  <a:pt x="4711" y="8833"/>
                  <a:pt x="4719" y="8831"/>
                  <a:pt x="4728" y="8830"/>
                </a:cubicBezTo>
              </a:path>
              <a:path w="1003" h="445">
                <a:moveTo>
                  <a:pt x="4821" y="8767"/>
                </a:moveTo>
                <a:cubicBezTo>
                  <a:pt x="4820" y="8784"/>
                  <a:pt x="4816" y="8806"/>
                  <a:pt x="4819" y="8823"/>
                </a:cubicBezTo>
                <a:cubicBezTo>
                  <a:pt x="4821" y="8834"/>
                  <a:pt x="4827" y="8846"/>
                  <a:pt x="4830" y="8857"/>
                </a:cubicBezTo>
                <a:cubicBezTo>
                  <a:pt x="4834" y="8833"/>
                  <a:pt x="4829" y="8805"/>
                  <a:pt x="4833" y="8778"/>
                </a:cubicBezTo>
                <a:cubicBezTo>
                  <a:pt x="4840" y="8730"/>
                  <a:pt x="4853" y="8684"/>
                  <a:pt x="4881" y="8644"/>
                </a:cubicBezTo>
                <a:cubicBezTo>
                  <a:pt x="4903" y="8613"/>
                  <a:pt x="4931" y="8581"/>
                  <a:pt x="4970" y="8577"/>
                </a:cubicBezTo>
                <a:cubicBezTo>
                  <a:pt x="4996" y="8574"/>
                  <a:pt x="5014" y="8588"/>
                  <a:pt x="5015" y="8615"/>
                </a:cubicBezTo>
                <a:cubicBezTo>
                  <a:pt x="5016" y="8648"/>
                  <a:pt x="4986" y="8681"/>
                  <a:pt x="4962" y="8700"/>
                </a:cubicBezTo>
                <a:cubicBezTo>
                  <a:pt x="4928" y="8727"/>
                  <a:pt x="4886" y="8747"/>
                  <a:pt x="4843" y="8755"/>
                </a:cubicBezTo>
                <a:cubicBezTo>
                  <a:pt x="4812" y="8761"/>
                  <a:pt x="4795" y="8754"/>
                  <a:pt x="4768" y="8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nk 37"/>
          <p:cNvSpPr/>
          <p:nvPr/>
        </p:nvSpPr>
        <p:spPr>
          <a:xfrm>
            <a:off x="1951200" y="3027240"/>
            <a:ext cx="212400" cy="133560"/>
          </a:xfrm>
          <a:custGeom>
            <a:avLst/>
            <a:gdLst/>
            <a:ahLst/>
            <a:rect l="l" t="t" r="r" b="b"/>
            <a:pathLst>
              <a:path w="591" h="369">
                <a:moveTo>
                  <a:pt x="5459" y="8480"/>
                </a:moveTo>
                <a:cubicBezTo>
                  <a:pt x="5461" y="8476"/>
                  <a:pt x="5463" y="8473"/>
                  <a:pt x="5465" y="8469"/>
                </a:cubicBezTo>
                <a:cubicBezTo>
                  <a:pt x="5482" y="8479"/>
                  <a:pt x="5478" y="8503"/>
                  <a:pt x="5473" y="8527"/>
                </a:cubicBezTo>
                <a:cubicBezTo>
                  <a:pt x="5465" y="8568"/>
                  <a:pt x="5456" y="8609"/>
                  <a:pt x="5445" y="8649"/>
                </a:cubicBezTo>
                <a:cubicBezTo>
                  <a:pt x="5438" y="8675"/>
                  <a:pt x="5420" y="8711"/>
                  <a:pt x="5421" y="8739"/>
                </a:cubicBezTo>
                <a:cubicBezTo>
                  <a:pt x="5422" y="8763"/>
                  <a:pt x="5449" y="8742"/>
                  <a:pt x="5457" y="8739"/>
                </a:cubicBezTo>
              </a:path>
              <a:path w="591" h="369">
                <a:moveTo>
                  <a:pt x="5629" y="8510"/>
                </a:moveTo>
                <a:cubicBezTo>
                  <a:pt x="5618" y="8499"/>
                  <a:pt x="5615" y="8497"/>
                  <a:pt x="5607" y="8511"/>
                </a:cubicBezTo>
                <a:cubicBezTo>
                  <a:pt x="5631" y="8538"/>
                  <a:pt x="5659" y="8547"/>
                  <a:pt x="5694" y="8558"/>
                </a:cubicBezTo>
                <a:cubicBezTo>
                  <a:pt x="5737" y="8571"/>
                  <a:pt x="5786" y="8580"/>
                  <a:pt x="5824" y="8606"/>
                </a:cubicBezTo>
                <a:cubicBezTo>
                  <a:pt x="5853" y="8626"/>
                  <a:pt x="5862" y="8658"/>
                  <a:pt x="5845" y="8689"/>
                </a:cubicBezTo>
                <a:cubicBezTo>
                  <a:pt x="5824" y="8728"/>
                  <a:pt x="5783" y="8754"/>
                  <a:pt x="5743" y="8768"/>
                </a:cubicBezTo>
                <a:cubicBezTo>
                  <a:pt x="5702" y="8783"/>
                  <a:pt x="5682" y="8781"/>
                  <a:pt x="5651" y="8754"/>
                </a:cubicBezTo>
              </a:path>
              <a:path w="591" h="369">
                <a:moveTo>
                  <a:pt x="5705" y="8463"/>
                </a:moveTo>
                <a:cubicBezTo>
                  <a:pt x="5723" y="8436"/>
                  <a:pt x="5735" y="8429"/>
                  <a:pt x="5766" y="8420"/>
                </a:cubicBezTo>
                <a:cubicBezTo>
                  <a:pt x="5809" y="8408"/>
                  <a:pt x="5853" y="8411"/>
                  <a:pt x="5897" y="8417"/>
                </a:cubicBezTo>
                <a:cubicBezTo>
                  <a:pt x="5935" y="8422"/>
                  <a:pt x="5973" y="8431"/>
                  <a:pt x="6011" y="8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Ink 38"/>
          <p:cNvSpPr/>
          <p:nvPr/>
        </p:nvSpPr>
        <p:spPr>
          <a:xfrm>
            <a:off x="2382840" y="3068640"/>
            <a:ext cx="133200" cy="98280"/>
          </a:xfrm>
          <a:custGeom>
            <a:avLst/>
            <a:gdLst/>
            <a:ahLst/>
            <a:rect l="l" t="t" r="r" b="b"/>
            <a:pathLst>
              <a:path w="372" h="274">
                <a:moveTo>
                  <a:pt x="6845" y="8524"/>
                </a:moveTo>
                <a:cubicBezTo>
                  <a:pt x="6822" y="8549"/>
                  <a:pt x="6807" y="8580"/>
                  <a:pt x="6786" y="8606"/>
                </a:cubicBezTo>
                <a:cubicBezTo>
                  <a:pt x="6752" y="8648"/>
                  <a:pt x="6718" y="8689"/>
                  <a:pt x="6684" y="8732"/>
                </a:cubicBezTo>
                <a:cubicBezTo>
                  <a:pt x="6664" y="8757"/>
                  <a:pt x="6644" y="8780"/>
                  <a:pt x="6618" y="8797"/>
                </a:cubicBezTo>
              </a:path>
              <a:path w="372" h="274">
                <a:moveTo>
                  <a:pt x="6625" y="8598"/>
                </a:moveTo>
                <a:cubicBezTo>
                  <a:pt x="6651" y="8597"/>
                  <a:pt x="6673" y="8601"/>
                  <a:pt x="6699" y="8608"/>
                </a:cubicBezTo>
                <a:cubicBezTo>
                  <a:pt x="6751" y="8622"/>
                  <a:pt x="6801" y="8643"/>
                  <a:pt x="6853" y="8659"/>
                </a:cubicBezTo>
                <a:cubicBezTo>
                  <a:pt x="6899" y="8673"/>
                  <a:pt x="6944" y="8689"/>
                  <a:pt x="6989" y="8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nk 39"/>
          <p:cNvSpPr/>
          <p:nvPr/>
        </p:nvSpPr>
        <p:spPr>
          <a:xfrm>
            <a:off x="2727360" y="3013200"/>
            <a:ext cx="311040" cy="141120"/>
          </a:xfrm>
          <a:custGeom>
            <a:avLst/>
            <a:gdLst/>
            <a:ahLst/>
            <a:rect l="l" t="t" r="r" b="b"/>
            <a:pathLst>
              <a:path w="863" h="394">
                <a:moveTo>
                  <a:pt x="7651" y="8370"/>
                </a:moveTo>
                <a:cubicBezTo>
                  <a:pt x="7629" y="8380"/>
                  <a:pt x="7637" y="8395"/>
                  <a:pt x="7631" y="8417"/>
                </a:cubicBezTo>
                <a:cubicBezTo>
                  <a:pt x="7620" y="8459"/>
                  <a:pt x="7617" y="8501"/>
                  <a:pt x="7610" y="8544"/>
                </a:cubicBezTo>
                <a:cubicBezTo>
                  <a:pt x="7603" y="8590"/>
                  <a:pt x="7588" y="8637"/>
                  <a:pt x="7584" y="8683"/>
                </a:cubicBezTo>
                <a:cubicBezTo>
                  <a:pt x="7582" y="8709"/>
                  <a:pt x="7567" y="8751"/>
                  <a:pt x="7604" y="8758"/>
                </a:cubicBezTo>
                <a:cubicBezTo>
                  <a:pt x="7609" y="8757"/>
                  <a:pt x="7613" y="8755"/>
                  <a:pt x="7618" y="8754"/>
                </a:cubicBezTo>
              </a:path>
              <a:path w="863" h="394">
                <a:moveTo>
                  <a:pt x="7750" y="8599"/>
                </a:moveTo>
                <a:cubicBezTo>
                  <a:pt x="7763" y="8577"/>
                  <a:pt x="7771" y="8576"/>
                  <a:pt x="7795" y="8569"/>
                </a:cubicBezTo>
                <a:cubicBezTo>
                  <a:pt x="7802" y="8567"/>
                  <a:pt x="7810" y="8564"/>
                  <a:pt x="7817" y="8562"/>
                </a:cubicBezTo>
              </a:path>
              <a:path w="863" h="394">
                <a:moveTo>
                  <a:pt x="8020" y="8458"/>
                </a:moveTo>
                <a:cubicBezTo>
                  <a:pt x="8007" y="8444"/>
                  <a:pt x="7996" y="8437"/>
                  <a:pt x="7975" y="8441"/>
                </a:cubicBezTo>
                <a:cubicBezTo>
                  <a:pt x="7961" y="8444"/>
                  <a:pt x="7943" y="8454"/>
                  <a:pt x="7950" y="8471"/>
                </a:cubicBezTo>
                <a:cubicBezTo>
                  <a:pt x="7962" y="8501"/>
                  <a:pt x="8005" y="8515"/>
                  <a:pt x="8031" y="8528"/>
                </a:cubicBezTo>
                <a:cubicBezTo>
                  <a:pt x="8080" y="8552"/>
                  <a:pt x="8132" y="8573"/>
                  <a:pt x="8176" y="8607"/>
                </a:cubicBezTo>
                <a:cubicBezTo>
                  <a:pt x="8208" y="8632"/>
                  <a:pt x="8233" y="8665"/>
                  <a:pt x="8211" y="8705"/>
                </a:cubicBezTo>
                <a:cubicBezTo>
                  <a:pt x="8191" y="8741"/>
                  <a:pt x="8140" y="8760"/>
                  <a:pt x="8101" y="8763"/>
                </a:cubicBezTo>
                <a:cubicBezTo>
                  <a:pt x="8063" y="8766"/>
                  <a:pt x="8048" y="8754"/>
                  <a:pt x="8019" y="8734"/>
                </a:cubicBezTo>
              </a:path>
              <a:path w="863" h="394">
                <a:moveTo>
                  <a:pt x="8094" y="8402"/>
                </a:moveTo>
                <a:cubicBezTo>
                  <a:pt x="8124" y="8393"/>
                  <a:pt x="8147" y="8396"/>
                  <a:pt x="8178" y="8406"/>
                </a:cubicBezTo>
                <a:cubicBezTo>
                  <a:pt x="8230" y="8423"/>
                  <a:pt x="8280" y="8442"/>
                  <a:pt x="8331" y="8460"/>
                </a:cubicBezTo>
                <a:cubicBezTo>
                  <a:pt x="8386" y="8479"/>
                  <a:pt x="8403" y="8485"/>
                  <a:pt x="8440" y="84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Ink 40"/>
          <p:cNvSpPr/>
          <p:nvPr/>
        </p:nvSpPr>
        <p:spPr>
          <a:xfrm>
            <a:off x="3228840" y="3025800"/>
            <a:ext cx="376200" cy="163440"/>
          </a:xfrm>
          <a:custGeom>
            <a:avLst/>
            <a:gdLst/>
            <a:ahLst/>
            <a:rect l="l" t="t" r="r" b="b"/>
            <a:pathLst>
              <a:path w="1046" h="453">
                <a:moveTo>
                  <a:pt x="9051" y="8450"/>
                </a:moveTo>
                <a:cubicBezTo>
                  <a:pt x="9034" y="8474"/>
                  <a:pt x="9030" y="8490"/>
                  <a:pt x="9022" y="8518"/>
                </a:cubicBezTo>
                <a:cubicBezTo>
                  <a:pt x="9010" y="8560"/>
                  <a:pt x="8998" y="8601"/>
                  <a:pt x="8987" y="8643"/>
                </a:cubicBezTo>
                <a:cubicBezTo>
                  <a:pt x="8977" y="8680"/>
                  <a:pt x="8970" y="8714"/>
                  <a:pt x="8968" y="8752"/>
                </a:cubicBezTo>
                <a:cubicBezTo>
                  <a:pt x="8968" y="8764"/>
                  <a:pt x="8967" y="8768"/>
                  <a:pt x="8977" y="8767"/>
                </a:cubicBezTo>
              </a:path>
              <a:path w="1046" h="453">
                <a:moveTo>
                  <a:pt x="9013" y="8500"/>
                </a:moveTo>
                <a:cubicBezTo>
                  <a:pt x="9030" y="8472"/>
                  <a:pt x="9048" y="8454"/>
                  <a:pt x="9077" y="8438"/>
                </a:cubicBezTo>
                <a:cubicBezTo>
                  <a:pt x="9110" y="8419"/>
                  <a:pt x="9161" y="8406"/>
                  <a:pt x="9199" y="8404"/>
                </a:cubicBezTo>
                <a:cubicBezTo>
                  <a:pt x="9230" y="8402"/>
                  <a:pt x="9260" y="8408"/>
                  <a:pt x="9286" y="8424"/>
                </a:cubicBezTo>
              </a:path>
              <a:path w="1046" h="453">
                <a:moveTo>
                  <a:pt x="9036" y="8582"/>
                </a:moveTo>
                <a:cubicBezTo>
                  <a:pt x="9046" y="8600"/>
                  <a:pt x="9072" y="8590"/>
                  <a:pt x="9094" y="8588"/>
                </a:cubicBezTo>
                <a:cubicBezTo>
                  <a:pt x="9140" y="8584"/>
                  <a:pt x="9184" y="8580"/>
                  <a:pt x="9230" y="8586"/>
                </a:cubicBezTo>
                <a:cubicBezTo>
                  <a:pt x="9261" y="8590"/>
                  <a:pt x="9274" y="8595"/>
                  <a:pt x="9264" y="8623"/>
                </a:cubicBezTo>
              </a:path>
              <a:path w="1046" h="453">
                <a:moveTo>
                  <a:pt x="9060" y="8736"/>
                </a:moveTo>
                <a:cubicBezTo>
                  <a:pt x="9091" y="8737"/>
                  <a:pt x="9121" y="8724"/>
                  <a:pt x="9151" y="8713"/>
                </a:cubicBezTo>
                <a:cubicBezTo>
                  <a:pt x="9199" y="8696"/>
                  <a:pt x="9248" y="8683"/>
                  <a:pt x="9296" y="8668"/>
                </a:cubicBezTo>
                <a:cubicBezTo>
                  <a:pt x="9306" y="8665"/>
                  <a:pt x="9317" y="8662"/>
                  <a:pt x="9327" y="8659"/>
                </a:cubicBezTo>
              </a:path>
              <a:path w="1046" h="453">
                <a:moveTo>
                  <a:pt x="9420" y="8596"/>
                </a:moveTo>
                <a:cubicBezTo>
                  <a:pt x="9439" y="8600"/>
                  <a:pt x="9460" y="8605"/>
                  <a:pt x="9478" y="8613"/>
                </a:cubicBezTo>
                <a:cubicBezTo>
                  <a:pt x="9504" y="8624"/>
                  <a:pt x="9535" y="8640"/>
                  <a:pt x="9550" y="8665"/>
                </a:cubicBezTo>
                <a:cubicBezTo>
                  <a:pt x="9565" y="8689"/>
                  <a:pt x="9547" y="8717"/>
                  <a:pt x="9528" y="8732"/>
                </a:cubicBezTo>
                <a:cubicBezTo>
                  <a:pt x="9515" y="8742"/>
                  <a:pt x="9469" y="8772"/>
                  <a:pt x="9451" y="8761"/>
                </a:cubicBezTo>
                <a:cubicBezTo>
                  <a:pt x="9447" y="8749"/>
                  <a:pt x="9448" y="8744"/>
                  <a:pt x="9460" y="8738"/>
                </a:cubicBezTo>
              </a:path>
              <a:path w="1046" h="453">
                <a:moveTo>
                  <a:pt x="9677" y="8567"/>
                </a:moveTo>
                <a:cubicBezTo>
                  <a:pt x="9643" y="8568"/>
                  <a:pt x="9623" y="8580"/>
                  <a:pt x="9597" y="8602"/>
                </a:cubicBezTo>
                <a:cubicBezTo>
                  <a:pt x="9576" y="8619"/>
                  <a:pt x="9542" y="8650"/>
                  <a:pt x="9550" y="8682"/>
                </a:cubicBezTo>
                <a:cubicBezTo>
                  <a:pt x="9559" y="8717"/>
                  <a:pt x="9612" y="8720"/>
                  <a:pt x="9639" y="8721"/>
                </a:cubicBezTo>
                <a:cubicBezTo>
                  <a:pt x="9672" y="8722"/>
                  <a:pt x="9701" y="8717"/>
                  <a:pt x="9733" y="8711"/>
                </a:cubicBezTo>
              </a:path>
              <a:path w="1046" h="453">
                <a:moveTo>
                  <a:pt x="9822" y="8711"/>
                </a:moveTo>
                <a:cubicBezTo>
                  <a:pt x="9823" y="8739"/>
                  <a:pt x="9818" y="8763"/>
                  <a:pt x="9816" y="8790"/>
                </a:cubicBezTo>
                <a:cubicBezTo>
                  <a:pt x="9814" y="8812"/>
                  <a:pt x="9804" y="8878"/>
                  <a:pt x="9807" y="8856"/>
                </a:cubicBezTo>
                <a:cubicBezTo>
                  <a:pt x="9815" y="8805"/>
                  <a:pt x="9837" y="8759"/>
                  <a:pt x="9861" y="8713"/>
                </a:cubicBezTo>
                <a:cubicBezTo>
                  <a:pt x="9889" y="8660"/>
                  <a:pt x="9929" y="8582"/>
                  <a:pt x="9987" y="8556"/>
                </a:cubicBezTo>
                <a:cubicBezTo>
                  <a:pt x="9991" y="8555"/>
                  <a:pt x="9996" y="8554"/>
                  <a:pt x="10000" y="8553"/>
                </a:cubicBezTo>
                <a:cubicBezTo>
                  <a:pt x="10017" y="8571"/>
                  <a:pt x="10015" y="8588"/>
                  <a:pt x="10007" y="8613"/>
                </a:cubicBezTo>
                <a:cubicBezTo>
                  <a:pt x="9994" y="8651"/>
                  <a:pt x="9969" y="8686"/>
                  <a:pt x="9938" y="8711"/>
                </a:cubicBezTo>
                <a:cubicBezTo>
                  <a:pt x="9926" y="8720"/>
                  <a:pt x="9873" y="8758"/>
                  <a:pt x="9856" y="8739"/>
                </a:cubicBezTo>
                <a:cubicBezTo>
                  <a:pt x="9837" y="8718"/>
                  <a:pt x="9865" y="8696"/>
                  <a:pt x="9877" y="8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Ink 41"/>
          <p:cNvSpPr/>
          <p:nvPr/>
        </p:nvSpPr>
        <p:spPr>
          <a:xfrm>
            <a:off x="3762360" y="3051000"/>
            <a:ext cx="216000" cy="101880"/>
          </a:xfrm>
          <a:custGeom>
            <a:avLst/>
            <a:gdLst/>
            <a:ahLst/>
            <a:rect l="l" t="t" r="r" b="b"/>
            <a:pathLst>
              <a:path w="597" h="280">
                <a:moveTo>
                  <a:pt x="10499" y="8484"/>
                </a:moveTo>
                <a:cubicBezTo>
                  <a:pt x="10487" y="8480"/>
                  <a:pt x="10484" y="8478"/>
                  <a:pt x="10476" y="8478"/>
                </a:cubicBezTo>
                <a:cubicBezTo>
                  <a:pt x="10498" y="8479"/>
                  <a:pt x="10517" y="8480"/>
                  <a:pt x="10539" y="8489"/>
                </a:cubicBezTo>
                <a:cubicBezTo>
                  <a:pt x="10566" y="8500"/>
                  <a:pt x="10594" y="8521"/>
                  <a:pt x="10600" y="8552"/>
                </a:cubicBezTo>
                <a:cubicBezTo>
                  <a:pt x="10607" y="8591"/>
                  <a:pt x="10575" y="8632"/>
                  <a:pt x="10552" y="8659"/>
                </a:cubicBezTo>
                <a:cubicBezTo>
                  <a:pt x="10523" y="8694"/>
                  <a:pt x="10486" y="8722"/>
                  <a:pt x="10453" y="8754"/>
                </a:cubicBezTo>
                <a:cubicBezTo>
                  <a:pt x="10495" y="8752"/>
                  <a:pt x="10526" y="8739"/>
                  <a:pt x="10566" y="8725"/>
                </a:cubicBezTo>
                <a:cubicBezTo>
                  <a:pt x="10622" y="8705"/>
                  <a:pt x="10672" y="8680"/>
                  <a:pt x="10724" y="8651"/>
                </a:cubicBezTo>
                <a:cubicBezTo>
                  <a:pt x="10757" y="8632"/>
                  <a:pt x="10775" y="8617"/>
                  <a:pt x="10797" y="8590"/>
                </a:cubicBezTo>
                <a:cubicBezTo>
                  <a:pt x="10775" y="8610"/>
                  <a:pt x="10752" y="8628"/>
                  <a:pt x="10737" y="8655"/>
                </a:cubicBezTo>
                <a:cubicBezTo>
                  <a:pt x="10721" y="8684"/>
                  <a:pt x="10726" y="8718"/>
                  <a:pt x="10760" y="8729"/>
                </a:cubicBezTo>
                <a:cubicBezTo>
                  <a:pt x="10814" y="8747"/>
                  <a:pt x="10880" y="8718"/>
                  <a:pt x="10928" y="8696"/>
                </a:cubicBezTo>
                <a:cubicBezTo>
                  <a:pt x="10967" y="8678"/>
                  <a:pt x="11065" y="8623"/>
                  <a:pt x="11049" y="8565"/>
                </a:cubicBezTo>
                <a:cubicBezTo>
                  <a:pt x="11039" y="8529"/>
                  <a:pt x="10973" y="8527"/>
                  <a:pt x="10946" y="8529"/>
                </a:cubicBezTo>
                <a:cubicBezTo>
                  <a:pt x="10920" y="8531"/>
                  <a:pt x="10893" y="8539"/>
                  <a:pt x="10869" y="8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Ink 42"/>
          <p:cNvSpPr/>
          <p:nvPr/>
        </p:nvSpPr>
        <p:spPr>
          <a:xfrm>
            <a:off x="4540320" y="3219480"/>
            <a:ext cx="406440" cy="217440"/>
          </a:xfrm>
          <a:custGeom>
            <a:avLst/>
            <a:gdLst/>
            <a:ahLst/>
            <a:rect l="l" t="t" r="r" b="b"/>
            <a:pathLst>
              <a:path w="1130" h="602">
                <a:moveTo>
                  <a:pt x="12613" y="8988"/>
                </a:moveTo>
                <a:cubicBezTo>
                  <a:pt x="12626" y="8969"/>
                  <a:pt x="12628" y="8962"/>
                  <a:pt x="12661" y="8957"/>
                </a:cubicBezTo>
                <a:cubicBezTo>
                  <a:pt x="12700" y="8951"/>
                  <a:pt x="12744" y="8947"/>
                  <a:pt x="12784" y="8951"/>
                </a:cubicBezTo>
                <a:cubicBezTo>
                  <a:pt x="12815" y="8954"/>
                  <a:pt x="12856" y="8962"/>
                  <a:pt x="12854" y="9001"/>
                </a:cubicBezTo>
                <a:cubicBezTo>
                  <a:pt x="12852" y="9045"/>
                  <a:pt x="12805" y="9089"/>
                  <a:pt x="12778" y="9119"/>
                </a:cubicBezTo>
                <a:cubicBezTo>
                  <a:pt x="12752" y="9147"/>
                  <a:pt x="12682" y="9194"/>
                  <a:pt x="12689" y="9240"/>
                </a:cubicBezTo>
                <a:cubicBezTo>
                  <a:pt x="12694" y="9275"/>
                  <a:pt x="12744" y="9303"/>
                  <a:pt x="12769" y="9322"/>
                </a:cubicBezTo>
                <a:cubicBezTo>
                  <a:pt x="12807" y="9351"/>
                  <a:pt x="12850" y="9374"/>
                  <a:pt x="12882" y="9411"/>
                </a:cubicBezTo>
                <a:cubicBezTo>
                  <a:pt x="12901" y="9432"/>
                  <a:pt x="12912" y="9468"/>
                  <a:pt x="12890" y="9492"/>
                </a:cubicBezTo>
                <a:cubicBezTo>
                  <a:pt x="12859" y="9527"/>
                  <a:pt x="12800" y="9543"/>
                  <a:pt x="12755" y="9545"/>
                </a:cubicBezTo>
                <a:cubicBezTo>
                  <a:pt x="12734" y="9546"/>
                  <a:pt x="12700" y="9544"/>
                  <a:pt x="12698" y="9517"/>
                </a:cubicBezTo>
                <a:cubicBezTo>
                  <a:pt x="12701" y="9499"/>
                  <a:pt x="12703" y="9492"/>
                  <a:pt x="12712" y="9482"/>
                </a:cubicBezTo>
              </a:path>
              <a:path w="1130" h="602">
                <a:moveTo>
                  <a:pt x="13086" y="9249"/>
                </a:moveTo>
                <a:cubicBezTo>
                  <a:pt x="13088" y="9267"/>
                  <a:pt x="13085" y="9269"/>
                  <a:pt x="13076" y="9287"/>
                </a:cubicBezTo>
                <a:cubicBezTo>
                  <a:pt x="13093" y="9269"/>
                  <a:pt x="13103" y="9256"/>
                  <a:pt x="13110" y="9232"/>
                </a:cubicBezTo>
                <a:cubicBezTo>
                  <a:pt x="13125" y="9239"/>
                  <a:pt x="13128" y="9237"/>
                  <a:pt x="13146" y="9236"/>
                </a:cubicBezTo>
              </a:path>
              <a:path w="1130" h="602">
                <a:moveTo>
                  <a:pt x="13639" y="9056"/>
                </a:moveTo>
                <a:cubicBezTo>
                  <a:pt x="13657" y="9032"/>
                  <a:pt x="13668" y="9016"/>
                  <a:pt x="13678" y="8989"/>
                </a:cubicBezTo>
                <a:cubicBezTo>
                  <a:pt x="13686" y="8969"/>
                  <a:pt x="13681" y="8951"/>
                  <a:pt x="13658" y="8944"/>
                </a:cubicBezTo>
                <a:cubicBezTo>
                  <a:pt x="13623" y="8933"/>
                  <a:pt x="13570" y="8967"/>
                  <a:pt x="13544" y="8985"/>
                </a:cubicBezTo>
                <a:cubicBezTo>
                  <a:pt x="13499" y="9016"/>
                  <a:pt x="13453" y="9053"/>
                  <a:pt x="13427" y="9102"/>
                </a:cubicBezTo>
                <a:cubicBezTo>
                  <a:pt x="13419" y="9125"/>
                  <a:pt x="13415" y="9131"/>
                  <a:pt x="13421" y="9147"/>
                </a:cubicBezTo>
                <a:cubicBezTo>
                  <a:pt x="13461" y="9166"/>
                  <a:pt x="13496" y="9160"/>
                  <a:pt x="13539" y="9145"/>
                </a:cubicBezTo>
                <a:cubicBezTo>
                  <a:pt x="13603" y="9123"/>
                  <a:pt x="13663" y="9086"/>
                  <a:pt x="13714" y="9042"/>
                </a:cubicBezTo>
                <a:cubicBezTo>
                  <a:pt x="13728" y="9028"/>
                  <a:pt x="13731" y="9025"/>
                  <a:pt x="13739" y="9016"/>
                </a:cubicBezTo>
                <a:cubicBezTo>
                  <a:pt x="13726" y="9056"/>
                  <a:pt x="13709" y="9094"/>
                  <a:pt x="13696" y="9134"/>
                </a:cubicBezTo>
                <a:cubicBezTo>
                  <a:pt x="13674" y="9204"/>
                  <a:pt x="13652" y="9277"/>
                  <a:pt x="13646" y="9350"/>
                </a:cubicBezTo>
                <a:cubicBezTo>
                  <a:pt x="13645" y="9365"/>
                  <a:pt x="13637" y="9456"/>
                  <a:pt x="13671" y="9454"/>
                </a:cubicBezTo>
                <a:cubicBezTo>
                  <a:pt x="13675" y="9450"/>
                  <a:pt x="13680" y="9447"/>
                  <a:pt x="13684" y="9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Ink 43"/>
          <p:cNvSpPr/>
          <p:nvPr/>
        </p:nvSpPr>
        <p:spPr>
          <a:xfrm>
            <a:off x="5121360" y="3274920"/>
            <a:ext cx="139680" cy="73080"/>
          </a:xfrm>
          <a:custGeom>
            <a:avLst/>
            <a:gdLst/>
            <a:ahLst/>
            <a:rect l="l" t="t" r="r" b="b"/>
            <a:pathLst>
              <a:path w="388" h="201">
                <a:moveTo>
                  <a:pt x="14479" y="9112"/>
                </a:moveTo>
                <a:cubicBezTo>
                  <a:pt x="14479" y="9108"/>
                  <a:pt x="14479" y="9104"/>
                  <a:pt x="14479" y="9100"/>
                </a:cubicBezTo>
                <a:cubicBezTo>
                  <a:pt x="14456" y="9102"/>
                  <a:pt x="14454" y="9117"/>
                  <a:pt x="14438" y="9138"/>
                </a:cubicBezTo>
                <a:cubicBezTo>
                  <a:pt x="14413" y="9171"/>
                  <a:pt x="14384" y="9199"/>
                  <a:pt x="14357" y="9229"/>
                </a:cubicBezTo>
                <a:cubicBezTo>
                  <a:pt x="14336" y="9253"/>
                  <a:pt x="14311" y="9280"/>
                  <a:pt x="14282" y="9294"/>
                </a:cubicBezTo>
                <a:cubicBezTo>
                  <a:pt x="14271" y="9298"/>
                  <a:pt x="14267" y="9299"/>
                  <a:pt x="14260" y="9295"/>
                </a:cubicBezTo>
              </a:path>
              <a:path w="388" h="201">
                <a:moveTo>
                  <a:pt x="14225" y="9182"/>
                </a:moveTo>
                <a:cubicBezTo>
                  <a:pt x="14259" y="9171"/>
                  <a:pt x="14265" y="9177"/>
                  <a:pt x="14299" y="9187"/>
                </a:cubicBezTo>
                <a:cubicBezTo>
                  <a:pt x="14339" y="9199"/>
                  <a:pt x="14379" y="9210"/>
                  <a:pt x="14418" y="9226"/>
                </a:cubicBezTo>
                <a:cubicBezTo>
                  <a:pt x="14462" y="9245"/>
                  <a:pt x="14506" y="9264"/>
                  <a:pt x="14552" y="9279"/>
                </a:cubicBezTo>
                <a:cubicBezTo>
                  <a:pt x="14582" y="9288"/>
                  <a:pt x="14591" y="9292"/>
                  <a:pt x="14612" y="9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Ink 44"/>
          <p:cNvSpPr/>
          <p:nvPr/>
        </p:nvSpPr>
        <p:spPr>
          <a:xfrm>
            <a:off x="5381640" y="3117960"/>
            <a:ext cx="426960" cy="274680"/>
          </a:xfrm>
          <a:custGeom>
            <a:avLst/>
            <a:gdLst/>
            <a:ahLst/>
            <a:rect l="l" t="t" r="r" b="b"/>
            <a:pathLst>
              <a:path w="1187" h="761">
                <a:moveTo>
                  <a:pt x="15035" y="9019"/>
                </a:moveTo>
                <a:cubicBezTo>
                  <a:pt x="15051" y="9043"/>
                  <a:pt x="15042" y="9046"/>
                  <a:pt x="15035" y="9073"/>
                </a:cubicBezTo>
                <a:cubicBezTo>
                  <a:pt x="15022" y="9120"/>
                  <a:pt x="15005" y="9164"/>
                  <a:pt x="14989" y="9210"/>
                </a:cubicBezTo>
                <a:cubicBezTo>
                  <a:pt x="14972" y="9260"/>
                  <a:pt x="14954" y="9311"/>
                  <a:pt x="14950" y="9364"/>
                </a:cubicBezTo>
                <a:cubicBezTo>
                  <a:pt x="14947" y="9401"/>
                  <a:pt x="14950" y="9416"/>
                  <a:pt x="14985" y="9422"/>
                </a:cubicBezTo>
              </a:path>
              <a:path w="1187" h="761">
                <a:moveTo>
                  <a:pt x="15252" y="9116"/>
                </a:moveTo>
                <a:cubicBezTo>
                  <a:pt x="15225" y="9150"/>
                  <a:pt x="15207" y="9177"/>
                  <a:pt x="15197" y="9220"/>
                </a:cubicBezTo>
                <a:cubicBezTo>
                  <a:pt x="15183" y="9278"/>
                  <a:pt x="15197" y="9325"/>
                  <a:pt x="15254" y="9349"/>
                </a:cubicBezTo>
                <a:cubicBezTo>
                  <a:pt x="15306" y="9371"/>
                  <a:pt x="15360" y="9360"/>
                  <a:pt x="15410" y="9338"/>
                </a:cubicBezTo>
                <a:cubicBezTo>
                  <a:pt x="15456" y="9317"/>
                  <a:pt x="15500" y="9283"/>
                  <a:pt x="15515" y="9233"/>
                </a:cubicBezTo>
                <a:cubicBezTo>
                  <a:pt x="15527" y="9192"/>
                  <a:pt x="15510" y="9149"/>
                  <a:pt x="15475" y="9125"/>
                </a:cubicBezTo>
                <a:cubicBezTo>
                  <a:pt x="15434" y="9097"/>
                  <a:pt x="15386" y="9098"/>
                  <a:pt x="15341" y="9106"/>
                </a:cubicBezTo>
                <a:cubicBezTo>
                  <a:pt x="15310" y="9111"/>
                  <a:pt x="15285" y="9118"/>
                  <a:pt x="15267" y="9143"/>
                </a:cubicBezTo>
              </a:path>
              <a:path w="1187" h="761">
                <a:moveTo>
                  <a:pt x="15621" y="8692"/>
                </a:moveTo>
                <a:cubicBezTo>
                  <a:pt x="15618" y="8691"/>
                  <a:pt x="15615" y="8690"/>
                  <a:pt x="15612" y="8689"/>
                </a:cubicBezTo>
                <a:cubicBezTo>
                  <a:pt x="15620" y="8669"/>
                  <a:pt x="15636" y="8663"/>
                  <a:pt x="15661" y="8662"/>
                </a:cubicBezTo>
                <a:cubicBezTo>
                  <a:pt x="15677" y="8661"/>
                  <a:pt x="15703" y="8667"/>
                  <a:pt x="15714" y="8680"/>
                </a:cubicBezTo>
                <a:cubicBezTo>
                  <a:pt x="15727" y="8696"/>
                  <a:pt x="15723" y="8718"/>
                  <a:pt x="15713" y="8734"/>
                </a:cubicBezTo>
                <a:cubicBezTo>
                  <a:pt x="15698" y="8758"/>
                  <a:pt x="15673" y="8776"/>
                  <a:pt x="15653" y="8795"/>
                </a:cubicBezTo>
                <a:cubicBezTo>
                  <a:pt x="15630" y="8816"/>
                  <a:pt x="15617" y="8825"/>
                  <a:pt x="15646" y="8846"/>
                </a:cubicBezTo>
                <a:cubicBezTo>
                  <a:pt x="15665" y="8859"/>
                  <a:pt x="15683" y="8870"/>
                  <a:pt x="15700" y="8886"/>
                </a:cubicBezTo>
                <a:cubicBezTo>
                  <a:pt x="15715" y="8901"/>
                  <a:pt x="15728" y="8920"/>
                  <a:pt x="15724" y="8943"/>
                </a:cubicBezTo>
                <a:cubicBezTo>
                  <a:pt x="15720" y="8966"/>
                  <a:pt x="15696" y="8980"/>
                  <a:pt x="15676" y="8987"/>
                </a:cubicBezTo>
                <a:cubicBezTo>
                  <a:pt x="15656" y="8994"/>
                  <a:pt x="15622" y="9005"/>
                  <a:pt x="15602" y="8992"/>
                </a:cubicBezTo>
                <a:cubicBezTo>
                  <a:pt x="15593" y="8982"/>
                  <a:pt x="15591" y="8979"/>
                  <a:pt x="15592" y="8969"/>
                </a:cubicBezTo>
              </a:path>
              <a:path w="1187" h="761">
                <a:moveTo>
                  <a:pt x="15867" y="8721"/>
                </a:moveTo>
                <a:cubicBezTo>
                  <a:pt x="15869" y="8702"/>
                  <a:pt x="15859" y="8685"/>
                  <a:pt x="15832" y="8693"/>
                </a:cubicBezTo>
                <a:cubicBezTo>
                  <a:pt x="15829" y="8695"/>
                  <a:pt x="15825" y="8698"/>
                  <a:pt x="15822" y="8700"/>
                </a:cubicBezTo>
                <a:cubicBezTo>
                  <a:pt x="15822" y="8733"/>
                  <a:pt x="15843" y="8740"/>
                  <a:pt x="15872" y="8758"/>
                </a:cubicBezTo>
                <a:cubicBezTo>
                  <a:pt x="15911" y="8782"/>
                  <a:pt x="15953" y="8801"/>
                  <a:pt x="15984" y="8835"/>
                </a:cubicBezTo>
                <a:cubicBezTo>
                  <a:pt x="16004" y="8856"/>
                  <a:pt x="16016" y="8894"/>
                  <a:pt x="15990" y="8918"/>
                </a:cubicBezTo>
                <a:cubicBezTo>
                  <a:pt x="15967" y="8939"/>
                  <a:pt x="15920" y="8945"/>
                  <a:pt x="15892" y="8934"/>
                </a:cubicBezTo>
                <a:cubicBezTo>
                  <a:pt x="15884" y="8929"/>
                  <a:pt x="15877" y="8924"/>
                  <a:pt x="15869" y="8919"/>
                </a:cubicBezTo>
              </a:path>
              <a:path w="1187" h="761">
                <a:moveTo>
                  <a:pt x="15928" y="8668"/>
                </a:moveTo>
                <a:cubicBezTo>
                  <a:pt x="15958" y="8661"/>
                  <a:pt x="15974" y="8664"/>
                  <a:pt x="16002" y="8680"/>
                </a:cubicBezTo>
                <a:cubicBezTo>
                  <a:pt x="16039" y="8701"/>
                  <a:pt x="16070" y="8730"/>
                  <a:pt x="16104" y="8756"/>
                </a:cubicBezTo>
                <a:cubicBezTo>
                  <a:pt x="16115" y="8764"/>
                  <a:pt x="16125" y="8773"/>
                  <a:pt x="16136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Ink 45"/>
          <p:cNvSpPr/>
          <p:nvPr/>
        </p:nvSpPr>
        <p:spPr>
          <a:xfrm>
            <a:off x="1693800" y="3789360"/>
            <a:ext cx="58680" cy="284040"/>
          </a:xfrm>
          <a:custGeom>
            <a:avLst/>
            <a:gdLst/>
            <a:ahLst/>
            <a:rect l="l" t="t" r="r" b="b"/>
            <a:pathLst>
              <a:path w="162" h="789">
                <a:moveTo>
                  <a:pt x="4858" y="10526"/>
                </a:moveTo>
                <a:cubicBezTo>
                  <a:pt x="4826" y="10551"/>
                  <a:pt x="4810" y="10575"/>
                  <a:pt x="4791" y="10610"/>
                </a:cubicBezTo>
                <a:cubicBezTo>
                  <a:pt x="4764" y="10660"/>
                  <a:pt x="4749" y="10710"/>
                  <a:pt x="4735" y="10765"/>
                </a:cubicBezTo>
                <a:cubicBezTo>
                  <a:pt x="4717" y="10840"/>
                  <a:pt x="4707" y="10917"/>
                  <a:pt x="4707" y="10994"/>
                </a:cubicBezTo>
                <a:cubicBezTo>
                  <a:pt x="4707" y="11069"/>
                  <a:pt x="4715" y="11142"/>
                  <a:pt x="4753" y="11208"/>
                </a:cubicBezTo>
                <a:cubicBezTo>
                  <a:pt x="4782" y="11258"/>
                  <a:pt x="4822" y="11282"/>
                  <a:pt x="4868" y="11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Ink 46"/>
          <p:cNvSpPr/>
          <p:nvPr/>
        </p:nvSpPr>
        <p:spPr>
          <a:xfrm>
            <a:off x="2360520" y="3790800"/>
            <a:ext cx="52560" cy="271440"/>
          </a:xfrm>
          <a:custGeom>
            <a:avLst/>
            <a:gdLst/>
            <a:ahLst/>
            <a:rect l="l" t="t" r="r" b="b"/>
            <a:pathLst>
              <a:path w="144" h="755">
                <a:moveTo>
                  <a:pt x="6557" y="10531"/>
                </a:moveTo>
                <a:cubicBezTo>
                  <a:pt x="6582" y="10562"/>
                  <a:pt x="6596" y="10590"/>
                  <a:pt x="6612" y="10627"/>
                </a:cubicBezTo>
                <a:cubicBezTo>
                  <a:pt x="6641" y="10695"/>
                  <a:pt x="6664" y="10763"/>
                  <a:pt x="6679" y="10836"/>
                </a:cubicBezTo>
                <a:cubicBezTo>
                  <a:pt x="6696" y="10920"/>
                  <a:pt x="6701" y="10999"/>
                  <a:pt x="6692" y="11084"/>
                </a:cubicBezTo>
                <a:cubicBezTo>
                  <a:pt x="6685" y="11155"/>
                  <a:pt x="6670" y="11218"/>
                  <a:pt x="6647" y="11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Ink 47"/>
          <p:cNvSpPr/>
          <p:nvPr/>
        </p:nvSpPr>
        <p:spPr>
          <a:xfrm>
            <a:off x="4092480" y="3760920"/>
            <a:ext cx="836640" cy="257040"/>
          </a:xfrm>
          <a:custGeom>
            <a:avLst/>
            <a:gdLst/>
            <a:ahLst/>
            <a:rect l="l" t="t" r="r" b="b"/>
            <a:pathLst>
              <a:path w="2324" h="714">
                <a:moveTo>
                  <a:pt x="11367" y="10569"/>
                </a:moveTo>
                <a:cubicBezTo>
                  <a:pt x="11397" y="10563"/>
                  <a:pt x="11425" y="10556"/>
                  <a:pt x="11455" y="10552"/>
                </a:cubicBezTo>
                <a:cubicBezTo>
                  <a:pt x="11475" y="10550"/>
                  <a:pt x="11527" y="10544"/>
                  <a:pt x="11542" y="10563"/>
                </a:cubicBezTo>
                <a:cubicBezTo>
                  <a:pt x="11564" y="10590"/>
                  <a:pt x="11530" y="10616"/>
                  <a:pt x="11515" y="10635"/>
                </a:cubicBezTo>
                <a:cubicBezTo>
                  <a:pt x="11496" y="10658"/>
                  <a:pt x="11470" y="10679"/>
                  <a:pt x="11458" y="10708"/>
                </a:cubicBezTo>
                <a:cubicBezTo>
                  <a:pt x="11446" y="10738"/>
                  <a:pt x="11473" y="10751"/>
                  <a:pt x="11493" y="10765"/>
                </a:cubicBezTo>
                <a:cubicBezTo>
                  <a:pt x="11537" y="10795"/>
                  <a:pt x="11586" y="10817"/>
                  <a:pt x="11628" y="10851"/>
                </a:cubicBezTo>
                <a:cubicBezTo>
                  <a:pt x="11650" y="10869"/>
                  <a:pt x="11677" y="10896"/>
                  <a:pt x="11667" y="10928"/>
                </a:cubicBezTo>
                <a:cubicBezTo>
                  <a:pt x="11656" y="10961"/>
                  <a:pt x="11617" y="10977"/>
                  <a:pt x="11589" y="10990"/>
                </a:cubicBezTo>
                <a:cubicBezTo>
                  <a:pt x="11555" y="11005"/>
                  <a:pt x="11515" y="11018"/>
                  <a:pt x="11478" y="11012"/>
                </a:cubicBezTo>
                <a:cubicBezTo>
                  <a:pt x="11462" y="11006"/>
                  <a:pt x="11457" y="11002"/>
                  <a:pt x="11460" y="10985"/>
                </a:cubicBezTo>
              </a:path>
              <a:path w="2324" h="714">
                <a:moveTo>
                  <a:pt x="12021" y="10470"/>
                </a:moveTo>
                <a:cubicBezTo>
                  <a:pt x="12021" y="10459"/>
                  <a:pt x="12020" y="10454"/>
                  <a:pt x="12017" y="10447"/>
                </a:cubicBezTo>
                <a:cubicBezTo>
                  <a:pt x="12007" y="10482"/>
                  <a:pt x="12005" y="10519"/>
                  <a:pt x="12002" y="10556"/>
                </a:cubicBezTo>
                <a:cubicBezTo>
                  <a:pt x="11997" y="10624"/>
                  <a:pt x="11988" y="10690"/>
                  <a:pt x="11979" y="10757"/>
                </a:cubicBezTo>
                <a:cubicBezTo>
                  <a:pt x="11967" y="10842"/>
                  <a:pt x="11952" y="10927"/>
                  <a:pt x="11934" y="11011"/>
                </a:cubicBezTo>
                <a:cubicBezTo>
                  <a:pt x="11926" y="11048"/>
                  <a:pt x="11918" y="11085"/>
                  <a:pt x="11910" y="11122"/>
                </a:cubicBezTo>
                <a:cubicBezTo>
                  <a:pt x="11907" y="11135"/>
                  <a:pt x="11903" y="11147"/>
                  <a:pt x="11899" y="11160"/>
                </a:cubicBezTo>
                <a:cubicBezTo>
                  <a:pt x="11904" y="11134"/>
                  <a:pt x="11908" y="11113"/>
                  <a:pt x="11923" y="11091"/>
                </a:cubicBezTo>
                <a:cubicBezTo>
                  <a:pt x="11934" y="11074"/>
                  <a:pt x="11948" y="11058"/>
                  <a:pt x="11960" y="11041"/>
                </a:cubicBezTo>
              </a:path>
              <a:path w="2324" h="714">
                <a:moveTo>
                  <a:pt x="12214" y="10802"/>
                </a:moveTo>
                <a:cubicBezTo>
                  <a:pt x="12208" y="10827"/>
                  <a:pt x="12202" y="10846"/>
                  <a:pt x="12206" y="10872"/>
                </a:cubicBezTo>
                <a:cubicBezTo>
                  <a:pt x="12221" y="10870"/>
                  <a:pt x="12254" y="10862"/>
                  <a:pt x="12253" y="10839"/>
                </a:cubicBezTo>
                <a:cubicBezTo>
                  <a:pt x="12245" y="10825"/>
                  <a:pt x="12244" y="10820"/>
                  <a:pt x="12255" y="10810"/>
                </a:cubicBezTo>
              </a:path>
              <a:path w="2324" h="714">
                <a:moveTo>
                  <a:pt x="12606" y="10610"/>
                </a:moveTo>
                <a:cubicBezTo>
                  <a:pt x="12613" y="10590"/>
                  <a:pt x="12597" y="10580"/>
                  <a:pt x="12637" y="10575"/>
                </a:cubicBezTo>
                <a:cubicBezTo>
                  <a:pt x="12662" y="10572"/>
                  <a:pt x="12675" y="10579"/>
                  <a:pt x="12693" y="10596"/>
                </a:cubicBezTo>
                <a:cubicBezTo>
                  <a:pt x="12722" y="10622"/>
                  <a:pt x="12724" y="10660"/>
                  <a:pt x="12720" y="10695"/>
                </a:cubicBezTo>
                <a:cubicBezTo>
                  <a:pt x="12714" y="10742"/>
                  <a:pt x="12693" y="10784"/>
                  <a:pt x="12670" y="10825"/>
                </a:cubicBezTo>
                <a:cubicBezTo>
                  <a:pt x="12619" y="10916"/>
                  <a:pt x="12529" y="10999"/>
                  <a:pt x="12490" y="11095"/>
                </a:cubicBezTo>
                <a:cubicBezTo>
                  <a:pt x="12483" y="11107"/>
                  <a:pt x="12481" y="11111"/>
                  <a:pt x="12483" y="11121"/>
                </a:cubicBezTo>
                <a:cubicBezTo>
                  <a:pt x="12519" y="11119"/>
                  <a:pt x="12550" y="11108"/>
                  <a:pt x="12584" y="11096"/>
                </a:cubicBezTo>
                <a:cubicBezTo>
                  <a:pt x="12639" y="11078"/>
                  <a:pt x="12693" y="11062"/>
                  <a:pt x="12749" y="11048"/>
                </a:cubicBezTo>
                <a:cubicBezTo>
                  <a:pt x="12798" y="11036"/>
                  <a:pt x="12856" y="11018"/>
                  <a:pt x="12907" y="11024"/>
                </a:cubicBezTo>
                <a:cubicBezTo>
                  <a:pt x="12920" y="11023"/>
                  <a:pt x="12924" y="11023"/>
                  <a:pt x="12932" y="11029"/>
                </a:cubicBezTo>
              </a:path>
              <a:path w="2324" h="714">
                <a:moveTo>
                  <a:pt x="13355" y="10537"/>
                </a:moveTo>
                <a:cubicBezTo>
                  <a:pt x="13347" y="10552"/>
                  <a:pt x="13349" y="10550"/>
                  <a:pt x="13345" y="10567"/>
                </a:cubicBezTo>
                <a:cubicBezTo>
                  <a:pt x="13334" y="10609"/>
                  <a:pt x="13323" y="10651"/>
                  <a:pt x="13312" y="10693"/>
                </a:cubicBezTo>
                <a:cubicBezTo>
                  <a:pt x="13295" y="10758"/>
                  <a:pt x="13277" y="10823"/>
                  <a:pt x="13262" y="10889"/>
                </a:cubicBezTo>
                <a:cubicBezTo>
                  <a:pt x="13257" y="10910"/>
                  <a:pt x="13241" y="10951"/>
                  <a:pt x="13255" y="10972"/>
                </a:cubicBezTo>
                <a:cubicBezTo>
                  <a:pt x="13269" y="10993"/>
                  <a:pt x="13317" y="10962"/>
                  <a:pt x="13329" y="10956"/>
                </a:cubicBezTo>
                <a:cubicBezTo>
                  <a:pt x="13369" y="10934"/>
                  <a:pt x="13409" y="10915"/>
                  <a:pt x="13451" y="10897"/>
                </a:cubicBezTo>
                <a:cubicBezTo>
                  <a:pt x="13491" y="10879"/>
                  <a:pt x="13534" y="10865"/>
                  <a:pt x="13576" y="10854"/>
                </a:cubicBezTo>
                <a:cubicBezTo>
                  <a:pt x="13601" y="10847"/>
                  <a:pt x="13627" y="10841"/>
                  <a:pt x="13652" y="10835"/>
                </a:cubicBezTo>
                <a:cubicBezTo>
                  <a:pt x="13671" y="10830"/>
                  <a:pt x="13673" y="10826"/>
                  <a:pt x="13690" y="10815"/>
                </a:cubicBezTo>
              </a:path>
              <a:path w="2324" h="714">
                <a:moveTo>
                  <a:pt x="13589" y="10597"/>
                </a:moveTo>
                <a:cubicBezTo>
                  <a:pt x="13579" y="10617"/>
                  <a:pt x="13576" y="10637"/>
                  <a:pt x="13576" y="10659"/>
                </a:cubicBezTo>
                <a:cubicBezTo>
                  <a:pt x="13575" y="10702"/>
                  <a:pt x="13578" y="10746"/>
                  <a:pt x="13579" y="10789"/>
                </a:cubicBezTo>
                <a:cubicBezTo>
                  <a:pt x="13580" y="10829"/>
                  <a:pt x="13584" y="10870"/>
                  <a:pt x="13584" y="10910"/>
                </a:cubicBezTo>
                <a:cubicBezTo>
                  <a:pt x="13584" y="10937"/>
                  <a:pt x="13587" y="10963"/>
                  <a:pt x="13592" y="10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Ink 48"/>
          <p:cNvSpPr/>
          <p:nvPr/>
        </p:nvSpPr>
        <p:spPr>
          <a:xfrm>
            <a:off x="5324400" y="3841920"/>
            <a:ext cx="398520" cy="164880"/>
          </a:xfrm>
          <a:custGeom>
            <a:avLst/>
            <a:gdLst/>
            <a:ahLst/>
            <a:rect l="l" t="t" r="r" b="b"/>
            <a:pathLst>
              <a:path w="1104" h="459">
                <a:moveTo>
                  <a:pt x="14791" y="10755"/>
                </a:moveTo>
                <a:cubicBezTo>
                  <a:pt x="14805" y="10740"/>
                  <a:pt x="14819" y="10726"/>
                  <a:pt x="14841" y="10724"/>
                </a:cubicBezTo>
                <a:cubicBezTo>
                  <a:pt x="14869" y="10721"/>
                  <a:pt x="14907" y="10735"/>
                  <a:pt x="14919" y="10762"/>
                </a:cubicBezTo>
                <a:cubicBezTo>
                  <a:pt x="14937" y="10804"/>
                  <a:pt x="14907" y="10859"/>
                  <a:pt x="14888" y="10894"/>
                </a:cubicBezTo>
                <a:cubicBezTo>
                  <a:pt x="14869" y="10928"/>
                  <a:pt x="14846" y="10960"/>
                  <a:pt x="14826" y="10993"/>
                </a:cubicBezTo>
                <a:cubicBezTo>
                  <a:pt x="14818" y="11007"/>
                  <a:pt x="14815" y="11011"/>
                  <a:pt x="14817" y="11022"/>
                </a:cubicBezTo>
                <a:cubicBezTo>
                  <a:pt x="14848" y="11037"/>
                  <a:pt x="14865" y="11029"/>
                  <a:pt x="14899" y="11025"/>
                </a:cubicBezTo>
                <a:cubicBezTo>
                  <a:pt x="14952" y="11019"/>
                  <a:pt x="15001" y="11006"/>
                  <a:pt x="15053" y="10994"/>
                </a:cubicBezTo>
                <a:cubicBezTo>
                  <a:pt x="15096" y="10985"/>
                  <a:pt x="15110" y="10982"/>
                  <a:pt x="15137" y="10973"/>
                </a:cubicBezTo>
              </a:path>
              <a:path w="1104" h="459">
                <a:moveTo>
                  <a:pt x="15341" y="10880"/>
                </a:moveTo>
                <a:cubicBezTo>
                  <a:pt x="15345" y="10846"/>
                  <a:pt x="15326" y="10856"/>
                  <a:pt x="15302" y="10864"/>
                </a:cubicBezTo>
                <a:cubicBezTo>
                  <a:pt x="15270" y="10875"/>
                  <a:pt x="15248" y="10894"/>
                  <a:pt x="15230" y="10923"/>
                </a:cubicBezTo>
                <a:cubicBezTo>
                  <a:pt x="15223" y="10938"/>
                  <a:pt x="15220" y="10941"/>
                  <a:pt x="15224" y="10952"/>
                </a:cubicBezTo>
                <a:cubicBezTo>
                  <a:pt x="15273" y="10955"/>
                  <a:pt x="15298" y="10931"/>
                  <a:pt x="15338" y="10901"/>
                </a:cubicBezTo>
                <a:cubicBezTo>
                  <a:pt x="15402" y="10853"/>
                  <a:pt x="15467" y="10798"/>
                  <a:pt x="15512" y="10731"/>
                </a:cubicBezTo>
                <a:cubicBezTo>
                  <a:pt x="15526" y="10710"/>
                  <a:pt x="15532" y="10693"/>
                  <a:pt x="15535" y="10670"/>
                </a:cubicBezTo>
                <a:cubicBezTo>
                  <a:pt x="15494" y="10686"/>
                  <a:pt x="15468" y="10712"/>
                  <a:pt x="15449" y="10755"/>
                </a:cubicBezTo>
                <a:cubicBezTo>
                  <a:pt x="15426" y="10806"/>
                  <a:pt x="15411" y="10869"/>
                  <a:pt x="15423" y="10925"/>
                </a:cubicBezTo>
                <a:cubicBezTo>
                  <a:pt x="15428" y="10938"/>
                  <a:pt x="15432" y="10950"/>
                  <a:pt x="15437" y="10963"/>
                </a:cubicBezTo>
              </a:path>
              <a:path w="1104" h="459">
                <a:moveTo>
                  <a:pt x="15634" y="11087"/>
                </a:moveTo>
                <a:cubicBezTo>
                  <a:pt x="15626" y="11107"/>
                  <a:pt x="15620" y="11114"/>
                  <a:pt x="15606" y="11128"/>
                </a:cubicBezTo>
                <a:cubicBezTo>
                  <a:pt x="15612" y="11087"/>
                  <a:pt x="15626" y="11053"/>
                  <a:pt x="15643" y="11015"/>
                </a:cubicBezTo>
                <a:cubicBezTo>
                  <a:pt x="15673" y="10947"/>
                  <a:pt x="15710" y="10882"/>
                  <a:pt x="15753" y="10822"/>
                </a:cubicBezTo>
                <a:cubicBezTo>
                  <a:pt x="15777" y="10789"/>
                  <a:pt x="15817" y="10729"/>
                  <a:pt x="15863" y="10724"/>
                </a:cubicBezTo>
                <a:cubicBezTo>
                  <a:pt x="15903" y="10720"/>
                  <a:pt x="15895" y="10770"/>
                  <a:pt x="15888" y="10792"/>
                </a:cubicBezTo>
                <a:cubicBezTo>
                  <a:pt x="15873" y="10835"/>
                  <a:pt x="15844" y="10876"/>
                  <a:pt x="15805" y="10900"/>
                </a:cubicBezTo>
                <a:cubicBezTo>
                  <a:pt x="15767" y="10923"/>
                  <a:pt x="15730" y="10928"/>
                  <a:pt x="15689" y="10910"/>
                </a:cubicBezTo>
                <a:cubicBezTo>
                  <a:pt x="15662" y="10898"/>
                  <a:pt x="15654" y="10881"/>
                  <a:pt x="15640" y="10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Ink 49"/>
          <p:cNvSpPr/>
          <p:nvPr/>
        </p:nvSpPr>
        <p:spPr>
          <a:xfrm>
            <a:off x="4956120" y="4371840"/>
            <a:ext cx="162000" cy="206640"/>
          </a:xfrm>
          <a:custGeom>
            <a:avLst/>
            <a:gdLst/>
            <a:ahLst/>
            <a:rect l="l" t="t" r="r" b="b"/>
            <a:pathLst>
              <a:path w="446" h="576">
                <a:moveTo>
                  <a:pt x="13843" y="12152"/>
                </a:moveTo>
                <a:cubicBezTo>
                  <a:pt x="13865" y="12143"/>
                  <a:pt x="13886" y="12143"/>
                  <a:pt x="13912" y="12143"/>
                </a:cubicBezTo>
                <a:cubicBezTo>
                  <a:pt x="13950" y="12142"/>
                  <a:pt x="13988" y="12143"/>
                  <a:pt x="14026" y="12144"/>
                </a:cubicBezTo>
                <a:cubicBezTo>
                  <a:pt x="14068" y="12145"/>
                  <a:pt x="14111" y="12148"/>
                  <a:pt x="14153" y="12146"/>
                </a:cubicBezTo>
                <a:cubicBezTo>
                  <a:pt x="14175" y="12145"/>
                  <a:pt x="14192" y="12144"/>
                  <a:pt x="14214" y="12147"/>
                </a:cubicBezTo>
              </a:path>
              <a:path w="446" h="576">
                <a:moveTo>
                  <a:pt x="13945" y="12143"/>
                </a:moveTo>
                <a:cubicBezTo>
                  <a:pt x="13914" y="12164"/>
                  <a:pt x="13882" y="12186"/>
                  <a:pt x="13858" y="12216"/>
                </a:cubicBezTo>
                <a:cubicBezTo>
                  <a:pt x="13828" y="12253"/>
                  <a:pt x="13800" y="12298"/>
                  <a:pt x="13793" y="12346"/>
                </a:cubicBezTo>
                <a:cubicBezTo>
                  <a:pt x="13786" y="12395"/>
                  <a:pt x="13818" y="12421"/>
                  <a:pt x="13857" y="12443"/>
                </a:cubicBezTo>
                <a:cubicBezTo>
                  <a:pt x="13935" y="12487"/>
                  <a:pt x="14060" y="12494"/>
                  <a:pt x="14111" y="12576"/>
                </a:cubicBezTo>
                <a:cubicBezTo>
                  <a:pt x="14133" y="12611"/>
                  <a:pt x="14114" y="12646"/>
                  <a:pt x="14085" y="12669"/>
                </a:cubicBezTo>
                <a:cubicBezTo>
                  <a:pt x="14042" y="12704"/>
                  <a:pt x="13991" y="12708"/>
                  <a:pt x="13938" y="12714"/>
                </a:cubicBezTo>
                <a:cubicBezTo>
                  <a:pt x="13889" y="12719"/>
                  <a:pt x="13842" y="12716"/>
                  <a:pt x="13795" y="12703"/>
                </a:cubicBezTo>
                <a:cubicBezTo>
                  <a:pt x="13786" y="12700"/>
                  <a:pt x="13778" y="12697"/>
                  <a:pt x="13769" y="12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Ink 50"/>
          <p:cNvSpPr/>
          <p:nvPr/>
        </p:nvSpPr>
        <p:spPr>
          <a:xfrm>
            <a:off x="4087800" y="5019840"/>
            <a:ext cx="181080" cy="136440"/>
          </a:xfrm>
          <a:custGeom>
            <a:avLst/>
            <a:gdLst/>
            <a:ahLst/>
            <a:rect l="l" t="t" r="r" b="b"/>
            <a:pathLst>
              <a:path w="499" h="380">
                <a:moveTo>
                  <a:pt x="11458" y="13969"/>
                </a:moveTo>
                <a:cubicBezTo>
                  <a:pt x="11445" y="13948"/>
                  <a:pt x="11445" y="13949"/>
                  <a:pt x="11424" y="13942"/>
                </a:cubicBezTo>
                <a:cubicBezTo>
                  <a:pt x="11402" y="13964"/>
                  <a:pt x="11390" y="13980"/>
                  <a:pt x="11378" y="14009"/>
                </a:cubicBezTo>
                <a:cubicBezTo>
                  <a:pt x="11362" y="14050"/>
                  <a:pt x="11356" y="14093"/>
                  <a:pt x="11357" y="14137"/>
                </a:cubicBezTo>
                <a:cubicBezTo>
                  <a:pt x="11358" y="14185"/>
                  <a:pt x="11365" y="14240"/>
                  <a:pt x="11393" y="14281"/>
                </a:cubicBezTo>
                <a:cubicBezTo>
                  <a:pt x="11417" y="14316"/>
                  <a:pt x="11458" y="14330"/>
                  <a:pt x="11498" y="14317"/>
                </a:cubicBezTo>
                <a:cubicBezTo>
                  <a:pt x="11547" y="14302"/>
                  <a:pt x="11584" y="14260"/>
                  <a:pt x="11610" y="14218"/>
                </a:cubicBezTo>
                <a:cubicBezTo>
                  <a:pt x="11640" y="14170"/>
                  <a:pt x="11656" y="14103"/>
                  <a:pt x="11630" y="14049"/>
                </a:cubicBezTo>
                <a:cubicBezTo>
                  <a:pt x="11613" y="14014"/>
                  <a:pt x="11580" y="13991"/>
                  <a:pt x="11543" y="13986"/>
                </a:cubicBezTo>
                <a:cubicBezTo>
                  <a:pt x="11506" y="13981"/>
                  <a:pt x="11483" y="13993"/>
                  <a:pt x="11455" y="14015"/>
                </a:cubicBezTo>
                <a:cubicBezTo>
                  <a:pt x="11431" y="14034"/>
                  <a:pt x="11441" y="14060"/>
                  <a:pt x="11458" y="14082"/>
                </a:cubicBezTo>
                <a:cubicBezTo>
                  <a:pt x="11463" y="14087"/>
                  <a:pt x="11469" y="14093"/>
                  <a:pt x="11474" y="14098"/>
                </a:cubicBezTo>
              </a:path>
              <a:path w="499" h="380">
                <a:moveTo>
                  <a:pt x="11780" y="14132"/>
                </a:moveTo>
                <a:cubicBezTo>
                  <a:pt x="11793" y="14147"/>
                  <a:pt x="11793" y="14143"/>
                  <a:pt x="11791" y="14161"/>
                </a:cubicBezTo>
                <a:cubicBezTo>
                  <a:pt x="11807" y="14162"/>
                  <a:pt x="11824" y="14161"/>
                  <a:pt x="11840" y="14156"/>
                </a:cubicBezTo>
                <a:cubicBezTo>
                  <a:pt x="11845" y="14154"/>
                  <a:pt x="11850" y="14152"/>
                  <a:pt x="11855" y="14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Ink 51"/>
          <p:cNvSpPr/>
          <p:nvPr/>
        </p:nvSpPr>
        <p:spPr>
          <a:xfrm>
            <a:off x="4379760" y="4992840"/>
            <a:ext cx="482760" cy="209520"/>
          </a:xfrm>
          <a:custGeom>
            <a:avLst/>
            <a:gdLst/>
            <a:ahLst/>
            <a:rect l="l" t="t" r="r" b="b"/>
            <a:pathLst>
              <a:path w="1340" h="585">
                <a:moveTo>
                  <a:pt x="12256" y="13971"/>
                </a:moveTo>
                <a:cubicBezTo>
                  <a:pt x="12229" y="13981"/>
                  <a:pt x="12222" y="13988"/>
                  <a:pt x="12206" y="14011"/>
                </a:cubicBezTo>
                <a:cubicBezTo>
                  <a:pt x="12182" y="14045"/>
                  <a:pt x="12168" y="14082"/>
                  <a:pt x="12168" y="14124"/>
                </a:cubicBezTo>
                <a:cubicBezTo>
                  <a:pt x="12168" y="14166"/>
                  <a:pt x="12184" y="14218"/>
                  <a:pt x="12217" y="14246"/>
                </a:cubicBezTo>
                <a:cubicBezTo>
                  <a:pt x="12251" y="14276"/>
                  <a:pt x="12300" y="14276"/>
                  <a:pt x="12340" y="14261"/>
                </a:cubicBezTo>
                <a:cubicBezTo>
                  <a:pt x="12389" y="14242"/>
                  <a:pt x="12422" y="14202"/>
                  <a:pt x="12447" y="14157"/>
                </a:cubicBezTo>
                <a:cubicBezTo>
                  <a:pt x="12468" y="14119"/>
                  <a:pt x="12481" y="14075"/>
                  <a:pt x="12473" y="14031"/>
                </a:cubicBezTo>
                <a:cubicBezTo>
                  <a:pt x="12468" y="14003"/>
                  <a:pt x="12452" y="13977"/>
                  <a:pt x="12422" y="13974"/>
                </a:cubicBezTo>
                <a:cubicBezTo>
                  <a:pt x="12400" y="13971"/>
                  <a:pt x="12363" y="13985"/>
                  <a:pt x="12350" y="14004"/>
                </a:cubicBezTo>
                <a:cubicBezTo>
                  <a:pt x="12339" y="14019"/>
                  <a:pt x="12340" y="14038"/>
                  <a:pt x="12340" y="14055"/>
                </a:cubicBezTo>
              </a:path>
              <a:path w="1340" h="585">
                <a:moveTo>
                  <a:pt x="12610" y="13987"/>
                </a:moveTo>
                <a:cubicBezTo>
                  <a:pt x="12615" y="14026"/>
                  <a:pt x="12603" y="14055"/>
                  <a:pt x="12596" y="14094"/>
                </a:cubicBezTo>
                <a:cubicBezTo>
                  <a:pt x="12588" y="14143"/>
                  <a:pt x="12583" y="14220"/>
                  <a:pt x="12630" y="14252"/>
                </a:cubicBezTo>
                <a:cubicBezTo>
                  <a:pt x="12671" y="14280"/>
                  <a:pt x="12718" y="14261"/>
                  <a:pt x="12755" y="14237"/>
                </a:cubicBezTo>
                <a:cubicBezTo>
                  <a:pt x="12799" y="14208"/>
                  <a:pt x="12831" y="14165"/>
                  <a:pt x="12844" y="14114"/>
                </a:cubicBezTo>
                <a:cubicBezTo>
                  <a:pt x="12853" y="14076"/>
                  <a:pt x="12842" y="14029"/>
                  <a:pt x="12815" y="14000"/>
                </a:cubicBezTo>
                <a:cubicBezTo>
                  <a:pt x="12795" y="13979"/>
                  <a:pt x="12764" y="13969"/>
                  <a:pt x="12736" y="13973"/>
                </a:cubicBezTo>
                <a:cubicBezTo>
                  <a:pt x="12710" y="13977"/>
                  <a:pt x="12714" y="13981"/>
                  <a:pt x="12715" y="14003"/>
                </a:cubicBezTo>
              </a:path>
              <a:path w="1340" h="585">
                <a:moveTo>
                  <a:pt x="13159" y="13871"/>
                </a:moveTo>
                <a:cubicBezTo>
                  <a:pt x="13142" y="13881"/>
                  <a:pt x="13143" y="13880"/>
                  <a:pt x="13133" y="13911"/>
                </a:cubicBezTo>
                <a:cubicBezTo>
                  <a:pt x="13117" y="13959"/>
                  <a:pt x="13107" y="14010"/>
                  <a:pt x="13099" y="14060"/>
                </a:cubicBezTo>
                <a:cubicBezTo>
                  <a:pt x="13089" y="14122"/>
                  <a:pt x="13077" y="14186"/>
                  <a:pt x="13074" y="14249"/>
                </a:cubicBezTo>
                <a:cubicBezTo>
                  <a:pt x="13073" y="14276"/>
                  <a:pt x="13067" y="14336"/>
                  <a:pt x="13102" y="14346"/>
                </a:cubicBezTo>
                <a:cubicBezTo>
                  <a:pt x="13137" y="14356"/>
                  <a:pt x="13189" y="14319"/>
                  <a:pt x="13216" y="14302"/>
                </a:cubicBezTo>
                <a:cubicBezTo>
                  <a:pt x="13278" y="14263"/>
                  <a:pt x="13340" y="14223"/>
                  <a:pt x="13403" y="14186"/>
                </a:cubicBezTo>
                <a:cubicBezTo>
                  <a:pt x="13431" y="14169"/>
                  <a:pt x="13468" y="14163"/>
                  <a:pt x="13494" y="14144"/>
                </a:cubicBezTo>
                <a:cubicBezTo>
                  <a:pt x="13498" y="14140"/>
                  <a:pt x="13503" y="14135"/>
                  <a:pt x="13507" y="14131"/>
                </a:cubicBezTo>
              </a:path>
              <a:path w="1340" h="585">
                <a:moveTo>
                  <a:pt x="13344" y="13960"/>
                </a:moveTo>
                <a:cubicBezTo>
                  <a:pt x="13324" y="14008"/>
                  <a:pt x="13316" y="14055"/>
                  <a:pt x="13312" y="14108"/>
                </a:cubicBezTo>
                <a:cubicBezTo>
                  <a:pt x="13307" y="14174"/>
                  <a:pt x="13308" y="14242"/>
                  <a:pt x="13319" y="14307"/>
                </a:cubicBezTo>
                <a:cubicBezTo>
                  <a:pt x="13327" y="14353"/>
                  <a:pt x="13335" y="14398"/>
                  <a:pt x="13365" y="14436"/>
                </a:cubicBezTo>
                <a:cubicBezTo>
                  <a:pt x="13370" y="14441"/>
                  <a:pt x="13375" y="14446"/>
                  <a:pt x="13380" y="14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Ink 52"/>
          <p:cNvSpPr/>
          <p:nvPr/>
        </p:nvSpPr>
        <p:spPr>
          <a:xfrm>
            <a:off x="2041560" y="4897440"/>
            <a:ext cx="884160" cy="689040"/>
          </a:xfrm>
          <a:custGeom>
            <a:avLst/>
            <a:gdLst/>
            <a:ahLst/>
            <a:rect l="l" t="t" r="r" b="b"/>
            <a:pathLst>
              <a:path w="2456" h="1914">
                <a:moveTo>
                  <a:pt x="6471" y="13615"/>
                </a:moveTo>
                <a:cubicBezTo>
                  <a:pt x="6473" y="13641"/>
                  <a:pt x="6474" y="13644"/>
                  <a:pt x="6476" y="13670"/>
                </a:cubicBezTo>
                <a:cubicBezTo>
                  <a:pt x="6481" y="13727"/>
                  <a:pt x="6486" y="13784"/>
                  <a:pt x="6490" y="13841"/>
                </a:cubicBezTo>
                <a:cubicBezTo>
                  <a:pt x="6496" y="13924"/>
                  <a:pt x="6496" y="14007"/>
                  <a:pt x="6492" y="14090"/>
                </a:cubicBezTo>
                <a:cubicBezTo>
                  <a:pt x="6487" y="14178"/>
                  <a:pt x="6480" y="14266"/>
                  <a:pt x="6475" y="14354"/>
                </a:cubicBezTo>
                <a:cubicBezTo>
                  <a:pt x="6469" y="14459"/>
                  <a:pt x="6458" y="14563"/>
                  <a:pt x="6449" y="14668"/>
                </a:cubicBezTo>
                <a:cubicBezTo>
                  <a:pt x="6446" y="14705"/>
                  <a:pt x="6441" y="14742"/>
                  <a:pt x="6436" y="14778"/>
                </a:cubicBezTo>
                <a:cubicBezTo>
                  <a:pt x="6434" y="14793"/>
                  <a:pt x="6432" y="14802"/>
                  <a:pt x="6427" y="14817"/>
                </a:cubicBezTo>
              </a:path>
              <a:path w="2456" h="1914">
                <a:moveTo>
                  <a:pt x="5673" y="15483"/>
                </a:moveTo>
                <a:cubicBezTo>
                  <a:pt x="5700" y="15468"/>
                  <a:pt x="5710" y="15458"/>
                  <a:pt x="5731" y="15436"/>
                </a:cubicBezTo>
                <a:cubicBezTo>
                  <a:pt x="5780" y="15385"/>
                  <a:pt x="5832" y="15342"/>
                  <a:pt x="5890" y="15301"/>
                </a:cubicBezTo>
                <a:cubicBezTo>
                  <a:pt x="5960" y="15252"/>
                  <a:pt x="6034" y="15217"/>
                  <a:pt x="6117" y="15198"/>
                </a:cubicBezTo>
                <a:cubicBezTo>
                  <a:pt x="6212" y="15176"/>
                  <a:pt x="6315" y="15176"/>
                  <a:pt x="6410" y="15198"/>
                </a:cubicBezTo>
                <a:cubicBezTo>
                  <a:pt x="6505" y="15220"/>
                  <a:pt x="6580" y="15273"/>
                  <a:pt x="6641" y="15349"/>
                </a:cubicBezTo>
                <a:cubicBezTo>
                  <a:pt x="6671" y="15387"/>
                  <a:pt x="6694" y="15428"/>
                  <a:pt x="6716" y="15471"/>
                </a:cubicBezTo>
                <a:cubicBezTo>
                  <a:pt x="6729" y="15496"/>
                  <a:pt x="6733" y="15495"/>
                  <a:pt x="6751" y="15510"/>
                </a:cubicBezTo>
              </a:path>
              <a:path w="2456" h="1914">
                <a:moveTo>
                  <a:pt x="5675" y="15516"/>
                </a:moveTo>
                <a:cubicBezTo>
                  <a:pt x="5726" y="15482"/>
                  <a:pt x="5774" y="15441"/>
                  <a:pt x="5825" y="15405"/>
                </a:cubicBezTo>
                <a:cubicBezTo>
                  <a:pt x="5928" y="15333"/>
                  <a:pt x="6037" y="15264"/>
                  <a:pt x="6148" y="15207"/>
                </a:cubicBezTo>
                <a:cubicBezTo>
                  <a:pt x="6291" y="15133"/>
                  <a:pt x="6439" y="15074"/>
                  <a:pt x="6593" y="15028"/>
                </a:cubicBezTo>
                <a:cubicBezTo>
                  <a:pt x="6943" y="14924"/>
                  <a:pt x="7310" y="14905"/>
                  <a:pt x="7658" y="15025"/>
                </a:cubicBezTo>
                <a:cubicBezTo>
                  <a:pt x="7796" y="15073"/>
                  <a:pt x="7903" y="15150"/>
                  <a:pt x="7995" y="15262"/>
                </a:cubicBezTo>
                <a:cubicBezTo>
                  <a:pt x="8043" y="15321"/>
                  <a:pt x="8083" y="15387"/>
                  <a:pt x="8128" y="15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Ink 53"/>
          <p:cNvSpPr/>
          <p:nvPr/>
        </p:nvSpPr>
        <p:spPr>
          <a:xfrm>
            <a:off x="3705120" y="5519880"/>
            <a:ext cx="498600" cy="242640"/>
          </a:xfrm>
          <a:custGeom>
            <a:avLst/>
            <a:gdLst/>
            <a:ahLst/>
            <a:rect l="l" t="t" r="r" b="b"/>
            <a:pathLst>
              <a:path w="1387" h="677">
                <a:moveTo>
                  <a:pt x="10304" y="15503"/>
                </a:moveTo>
                <a:cubicBezTo>
                  <a:pt x="10300" y="15505"/>
                  <a:pt x="10295" y="15508"/>
                  <a:pt x="10291" y="15510"/>
                </a:cubicBezTo>
                <a:cubicBezTo>
                  <a:pt x="10307" y="15483"/>
                  <a:pt x="10324" y="15480"/>
                  <a:pt x="10357" y="15474"/>
                </a:cubicBezTo>
                <a:cubicBezTo>
                  <a:pt x="10395" y="15467"/>
                  <a:pt x="10429" y="15475"/>
                  <a:pt x="10463" y="15493"/>
                </a:cubicBezTo>
                <a:cubicBezTo>
                  <a:pt x="10525" y="15527"/>
                  <a:pt x="10540" y="15590"/>
                  <a:pt x="10529" y="15656"/>
                </a:cubicBezTo>
                <a:cubicBezTo>
                  <a:pt x="10516" y="15729"/>
                  <a:pt x="10479" y="15801"/>
                  <a:pt x="10441" y="15864"/>
                </a:cubicBezTo>
                <a:cubicBezTo>
                  <a:pt x="10413" y="15911"/>
                  <a:pt x="10381" y="15950"/>
                  <a:pt x="10367" y="16002"/>
                </a:cubicBezTo>
                <a:cubicBezTo>
                  <a:pt x="10400" y="16008"/>
                  <a:pt x="10428" y="16003"/>
                  <a:pt x="10462" y="15995"/>
                </a:cubicBezTo>
                <a:cubicBezTo>
                  <a:pt x="10518" y="15981"/>
                  <a:pt x="10574" y="15967"/>
                  <a:pt x="10630" y="15955"/>
                </a:cubicBezTo>
                <a:cubicBezTo>
                  <a:pt x="10664" y="15947"/>
                  <a:pt x="10688" y="15936"/>
                  <a:pt x="10715" y="15916"/>
                </a:cubicBezTo>
              </a:path>
              <a:path w="1387" h="677">
                <a:moveTo>
                  <a:pt x="10989" y="15471"/>
                </a:moveTo>
                <a:cubicBezTo>
                  <a:pt x="10984" y="15502"/>
                  <a:pt x="10974" y="15531"/>
                  <a:pt x="10968" y="15562"/>
                </a:cubicBezTo>
                <a:cubicBezTo>
                  <a:pt x="10958" y="15616"/>
                  <a:pt x="10949" y="15671"/>
                  <a:pt x="10946" y="15726"/>
                </a:cubicBezTo>
                <a:cubicBezTo>
                  <a:pt x="10944" y="15762"/>
                  <a:pt x="10940" y="15806"/>
                  <a:pt x="10949" y="15842"/>
                </a:cubicBezTo>
                <a:cubicBezTo>
                  <a:pt x="10951" y="15846"/>
                  <a:pt x="10952" y="15849"/>
                  <a:pt x="10954" y="15853"/>
                </a:cubicBezTo>
                <a:cubicBezTo>
                  <a:pt x="10985" y="15847"/>
                  <a:pt x="11000" y="15834"/>
                  <a:pt x="11025" y="15814"/>
                </a:cubicBezTo>
                <a:cubicBezTo>
                  <a:pt x="11042" y="15800"/>
                  <a:pt x="11070" y="15772"/>
                  <a:pt x="11096" y="15780"/>
                </a:cubicBezTo>
                <a:cubicBezTo>
                  <a:pt x="11123" y="15788"/>
                  <a:pt x="11124" y="15835"/>
                  <a:pt x="11126" y="15856"/>
                </a:cubicBezTo>
                <a:cubicBezTo>
                  <a:pt x="11130" y="15890"/>
                  <a:pt x="11127" y="15921"/>
                  <a:pt x="11125" y="15954"/>
                </a:cubicBezTo>
              </a:path>
              <a:path w="1387" h="677">
                <a:moveTo>
                  <a:pt x="11304" y="15402"/>
                </a:moveTo>
                <a:cubicBezTo>
                  <a:pt x="11315" y="15381"/>
                  <a:pt x="11329" y="15354"/>
                  <a:pt x="11350" y="15342"/>
                </a:cubicBezTo>
                <a:cubicBezTo>
                  <a:pt x="11377" y="15327"/>
                  <a:pt x="11414" y="15327"/>
                  <a:pt x="11439" y="15345"/>
                </a:cubicBezTo>
                <a:cubicBezTo>
                  <a:pt x="11473" y="15369"/>
                  <a:pt x="11475" y="15413"/>
                  <a:pt x="11470" y="15450"/>
                </a:cubicBezTo>
                <a:cubicBezTo>
                  <a:pt x="11464" y="15496"/>
                  <a:pt x="11443" y="15536"/>
                  <a:pt x="11426" y="15578"/>
                </a:cubicBezTo>
                <a:cubicBezTo>
                  <a:pt x="11418" y="15599"/>
                  <a:pt x="11414" y="15609"/>
                  <a:pt x="11417" y="15630"/>
                </a:cubicBezTo>
                <a:cubicBezTo>
                  <a:pt x="11446" y="15637"/>
                  <a:pt x="11465" y="15628"/>
                  <a:pt x="11494" y="15625"/>
                </a:cubicBezTo>
                <a:cubicBezTo>
                  <a:pt x="11538" y="15620"/>
                  <a:pt x="11578" y="15610"/>
                  <a:pt x="11623" y="15617"/>
                </a:cubicBezTo>
                <a:cubicBezTo>
                  <a:pt x="11651" y="15624"/>
                  <a:pt x="11659" y="15626"/>
                  <a:pt x="11677" y="15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Ink 54"/>
          <p:cNvSpPr/>
          <p:nvPr/>
        </p:nvSpPr>
        <p:spPr>
          <a:xfrm>
            <a:off x="4498920" y="5495760"/>
            <a:ext cx="660600" cy="254160"/>
          </a:xfrm>
          <a:custGeom>
            <a:avLst/>
            <a:gdLst/>
            <a:ahLst/>
            <a:rect l="l" t="t" r="r" b="b"/>
            <a:pathLst>
              <a:path w="1835" h="705">
                <a:moveTo>
                  <a:pt x="12496" y="15707"/>
                </a:moveTo>
                <a:cubicBezTo>
                  <a:pt x="12523" y="15717"/>
                  <a:pt x="12549" y="15723"/>
                  <a:pt x="12577" y="15728"/>
                </a:cubicBezTo>
                <a:cubicBezTo>
                  <a:pt x="12626" y="15737"/>
                  <a:pt x="12678" y="15740"/>
                  <a:pt x="12728" y="15738"/>
                </a:cubicBezTo>
                <a:cubicBezTo>
                  <a:pt x="12768" y="15736"/>
                  <a:pt x="12807" y="15729"/>
                  <a:pt x="12846" y="15723"/>
                </a:cubicBezTo>
                <a:cubicBezTo>
                  <a:pt x="12876" y="15719"/>
                  <a:pt x="12898" y="15713"/>
                  <a:pt x="12919" y="15690"/>
                </a:cubicBezTo>
                <a:cubicBezTo>
                  <a:pt x="12922" y="15686"/>
                  <a:pt x="12925" y="15682"/>
                  <a:pt x="12928" y="15678"/>
                </a:cubicBezTo>
              </a:path>
              <a:path w="1835" h="705">
                <a:moveTo>
                  <a:pt x="12740" y="15486"/>
                </a:moveTo>
                <a:cubicBezTo>
                  <a:pt x="12729" y="15523"/>
                  <a:pt x="12731" y="15556"/>
                  <a:pt x="12732" y="15595"/>
                </a:cubicBezTo>
                <a:cubicBezTo>
                  <a:pt x="12734" y="15668"/>
                  <a:pt x="12732" y="15744"/>
                  <a:pt x="12746" y="15816"/>
                </a:cubicBezTo>
                <a:cubicBezTo>
                  <a:pt x="12753" y="15850"/>
                  <a:pt x="12763" y="15863"/>
                  <a:pt x="12786" y="15886"/>
                </a:cubicBezTo>
              </a:path>
              <a:path w="1835" h="705">
                <a:moveTo>
                  <a:pt x="14080" y="15268"/>
                </a:moveTo>
                <a:cubicBezTo>
                  <a:pt x="14089" y="15301"/>
                  <a:pt x="14089" y="15328"/>
                  <a:pt x="14085" y="15371"/>
                </a:cubicBezTo>
                <a:cubicBezTo>
                  <a:pt x="14077" y="15453"/>
                  <a:pt x="14062" y="15535"/>
                  <a:pt x="14051" y="15617"/>
                </a:cubicBezTo>
                <a:cubicBezTo>
                  <a:pt x="14043" y="15678"/>
                  <a:pt x="14023" y="15755"/>
                  <a:pt x="14036" y="15817"/>
                </a:cubicBezTo>
                <a:cubicBezTo>
                  <a:pt x="14045" y="15861"/>
                  <a:pt x="14086" y="15847"/>
                  <a:pt x="14115" y="15835"/>
                </a:cubicBezTo>
                <a:cubicBezTo>
                  <a:pt x="14162" y="15816"/>
                  <a:pt x="14214" y="15774"/>
                  <a:pt x="14267" y="15776"/>
                </a:cubicBezTo>
                <a:cubicBezTo>
                  <a:pt x="14306" y="15778"/>
                  <a:pt x="14310" y="15812"/>
                  <a:pt x="14317" y="15842"/>
                </a:cubicBezTo>
                <a:cubicBezTo>
                  <a:pt x="14325" y="15879"/>
                  <a:pt x="14321" y="15916"/>
                  <a:pt x="14327" y="15954"/>
                </a:cubicBezTo>
                <a:cubicBezTo>
                  <a:pt x="14328" y="15960"/>
                  <a:pt x="14329" y="15966"/>
                  <a:pt x="14330" y="15972"/>
                </a:cubicBezTo>
              </a:path>
              <a:path w="1835" h="705">
                <a:moveTo>
                  <a:pt x="13547" y="15297"/>
                </a:moveTo>
                <a:cubicBezTo>
                  <a:pt x="13523" y="15309"/>
                  <a:pt x="13495" y="15325"/>
                  <a:pt x="13476" y="15343"/>
                </a:cubicBezTo>
                <a:cubicBezTo>
                  <a:pt x="13448" y="15370"/>
                  <a:pt x="13424" y="15405"/>
                  <a:pt x="13406" y="15440"/>
                </a:cubicBezTo>
                <a:cubicBezTo>
                  <a:pt x="13379" y="15492"/>
                  <a:pt x="13359" y="15552"/>
                  <a:pt x="13348" y="15610"/>
                </a:cubicBezTo>
                <a:cubicBezTo>
                  <a:pt x="13334" y="15685"/>
                  <a:pt x="13326" y="15783"/>
                  <a:pt x="13371" y="15850"/>
                </a:cubicBezTo>
                <a:cubicBezTo>
                  <a:pt x="13392" y="15881"/>
                  <a:pt x="13422" y="15887"/>
                  <a:pt x="13457" y="15877"/>
                </a:cubicBezTo>
                <a:cubicBezTo>
                  <a:pt x="13493" y="15866"/>
                  <a:pt x="13523" y="15837"/>
                  <a:pt x="13542" y="15806"/>
                </a:cubicBezTo>
                <a:cubicBezTo>
                  <a:pt x="13560" y="15777"/>
                  <a:pt x="13568" y="15740"/>
                  <a:pt x="13554" y="15708"/>
                </a:cubicBezTo>
                <a:cubicBezTo>
                  <a:pt x="13541" y="15677"/>
                  <a:pt x="13513" y="15662"/>
                  <a:pt x="13481" y="15669"/>
                </a:cubicBezTo>
                <a:cubicBezTo>
                  <a:pt x="13439" y="15679"/>
                  <a:pt x="13418" y="15724"/>
                  <a:pt x="13399" y="15758"/>
                </a:cubicBezTo>
                <a:cubicBezTo>
                  <a:pt x="13385" y="15786"/>
                  <a:pt x="13380" y="15794"/>
                  <a:pt x="13377" y="15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Ink 55"/>
          <p:cNvSpPr/>
          <p:nvPr/>
        </p:nvSpPr>
        <p:spPr>
          <a:xfrm>
            <a:off x="3811680" y="6140520"/>
            <a:ext cx="257040" cy="198360"/>
          </a:xfrm>
          <a:custGeom>
            <a:avLst/>
            <a:gdLst/>
            <a:ahLst/>
            <a:rect l="l" t="t" r="r" b="b"/>
            <a:pathLst>
              <a:path w="714" h="552">
                <a:moveTo>
                  <a:pt x="10600" y="17068"/>
                </a:moveTo>
                <a:cubicBezTo>
                  <a:pt x="10589" y="17101"/>
                  <a:pt x="10589" y="17124"/>
                  <a:pt x="10591" y="17157"/>
                </a:cubicBezTo>
                <a:cubicBezTo>
                  <a:pt x="10594" y="17195"/>
                  <a:pt x="10598" y="17234"/>
                  <a:pt x="10599" y="17273"/>
                </a:cubicBezTo>
                <a:cubicBezTo>
                  <a:pt x="10601" y="17347"/>
                  <a:pt x="10596" y="17420"/>
                  <a:pt x="10594" y="17493"/>
                </a:cubicBezTo>
                <a:cubicBezTo>
                  <a:pt x="10594" y="17497"/>
                  <a:pt x="10587" y="17577"/>
                  <a:pt x="10598" y="17578"/>
                </a:cubicBezTo>
                <a:cubicBezTo>
                  <a:pt x="10604" y="17575"/>
                  <a:pt x="10609" y="17572"/>
                  <a:pt x="10615" y="17569"/>
                </a:cubicBezTo>
              </a:path>
              <a:path w="714" h="552">
                <a:moveTo>
                  <a:pt x="11044" y="17073"/>
                </a:moveTo>
                <a:cubicBezTo>
                  <a:pt x="11019" y="17060"/>
                  <a:pt x="11025" y="17054"/>
                  <a:pt x="10997" y="17082"/>
                </a:cubicBezTo>
                <a:cubicBezTo>
                  <a:pt x="10974" y="17105"/>
                  <a:pt x="10956" y="17129"/>
                  <a:pt x="10940" y="17158"/>
                </a:cubicBezTo>
                <a:cubicBezTo>
                  <a:pt x="10921" y="17193"/>
                  <a:pt x="10899" y="17237"/>
                  <a:pt x="10920" y="17276"/>
                </a:cubicBezTo>
                <a:cubicBezTo>
                  <a:pt x="10936" y="17307"/>
                  <a:pt x="10984" y="17313"/>
                  <a:pt x="11014" y="17318"/>
                </a:cubicBezTo>
                <a:cubicBezTo>
                  <a:pt x="11065" y="17326"/>
                  <a:pt x="11117" y="17324"/>
                  <a:pt x="11168" y="17331"/>
                </a:cubicBezTo>
                <a:cubicBezTo>
                  <a:pt x="11211" y="17337"/>
                  <a:pt x="11253" y="17350"/>
                  <a:pt x="11280" y="17386"/>
                </a:cubicBezTo>
                <a:cubicBezTo>
                  <a:pt x="11305" y="17419"/>
                  <a:pt x="11305" y="17470"/>
                  <a:pt x="11290" y="17508"/>
                </a:cubicBezTo>
                <a:cubicBezTo>
                  <a:pt x="11275" y="17547"/>
                  <a:pt x="11239" y="17585"/>
                  <a:pt x="11200" y="17600"/>
                </a:cubicBezTo>
                <a:cubicBezTo>
                  <a:pt x="11168" y="17613"/>
                  <a:pt x="11130" y="17609"/>
                  <a:pt x="11108" y="17579"/>
                </a:cubicBezTo>
                <a:cubicBezTo>
                  <a:pt x="11068" y="17524"/>
                  <a:pt x="11093" y="17436"/>
                  <a:pt x="11111" y="17379"/>
                </a:cubicBezTo>
                <a:cubicBezTo>
                  <a:pt x="11143" y="17277"/>
                  <a:pt x="11200" y="17183"/>
                  <a:pt x="11257" y="17093"/>
                </a:cubicBezTo>
                <a:cubicBezTo>
                  <a:pt x="11270" y="17072"/>
                  <a:pt x="11273" y="17068"/>
                  <a:pt x="11280" y="17055"/>
                </a:cubicBezTo>
                <a:cubicBezTo>
                  <a:pt x="11249" y="17069"/>
                  <a:pt x="11230" y="17083"/>
                  <a:pt x="11203" y="17108"/>
                </a:cubicBezTo>
                <a:cubicBezTo>
                  <a:pt x="11175" y="17134"/>
                  <a:pt x="11146" y="17159"/>
                  <a:pt x="11116" y="17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Ink 56"/>
          <p:cNvSpPr/>
          <p:nvPr/>
        </p:nvSpPr>
        <p:spPr>
          <a:xfrm>
            <a:off x="4218120" y="6099120"/>
            <a:ext cx="314280" cy="263520"/>
          </a:xfrm>
          <a:custGeom>
            <a:avLst/>
            <a:gdLst/>
            <a:ahLst/>
            <a:rect l="l" t="t" r="r" b="b"/>
            <a:pathLst>
              <a:path w="875" h="730">
                <a:moveTo>
                  <a:pt x="11740" y="17430"/>
                </a:moveTo>
                <a:cubicBezTo>
                  <a:pt x="11740" y="17453"/>
                  <a:pt x="11734" y="17474"/>
                  <a:pt x="11732" y="17497"/>
                </a:cubicBezTo>
                <a:cubicBezTo>
                  <a:pt x="11729" y="17529"/>
                  <a:pt x="11725" y="17560"/>
                  <a:pt x="11721" y="17591"/>
                </a:cubicBezTo>
                <a:cubicBezTo>
                  <a:pt x="11719" y="17607"/>
                  <a:pt x="11717" y="17622"/>
                  <a:pt x="11716" y="17638"/>
                </a:cubicBezTo>
                <a:cubicBezTo>
                  <a:pt x="11736" y="17609"/>
                  <a:pt x="11750" y="17578"/>
                  <a:pt x="11766" y="17547"/>
                </a:cubicBezTo>
                <a:cubicBezTo>
                  <a:pt x="11782" y="17516"/>
                  <a:pt x="11804" y="17454"/>
                  <a:pt x="11845" y="17449"/>
                </a:cubicBezTo>
                <a:cubicBezTo>
                  <a:pt x="11870" y="17446"/>
                  <a:pt x="11879" y="17480"/>
                  <a:pt x="11887" y="17496"/>
                </a:cubicBezTo>
                <a:cubicBezTo>
                  <a:pt x="11894" y="17510"/>
                  <a:pt x="11901" y="17523"/>
                  <a:pt x="11909" y="17536"/>
                </a:cubicBezTo>
                <a:cubicBezTo>
                  <a:pt x="11941" y="17518"/>
                  <a:pt x="11952" y="17491"/>
                  <a:pt x="11975" y="17461"/>
                </a:cubicBezTo>
                <a:cubicBezTo>
                  <a:pt x="11998" y="17431"/>
                  <a:pt x="12032" y="17387"/>
                  <a:pt x="12072" y="17381"/>
                </a:cubicBezTo>
                <a:cubicBezTo>
                  <a:pt x="12116" y="17374"/>
                  <a:pt x="12141" y="17434"/>
                  <a:pt x="12152" y="17466"/>
                </a:cubicBezTo>
                <a:cubicBezTo>
                  <a:pt x="12171" y="17519"/>
                  <a:pt x="12173" y="17577"/>
                  <a:pt x="12183" y="17631"/>
                </a:cubicBezTo>
                <a:cubicBezTo>
                  <a:pt x="12189" y="17654"/>
                  <a:pt x="12190" y="17659"/>
                  <a:pt x="12194" y="17672"/>
                </a:cubicBezTo>
              </a:path>
              <a:path w="875" h="730">
                <a:moveTo>
                  <a:pt x="12371" y="16943"/>
                </a:moveTo>
                <a:cubicBezTo>
                  <a:pt x="12364" y="16968"/>
                  <a:pt x="12361" y="16994"/>
                  <a:pt x="12355" y="17019"/>
                </a:cubicBezTo>
                <a:cubicBezTo>
                  <a:pt x="12347" y="17053"/>
                  <a:pt x="12342" y="17086"/>
                  <a:pt x="12338" y="17121"/>
                </a:cubicBezTo>
                <a:cubicBezTo>
                  <a:pt x="12337" y="17133"/>
                  <a:pt x="12330" y="17173"/>
                  <a:pt x="12346" y="17181"/>
                </a:cubicBezTo>
                <a:cubicBezTo>
                  <a:pt x="12374" y="17195"/>
                  <a:pt x="12401" y="17177"/>
                  <a:pt x="12426" y="17167"/>
                </a:cubicBezTo>
                <a:cubicBezTo>
                  <a:pt x="12459" y="17154"/>
                  <a:pt x="12491" y="17141"/>
                  <a:pt x="12524" y="17128"/>
                </a:cubicBezTo>
                <a:cubicBezTo>
                  <a:pt x="12539" y="17122"/>
                  <a:pt x="12573" y="17119"/>
                  <a:pt x="12584" y="17112"/>
                </a:cubicBezTo>
                <a:cubicBezTo>
                  <a:pt x="12586" y="17109"/>
                  <a:pt x="12588" y="17106"/>
                  <a:pt x="12590" y="17103"/>
                </a:cubicBezTo>
              </a:path>
              <a:path w="875" h="730">
                <a:moveTo>
                  <a:pt x="12539" y="16992"/>
                </a:moveTo>
                <a:cubicBezTo>
                  <a:pt x="12513" y="16992"/>
                  <a:pt x="12513" y="17020"/>
                  <a:pt x="12513" y="17052"/>
                </a:cubicBezTo>
                <a:cubicBezTo>
                  <a:pt x="12512" y="17105"/>
                  <a:pt x="12515" y="17157"/>
                  <a:pt x="12513" y="17210"/>
                </a:cubicBezTo>
                <a:cubicBezTo>
                  <a:pt x="12512" y="17255"/>
                  <a:pt x="12514" y="17301"/>
                  <a:pt x="12523" y="17345"/>
                </a:cubicBezTo>
                <a:cubicBezTo>
                  <a:pt x="12524" y="17350"/>
                  <a:pt x="12526" y="17354"/>
                  <a:pt x="12527" y="17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Ink 57"/>
          <p:cNvSpPr/>
          <p:nvPr/>
        </p:nvSpPr>
        <p:spPr>
          <a:xfrm>
            <a:off x="1695600" y="1133640"/>
            <a:ext cx="54000" cy="48960"/>
          </a:xfrm>
          <a:custGeom>
            <a:avLst/>
            <a:gdLst/>
            <a:ahLst/>
            <a:rect l="l" t="t" r="r" b="b"/>
            <a:pathLst>
              <a:path w="150" h="138">
                <a:moveTo>
                  <a:pt x="4754" y="3283"/>
                </a:moveTo>
                <a:cubicBezTo>
                  <a:pt x="4755" y="3267"/>
                  <a:pt x="4753" y="3256"/>
                  <a:pt x="4747" y="3241"/>
                </a:cubicBezTo>
                <a:cubicBezTo>
                  <a:pt x="4735" y="3247"/>
                  <a:pt x="4717" y="3261"/>
                  <a:pt x="4734" y="3277"/>
                </a:cubicBezTo>
                <a:cubicBezTo>
                  <a:pt x="4750" y="3292"/>
                  <a:pt x="4767" y="3259"/>
                  <a:pt x="4770" y="3248"/>
                </a:cubicBezTo>
                <a:cubicBezTo>
                  <a:pt x="4775" y="3232"/>
                  <a:pt x="4771" y="3227"/>
                  <a:pt x="4765" y="3212"/>
                </a:cubicBezTo>
                <a:cubicBezTo>
                  <a:pt x="4738" y="3209"/>
                  <a:pt x="4725" y="3218"/>
                  <a:pt x="4714" y="3246"/>
                </a:cubicBezTo>
                <a:cubicBezTo>
                  <a:pt x="4707" y="3264"/>
                  <a:pt x="4712" y="3269"/>
                  <a:pt x="4720" y="3284"/>
                </a:cubicBezTo>
                <a:cubicBezTo>
                  <a:pt x="4744" y="3285"/>
                  <a:pt x="4764" y="3276"/>
                  <a:pt x="4780" y="3256"/>
                </a:cubicBezTo>
                <a:cubicBezTo>
                  <a:pt x="4792" y="3241"/>
                  <a:pt x="4803" y="3215"/>
                  <a:pt x="4801" y="3195"/>
                </a:cubicBezTo>
                <a:cubicBezTo>
                  <a:pt x="4797" y="3184"/>
                  <a:pt x="4796" y="3180"/>
                  <a:pt x="4791" y="3174"/>
                </a:cubicBezTo>
                <a:cubicBezTo>
                  <a:pt x="4766" y="3170"/>
                  <a:pt x="4758" y="3170"/>
                  <a:pt x="4743" y="3193"/>
                </a:cubicBezTo>
                <a:cubicBezTo>
                  <a:pt x="4732" y="3210"/>
                  <a:pt x="4731" y="3227"/>
                  <a:pt x="4747" y="3240"/>
                </a:cubicBezTo>
                <a:cubicBezTo>
                  <a:pt x="4768" y="3257"/>
                  <a:pt x="4794" y="3246"/>
                  <a:pt x="4815" y="3235"/>
                </a:cubicBezTo>
                <a:cubicBezTo>
                  <a:pt x="4837" y="3224"/>
                  <a:pt x="4861" y="3204"/>
                  <a:pt x="4860" y="3177"/>
                </a:cubicBezTo>
                <a:cubicBezTo>
                  <a:pt x="4859" y="3173"/>
                  <a:pt x="4857" y="3168"/>
                  <a:pt x="4856" y="3164"/>
                </a:cubicBezTo>
                <a:cubicBezTo>
                  <a:pt x="4835" y="3149"/>
                  <a:pt x="4812" y="3140"/>
                  <a:pt x="4786" y="3156"/>
                </a:cubicBezTo>
                <a:cubicBezTo>
                  <a:pt x="4772" y="3165"/>
                  <a:pt x="4735" y="3198"/>
                  <a:pt x="4753" y="3218"/>
                </a:cubicBezTo>
                <a:cubicBezTo>
                  <a:pt x="4758" y="3220"/>
                  <a:pt x="4763" y="3222"/>
                  <a:pt x="4768" y="3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108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4 05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1.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non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68% as a decimal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4g(2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0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3"/>
              <p:cNvSpPr txBox="1"/>
              <p:nvPr/>
            </p:nvSpPr>
            <p:spPr>
              <a:xfrm>
                <a:off x="976320" y="3695760"/>
                <a:ext cx="12193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B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108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4 05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1.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non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68% as a decimal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4g(2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0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3"/>
              <p:cNvSpPr txBox="1"/>
              <p:nvPr/>
            </p:nvSpPr>
            <p:spPr>
              <a:xfrm>
                <a:off x="976320" y="3695760"/>
                <a:ext cx="12193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1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6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3m + 5 + 8m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6.9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 a triangle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39640" y="60768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890640" y="3695760"/>
                <a:ext cx="1449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971640" y="649440"/>
                <a:ext cx="903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5"/>
              <p:cNvSpPr txBox="1"/>
              <p:nvPr/>
            </p:nvSpPr>
            <p:spPr>
              <a:xfrm>
                <a:off x="2320920" y="1187280"/>
                <a:ext cx="86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6"/>
              <p:cNvSpPr txBox="1"/>
              <p:nvPr/>
            </p:nvSpPr>
            <p:spPr>
              <a:xfrm>
                <a:off x="985680" y="1873080"/>
                <a:ext cx="1239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7"/>
              <p:cNvSpPr txBox="1"/>
              <p:nvPr/>
            </p:nvSpPr>
            <p:spPr>
              <a:xfrm>
                <a:off x="2340000" y="2349360"/>
                <a:ext cx="841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6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3m + 5 + 8m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6.9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 a triangle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539640" y="60768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890640" y="3695760"/>
                <a:ext cx="1449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971640" y="649440"/>
                <a:ext cx="903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5"/>
              <p:cNvSpPr txBox="1"/>
              <p:nvPr/>
            </p:nvSpPr>
            <p:spPr>
              <a:xfrm>
                <a:off x="2320920" y="1187280"/>
                <a:ext cx="86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6"/>
              <p:cNvSpPr txBox="1"/>
              <p:nvPr/>
            </p:nvSpPr>
            <p:spPr>
              <a:xfrm>
                <a:off x="985680" y="1873080"/>
                <a:ext cx="1239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7"/>
              <p:cNvSpPr txBox="1"/>
              <p:nvPr/>
            </p:nvSpPr>
            <p:spPr>
              <a:xfrm>
                <a:off x="2340000" y="2349360"/>
                <a:ext cx="841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General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3 +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quare of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The factors of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Round $3.45 to the nearest whole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5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ree quarters of $3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w + 2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8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8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, Decimal, Perce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as a percentag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35% as a decimal and fraction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as a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0.8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4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5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8.23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side a quadrilateral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3"/>
              <p:cNvSpPr txBox="1"/>
              <p:nvPr/>
            </p:nvSpPr>
            <p:spPr>
              <a:xfrm>
                <a:off x="971640" y="3716280"/>
                <a:ext cx="903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6"/>
              <p:cNvSpPr txBox="1"/>
              <p:nvPr/>
            </p:nvSpPr>
            <p:spPr>
              <a:xfrm>
                <a:off x="1042920" y="1873080"/>
                <a:ext cx="419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action, Decimal, Percentages: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as a percentag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35% as a decimal and fraction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as a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0.8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4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5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8.23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side a quadrilateral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13"/>
              <p:cNvSpPr txBox="1"/>
              <p:nvPr/>
            </p:nvSpPr>
            <p:spPr>
              <a:xfrm>
                <a:off x="971640" y="3716280"/>
                <a:ext cx="903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5"/>
              <p:cNvSpPr txBox="1"/>
              <p:nvPr/>
            </p:nvSpPr>
            <p:spPr>
              <a:xfrm>
                <a:off x="1042920" y="1873080"/>
                <a:ext cx="419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Ink 17"/>
          <p:cNvSpPr/>
          <p:nvPr/>
        </p:nvSpPr>
        <p:spPr>
          <a:xfrm>
            <a:off x="3720960" y="825480"/>
            <a:ext cx="676440" cy="328680"/>
          </a:xfrm>
          <a:custGeom>
            <a:avLst/>
            <a:gdLst/>
            <a:ahLst/>
            <a:rect l="l" t="t" r="r" b="b"/>
            <a:pathLst>
              <a:path w="1878" h="910">
                <a:moveTo>
                  <a:pt x="10695" y="2486"/>
                </a:moveTo>
                <a:cubicBezTo>
                  <a:pt x="10676" y="2476"/>
                  <a:pt x="10674" y="2464"/>
                  <a:pt x="10647" y="2471"/>
                </a:cubicBezTo>
                <a:cubicBezTo>
                  <a:pt x="10604" y="2483"/>
                  <a:pt x="10550" y="2524"/>
                  <a:pt x="10516" y="2551"/>
                </a:cubicBezTo>
                <a:cubicBezTo>
                  <a:pt x="10459" y="2596"/>
                  <a:pt x="10401" y="2647"/>
                  <a:pt x="10358" y="2707"/>
                </a:cubicBezTo>
                <a:cubicBezTo>
                  <a:pt x="10340" y="2738"/>
                  <a:pt x="10333" y="2747"/>
                  <a:pt x="10335" y="2771"/>
                </a:cubicBezTo>
                <a:cubicBezTo>
                  <a:pt x="10373" y="2824"/>
                  <a:pt x="10415" y="2826"/>
                  <a:pt x="10480" y="2837"/>
                </a:cubicBezTo>
                <a:cubicBezTo>
                  <a:pt x="10570" y="2852"/>
                  <a:pt x="10663" y="2862"/>
                  <a:pt x="10749" y="2893"/>
                </a:cubicBezTo>
                <a:cubicBezTo>
                  <a:pt x="10804" y="2913"/>
                  <a:pt x="10871" y="2950"/>
                  <a:pt x="10859" y="3020"/>
                </a:cubicBezTo>
                <a:cubicBezTo>
                  <a:pt x="10844" y="3109"/>
                  <a:pt x="10728" y="3159"/>
                  <a:pt x="10654" y="3184"/>
                </a:cubicBezTo>
                <a:cubicBezTo>
                  <a:pt x="10594" y="3204"/>
                  <a:pt x="10512" y="3220"/>
                  <a:pt x="10458" y="3178"/>
                </a:cubicBezTo>
                <a:cubicBezTo>
                  <a:pt x="10406" y="3138"/>
                  <a:pt x="10436" y="3059"/>
                  <a:pt x="10461" y="3014"/>
                </a:cubicBezTo>
                <a:cubicBezTo>
                  <a:pt x="10513" y="2920"/>
                  <a:pt x="10595" y="2844"/>
                  <a:pt x="10673" y="2773"/>
                </a:cubicBezTo>
                <a:cubicBezTo>
                  <a:pt x="10747" y="2706"/>
                  <a:pt x="10829" y="2647"/>
                  <a:pt x="10897" y="2573"/>
                </a:cubicBezTo>
                <a:cubicBezTo>
                  <a:pt x="10932" y="2535"/>
                  <a:pt x="10922" y="2528"/>
                  <a:pt x="10931" y="2495"/>
                </a:cubicBezTo>
                <a:cubicBezTo>
                  <a:pt x="10877" y="2485"/>
                  <a:pt x="10834" y="2491"/>
                  <a:pt x="10781" y="2507"/>
                </a:cubicBezTo>
                <a:cubicBezTo>
                  <a:pt x="10739" y="2520"/>
                  <a:pt x="10667" y="2546"/>
                  <a:pt x="10653" y="2596"/>
                </a:cubicBezTo>
                <a:cubicBezTo>
                  <a:pt x="10656" y="2619"/>
                  <a:pt x="10658" y="2628"/>
                  <a:pt x="10676" y="2635"/>
                </a:cubicBezTo>
              </a:path>
              <a:path w="1878" h="910">
                <a:moveTo>
                  <a:pt x="11288" y="2644"/>
                </a:moveTo>
                <a:cubicBezTo>
                  <a:pt x="11238" y="2706"/>
                  <a:pt x="11178" y="2761"/>
                  <a:pt x="11131" y="2825"/>
                </a:cubicBezTo>
                <a:cubicBezTo>
                  <a:pt x="11087" y="2885"/>
                  <a:pt x="11019" y="2974"/>
                  <a:pt x="11035" y="3055"/>
                </a:cubicBezTo>
                <a:cubicBezTo>
                  <a:pt x="11051" y="3135"/>
                  <a:pt x="11145" y="3126"/>
                  <a:pt x="11203" y="3111"/>
                </a:cubicBezTo>
                <a:cubicBezTo>
                  <a:pt x="11295" y="3087"/>
                  <a:pt x="11391" y="3028"/>
                  <a:pt x="11455" y="2959"/>
                </a:cubicBezTo>
                <a:cubicBezTo>
                  <a:pt x="11500" y="2910"/>
                  <a:pt x="11541" y="2833"/>
                  <a:pt x="11515" y="2766"/>
                </a:cubicBezTo>
                <a:cubicBezTo>
                  <a:pt x="11493" y="2711"/>
                  <a:pt x="11424" y="2689"/>
                  <a:pt x="11372" y="2679"/>
                </a:cubicBezTo>
                <a:cubicBezTo>
                  <a:pt x="11351" y="2675"/>
                  <a:pt x="11216" y="2696"/>
                  <a:pt x="11324" y="2686"/>
                </a:cubicBezTo>
              </a:path>
              <a:path w="1878" h="910">
                <a:moveTo>
                  <a:pt x="11891" y="2378"/>
                </a:moveTo>
                <a:cubicBezTo>
                  <a:pt x="11872" y="2354"/>
                  <a:pt x="11839" y="2371"/>
                  <a:pt x="11813" y="2388"/>
                </a:cubicBezTo>
                <a:cubicBezTo>
                  <a:pt x="11787" y="2405"/>
                  <a:pt x="11769" y="2427"/>
                  <a:pt x="11751" y="2451"/>
                </a:cubicBezTo>
                <a:cubicBezTo>
                  <a:pt x="11776" y="2487"/>
                  <a:pt x="11817" y="2473"/>
                  <a:pt x="11858" y="2461"/>
                </a:cubicBezTo>
                <a:cubicBezTo>
                  <a:pt x="11923" y="2443"/>
                  <a:pt x="11994" y="2408"/>
                  <a:pt x="12045" y="2363"/>
                </a:cubicBezTo>
                <a:cubicBezTo>
                  <a:pt x="12064" y="2341"/>
                  <a:pt x="12070" y="2335"/>
                  <a:pt x="12072" y="2316"/>
                </a:cubicBezTo>
                <a:cubicBezTo>
                  <a:pt x="12043" y="2285"/>
                  <a:pt x="12012" y="2292"/>
                  <a:pt x="11970" y="2302"/>
                </a:cubicBezTo>
                <a:cubicBezTo>
                  <a:pt x="11931" y="2312"/>
                  <a:pt x="11879" y="2326"/>
                  <a:pt x="11861" y="2368"/>
                </a:cubicBezTo>
                <a:cubicBezTo>
                  <a:pt x="11858" y="2388"/>
                  <a:pt x="11856" y="2394"/>
                  <a:pt x="11868" y="2404"/>
                </a:cubicBezTo>
              </a:path>
              <a:path w="1878" h="910">
                <a:moveTo>
                  <a:pt x="12174" y="2418"/>
                </a:moveTo>
                <a:cubicBezTo>
                  <a:pt x="12141" y="2465"/>
                  <a:pt x="12104" y="2511"/>
                  <a:pt x="12064" y="2553"/>
                </a:cubicBezTo>
                <a:cubicBezTo>
                  <a:pt x="11989" y="2632"/>
                  <a:pt x="11909" y="2709"/>
                  <a:pt x="11839" y="2793"/>
                </a:cubicBezTo>
                <a:cubicBezTo>
                  <a:pt x="11797" y="2843"/>
                  <a:pt x="11720" y="2922"/>
                  <a:pt x="11725" y="2996"/>
                </a:cubicBezTo>
                <a:cubicBezTo>
                  <a:pt x="11737" y="3023"/>
                  <a:pt x="11740" y="3031"/>
                  <a:pt x="11762" y="3034"/>
                </a:cubicBezTo>
              </a:path>
              <a:path w="1878" h="910">
                <a:moveTo>
                  <a:pt x="12131" y="2918"/>
                </a:moveTo>
                <a:cubicBezTo>
                  <a:pt x="12100" y="2960"/>
                  <a:pt x="12055" y="2987"/>
                  <a:pt x="12014" y="3020"/>
                </a:cubicBezTo>
                <a:cubicBezTo>
                  <a:pt x="11983" y="3045"/>
                  <a:pt x="11942" y="3075"/>
                  <a:pt x="11930" y="3112"/>
                </a:cubicBezTo>
                <a:cubicBezTo>
                  <a:pt x="11987" y="3101"/>
                  <a:pt x="12035" y="3078"/>
                  <a:pt x="12085" y="3049"/>
                </a:cubicBezTo>
                <a:cubicBezTo>
                  <a:pt x="12138" y="3019"/>
                  <a:pt x="12184" y="2992"/>
                  <a:pt x="12212" y="2939"/>
                </a:cubicBezTo>
                <a:cubicBezTo>
                  <a:pt x="12173" y="2910"/>
                  <a:pt x="12127" y="2924"/>
                  <a:pt x="12078" y="2932"/>
                </a:cubicBezTo>
                <a:cubicBezTo>
                  <a:pt x="12025" y="2941"/>
                  <a:pt x="12007" y="2944"/>
                  <a:pt x="11971" y="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Ink 18"/>
          <p:cNvSpPr/>
          <p:nvPr/>
        </p:nvSpPr>
        <p:spPr>
          <a:xfrm>
            <a:off x="4838760" y="1461960"/>
            <a:ext cx="644400" cy="212760"/>
          </a:xfrm>
          <a:custGeom>
            <a:avLst/>
            <a:gdLst/>
            <a:ahLst/>
            <a:rect l="l" t="t" r="r" b="b"/>
            <a:pathLst>
              <a:path w="1788" h="591">
                <a:moveTo>
                  <a:pt x="13573" y="4208"/>
                </a:moveTo>
                <a:cubicBezTo>
                  <a:pt x="13537" y="4244"/>
                  <a:pt x="13509" y="4275"/>
                  <a:pt x="13484" y="4320"/>
                </a:cubicBezTo>
                <a:cubicBezTo>
                  <a:pt x="13455" y="4374"/>
                  <a:pt x="13440" y="4436"/>
                  <a:pt x="13443" y="4497"/>
                </a:cubicBezTo>
                <a:cubicBezTo>
                  <a:pt x="13445" y="4545"/>
                  <a:pt x="13466" y="4591"/>
                  <a:pt x="13518" y="4598"/>
                </a:cubicBezTo>
                <a:cubicBezTo>
                  <a:pt x="13569" y="4605"/>
                  <a:pt x="13624" y="4575"/>
                  <a:pt x="13659" y="4541"/>
                </a:cubicBezTo>
                <a:cubicBezTo>
                  <a:pt x="13706" y="4496"/>
                  <a:pt x="13739" y="4432"/>
                  <a:pt x="13750" y="4368"/>
                </a:cubicBezTo>
                <a:cubicBezTo>
                  <a:pt x="13759" y="4314"/>
                  <a:pt x="13756" y="4248"/>
                  <a:pt x="13727" y="4200"/>
                </a:cubicBezTo>
                <a:cubicBezTo>
                  <a:pt x="13704" y="4161"/>
                  <a:pt x="13657" y="4155"/>
                  <a:pt x="13618" y="4173"/>
                </a:cubicBezTo>
                <a:cubicBezTo>
                  <a:pt x="13581" y="4189"/>
                  <a:pt x="13545" y="4227"/>
                  <a:pt x="13551" y="4271"/>
                </a:cubicBezTo>
                <a:cubicBezTo>
                  <a:pt x="13563" y="4298"/>
                  <a:pt x="13567" y="4307"/>
                  <a:pt x="13586" y="4317"/>
                </a:cubicBezTo>
              </a:path>
              <a:path w="1788" h="591">
                <a:moveTo>
                  <a:pt x="14057" y="4297"/>
                </a:moveTo>
                <a:cubicBezTo>
                  <a:pt x="14011" y="4304"/>
                  <a:pt x="14045" y="4291"/>
                  <a:pt x="14068" y="4281"/>
                </a:cubicBezTo>
              </a:path>
              <a:path w="1788" h="591">
                <a:moveTo>
                  <a:pt x="14290" y="4110"/>
                </a:moveTo>
                <a:cubicBezTo>
                  <a:pt x="14302" y="4095"/>
                  <a:pt x="14315" y="4074"/>
                  <a:pt x="14335" y="4067"/>
                </a:cubicBezTo>
                <a:cubicBezTo>
                  <a:pt x="14366" y="4056"/>
                  <a:pt x="14399" y="4061"/>
                  <a:pt x="14427" y="4075"/>
                </a:cubicBezTo>
                <a:cubicBezTo>
                  <a:pt x="14474" y="4098"/>
                  <a:pt x="14477" y="4145"/>
                  <a:pt x="14460" y="4190"/>
                </a:cubicBezTo>
                <a:cubicBezTo>
                  <a:pt x="14440" y="4243"/>
                  <a:pt x="14393" y="4279"/>
                  <a:pt x="14373" y="4331"/>
                </a:cubicBezTo>
                <a:cubicBezTo>
                  <a:pt x="14359" y="4368"/>
                  <a:pt x="14383" y="4384"/>
                  <a:pt x="14412" y="4401"/>
                </a:cubicBezTo>
                <a:cubicBezTo>
                  <a:pt x="14451" y="4424"/>
                  <a:pt x="14494" y="4440"/>
                  <a:pt x="14531" y="4466"/>
                </a:cubicBezTo>
                <a:cubicBezTo>
                  <a:pt x="14559" y="4485"/>
                  <a:pt x="14584" y="4509"/>
                  <a:pt x="14569" y="4544"/>
                </a:cubicBezTo>
                <a:cubicBezTo>
                  <a:pt x="14548" y="4594"/>
                  <a:pt x="14483" y="4615"/>
                  <a:pt x="14437" y="4633"/>
                </a:cubicBezTo>
                <a:cubicBezTo>
                  <a:pt x="14423" y="4639"/>
                  <a:pt x="14350" y="4672"/>
                  <a:pt x="14348" y="4631"/>
                </a:cubicBezTo>
                <a:cubicBezTo>
                  <a:pt x="14350" y="4623"/>
                  <a:pt x="14353" y="4615"/>
                  <a:pt x="14355" y="4607"/>
                </a:cubicBezTo>
              </a:path>
              <a:path w="1788" h="591">
                <a:moveTo>
                  <a:pt x="14939" y="4104"/>
                </a:moveTo>
                <a:cubicBezTo>
                  <a:pt x="14942" y="4070"/>
                  <a:pt x="14896" y="4099"/>
                  <a:pt x="14874" y="4109"/>
                </a:cubicBezTo>
                <a:cubicBezTo>
                  <a:pt x="14839" y="4126"/>
                  <a:pt x="14793" y="4161"/>
                  <a:pt x="14807" y="4206"/>
                </a:cubicBezTo>
                <a:cubicBezTo>
                  <a:pt x="14824" y="4259"/>
                  <a:pt x="14897" y="4292"/>
                  <a:pt x="14938" y="4322"/>
                </a:cubicBezTo>
                <a:cubicBezTo>
                  <a:pt x="14978" y="4352"/>
                  <a:pt x="15042" y="4394"/>
                  <a:pt x="15037" y="4453"/>
                </a:cubicBezTo>
                <a:cubicBezTo>
                  <a:pt x="15032" y="4514"/>
                  <a:pt x="14960" y="4542"/>
                  <a:pt x="14912" y="4557"/>
                </a:cubicBezTo>
                <a:cubicBezTo>
                  <a:pt x="14842" y="4579"/>
                  <a:pt x="14803" y="4568"/>
                  <a:pt x="14745" y="4530"/>
                </a:cubicBezTo>
              </a:path>
              <a:path w="1788" h="591">
                <a:moveTo>
                  <a:pt x="14966" y="4118"/>
                </a:moveTo>
                <a:cubicBezTo>
                  <a:pt x="15013" y="4100"/>
                  <a:pt x="15053" y="4085"/>
                  <a:pt x="15105" y="4092"/>
                </a:cubicBezTo>
                <a:cubicBezTo>
                  <a:pt x="15148" y="4098"/>
                  <a:pt x="15191" y="4124"/>
                  <a:pt x="15230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Ink 19"/>
          <p:cNvSpPr/>
          <p:nvPr/>
        </p:nvSpPr>
        <p:spPr>
          <a:xfrm>
            <a:off x="6311880" y="1301760"/>
            <a:ext cx="401760" cy="390600"/>
          </a:xfrm>
          <a:custGeom>
            <a:avLst/>
            <a:gdLst/>
            <a:ahLst/>
            <a:rect l="l" t="t" r="r" b="b"/>
            <a:pathLst>
              <a:path w="1116" h="1088">
                <a:moveTo>
                  <a:pt x="17617" y="3750"/>
                </a:moveTo>
                <a:cubicBezTo>
                  <a:pt x="17628" y="3731"/>
                  <a:pt x="17651" y="3735"/>
                  <a:pt x="17675" y="3737"/>
                </a:cubicBezTo>
                <a:cubicBezTo>
                  <a:pt x="17707" y="3740"/>
                  <a:pt x="17744" y="3746"/>
                  <a:pt x="17774" y="3758"/>
                </a:cubicBezTo>
                <a:cubicBezTo>
                  <a:pt x="17794" y="3766"/>
                  <a:pt x="17809" y="3777"/>
                  <a:pt x="17802" y="3799"/>
                </a:cubicBezTo>
                <a:cubicBezTo>
                  <a:pt x="17796" y="3819"/>
                  <a:pt x="17776" y="3833"/>
                  <a:pt x="17767" y="3852"/>
                </a:cubicBezTo>
                <a:cubicBezTo>
                  <a:pt x="17757" y="3873"/>
                  <a:pt x="17764" y="3884"/>
                  <a:pt x="17782" y="3895"/>
                </a:cubicBezTo>
                <a:cubicBezTo>
                  <a:pt x="17808" y="3911"/>
                  <a:pt x="17838" y="3923"/>
                  <a:pt x="17866" y="3936"/>
                </a:cubicBezTo>
                <a:cubicBezTo>
                  <a:pt x="17892" y="3948"/>
                  <a:pt x="17917" y="3965"/>
                  <a:pt x="17913" y="3998"/>
                </a:cubicBezTo>
                <a:cubicBezTo>
                  <a:pt x="17910" y="4026"/>
                  <a:pt x="17873" y="4055"/>
                  <a:pt x="17850" y="4067"/>
                </a:cubicBezTo>
                <a:cubicBezTo>
                  <a:pt x="17821" y="4083"/>
                  <a:pt x="17797" y="4085"/>
                  <a:pt x="17766" y="4077"/>
                </a:cubicBezTo>
                <a:cubicBezTo>
                  <a:pt x="17763" y="4049"/>
                  <a:pt x="17771" y="4045"/>
                  <a:pt x="17788" y="4019"/>
                </a:cubicBezTo>
              </a:path>
              <a:path w="1116" h="1088">
                <a:moveTo>
                  <a:pt x="18144" y="3661"/>
                </a:moveTo>
                <a:cubicBezTo>
                  <a:pt x="18145" y="3656"/>
                  <a:pt x="18147" y="3651"/>
                  <a:pt x="18148" y="3646"/>
                </a:cubicBezTo>
                <a:cubicBezTo>
                  <a:pt x="18128" y="3640"/>
                  <a:pt x="18097" y="3642"/>
                  <a:pt x="18105" y="3677"/>
                </a:cubicBezTo>
                <a:cubicBezTo>
                  <a:pt x="18114" y="3716"/>
                  <a:pt x="18161" y="3746"/>
                  <a:pt x="18189" y="3769"/>
                </a:cubicBezTo>
                <a:cubicBezTo>
                  <a:pt x="18227" y="3800"/>
                  <a:pt x="18279" y="3829"/>
                  <a:pt x="18304" y="3873"/>
                </a:cubicBezTo>
                <a:cubicBezTo>
                  <a:pt x="18324" y="3908"/>
                  <a:pt x="18306" y="3943"/>
                  <a:pt x="18273" y="3960"/>
                </a:cubicBezTo>
                <a:cubicBezTo>
                  <a:pt x="18239" y="3978"/>
                  <a:pt x="18195" y="3986"/>
                  <a:pt x="18161" y="3962"/>
                </a:cubicBezTo>
                <a:cubicBezTo>
                  <a:pt x="18139" y="3939"/>
                  <a:pt x="18131" y="3930"/>
                  <a:pt x="18127" y="3907"/>
                </a:cubicBezTo>
              </a:path>
              <a:path w="1116" h="1088">
                <a:moveTo>
                  <a:pt x="18203" y="3639"/>
                </a:moveTo>
                <a:cubicBezTo>
                  <a:pt x="18245" y="3617"/>
                  <a:pt x="18266" y="3611"/>
                  <a:pt x="18313" y="3622"/>
                </a:cubicBezTo>
                <a:cubicBezTo>
                  <a:pt x="18365" y="3634"/>
                  <a:pt x="18407" y="3652"/>
                  <a:pt x="18446" y="3691"/>
                </a:cubicBezTo>
                <a:cubicBezTo>
                  <a:pt x="18480" y="3726"/>
                  <a:pt x="18493" y="3761"/>
                  <a:pt x="18511" y="3805"/>
                </a:cubicBezTo>
              </a:path>
              <a:path w="1116" h="1088">
                <a:moveTo>
                  <a:pt x="17545" y="4281"/>
                </a:moveTo>
                <a:cubicBezTo>
                  <a:pt x="17510" y="4293"/>
                  <a:pt x="17648" y="4247"/>
                  <a:pt x="17658" y="4244"/>
                </a:cubicBezTo>
                <a:cubicBezTo>
                  <a:pt x="17773" y="4214"/>
                  <a:pt x="17889" y="4192"/>
                  <a:pt x="18007" y="4176"/>
                </a:cubicBezTo>
                <a:cubicBezTo>
                  <a:pt x="18109" y="4162"/>
                  <a:pt x="18215" y="4149"/>
                  <a:pt x="18318" y="4151"/>
                </a:cubicBezTo>
                <a:cubicBezTo>
                  <a:pt x="18375" y="4152"/>
                  <a:pt x="18384" y="4157"/>
                  <a:pt x="18404" y="4187"/>
                </a:cubicBezTo>
              </a:path>
              <a:path w="1116" h="1088">
                <a:moveTo>
                  <a:pt x="17792" y="4433"/>
                </a:moveTo>
                <a:cubicBezTo>
                  <a:pt x="17764" y="4458"/>
                  <a:pt x="17740" y="4482"/>
                  <a:pt x="17721" y="4514"/>
                </a:cubicBezTo>
                <a:cubicBezTo>
                  <a:pt x="17702" y="4546"/>
                  <a:pt x="17682" y="4599"/>
                  <a:pt x="17689" y="4638"/>
                </a:cubicBezTo>
                <a:cubicBezTo>
                  <a:pt x="17697" y="4684"/>
                  <a:pt x="17731" y="4692"/>
                  <a:pt x="17770" y="4701"/>
                </a:cubicBezTo>
              </a:path>
              <a:path w="1116" h="1088">
                <a:moveTo>
                  <a:pt x="18068" y="4529"/>
                </a:moveTo>
                <a:cubicBezTo>
                  <a:pt x="18028" y="4539"/>
                  <a:pt x="18004" y="4557"/>
                  <a:pt x="17978" y="4591"/>
                </a:cubicBezTo>
                <a:cubicBezTo>
                  <a:pt x="17957" y="4618"/>
                  <a:pt x="17933" y="4659"/>
                  <a:pt x="17969" y="4685"/>
                </a:cubicBezTo>
                <a:cubicBezTo>
                  <a:pt x="18012" y="4716"/>
                  <a:pt x="18081" y="4698"/>
                  <a:pt x="18125" y="4684"/>
                </a:cubicBezTo>
                <a:cubicBezTo>
                  <a:pt x="18175" y="4668"/>
                  <a:pt x="18235" y="4640"/>
                  <a:pt x="18258" y="4589"/>
                </a:cubicBezTo>
                <a:cubicBezTo>
                  <a:pt x="18276" y="4549"/>
                  <a:pt x="18241" y="4520"/>
                  <a:pt x="18207" y="4508"/>
                </a:cubicBezTo>
                <a:cubicBezTo>
                  <a:pt x="18179" y="4498"/>
                  <a:pt x="18117" y="4492"/>
                  <a:pt x="18089" y="4508"/>
                </a:cubicBezTo>
                <a:cubicBezTo>
                  <a:pt x="18059" y="4526"/>
                  <a:pt x="18128" y="4540"/>
                  <a:pt x="18163" y="4540"/>
                </a:cubicBezTo>
              </a:path>
              <a:path w="1116" h="1088">
                <a:moveTo>
                  <a:pt x="18420" y="4485"/>
                </a:moveTo>
                <a:cubicBezTo>
                  <a:pt x="18402" y="4508"/>
                  <a:pt x="18379" y="4531"/>
                  <a:pt x="18365" y="4557"/>
                </a:cubicBezTo>
                <a:cubicBezTo>
                  <a:pt x="18348" y="4587"/>
                  <a:pt x="18343" y="4622"/>
                  <a:pt x="18382" y="4634"/>
                </a:cubicBezTo>
                <a:cubicBezTo>
                  <a:pt x="18432" y="4650"/>
                  <a:pt x="18497" y="4629"/>
                  <a:pt x="18543" y="4611"/>
                </a:cubicBezTo>
                <a:cubicBezTo>
                  <a:pt x="18582" y="4596"/>
                  <a:pt x="18640" y="4569"/>
                  <a:pt x="18646" y="4521"/>
                </a:cubicBezTo>
                <a:cubicBezTo>
                  <a:pt x="18651" y="4481"/>
                  <a:pt x="18600" y="4464"/>
                  <a:pt x="18572" y="4453"/>
                </a:cubicBezTo>
                <a:cubicBezTo>
                  <a:pt x="18540" y="4440"/>
                  <a:pt x="18506" y="4445"/>
                  <a:pt x="18495" y="4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Ink 20"/>
          <p:cNvSpPr/>
          <p:nvPr/>
        </p:nvSpPr>
        <p:spPr>
          <a:xfrm>
            <a:off x="6926400" y="1444680"/>
            <a:ext cx="123840" cy="82440"/>
          </a:xfrm>
          <a:custGeom>
            <a:avLst/>
            <a:gdLst/>
            <a:ahLst/>
            <a:rect l="l" t="t" r="r" b="b"/>
            <a:pathLst>
              <a:path w="341" h="228">
                <a:moveTo>
                  <a:pt x="19289" y="4065"/>
                </a:moveTo>
                <a:cubicBezTo>
                  <a:pt x="19269" y="4047"/>
                  <a:pt x="19306" y="4036"/>
                  <a:pt x="19334" y="4029"/>
                </a:cubicBezTo>
                <a:cubicBezTo>
                  <a:pt x="19380" y="4018"/>
                  <a:pt x="19424" y="4013"/>
                  <a:pt x="19471" y="4013"/>
                </a:cubicBezTo>
                <a:cubicBezTo>
                  <a:pt x="19485" y="4013"/>
                  <a:pt x="19550" y="4015"/>
                  <a:pt x="19529" y="4049"/>
                </a:cubicBezTo>
                <a:cubicBezTo>
                  <a:pt x="19523" y="4055"/>
                  <a:pt x="19516" y="4060"/>
                  <a:pt x="19510" y="4066"/>
                </a:cubicBezTo>
              </a:path>
              <a:path w="341" h="228">
                <a:moveTo>
                  <a:pt x="19256" y="4217"/>
                </a:moveTo>
                <a:cubicBezTo>
                  <a:pt x="19251" y="4221"/>
                  <a:pt x="19246" y="4225"/>
                  <a:pt x="19241" y="4229"/>
                </a:cubicBezTo>
                <a:cubicBezTo>
                  <a:pt x="19265" y="4242"/>
                  <a:pt x="19309" y="4231"/>
                  <a:pt x="19341" y="4227"/>
                </a:cubicBezTo>
                <a:cubicBezTo>
                  <a:pt x="19400" y="4220"/>
                  <a:pt x="19460" y="4222"/>
                  <a:pt x="19520" y="4219"/>
                </a:cubicBezTo>
                <a:cubicBezTo>
                  <a:pt x="19552" y="4217"/>
                  <a:pt x="19561" y="4217"/>
                  <a:pt x="19581" y="42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Ink 21"/>
          <p:cNvSpPr/>
          <p:nvPr/>
        </p:nvSpPr>
        <p:spPr>
          <a:xfrm>
            <a:off x="7334280" y="1262160"/>
            <a:ext cx="350640" cy="365040"/>
          </a:xfrm>
          <a:custGeom>
            <a:avLst/>
            <a:gdLst/>
            <a:ahLst/>
            <a:rect l="l" t="t" r="r" b="b"/>
            <a:pathLst>
              <a:path w="977" h="1012">
                <a:moveTo>
                  <a:pt x="20578" y="3622"/>
                </a:moveTo>
                <a:cubicBezTo>
                  <a:pt x="20585" y="3609"/>
                  <a:pt x="20599" y="3581"/>
                  <a:pt x="20611" y="3573"/>
                </a:cubicBezTo>
                <a:cubicBezTo>
                  <a:pt x="20640" y="3554"/>
                  <a:pt x="20676" y="3545"/>
                  <a:pt x="20710" y="3536"/>
                </a:cubicBezTo>
                <a:cubicBezTo>
                  <a:pt x="20775" y="3519"/>
                  <a:pt x="20843" y="3508"/>
                  <a:pt x="20910" y="3507"/>
                </a:cubicBezTo>
                <a:cubicBezTo>
                  <a:pt x="20935" y="3507"/>
                  <a:pt x="20989" y="3504"/>
                  <a:pt x="21006" y="3530"/>
                </a:cubicBezTo>
                <a:cubicBezTo>
                  <a:pt x="21023" y="3556"/>
                  <a:pt x="20979" y="3595"/>
                  <a:pt x="20965" y="3608"/>
                </a:cubicBezTo>
                <a:cubicBezTo>
                  <a:pt x="20912" y="3660"/>
                  <a:pt x="20857" y="3709"/>
                  <a:pt x="20807" y="3764"/>
                </a:cubicBezTo>
                <a:cubicBezTo>
                  <a:pt x="20781" y="3793"/>
                  <a:pt x="20760" y="3824"/>
                  <a:pt x="20755" y="3864"/>
                </a:cubicBezTo>
                <a:cubicBezTo>
                  <a:pt x="20755" y="3879"/>
                  <a:pt x="20755" y="3884"/>
                  <a:pt x="20758" y="3893"/>
                </a:cubicBezTo>
              </a:path>
              <a:path w="977" h="1012">
                <a:moveTo>
                  <a:pt x="20382" y="4082"/>
                </a:moveTo>
                <a:cubicBezTo>
                  <a:pt x="20384" y="4071"/>
                  <a:pt x="20390" y="4067"/>
                  <a:pt x="20427" y="4053"/>
                </a:cubicBezTo>
                <a:cubicBezTo>
                  <a:pt x="20489" y="4029"/>
                  <a:pt x="20552" y="4014"/>
                  <a:pt x="20617" y="4000"/>
                </a:cubicBezTo>
                <a:cubicBezTo>
                  <a:pt x="20719" y="3978"/>
                  <a:pt x="20821" y="3960"/>
                  <a:pt x="20925" y="3960"/>
                </a:cubicBezTo>
                <a:cubicBezTo>
                  <a:pt x="20964" y="3960"/>
                  <a:pt x="21005" y="3953"/>
                  <a:pt x="21024" y="3989"/>
                </a:cubicBezTo>
              </a:path>
              <a:path w="977" h="1012">
                <a:moveTo>
                  <a:pt x="20474" y="4245"/>
                </a:moveTo>
                <a:cubicBezTo>
                  <a:pt x="20507" y="4221"/>
                  <a:pt x="20524" y="4209"/>
                  <a:pt x="20570" y="4206"/>
                </a:cubicBezTo>
                <a:cubicBezTo>
                  <a:pt x="20615" y="4203"/>
                  <a:pt x="20676" y="4206"/>
                  <a:pt x="20710" y="4240"/>
                </a:cubicBezTo>
                <a:cubicBezTo>
                  <a:pt x="20745" y="4275"/>
                  <a:pt x="20731" y="4329"/>
                  <a:pt x="20713" y="4368"/>
                </a:cubicBezTo>
                <a:cubicBezTo>
                  <a:pt x="20688" y="4423"/>
                  <a:pt x="20639" y="4456"/>
                  <a:pt x="20609" y="4506"/>
                </a:cubicBezTo>
                <a:cubicBezTo>
                  <a:pt x="20608" y="4510"/>
                  <a:pt x="20607" y="4513"/>
                  <a:pt x="20606" y="4517"/>
                </a:cubicBezTo>
                <a:cubicBezTo>
                  <a:pt x="20645" y="4514"/>
                  <a:pt x="20684" y="4508"/>
                  <a:pt x="20722" y="4495"/>
                </a:cubicBezTo>
                <a:cubicBezTo>
                  <a:pt x="20797" y="4469"/>
                  <a:pt x="20873" y="4444"/>
                  <a:pt x="20947" y="4415"/>
                </a:cubicBezTo>
                <a:cubicBezTo>
                  <a:pt x="20981" y="4401"/>
                  <a:pt x="21014" y="4387"/>
                  <a:pt x="21048" y="4374"/>
                </a:cubicBezTo>
                <a:cubicBezTo>
                  <a:pt x="21026" y="4406"/>
                  <a:pt x="20997" y="4431"/>
                  <a:pt x="20980" y="4466"/>
                </a:cubicBezTo>
                <a:cubicBezTo>
                  <a:pt x="20973" y="4485"/>
                  <a:pt x="20971" y="4490"/>
                  <a:pt x="20979" y="4502"/>
                </a:cubicBezTo>
                <a:cubicBezTo>
                  <a:pt x="21039" y="4509"/>
                  <a:pt x="21087" y="4490"/>
                  <a:pt x="21141" y="4463"/>
                </a:cubicBezTo>
                <a:cubicBezTo>
                  <a:pt x="21211" y="4429"/>
                  <a:pt x="21291" y="4381"/>
                  <a:pt x="21334" y="4313"/>
                </a:cubicBezTo>
                <a:cubicBezTo>
                  <a:pt x="21362" y="4269"/>
                  <a:pt x="21348" y="4223"/>
                  <a:pt x="21295" y="4214"/>
                </a:cubicBezTo>
                <a:cubicBezTo>
                  <a:pt x="21233" y="4204"/>
                  <a:pt x="21168" y="4220"/>
                  <a:pt x="21113" y="4247"/>
                </a:cubicBezTo>
                <a:cubicBezTo>
                  <a:pt x="21083" y="4266"/>
                  <a:pt x="21074" y="4272"/>
                  <a:pt x="21056" y="4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Ink 22"/>
          <p:cNvSpPr/>
          <p:nvPr/>
        </p:nvSpPr>
        <p:spPr>
          <a:xfrm>
            <a:off x="3735360" y="2031840"/>
            <a:ext cx="655560" cy="257400"/>
          </a:xfrm>
          <a:custGeom>
            <a:avLst/>
            <a:gdLst/>
            <a:ahLst/>
            <a:rect l="l" t="t" r="r" b="b"/>
            <a:pathLst>
              <a:path w="1823" h="715">
                <a:moveTo>
                  <a:pt x="10380" y="5741"/>
                </a:moveTo>
                <a:cubicBezTo>
                  <a:pt x="10392" y="5723"/>
                  <a:pt x="10400" y="5699"/>
                  <a:pt x="10421" y="5687"/>
                </a:cubicBezTo>
                <a:cubicBezTo>
                  <a:pt x="10456" y="5666"/>
                  <a:pt x="10507" y="5650"/>
                  <a:pt x="10548" y="5645"/>
                </a:cubicBezTo>
                <a:cubicBezTo>
                  <a:pt x="10603" y="5639"/>
                  <a:pt x="10678" y="5648"/>
                  <a:pt x="10709" y="5700"/>
                </a:cubicBezTo>
                <a:cubicBezTo>
                  <a:pt x="10748" y="5766"/>
                  <a:pt x="10697" y="5854"/>
                  <a:pt x="10665" y="5910"/>
                </a:cubicBezTo>
                <a:cubicBezTo>
                  <a:pt x="10604" y="6017"/>
                  <a:pt x="10515" y="6104"/>
                  <a:pt x="10436" y="6197"/>
                </a:cubicBezTo>
                <a:cubicBezTo>
                  <a:pt x="10413" y="6225"/>
                  <a:pt x="10383" y="6255"/>
                  <a:pt x="10375" y="6291"/>
                </a:cubicBezTo>
                <a:cubicBezTo>
                  <a:pt x="10377" y="6294"/>
                  <a:pt x="10378" y="6297"/>
                  <a:pt x="10380" y="6300"/>
                </a:cubicBezTo>
                <a:cubicBezTo>
                  <a:pt x="10439" y="6300"/>
                  <a:pt x="10497" y="6288"/>
                  <a:pt x="10556" y="6277"/>
                </a:cubicBezTo>
                <a:cubicBezTo>
                  <a:pt x="10616" y="6266"/>
                  <a:pt x="10674" y="6257"/>
                  <a:pt x="10735" y="6255"/>
                </a:cubicBezTo>
                <a:cubicBezTo>
                  <a:pt x="10786" y="6254"/>
                  <a:pt x="10840" y="6256"/>
                  <a:pt x="10891" y="6264"/>
                </a:cubicBezTo>
                <a:cubicBezTo>
                  <a:pt x="10924" y="6269"/>
                  <a:pt x="10958" y="6284"/>
                  <a:pt x="10992" y="6285"/>
                </a:cubicBezTo>
                <a:cubicBezTo>
                  <a:pt x="11016" y="6286"/>
                  <a:pt x="11028" y="6281"/>
                  <a:pt x="11051" y="6278"/>
                </a:cubicBezTo>
              </a:path>
              <a:path w="1823" h="715">
                <a:moveTo>
                  <a:pt x="11416" y="5677"/>
                </a:moveTo>
                <a:cubicBezTo>
                  <a:pt x="11386" y="5666"/>
                  <a:pt x="11383" y="5673"/>
                  <a:pt x="11367" y="5699"/>
                </a:cubicBezTo>
                <a:cubicBezTo>
                  <a:pt x="11337" y="5749"/>
                  <a:pt x="11327" y="5816"/>
                  <a:pt x="11312" y="5872"/>
                </a:cubicBezTo>
                <a:cubicBezTo>
                  <a:pt x="11282" y="5984"/>
                  <a:pt x="11253" y="6098"/>
                  <a:pt x="11254" y="6215"/>
                </a:cubicBezTo>
                <a:cubicBezTo>
                  <a:pt x="11254" y="6265"/>
                  <a:pt x="11259" y="6339"/>
                  <a:pt x="11317" y="6356"/>
                </a:cubicBezTo>
                <a:cubicBezTo>
                  <a:pt x="11367" y="6371"/>
                  <a:pt x="11419" y="6332"/>
                  <a:pt x="11450" y="6297"/>
                </a:cubicBezTo>
                <a:cubicBezTo>
                  <a:pt x="11478" y="6265"/>
                  <a:pt x="11504" y="6206"/>
                  <a:pt x="11476" y="6166"/>
                </a:cubicBezTo>
                <a:cubicBezTo>
                  <a:pt x="11443" y="6119"/>
                  <a:pt x="11374" y="6144"/>
                  <a:pt x="11332" y="6156"/>
                </a:cubicBezTo>
                <a:cubicBezTo>
                  <a:pt x="11312" y="6162"/>
                  <a:pt x="11223" y="6195"/>
                  <a:pt x="11237" y="6233"/>
                </a:cubicBezTo>
                <a:cubicBezTo>
                  <a:pt x="11242" y="6236"/>
                  <a:pt x="11246" y="6238"/>
                  <a:pt x="11251" y="6241"/>
                </a:cubicBezTo>
              </a:path>
              <a:path w="1823" h="715">
                <a:moveTo>
                  <a:pt x="11893" y="5916"/>
                </a:moveTo>
                <a:cubicBezTo>
                  <a:pt x="11842" y="5968"/>
                  <a:pt x="11785" y="6017"/>
                  <a:pt x="11745" y="6079"/>
                </a:cubicBezTo>
                <a:cubicBezTo>
                  <a:pt x="11721" y="6117"/>
                  <a:pt x="11676" y="6200"/>
                  <a:pt x="11732" y="6234"/>
                </a:cubicBezTo>
                <a:cubicBezTo>
                  <a:pt x="11793" y="6270"/>
                  <a:pt x="11895" y="6230"/>
                  <a:pt x="11951" y="6204"/>
                </a:cubicBezTo>
                <a:cubicBezTo>
                  <a:pt x="12034" y="6165"/>
                  <a:pt x="12117" y="6106"/>
                  <a:pt x="12169" y="6029"/>
                </a:cubicBezTo>
                <a:cubicBezTo>
                  <a:pt x="12197" y="5988"/>
                  <a:pt x="12218" y="5915"/>
                  <a:pt x="12162" y="5885"/>
                </a:cubicBezTo>
                <a:cubicBezTo>
                  <a:pt x="12103" y="5853"/>
                  <a:pt x="12014" y="5887"/>
                  <a:pt x="11958" y="5908"/>
                </a:cubicBezTo>
                <a:cubicBezTo>
                  <a:pt x="11902" y="5931"/>
                  <a:pt x="11884" y="5938"/>
                  <a:pt x="11849" y="5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nk 23"/>
          <p:cNvSpPr/>
          <p:nvPr/>
        </p:nvSpPr>
        <p:spPr>
          <a:xfrm>
            <a:off x="6175440" y="2585880"/>
            <a:ext cx="627120" cy="252720"/>
          </a:xfrm>
          <a:custGeom>
            <a:avLst/>
            <a:gdLst/>
            <a:ahLst/>
            <a:rect l="l" t="t" r="r" b="b"/>
            <a:pathLst>
              <a:path w="1740" h="700">
                <a:moveTo>
                  <a:pt x="17361" y="7330"/>
                </a:moveTo>
                <a:cubicBezTo>
                  <a:pt x="17343" y="7302"/>
                  <a:pt x="17350" y="7308"/>
                  <a:pt x="17313" y="7335"/>
                </a:cubicBezTo>
                <a:cubicBezTo>
                  <a:pt x="17272" y="7365"/>
                  <a:pt x="17236" y="7401"/>
                  <a:pt x="17211" y="7446"/>
                </a:cubicBezTo>
                <a:cubicBezTo>
                  <a:pt x="17190" y="7483"/>
                  <a:pt x="17177" y="7530"/>
                  <a:pt x="17208" y="7566"/>
                </a:cubicBezTo>
                <a:cubicBezTo>
                  <a:pt x="17258" y="7624"/>
                  <a:pt x="17354" y="7640"/>
                  <a:pt x="17421" y="7671"/>
                </a:cubicBezTo>
                <a:cubicBezTo>
                  <a:pt x="17459" y="7689"/>
                  <a:pt x="17526" y="7722"/>
                  <a:pt x="17504" y="7776"/>
                </a:cubicBezTo>
                <a:cubicBezTo>
                  <a:pt x="17480" y="7834"/>
                  <a:pt x="17391" y="7860"/>
                  <a:pt x="17338" y="7873"/>
                </a:cubicBezTo>
                <a:cubicBezTo>
                  <a:pt x="17292" y="7885"/>
                  <a:pt x="17196" y="7905"/>
                  <a:pt x="17162" y="7856"/>
                </a:cubicBezTo>
                <a:cubicBezTo>
                  <a:pt x="17125" y="7804"/>
                  <a:pt x="17203" y="7718"/>
                  <a:pt x="17231" y="7685"/>
                </a:cubicBezTo>
                <a:cubicBezTo>
                  <a:pt x="17296" y="7608"/>
                  <a:pt x="17374" y="7545"/>
                  <a:pt x="17447" y="7476"/>
                </a:cubicBezTo>
                <a:cubicBezTo>
                  <a:pt x="17480" y="7444"/>
                  <a:pt x="17520" y="7411"/>
                  <a:pt x="17526" y="7366"/>
                </a:cubicBezTo>
                <a:cubicBezTo>
                  <a:pt x="17488" y="7360"/>
                  <a:pt x="17462" y="7365"/>
                  <a:pt x="17427" y="7383"/>
                </a:cubicBezTo>
                <a:cubicBezTo>
                  <a:pt x="17393" y="7401"/>
                  <a:pt x="17374" y="7416"/>
                  <a:pt x="17395" y="7447"/>
                </a:cubicBezTo>
              </a:path>
              <a:path w="1740" h="700">
                <a:moveTo>
                  <a:pt x="17851" y="7339"/>
                </a:moveTo>
                <a:cubicBezTo>
                  <a:pt x="17804" y="7375"/>
                  <a:pt x="17763" y="7406"/>
                  <a:pt x="17725" y="7454"/>
                </a:cubicBezTo>
                <a:cubicBezTo>
                  <a:pt x="17676" y="7517"/>
                  <a:pt x="17629" y="7584"/>
                  <a:pt x="17608" y="7662"/>
                </a:cubicBezTo>
                <a:cubicBezTo>
                  <a:pt x="17596" y="7705"/>
                  <a:pt x="17591" y="7765"/>
                  <a:pt x="17644" y="7782"/>
                </a:cubicBezTo>
                <a:cubicBezTo>
                  <a:pt x="17699" y="7800"/>
                  <a:pt x="17783" y="7763"/>
                  <a:pt x="17833" y="7742"/>
                </a:cubicBezTo>
                <a:cubicBezTo>
                  <a:pt x="17906" y="7712"/>
                  <a:pt x="17981" y="7679"/>
                  <a:pt x="18053" y="7645"/>
                </a:cubicBezTo>
                <a:cubicBezTo>
                  <a:pt x="18083" y="7631"/>
                  <a:pt x="18145" y="7612"/>
                  <a:pt x="18164" y="7581"/>
                </a:cubicBezTo>
                <a:cubicBezTo>
                  <a:pt x="18177" y="7559"/>
                  <a:pt x="18169" y="7561"/>
                  <a:pt x="18165" y="7537"/>
                </a:cubicBezTo>
              </a:path>
              <a:path w="1740" h="700">
                <a:moveTo>
                  <a:pt x="18062" y="7451"/>
                </a:moveTo>
                <a:cubicBezTo>
                  <a:pt x="18023" y="7485"/>
                  <a:pt x="17998" y="7514"/>
                  <a:pt x="17974" y="7559"/>
                </a:cubicBezTo>
                <a:cubicBezTo>
                  <a:pt x="17946" y="7611"/>
                  <a:pt x="17911" y="7676"/>
                  <a:pt x="17911" y="7737"/>
                </a:cubicBezTo>
                <a:cubicBezTo>
                  <a:pt x="17911" y="7798"/>
                  <a:pt x="17956" y="7797"/>
                  <a:pt x="18002" y="7782"/>
                </a:cubicBezTo>
                <a:cubicBezTo>
                  <a:pt x="18019" y="7775"/>
                  <a:pt x="18037" y="7767"/>
                  <a:pt x="18054" y="7760"/>
                </a:cubicBezTo>
              </a:path>
              <a:path w="1740" h="700">
                <a:moveTo>
                  <a:pt x="18375" y="7311"/>
                </a:moveTo>
                <a:cubicBezTo>
                  <a:pt x="18362" y="7295"/>
                  <a:pt x="18342" y="7284"/>
                  <a:pt x="18325" y="7310"/>
                </a:cubicBezTo>
                <a:cubicBezTo>
                  <a:pt x="18301" y="7346"/>
                  <a:pt x="18352" y="7381"/>
                  <a:pt x="18382" y="7382"/>
                </a:cubicBezTo>
                <a:cubicBezTo>
                  <a:pt x="18433" y="7384"/>
                  <a:pt x="18490" y="7352"/>
                  <a:pt x="18529" y="7323"/>
                </a:cubicBezTo>
                <a:cubicBezTo>
                  <a:pt x="18561" y="7300"/>
                  <a:pt x="18594" y="7263"/>
                  <a:pt x="18589" y="7220"/>
                </a:cubicBezTo>
                <a:cubicBezTo>
                  <a:pt x="18585" y="7189"/>
                  <a:pt x="18547" y="7181"/>
                  <a:pt x="18521" y="7186"/>
                </a:cubicBezTo>
                <a:cubicBezTo>
                  <a:pt x="18490" y="7193"/>
                  <a:pt x="18467" y="7214"/>
                  <a:pt x="18474" y="7248"/>
                </a:cubicBezTo>
                <a:cubicBezTo>
                  <a:pt x="18480" y="7277"/>
                  <a:pt x="18506" y="7285"/>
                  <a:pt x="18529" y="7298"/>
                </a:cubicBezTo>
              </a:path>
              <a:path w="1740" h="700">
                <a:moveTo>
                  <a:pt x="18725" y="7328"/>
                </a:moveTo>
                <a:cubicBezTo>
                  <a:pt x="18743" y="7368"/>
                  <a:pt x="18705" y="7385"/>
                  <a:pt x="18677" y="7414"/>
                </a:cubicBezTo>
                <a:cubicBezTo>
                  <a:pt x="18588" y="7508"/>
                  <a:pt x="18403" y="7631"/>
                  <a:pt x="18362" y="7758"/>
                </a:cubicBezTo>
                <a:cubicBezTo>
                  <a:pt x="18365" y="7781"/>
                  <a:pt x="18362" y="7789"/>
                  <a:pt x="18380" y="7790"/>
                </a:cubicBezTo>
                <a:cubicBezTo>
                  <a:pt x="18454" y="7783"/>
                  <a:pt x="18517" y="7751"/>
                  <a:pt x="18585" y="7716"/>
                </a:cubicBezTo>
                <a:cubicBezTo>
                  <a:pt x="18642" y="7687"/>
                  <a:pt x="18691" y="7650"/>
                  <a:pt x="18745" y="7620"/>
                </a:cubicBezTo>
                <a:cubicBezTo>
                  <a:pt x="18712" y="7640"/>
                  <a:pt x="18682" y="7662"/>
                  <a:pt x="18658" y="7693"/>
                </a:cubicBezTo>
                <a:cubicBezTo>
                  <a:pt x="18646" y="7713"/>
                  <a:pt x="18642" y="7718"/>
                  <a:pt x="18645" y="7734"/>
                </a:cubicBezTo>
                <a:cubicBezTo>
                  <a:pt x="18688" y="7753"/>
                  <a:pt x="18724" y="7738"/>
                  <a:pt x="18768" y="7721"/>
                </a:cubicBezTo>
                <a:cubicBezTo>
                  <a:pt x="18808" y="7705"/>
                  <a:pt x="18878" y="7679"/>
                  <a:pt x="18893" y="7633"/>
                </a:cubicBezTo>
                <a:cubicBezTo>
                  <a:pt x="18892" y="7627"/>
                  <a:pt x="18892" y="7622"/>
                  <a:pt x="18891" y="7616"/>
                </a:cubicBezTo>
                <a:cubicBezTo>
                  <a:pt x="18853" y="7593"/>
                  <a:pt x="18824" y="7593"/>
                  <a:pt x="18781" y="7583"/>
                </a:cubicBezTo>
                <a:cubicBezTo>
                  <a:pt x="18760" y="7577"/>
                  <a:pt x="18754" y="7575"/>
                  <a:pt x="18742" y="7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Ink 24"/>
          <p:cNvSpPr/>
          <p:nvPr/>
        </p:nvSpPr>
        <p:spPr>
          <a:xfrm>
            <a:off x="7550280" y="2436840"/>
            <a:ext cx="966600" cy="357120"/>
          </a:xfrm>
          <a:custGeom>
            <a:avLst/>
            <a:gdLst/>
            <a:ahLst/>
            <a:rect l="l" t="t" r="r" b="b"/>
            <a:pathLst>
              <a:path w="2683" h="992">
                <a:moveTo>
                  <a:pt x="21240" y="6870"/>
                </a:moveTo>
                <a:cubicBezTo>
                  <a:pt x="21215" y="6887"/>
                  <a:pt x="21189" y="6904"/>
                  <a:pt x="21168" y="6925"/>
                </a:cubicBezTo>
                <a:cubicBezTo>
                  <a:pt x="21150" y="6943"/>
                  <a:pt x="21122" y="6973"/>
                  <a:pt x="21124" y="7002"/>
                </a:cubicBezTo>
                <a:cubicBezTo>
                  <a:pt x="21127" y="7036"/>
                  <a:pt x="21165" y="7046"/>
                  <a:pt x="21190" y="7057"/>
                </a:cubicBezTo>
                <a:cubicBezTo>
                  <a:pt x="21221" y="7071"/>
                  <a:pt x="21290" y="7091"/>
                  <a:pt x="21292" y="7134"/>
                </a:cubicBezTo>
                <a:cubicBezTo>
                  <a:pt x="21294" y="7174"/>
                  <a:pt x="21239" y="7206"/>
                  <a:pt x="21211" y="7222"/>
                </a:cubicBezTo>
                <a:cubicBezTo>
                  <a:pt x="21173" y="7244"/>
                  <a:pt x="21124" y="7264"/>
                  <a:pt x="21079" y="7260"/>
                </a:cubicBezTo>
                <a:cubicBezTo>
                  <a:pt x="21073" y="7258"/>
                  <a:pt x="21068" y="7257"/>
                  <a:pt x="21062" y="7255"/>
                </a:cubicBezTo>
                <a:cubicBezTo>
                  <a:pt x="21057" y="7220"/>
                  <a:pt x="21085" y="7196"/>
                  <a:pt x="21111" y="7170"/>
                </a:cubicBezTo>
                <a:cubicBezTo>
                  <a:pt x="21157" y="7122"/>
                  <a:pt x="21208" y="7081"/>
                  <a:pt x="21253" y="7032"/>
                </a:cubicBezTo>
                <a:cubicBezTo>
                  <a:pt x="21280" y="7003"/>
                  <a:pt x="21314" y="6966"/>
                  <a:pt x="21312" y="6923"/>
                </a:cubicBezTo>
                <a:cubicBezTo>
                  <a:pt x="21311" y="6895"/>
                  <a:pt x="21281" y="6893"/>
                  <a:pt x="21260" y="6894"/>
                </a:cubicBezTo>
                <a:cubicBezTo>
                  <a:pt x="21254" y="6895"/>
                  <a:pt x="21247" y="6895"/>
                  <a:pt x="21241" y="6896"/>
                </a:cubicBezTo>
                <a:cubicBezTo>
                  <a:pt x="21225" y="6912"/>
                  <a:pt x="21218" y="6916"/>
                  <a:pt x="21238" y="6930"/>
                </a:cubicBezTo>
              </a:path>
              <a:path w="2683" h="992">
                <a:moveTo>
                  <a:pt x="21615" y="6784"/>
                </a:moveTo>
                <a:cubicBezTo>
                  <a:pt x="21579" y="6798"/>
                  <a:pt x="21559" y="6822"/>
                  <a:pt x="21534" y="6851"/>
                </a:cubicBezTo>
                <a:cubicBezTo>
                  <a:pt x="21490" y="6902"/>
                  <a:pt x="21452" y="6959"/>
                  <a:pt x="21428" y="7022"/>
                </a:cubicBezTo>
                <a:cubicBezTo>
                  <a:pt x="21416" y="7054"/>
                  <a:pt x="21393" y="7119"/>
                  <a:pt x="21429" y="7147"/>
                </a:cubicBezTo>
                <a:cubicBezTo>
                  <a:pt x="21464" y="7174"/>
                  <a:pt x="21527" y="7147"/>
                  <a:pt x="21562" y="7135"/>
                </a:cubicBezTo>
                <a:cubicBezTo>
                  <a:pt x="21622" y="7114"/>
                  <a:pt x="21676" y="7087"/>
                  <a:pt x="21732" y="7058"/>
                </a:cubicBezTo>
                <a:cubicBezTo>
                  <a:pt x="21760" y="7043"/>
                  <a:pt x="21795" y="7024"/>
                  <a:pt x="21810" y="6993"/>
                </a:cubicBezTo>
                <a:cubicBezTo>
                  <a:pt x="21813" y="6977"/>
                  <a:pt x="21814" y="6971"/>
                  <a:pt x="21806" y="6961"/>
                </a:cubicBezTo>
              </a:path>
              <a:path w="2683" h="992">
                <a:moveTo>
                  <a:pt x="21729" y="6882"/>
                </a:moveTo>
                <a:cubicBezTo>
                  <a:pt x="21718" y="6912"/>
                  <a:pt x="21714" y="6942"/>
                  <a:pt x="21706" y="6973"/>
                </a:cubicBezTo>
                <a:cubicBezTo>
                  <a:pt x="21692" y="7023"/>
                  <a:pt x="21677" y="7073"/>
                  <a:pt x="21659" y="7121"/>
                </a:cubicBezTo>
                <a:cubicBezTo>
                  <a:pt x="21640" y="7172"/>
                  <a:pt x="21620" y="7212"/>
                  <a:pt x="21588" y="7256"/>
                </a:cubicBezTo>
              </a:path>
              <a:path w="2683" h="992">
                <a:moveTo>
                  <a:pt x="20973" y="7399"/>
                </a:moveTo>
                <a:cubicBezTo>
                  <a:pt x="21040" y="7382"/>
                  <a:pt x="21106" y="7363"/>
                  <a:pt x="21173" y="7347"/>
                </a:cubicBezTo>
                <a:cubicBezTo>
                  <a:pt x="21338" y="7309"/>
                  <a:pt x="21504" y="7276"/>
                  <a:pt x="21672" y="7254"/>
                </a:cubicBezTo>
                <a:cubicBezTo>
                  <a:pt x="21708" y="7249"/>
                  <a:pt x="21810" y="7221"/>
                  <a:pt x="21845" y="7238"/>
                </a:cubicBezTo>
                <a:cubicBezTo>
                  <a:pt x="21865" y="7248"/>
                  <a:pt x="21842" y="7252"/>
                  <a:pt x="21831" y="7262"/>
                </a:cubicBezTo>
              </a:path>
              <a:path w="2683" h="992">
                <a:moveTo>
                  <a:pt x="21203" y="7480"/>
                </a:moveTo>
                <a:cubicBezTo>
                  <a:pt x="21189" y="7499"/>
                  <a:pt x="21172" y="7520"/>
                  <a:pt x="21163" y="7541"/>
                </a:cubicBezTo>
                <a:cubicBezTo>
                  <a:pt x="21146" y="7580"/>
                  <a:pt x="21134" y="7622"/>
                  <a:pt x="21128" y="7664"/>
                </a:cubicBezTo>
                <a:cubicBezTo>
                  <a:pt x="21124" y="7693"/>
                  <a:pt x="21127" y="7738"/>
                  <a:pt x="21158" y="7753"/>
                </a:cubicBezTo>
                <a:cubicBezTo>
                  <a:pt x="21166" y="7755"/>
                  <a:pt x="21174" y="7756"/>
                  <a:pt x="21182" y="7758"/>
                </a:cubicBezTo>
              </a:path>
              <a:path w="2683" h="992">
                <a:moveTo>
                  <a:pt x="21419" y="7539"/>
                </a:moveTo>
                <a:cubicBezTo>
                  <a:pt x="21385" y="7562"/>
                  <a:pt x="21348" y="7591"/>
                  <a:pt x="21331" y="7630"/>
                </a:cubicBezTo>
                <a:cubicBezTo>
                  <a:pt x="21313" y="7671"/>
                  <a:pt x="21326" y="7715"/>
                  <a:pt x="21368" y="7734"/>
                </a:cubicBezTo>
                <a:cubicBezTo>
                  <a:pt x="21418" y="7757"/>
                  <a:pt x="21485" y="7746"/>
                  <a:pt x="21535" y="7729"/>
                </a:cubicBezTo>
                <a:cubicBezTo>
                  <a:pt x="21572" y="7716"/>
                  <a:pt x="21619" y="7691"/>
                  <a:pt x="21623" y="7648"/>
                </a:cubicBezTo>
                <a:cubicBezTo>
                  <a:pt x="21626" y="7615"/>
                  <a:pt x="21587" y="7594"/>
                  <a:pt x="21561" y="7587"/>
                </a:cubicBezTo>
                <a:cubicBezTo>
                  <a:pt x="21552" y="7585"/>
                  <a:pt x="21488" y="7573"/>
                  <a:pt x="21492" y="7593"/>
                </a:cubicBezTo>
                <a:cubicBezTo>
                  <a:pt x="21497" y="7616"/>
                  <a:pt x="21531" y="7613"/>
                  <a:pt x="21546" y="7615"/>
                </a:cubicBezTo>
              </a:path>
              <a:path w="2683" h="992">
                <a:moveTo>
                  <a:pt x="21746" y="7572"/>
                </a:moveTo>
                <a:cubicBezTo>
                  <a:pt x="21731" y="7598"/>
                  <a:pt x="21712" y="7611"/>
                  <a:pt x="21704" y="7640"/>
                </a:cubicBezTo>
                <a:cubicBezTo>
                  <a:pt x="21694" y="7675"/>
                  <a:pt x="21702" y="7705"/>
                  <a:pt x="21734" y="7725"/>
                </a:cubicBezTo>
                <a:cubicBezTo>
                  <a:pt x="21773" y="7749"/>
                  <a:pt x="21823" y="7741"/>
                  <a:pt x="21864" y="7725"/>
                </a:cubicBezTo>
                <a:cubicBezTo>
                  <a:pt x="21898" y="7712"/>
                  <a:pt x="21936" y="7687"/>
                  <a:pt x="21937" y="7646"/>
                </a:cubicBezTo>
                <a:cubicBezTo>
                  <a:pt x="21938" y="7609"/>
                  <a:pt x="21905" y="7582"/>
                  <a:pt x="21874" y="7569"/>
                </a:cubicBezTo>
                <a:cubicBezTo>
                  <a:pt x="21848" y="7558"/>
                  <a:pt x="21822" y="7550"/>
                  <a:pt x="21794" y="7548"/>
                </a:cubicBezTo>
              </a:path>
              <a:path w="2683" h="992">
                <a:moveTo>
                  <a:pt x="22356" y="7220"/>
                </a:moveTo>
                <a:cubicBezTo>
                  <a:pt x="22351" y="7218"/>
                  <a:pt x="22347" y="7217"/>
                  <a:pt x="22342" y="7215"/>
                </a:cubicBezTo>
                <a:cubicBezTo>
                  <a:pt x="22372" y="7213"/>
                  <a:pt x="22398" y="7212"/>
                  <a:pt x="22428" y="7219"/>
                </a:cubicBezTo>
                <a:cubicBezTo>
                  <a:pt x="22449" y="7225"/>
                  <a:pt x="22455" y="7226"/>
                  <a:pt x="22468" y="7232"/>
                </a:cubicBezTo>
              </a:path>
              <a:path w="2683" h="992">
                <a:moveTo>
                  <a:pt x="22344" y="7319"/>
                </a:moveTo>
                <a:cubicBezTo>
                  <a:pt x="22340" y="7343"/>
                  <a:pt x="22384" y="7335"/>
                  <a:pt x="22419" y="7334"/>
                </a:cubicBezTo>
                <a:cubicBezTo>
                  <a:pt x="22466" y="7332"/>
                  <a:pt x="22509" y="7324"/>
                  <a:pt x="22555" y="7314"/>
                </a:cubicBezTo>
              </a:path>
              <a:path w="2683" h="992">
                <a:moveTo>
                  <a:pt x="23067" y="6827"/>
                </a:moveTo>
                <a:cubicBezTo>
                  <a:pt x="23094" y="6813"/>
                  <a:pt x="23113" y="6809"/>
                  <a:pt x="23143" y="6804"/>
                </a:cubicBezTo>
                <a:cubicBezTo>
                  <a:pt x="23170" y="6800"/>
                  <a:pt x="23205" y="6800"/>
                  <a:pt x="23223" y="6827"/>
                </a:cubicBezTo>
                <a:cubicBezTo>
                  <a:pt x="23241" y="6854"/>
                  <a:pt x="23220" y="6898"/>
                  <a:pt x="23206" y="6921"/>
                </a:cubicBezTo>
                <a:cubicBezTo>
                  <a:pt x="23179" y="6965"/>
                  <a:pt x="23134" y="6993"/>
                  <a:pt x="23104" y="7034"/>
                </a:cubicBezTo>
                <a:cubicBezTo>
                  <a:pt x="23096" y="7049"/>
                  <a:pt x="23093" y="7053"/>
                  <a:pt x="23092" y="7064"/>
                </a:cubicBezTo>
                <a:cubicBezTo>
                  <a:pt x="23106" y="7086"/>
                  <a:pt x="23132" y="7085"/>
                  <a:pt x="23158" y="7083"/>
                </a:cubicBezTo>
                <a:cubicBezTo>
                  <a:pt x="23211" y="7079"/>
                  <a:pt x="23257" y="7072"/>
                  <a:pt x="23306" y="7052"/>
                </a:cubicBezTo>
                <a:cubicBezTo>
                  <a:pt x="23339" y="7037"/>
                  <a:pt x="23350" y="7033"/>
                  <a:pt x="23371" y="7020"/>
                </a:cubicBezTo>
              </a:path>
              <a:path w="2683" h="992">
                <a:moveTo>
                  <a:pt x="23524" y="6767"/>
                </a:moveTo>
                <a:cubicBezTo>
                  <a:pt x="23531" y="6796"/>
                  <a:pt x="23525" y="6815"/>
                  <a:pt x="23521" y="6845"/>
                </a:cubicBezTo>
                <a:cubicBezTo>
                  <a:pt x="23514" y="6898"/>
                  <a:pt x="23505" y="6949"/>
                  <a:pt x="23502" y="7002"/>
                </a:cubicBezTo>
                <a:cubicBezTo>
                  <a:pt x="23498" y="7058"/>
                  <a:pt x="23501" y="7115"/>
                  <a:pt x="23503" y="7171"/>
                </a:cubicBezTo>
                <a:cubicBezTo>
                  <a:pt x="23505" y="7204"/>
                  <a:pt x="23506" y="7212"/>
                  <a:pt x="23503" y="7233"/>
                </a:cubicBezTo>
              </a:path>
              <a:path w="2683" h="992">
                <a:moveTo>
                  <a:pt x="22993" y="7327"/>
                </a:moveTo>
                <a:cubicBezTo>
                  <a:pt x="22964" y="7312"/>
                  <a:pt x="22991" y="7319"/>
                  <a:pt x="23019" y="7313"/>
                </a:cubicBezTo>
                <a:cubicBezTo>
                  <a:pt x="23077" y="7300"/>
                  <a:pt x="23137" y="7291"/>
                  <a:pt x="23196" y="7282"/>
                </a:cubicBezTo>
                <a:cubicBezTo>
                  <a:pt x="23276" y="7270"/>
                  <a:pt x="23356" y="7264"/>
                  <a:pt x="23436" y="7257"/>
                </a:cubicBezTo>
                <a:cubicBezTo>
                  <a:pt x="23500" y="7252"/>
                  <a:pt x="23563" y="7253"/>
                  <a:pt x="23627" y="7250"/>
                </a:cubicBezTo>
                <a:cubicBezTo>
                  <a:pt x="23646" y="7249"/>
                  <a:pt x="23662" y="7240"/>
                  <a:pt x="23641" y="7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Ink 25"/>
          <p:cNvSpPr/>
          <p:nvPr/>
        </p:nvSpPr>
        <p:spPr>
          <a:xfrm>
            <a:off x="8285040" y="2711520"/>
            <a:ext cx="279360" cy="120600"/>
          </a:xfrm>
          <a:custGeom>
            <a:avLst/>
            <a:gdLst/>
            <a:ahLst/>
            <a:rect l="l" t="t" r="r" b="b"/>
            <a:pathLst>
              <a:path w="774" h="337">
                <a:moveTo>
                  <a:pt x="23022" y="7578"/>
                </a:moveTo>
                <a:cubicBezTo>
                  <a:pt x="23033" y="7562"/>
                  <a:pt x="23046" y="7557"/>
                  <a:pt x="23066" y="7555"/>
                </a:cubicBezTo>
                <a:cubicBezTo>
                  <a:pt x="23094" y="7552"/>
                  <a:pt x="23128" y="7554"/>
                  <a:pt x="23155" y="7560"/>
                </a:cubicBezTo>
                <a:cubicBezTo>
                  <a:pt x="23177" y="7565"/>
                  <a:pt x="23203" y="7575"/>
                  <a:pt x="23210" y="7599"/>
                </a:cubicBezTo>
                <a:cubicBezTo>
                  <a:pt x="23218" y="7628"/>
                  <a:pt x="23192" y="7659"/>
                  <a:pt x="23175" y="7678"/>
                </a:cubicBezTo>
                <a:cubicBezTo>
                  <a:pt x="23145" y="7713"/>
                  <a:pt x="23110" y="7742"/>
                  <a:pt x="23076" y="7773"/>
                </a:cubicBezTo>
                <a:cubicBezTo>
                  <a:pt x="23055" y="7791"/>
                  <a:pt x="23024" y="7810"/>
                  <a:pt x="23015" y="7838"/>
                </a:cubicBezTo>
                <a:cubicBezTo>
                  <a:pt x="23015" y="7841"/>
                  <a:pt x="23015" y="7844"/>
                  <a:pt x="23015" y="7847"/>
                </a:cubicBezTo>
                <a:cubicBezTo>
                  <a:pt x="23048" y="7861"/>
                  <a:pt x="23074" y="7860"/>
                  <a:pt x="23110" y="7857"/>
                </a:cubicBezTo>
                <a:cubicBezTo>
                  <a:pt x="23149" y="7854"/>
                  <a:pt x="23187" y="7848"/>
                  <a:pt x="23224" y="7838"/>
                </a:cubicBezTo>
                <a:cubicBezTo>
                  <a:pt x="23250" y="7831"/>
                  <a:pt x="23261" y="7829"/>
                  <a:pt x="23280" y="7809"/>
                </a:cubicBezTo>
              </a:path>
              <a:path w="774" h="337">
                <a:moveTo>
                  <a:pt x="23527" y="7610"/>
                </a:moveTo>
                <a:cubicBezTo>
                  <a:pt x="23518" y="7589"/>
                  <a:pt x="23501" y="7586"/>
                  <a:pt x="23476" y="7586"/>
                </a:cubicBezTo>
                <a:cubicBezTo>
                  <a:pt x="23453" y="7586"/>
                  <a:pt x="23413" y="7591"/>
                  <a:pt x="23399" y="7612"/>
                </a:cubicBezTo>
                <a:cubicBezTo>
                  <a:pt x="23381" y="7639"/>
                  <a:pt x="23433" y="7666"/>
                  <a:pt x="23447" y="7675"/>
                </a:cubicBezTo>
                <a:cubicBezTo>
                  <a:pt x="23489" y="7703"/>
                  <a:pt x="23534" y="7725"/>
                  <a:pt x="23572" y="7759"/>
                </a:cubicBezTo>
                <a:cubicBezTo>
                  <a:pt x="23596" y="7780"/>
                  <a:pt x="23621" y="7808"/>
                  <a:pt x="23590" y="7835"/>
                </a:cubicBezTo>
                <a:cubicBezTo>
                  <a:pt x="23559" y="7862"/>
                  <a:pt x="23510" y="7867"/>
                  <a:pt x="23470" y="7867"/>
                </a:cubicBezTo>
                <a:cubicBezTo>
                  <a:pt x="23432" y="7867"/>
                  <a:pt x="23411" y="7856"/>
                  <a:pt x="23380" y="7838"/>
                </a:cubicBezTo>
              </a:path>
              <a:path w="774" h="337">
                <a:moveTo>
                  <a:pt x="23535" y="7548"/>
                </a:moveTo>
                <a:cubicBezTo>
                  <a:pt x="23570" y="7536"/>
                  <a:pt x="23596" y="7528"/>
                  <a:pt x="23633" y="7535"/>
                </a:cubicBezTo>
                <a:cubicBezTo>
                  <a:pt x="23672" y="7542"/>
                  <a:pt x="23702" y="7560"/>
                  <a:pt x="23734" y="7583"/>
                </a:cubicBezTo>
                <a:cubicBezTo>
                  <a:pt x="23761" y="7603"/>
                  <a:pt x="23769" y="7609"/>
                  <a:pt x="23788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Ink 26"/>
          <p:cNvSpPr/>
          <p:nvPr/>
        </p:nvSpPr>
        <p:spPr>
          <a:xfrm>
            <a:off x="3659040" y="3191040"/>
            <a:ext cx="1144800" cy="258480"/>
          </a:xfrm>
          <a:custGeom>
            <a:avLst/>
            <a:gdLst/>
            <a:ahLst/>
            <a:rect l="l" t="t" r="r" b="b"/>
            <a:pathLst>
              <a:path w="3177" h="719">
                <a:moveTo>
                  <a:pt x="10242" y="8926"/>
                </a:moveTo>
                <a:cubicBezTo>
                  <a:pt x="10260" y="8902"/>
                  <a:pt x="10256" y="8915"/>
                  <a:pt x="10256" y="8944"/>
                </a:cubicBezTo>
                <a:cubicBezTo>
                  <a:pt x="10255" y="9009"/>
                  <a:pt x="10241" y="9077"/>
                  <a:pt x="10229" y="9141"/>
                </a:cubicBezTo>
                <a:cubicBezTo>
                  <a:pt x="10213" y="9226"/>
                  <a:pt x="10194" y="9311"/>
                  <a:pt x="10178" y="9396"/>
                </a:cubicBezTo>
                <a:cubicBezTo>
                  <a:pt x="10171" y="9435"/>
                  <a:pt x="10151" y="9507"/>
                  <a:pt x="10172" y="9545"/>
                </a:cubicBezTo>
                <a:cubicBezTo>
                  <a:pt x="10185" y="9554"/>
                  <a:pt x="10190" y="9556"/>
                  <a:pt x="10201" y="9545"/>
                </a:cubicBezTo>
              </a:path>
              <a:path w="3177" h="719">
                <a:moveTo>
                  <a:pt x="10495" y="9026"/>
                </a:moveTo>
                <a:cubicBezTo>
                  <a:pt x="10519" y="8999"/>
                  <a:pt x="10541" y="8971"/>
                  <a:pt x="10576" y="8957"/>
                </a:cubicBezTo>
                <a:cubicBezTo>
                  <a:pt x="10626" y="8936"/>
                  <a:pt x="10688" y="8923"/>
                  <a:pt x="10742" y="8935"/>
                </a:cubicBezTo>
                <a:cubicBezTo>
                  <a:pt x="10797" y="8947"/>
                  <a:pt x="10843" y="8989"/>
                  <a:pt x="10851" y="9047"/>
                </a:cubicBezTo>
                <a:cubicBezTo>
                  <a:pt x="10861" y="9124"/>
                  <a:pt x="10813" y="9208"/>
                  <a:pt x="10773" y="9269"/>
                </a:cubicBezTo>
                <a:cubicBezTo>
                  <a:pt x="10726" y="9341"/>
                  <a:pt x="10665" y="9401"/>
                  <a:pt x="10611" y="9468"/>
                </a:cubicBezTo>
                <a:cubicBezTo>
                  <a:pt x="10589" y="9496"/>
                  <a:pt x="10576" y="9515"/>
                  <a:pt x="10567" y="9547"/>
                </a:cubicBezTo>
                <a:cubicBezTo>
                  <a:pt x="10605" y="9560"/>
                  <a:pt x="10633" y="9561"/>
                  <a:pt x="10680" y="9557"/>
                </a:cubicBezTo>
                <a:cubicBezTo>
                  <a:pt x="10754" y="9550"/>
                  <a:pt x="10826" y="9533"/>
                  <a:pt x="10900" y="9528"/>
                </a:cubicBezTo>
                <a:cubicBezTo>
                  <a:pt x="10954" y="9524"/>
                  <a:pt x="11011" y="9523"/>
                  <a:pt x="11064" y="9535"/>
                </a:cubicBezTo>
                <a:cubicBezTo>
                  <a:pt x="11099" y="9543"/>
                  <a:pt x="11102" y="9559"/>
                  <a:pt x="11125" y="9580"/>
                </a:cubicBezTo>
              </a:path>
              <a:path w="3177" h="719">
                <a:moveTo>
                  <a:pt x="11390" y="9291"/>
                </a:moveTo>
                <a:cubicBezTo>
                  <a:pt x="11382" y="9265"/>
                  <a:pt x="11391" y="9273"/>
                  <a:pt x="11376" y="9292"/>
                </a:cubicBezTo>
                <a:cubicBezTo>
                  <a:pt x="11359" y="9313"/>
                  <a:pt x="11353" y="9345"/>
                  <a:pt x="11344" y="9371"/>
                </a:cubicBezTo>
                <a:cubicBezTo>
                  <a:pt x="11331" y="9408"/>
                  <a:pt x="11321" y="9449"/>
                  <a:pt x="11325" y="9489"/>
                </a:cubicBezTo>
                <a:cubicBezTo>
                  <a:pt x="11328" y="9520"/>
                  <a:pt x="11342" y="9546"/>
                  <a:pt x="11376" y="9547"/>
                </a:cubicBezTo>
                <a:cubicBezTo>
                  <a:pt x="11432" y="9549"/>
                  <a:pt x="11488" y="9499"/>
                  <a:pt x="11531" y="9469"/>
                </a:cubicBezTo>
                <a:cubicBezTo>
                  <a:pt x="11563" y="9447"/>
                  <a:pt x="11567" y="9443"/>
                  <a:pt x="11587" y="9475"/>
                </a:cubicBezTo>
                <a:cubicBezTo>
                  <a:pt x="11603" y="9502"/>
                  <a:pt x="11605" y="9528"/>
                  <a:pt x="11633" y="9549"/>
                </a:cubicBezTo>
                <a:cubicBezTo>
                  <a:pt x="11664" y="9571"/>
                  <a:pt x="11707" y="9563"/>
                  <a:pt x="11739" y="9547"/>
                </a:cubicBezTo>
                <a:cubicBezTo>
                  <a:pt x="11778" y="9528"/>
                  <a:pt x="11814" y="9496"/>
                  <a:pt x="11836" y="9459"/>
                </a:cubicBezTo>
                <a:cubicBezTo>
                  <a:pt x="11851" y="9433"/>
                  <a:pt x="11862" y="9392"/>
                  <a:pt x="11862" y="9362"/>
                </a:cubicBezTo>
                <a:cubicBezTo>
                  <a:pt x="11862" y="9345"/>
                  <a:pt x="11855" y="9323"/>
                  <a:pt x="11851" y="9306"/>
                </a:cubicBezTo>
              </a:path>
              <a:path w="3177" h="719">
                <a:moveTo>
                  <a:pt x="11986" y="8950"/>
                </a:moveTo>
                <a:cubicBezTo>
                  <a:pt x="12000" y="8935"/>
                  <a:pt x="12022" y="8909"/>
                  <a:pt x="12040" y="8901"/>
                </a:cubicBezTo>
                <a:cubicBezTo>
                  <a:pt x="12064" y="8890"/>
                  <a:pt x="12097" y="8886"/>
                  <a:pt x="12117" y="8906"/>
                </a:cubicBezTo>
                <a:cubicBezTo>
                  <a:pt x="12142" y="8932"/>
                  <a:pt x="12125" y="8982"/>
                  <a:pt x="12113" y="9009"/>
                </a:cubicBezTo>
                <a:cubicBezTo>
                  <a:pt x="12090" y="9062"/>
                  <a:pt x="12050" y="9107"/>
                  <a:pt x="12029" y="9161"/>
                </a:cubicBezTo>
                <a:cubicBezTo>
                  <a:pt x="12018" y="9189"/>
                  <a:pt x="12038" y="9200"/>
                  <a:pt x="12063" y="9201"/>
                </a:cubicBezTo>
                <a:cubicBezTo>
                  <a:pt x="12104" y="9203"/>
                  <a:pt x="12144" y="9191"/>
                  <a:pt x="12184" y="9187"/>
                </a:cubicBezTo>
                <a:cubicBezTo>
                  <a:pt x="12219" y="9184"/>
                  <a:pt x="12261" y="9177"/>
                  <a:pt x="12296" y="9182"/>
                </a:cubicBezTo>
                <a:cubicBezTo>
                  <a:pt x="12302" y="9184"/>
                  <a:pt x="12309" y="9185"/>
                  <a:pt x="12315" y="9187"/>
                </a:cubicBezTo>
              </a:path>
              <a:path w="3177" h="719">
                <a:moveTo>
                  <a:pt x="12400" y="9282"/>
                </a:moveTo>
                <a:cubicBezTo>
                  <a:pt x="12389" y="9299"/>
                  <a:pt x="12383" y="9315"/>
                  <a:pt x="12377" y="9337"/>
                </a:cubicBezTo>
                <a:cubicBezTo>
                  <a:pt x="12372" y="9358"/>
                  <a:pt x="12367" y="9379"/>
                  <a:pt x="12361" y="9400"/>
                </a:cubicBezTo>
                <a:cubicBezTo>
                  <a:pt x="12360" y="9404"/>
                  <a:pt x="12359" y="9407"/>
                  <a:pt x="12358" y="9411"/>
                </a:cubicBezTo>
                <a:cubicBezTo>
                  <a:pt x="12383" y="9413"/>
                  <a:pt x="12401" y="9384"/>
                  <a:pt x="12422" y="9365"/>
                </a:cubicBezTo>
                <a:cubicBezTo>
                  <a:pt x="12458" y="9332"/>
                  <a:pt x="12492" y="9298"/>
                  <a:pt x="12528" y="9266"/>
                </a:cubicBezTo>
                <a:cubicBezTo>
                  <a:pt x="12544" y="9252"/>
                  <a:pt x="12558" y="9245"/>
                  <a:pt x="12574" y="9235"/>
                </a:cubicBezTo>
                <a:cubicBezTo>
                  <a:pt x="12577" y="9247"/>
                  <a:pt x="12571" y="9270"/>
                  <a:pt x="12578" y="9281"/>
                </a:cubicBezTo>
                <a:cubicBezTo>
                  <a:pt x="12595" y="9307"/>
                  <a:pt x="12622" y="9286"/>
                  <a:pt x="12642" y="9275"/>
                </a:cubicBezTo>
                <a:cubicBezTo>
                  <a:pt x="12674" y="9257"/>
                  <a:pt x="12703" y="9233"/>
                  <a:pt x="12736" y="9217"/>
                </a:cubicBezTo>
                <a:cubicBezTo>
                  <a:pt x="12759" y="9206"/>
                  <a:pt x="12784" y="9198"/>
                  <a:pt x="12798" y="9225"/>
                </a:cubicBezTo>
                <a:cubicBezTo>
                  <a:pt x="12812" y="9253"/>
                  <a:pt x="12808" y="9295"/>
                  <a:pt x="12806" y="9325"/>
                </a:cubicBezTo>
                <a:cubicBezTo>
                  <a:pt x="12805" y="9334"/>
                  <a:pt x="12795" y="9398"/>
                  <a:pt x="12816" y="9394"/>
                </a:cubicBezTo>
                <a:cubicBezTo>
                  <a:pt x="12820" y="9391"/>
                  <a:pt x="12825" y="9387"/>
                  <a:pt x="12829" y="9384"/>
                </a:cubicBezTo>
              </a:path>
              <a:path w="3177" h="719">
                <a:moveTo>
                  <a:pt x="13009" y="8910"/>
                </a:moveTo>
                <a:cubicBezTo>
                  <a:pt x="13032" y="8887"/>
                  <a:pt x="13050" y="8874"/>
                  <a:pt x="13082" y="8866"/>
                </a:cubicBezTo>
                <a:cubicBezTo>
                  <a:pt x="13110" y="8859"/>
                  <a:pt x="13143" y="8864"/>
                  <a:pt x="13157" y="8894"/>
                </a:cubicBezTo>
                <a:cubicBezTo>
                  <a:pt x="13173" y="8929"/>
                  <a:pt x="13158" y="8980"/>
                  <a:pt x="13144" y="9013"/>
                </a:cubicBezTo>
                <a:cubicBezTo>
                  <a:pt x="13127" y="9053"/>
                  <a:pt x="13083" y="9097"/>
                  <a:pt x="13079" y="9142"/>
                </a:cubicBezTo>
                <a:cubicBezTo>
                  <a:pt x="13077" y="9169"/>
                  <a:pt x="13115" y="9164"/>
                  <a:pt x="13131" y="9164"/>
                </a:cubicBezTo>
                <a:cubicBezTo>
                  <a:pt x="13170" y="9163"/>
                  <a:pt x="13210" y="9158"/>
                  <a:pt x="13248" y="9154"/>
                </a:cubicBezTo>
                <a:cubicBezTo>
                  <a:pt x="13280" y="9151"/>
                  <a:pt x="13310" y="9148"/>
                  <a:pt x="13342" y="9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nk 27"/>
          <p:cNvSpPr/>
          <p:nvPr/>
        </p:nvSpPr>
        <p:spPr>
          <a:xfrm>
            <a:off x="2552760" y="3625920"/>
            <a:ext cx="177840" cy="142920"/>
          </a:xfrm>
          <a:custGeom>
            <a:avLst/>
            <a:gdLst/>
            <a:ahLst/>
            <a:rect l="l" t="t" r="r" b="b"/>
            <a:pathLst>
              <a:path w="492" h="398">
                <a:moveTo>
                  <a:pt x="7583" y="10125"/>
                </a:moveTo>
                <a:cubicBezTo>
                  <a:pt x="7571" y="10106"/>
                  <a:pt x="7562" y="10084"/>
                  <a:pt x="7537" y="10075"/>
                </a:cubicBezTo>
                <a:cubicBezTo>
                  <a:pt x="7521" y="10069"/>
                  <a:pt x="7503" y="10071"/>
                  <a:pt x="7486" y="10074"/>
                </a:cubicBezTo>
                <a:cubicBezTo>
                  <a:pt x="7457" y="10079"/>
                  <a:pt x="7434" y="10092"/>
                  <a:pt x="7409" y="10108"/>
                </a:cubicBezTo>
                <a:cubicBezTo>
                  <a:pt x="7380" y="10126"/>
                  <a:pt x="7354" y="10150"/>
                  <a:pt x="7330" y="10174"/>
                </a:cubicBezTo>
                <a:cubicBezTo>
                  <a:pt x="7269" y="10236"/>
                  <a:pt x="7208" y="10301"/>
                  <a:pt x="7162" y="10375"/>
                </a:cubicBezTo>
                <a:cubicBezTo>
                  <a:pt x="7148" y="10398"/>
                  <a:pt x="7136" y="10422"/>
                  <a:pt x="7127" y="10447"/>
                </a:cubicBezTo>
                <a:cubicBezTo>
                  <a:pt x="7123" y="10458"/>
                  <a:pt x="7122" y="10461"/>
                  <a:pt x="7120" y="10468"/>
                </a:cubicBezTo>
                <a:cubicBezTo>
                  <a:pt x="7125" y="10444"/>
                  <a:pt x="7131" y="10421"/>
                  <a:pt x="7133" y="10396"/>
                </a:cubicBezTo>
                <a:cubicBezTo>
                  <a:pt x="7135" y="10374"/>
                  <a:pt x="7132" y="10361"/>
                  <a:pt x="7127" y="10341"/>
                </a:cubicBezTo>
                <a:cubicBezTo>
                  <a:pt x="7112" y="10357"/>
                  <a:pt x="7103" y="10374"/>
                  <a:pt x="7098" y="10396"/>
                </a:cubicBezTo>
                <a:cubicBezTo>
                  <a:pt x="7092" y="10421"/>
                  <a:pt x="7094" y="10427"/>
                  <a:pt x="7102" y="10447"/>
                </a:cubicBezTo>
                <a:cubicBezTo>
                  <a:pt x="7120" y="10438"/>
                  <a:pt x="7135" y="10430"/>
                  <a:pt x="7151" y="10417"/>
                </a:cubicBezTo>
                <a:cubicBezTo>
                  <a:pt x="7176" y="10397"/>
                  <a:pt x="7201" y="10386"/>
                  <a:pt x="7230" y="10375"/>
                </a:cubicBezTo>
                <a:cubicBezTo>
                  <a:pt x="7257" y="10365"/>
                  <a:pt x="7284" y="10355"/>
                  <a:pt x="7311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Ink 28"/>
          <p:cNvSpPr/>
          <p:nvPr/>
        </p:nvSpPr>
        <p:spPr>
          <a:xfrm>
            <a:off x="2876400" y="3546360"/>
            <a:ext cx="1111320" cy="311400"/>
          </a:xfrm>
          <a:custGeom>
            <a:avLst/>
            <a:gdLst/>
            <a:ahLst/>
            <a:rect l="l" t="t" r="r" b="b"/>
            <a:pathLst>
              <a:path w="3089" h="863">
                <a:moveTo>
                  <a:pt x="8190" y="10032"/>
                </a:moveTo>
                <a:cubicBezTo>
                  <a:pt x="8158" y="10021"/>
                  <a:pt x="8143" y="10035"/>
                  <a:pt x="8113" y="10048"/>
                </a:cubicBezTo>
                <a:cubicBezTo>
                  <a:pt x="8075" y="10064"/>
                  <a:pt x="8043" y="10085"/>
                  <a:pt x="8013" y="10113"/>
                </a:cubicBezTo>
                <a:cubicBezTo>
                  <a:pt x="7998" y="10127"/>
                  <a:pt x="7977" y="10152"/>
                  <a:pt x="7998" y="10171"/>
                </a:cubicBezTo>
                <a:cubicBezTo>
                  <a:pt x="8020" y="10191"/>
                  <a:pt x="8059" y="10197"/>
                  <a:pt x="8086" y="10208"/>
                </a:cubicBezTo>
                <a:cubicBezTo>
                  <a:pt x="8111" y="10218"/>
                  <a:pt x="8148" y="10231"/>
                  <a:pt x="8154" y="10261"/>
                </a:cubicBezTo>
                <a:cubicBezTo>
                  <a:pt x="8160" y="10291"/>
                  <a:pt x="8128" y="10314"/>
                  <a:pt x="8106" y="10327"/>
                </a:cubicBezTo>
                <a:cubicBezTo>
                  <a:pt x="8077" y="10345"/>
                  <a:pt x="8044" y="10355"/>
                  <a:pt x="8010" y="10353"/>
                </a:cubicBezTo>
                <a:cubicBezTo>
                  <a:pt x="7977" y="10351"/>
                  <a:pt x="7996" y="10325"/>
                  <a:pt x="8005" y="10308"/>
                </a:cubicBezTo>
              </a:path>
              <a:path w="3089" h="863">
                <a:moveTo>
                  <a:pt x="8348" y="10174"/>
                </a:moveTo>
                <a:cubicBezTo>
                  <a:pt x="8347" y="10204"/>
                  <a:pt x="8340" y="10223"/>
                  <a:pt x="8325" y="10249"/>
                </a:cubicBezTo>
                <a:cubicBezTo>
                  <a:pt x="8316" y="10263"/>
                  <a:pt x="8313" y="10267"/>
                  <a:pt x="8316" y="10278"/>
                </a:cubicBezTo>
                <a:cubicBezTo>
                  <a:pt x="8335" y="10255"/>
                  <a:pt x="8364" y="10238"/>
                  <a:pt x="8384" y="10213"/>
                </a:cubicBezTo>
                <a:cubicBezTo>
                  <a:pt x="8412" y="10178"/>
                  <a:pt x="8441" y="10140"/>
                  <a:pt x="8462" y="10100"/>
                </a:cubicBezTo>
                <a:cubicBezTo>
                  <a:pt x="8472" y="10080"/>
                  <a:pt x="8473" y="10055"/>
                  <a:pt x="8490" y="10051"/>
                </a:cubicBezTo>
              </a:path>
              <a:path w="3089" h="863">
                <a:moveTo>
                  <a:pt x="8722" y="10096"/>
                </a:moveTo>
                <a:cubicBezTo>
                  <a:pt x="8694" y="10110"/>
                  <a:pt x="8662" y="10110"/>
                  <a:pt x="8633" y="10125"/>
                </a:cubicBezTo>
                <a:cubicBezTo>
                  <a:pt x="8602" y="10141"/>
                  <a:pt x="8566" y="10163"/>
                  <a:pt x="8548" y="10194"/>
                </a:cubicBezTo>
                <a:cubicBezTo>
                  <a:pt x="8533" y="10221"/>
                  <a:pt x="8552" y="10240"/>
                  <a:pt x="8579" y="10246"/>
                </a:cubicBezTo>
                <a:cubicBezTo>
                  <a:pt x="8624" y="10255"/>
                  <a:pt x="8672" y="10235"/>
                  <a:pt x="8708" y="10211"/>
                </a:cubicBezTo>
                <a:cubicBezTo>
                  <a:pt x="8734" y="10193"/>
                  <a:pt x="8729" y="10185"/>
                  <a:pt x="8729" y="10174"/>
                </a:cubicBezTo>
                <a:cubicBezTo>
                  <a:pt x="8716" y="10208"/>
                  <a:pt x="8708" y="10243"/>
                  <a:pt x="8701" y="10279"/>
                </a:cubicBezTo>
                <a:cubicBezTo>
                  <a:pt x="8680" y="10395"/>
                  <a:pt x="8674" y="10512"/>
                  <a:pt x="8612" y="10616"/>
                </a:cubicBezTo>
                <a:cubicBezTo>
                  <a:pt x="8588" y="10657"/>
                  <a:pt x="8550" y="10699"/>
                  <a:pt x="8502" y="10711"/>
                </a:cubicBezTo>
                <a:cubicBezTo>
                  <a:pt x="8440" y="10726"/>
                  <a:pt x="8413" y="10673"/>
                  <a:pt x="8411" y="10620"/>
                </a:cubicBezTo>
                <a:cubicBezTo>
                  <a:pt x="8412" y="10604"/>
                  <a:pt x="8413" y="10589"/>
                  <a:pt x="8414" y="10573"/>
                </a:cubicBezTo>
              </a:path>
              <a:path w="3089" h="863">
                <a:moveTo>
                  <a:pt x="8568" y="9898"/>
                </a:moveTo>
                <a:cubicBezTo>
                  <a:pt x="8562" y="9885"/>
                  <a:pt x="8560" y="9880"/>
                  <a:pt x="8570" y="9893"/>
                </a:cubicBezTo>
              </a:path>
              <a:path w="3089" h="863">
                <a:moveTo>
                  <a:pt x="8959" y="10154"/>
                </a:moveTo>
                <a:cubicBezTo>
                  <a:pt x="8938" y="10169"/>
                  <a:pt x="8931" y="10179"/>
                  <a:pt x="8922" y="10203"/>
                </a:cubicBezTo>
                <a:cubicBezTo>
                  <a:pt x="8920" y="10208"/>
                  <a:pt x="8919" y="10214"/>
                  <a:pt x="8917" y="10219"/>
                </a:cubicBezTo>
                <a:cubicBezTo>
                  <a:pt x="8944" y="10200"/>
                  <a:pt x="8965" y="10176"/>
                  <a:pt x="8989" y="10152"/>
                </a:cubicBezTo>
                <a:cubicBezTo>
                  <a:pt x="9015" y="10126"/>
                  <a:pt x="9046" y="10094"/>
                  <a:pt x="9080" y="10077"/>
                </a:cubicBezTo>
                <a:cubicBezTo>
                  <a:pt x="9103" y="10065"/>
                  <a:pt x="9115" y="10075"/>
                  <a:pt x="9118" y="10099"/>
                </a:cubicBezTo>
                <a:cubicBezTo>
                  <a:pt x="9122" y="10129"/>
                  <a:pt x="9112" y="10165"/>
                  <a:pt x="9108" y="10195"/>
                </a:cubicBezTo>
                <a:cubicBezTo>
                  <a:pt x="9105" y="10216"/>
                  <a:pt x="9096" y="10256"/>
                  <a:pt x="9127" y="10249"/>
                </a:cubicBezTo>
                <a:cubicBezTo>
                  <a:pt x="9133" y="10246"/>
                  <a:pt x="9140" y="10243"/>
                  <a:pt x="9146" y="10240"/>
                </a:cubicBezTo>
              </a:path>
              <a:path w="3089" h="863">
                <a:moveTo>
                  <a:pt x="9330" y="10085"/>
                </a:moveTo>
                <a:cubicBezTo>
                  <a:pt x="9323" y="10112"/>
                  <a:pt x="9308" y="10134"/>
                  <a:pt x="9296" y="10159"/>
                </a:cubicBezTo>
                <a:cubicBezTo>
                  <a:pt x="9294" y="10163"/>
                  <a:pt x="9266" y="10234"/>
                  <a:pt x="9272" y="10234"/>
                </a:cubicBezTo>
                <a:cubicBezTo>
                  <a:pt x="9278" y="10231"/>
                  <a:pt x="9285" y="10228"/>
                  <a:pt x="9291" y="10225"/>
                </a:cubicBezTo>
              </a:path>
              <a:path w="3089" h="863">
                <a:moveTo>
                  <a:pt x="9458" y="10019"/>
                </a:moveTo>
                <a:cubicBezTo>
                  <a:pt x="9445" y="9999"/>
                  <a:pt x="9433" y="10022"/>
                  <a:pt x="9461" y="10037"/>
                </a:cubicBezTo>
              </a:path>
              <a:path w="3089" h="863">
                <a:moveTo>
                  <a:pt x="9860" y="9903"/>
                </a:moveTo>
                <a:cubicBezTo>
                  <a:pt x="9839" y="9880"/>
                  <a:pt x="9816" y="9860"/>
                  <a:pt x="9785" y="9852"/>
                </a:cubicBezTo>
                <a:cubicBezTo>
                  <a:pt x="9754" y="9844"/>
                  <a:pt x="9717" y="9856"/>
                  <a:pt x="9693" y="9875"/>
                </a:cubicBezTo>
                <a:cubicBezTo>
                  <a:pt x="9653" y="9905"/>
                  <a:pt x="9621" y="9955"/>
                  <a:pt x="9599" y="9999"/>
                </a:cubicBezTo>
                <a:cubicBezTo>
                  <a:pt x="9570" y="10058"/>
                  <a:pt x="9553" y="10124"/>
                  <a:pt x="9539" y="10188"/>
                </a:cubicBezTo>
                <a:cubicBezTo>
                  <a:pt x="9531" y="10226"/>
                  <a:pt x="9518" y="10287"/>
                  <a:pt x="9538" y="10323"/>
                </a:cubicBezTo>
                <a:cubicBezTo>
                  <a:pt x="9552" y="10347"/>
                  <a:pt x="9550" y="10325"/>
                  <a:pt x="9557" y="10327"/>
                </a:cubicBezTo>
              </a:path>
              <a:path w="3089" h="863">
                <a:moveTo>
                  <a:pt x="9548" y="10160"/>
                </a:moveTo>
                <a:cubicBezTo>
                  <a:pt x="9548" y="10134"/>
                  <a:pt x="9553" y="10132"/>
                  <a:pt x="9580" y="10132"/>
                </a:cubicBezTo>
                <a:cubicBezTo>
                  <a:pt x="9615" y="10132"/>
                  <a:pt x="9650" y="10140"/>
                  <a:pt x="9685" y="10141"/>
                </a:cubicBezTo>
                <a:cubicBezTo>
                  <a:pt x="9726" y="10143"/>
                  <a:pt x="9768" y="10142"/>
                  <a:pt x="9807" y="10152"/>
                </a:cubicBezTo>
                <a:cubicBezTo>
                  <a:pt x="9834" y="10159"/>
                  <a:pt x="9847" y="10168"/>
                  <a:pt x="9839" y="10196"/>
                </a:cubicBezTo>
                <a:cubicBezTo>
                  <a:pt x="9833" y="10218"/>
                  <a:pt x="9821" y="10227"/>
                  <a:pt x="9802" y="10231"/>
                </a:cubicBezTo>
                <a:cubicBezTo>
                  <a:pt x="9809" y="10204"/>
                  <a:pt x="9823" y="10184"/>
                  <a:pt x="9841" y="10162"/>
                </a:cubicBezTo>
                <a:cubicBezTo>
                  <a:pt x="9863" y="10135"/>
                  <a:pt x="9890" y="10097"/>
                  <a:pt x="9919" y="10078"/>
                </a:cubicBezTo>
                <a:cubicBezTo>
                  <a:pt x="9937" y="10066"/>
                  <a:pt x="9955" y="10064"/>
                  <a:pt x="9974" y="10062"/>
                </a:cubicBezTo>
              </a:path>
              <a:path w="3089" h="863">
                <a:moveTo>
                  <a:pt x="10118" y="10079"/>
                </a:moveTo>
                <a:cubicBezTo>
                  <a:pt x="10094" y="10088"/>
                  <a:pt x="10071" y="10095"/>
                  <a:pt x="10050" y="10111"/>
                </a:cubicBezTo>
                <a:cubicBezTo>
                  <a:pt x="10024" y="10130"/>
                  <a:pt x="10000" y="10155"/>
                  <a:pt x="9992" y="10187"/>
                </a:cubicBezTo>
                <a:cubicBezTo>
                  <a:pt x="9983" y="10219"/>
                  <a:pt x="10012" y="10231"/>
                  <a:pt x="10040" y="10231"/>
                </a:cubicBezTo>
                <a:cubicBezTo>
                  <a:pt x="10077" y="10231"/>
                  <a:pt x="10113" y="10222"/>
                  <a:pt x="10149" y="10214"/>
                </a:cubicBezTo>
              </a:path>
              <a:path w="3089" h="863">
                <a:moveTo>
                  <a:pt x="10384" y="10116"/>
                </a:moveTo>
                <a:cubicBezTo>
                  <a:pt x="10374" y="10100"/>
                  <a:pt x="10346" y="10104"/>
                  <a:pt x="10326" y="10114"/>
                </a:cubicBezTo>
                <a:cubicBezTo>
                  <a:pt x="10303" y="10125"/>
                  <a:pt x="10267" y="10146"/>
                  <a:pt x="10252" y="10169"/>
                </a:cubicBezTo>
                <a:cubicBezTo>
                  <a:pt x="10251" y="10173"/>
                  <a:pt x="10250" y="10176"/>
                  <a:pt x="10249" y="10180"/>
                </a:cubicBezTo>
                <a:cubicBezTo>
                  <a:pt x="10292" y="10190"/>
                  <a:pt x="10320" y="10184"/>
                  <a:pt x="10364" y="10172"/>
                </a:cubicBezTo>
                <a:cubicBezTo>
                  <a:pt x="10392" y="10164"/>
                  <a:pt x="10419" y="10154"/>
                  <a:pt x="10447" y="10147"/>
                </a:cubicBezTo>
                <a:cubicBezTo>
                  <a:pt x="10431" y="10165"/>
                  <a:pt x="10415" y="10180"/>
                  <a:pt x="10400" y="10199"/>
                </a:cubicBezTo>
                <a:cubicBezTo>
                  <a:pt x="10378" y="10226"/>
                  <a:pt x="10428" y="10192"/>
                  <a:pt x="10431" y="10190"/>
                </a:cubicBezTo>
              </a:path>
              <a:path w="3089" h="863">
                <a:moveTo>
                  <a:pt x="10580" y="10098"/>
                </a:moveTo>
                <a:cubicBezTo>
                  <a:pt x="10574" y="10116"/>
                  <a:pt x="10558" y="10134"/>
                  <a:pt x="10558" y="10152"/>
                </a:cubicBezTo>
                <a:cubicBezTo>
                  <a:pt x="10559" y="10157"/>
                  <a:pt x="10560" y="10162"/>
                  <a:pt x="10561" y="10167"/>
                </a:cubicBezTo>
                <a:cubicBezTo>
                  <a:pt x="10585" y="10170"/>
                  <a:pt x="10606" y="10158"/>
                  <a:pt x="10627" y="10146"/>
                </a:cubicBezTo>
                <a:cubicBezTo>
                  <a:pt x="10660" y="10127"/>
                  <a:pt x="10690" y="10105"/>
                  <a:pt x="10724" y="10088"/>
                </a:cubicBezTo>
                <a:cubicBezTo>
                  <a:pt x="10751" y="10075"/>
                  <a:pt x="10771" y="10077"/>
                  <a:pt x="10765" y="10112"/>
                </a:cubicBezTo>
                <a:cubicBezTo>
                  <a:pt x="10761" y="10137"/>
                  <a:pt x="10750" y="10158"/>
                  <a:pt x="10748" y="10182"/>
                </a:cubicBezTo>
                <a:cubicBezTo>
                  <a:pt x="10746" y="10195"/>
                  <a:pt x="10747" y="10199"/>
                  <a:pt x="10763" y="10196"/>
                </a:cubicBezTo>
              </a:path>
              <a:path w="3089" h="863">
                <a:moveTo>
                  <a:pt x="10988" y="9893"/>
                </a:moveTo>
                <a:cubicBezTo>
                  <a:pt x="10982" y="9926"/>
                  <a:pt x="10974" y="9959"/>
                  <a:pt x="10967" y="9992"/>
                </a:cubicBezTo>
                <a:cubicBezTo>
                  <a:pt x="10955" y="10045"/>
                  <a:pt x="10950" y="10096"/>
                  <a:pt x="10948" y="10150"/>
                </a:cubicBezTo>
                <a:cubicBezTo>
                  <a:pt x="10947" y="10172"/>
                  <a:pt x="10948" y="10192"/>
                  <a:pt x="10951" y="10213"/>
                </a:cubicBezTo>
              </a:path>
              <a:path w="3089" h="863">
                <a:moveTo>
                  <a:pt x="10885" y="10122"/>
                </a:moveTo>
                <a:cubicBezTo>
                  <a:pt x="10899" y="10099"/>
                  <a:pt x="10924" y="10106"/>
                  <a:pt x="10952" y="10101"/>
                </a:cubicBezTo>
                <a:cubicBezTo>
                  <a:pt x="10994" y="10094"/>
                  <a:pt x="11036" y="10083"/>
                  <a:pt x="11078" y="100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Ink 29"/>
          <p:cNvSpPr/>
          <p:nvPr/>
        </p:nvSpPr>
        <p:spPr>
          <a:xfrm>
            <a:off x="4262400" y="3524400"/>
            <a:ext cx="757440" cy="247680"/>
          </a:xfrm>
          <a:custGeom>
            <a:avLst/>
            <a:gdLst/>
            <a:ahLst/>
            <a:rect l="l" t="t" r="r" b="b"/>
            <a:pathLst>
              <a:path w="2105" h="687">
                <a:moveTo>
                  <a:pt x="12170" y="9821"/>
                </a:moveTo>
                <a:cubicBezTo>
                  <a:pt x="12152" y="9796"/>
                  <a:pt x="12146" y="9796"/>
                  <a:pt x="12115" y="9793"/>
                </a:cubicBezTo>
                <a:cubicBezTo>
                  <a:pt x="12081" y="9790"/>
                  <a:pt x="12046" y="9796"/>
                  <a:pt x="12017" y="9816"/>
                </a:cubicBezTo>
                <a:cubicBezTo>
                  <a:pt x="11973" y="9847"/>
                  <a:pt x="11949" y="9901"/>
                  <a:pt x="11927" y="9947"/>
                </a:cubicBezTo>
                <a:cubicBezTo>
                  <a:pt x="11892" y="10022"/>
                  <a:pt x="11860" y="10113"/>
                  <a:pt x="11865" y="10198"/>
                </a:cubicBezTo>
                <a:cubicBezTo>
                  <a:pt x="11867" y="10236"/>
                  <a:pt x="11882" y="10245"/>
                  <a:pt x="11892" y="10207"/>
                </a:cubicBezTo>
              </a:path>
              <a:path w="2105" h="687">
                <a:moveTo>
                  <a:pt x="11849" y="10076"/>
                </a:moveTo>
                <a:cubicBezTo>
                  <a:pt x="11843" y="10065"/>
                  <a:pt x="11842" y="10062"/>
                  <a:pt x="11838" y="10055"/>
                </a:cubicBezTo>
                <a:cubicBezTo>
                  <a:pt x="11861" y="10047"/>
                  <a:pt x="11882" y="10053"/>
                  <a:pt x="11907" y="10055"/>
                </a:cubicBezTo>
                <a:cubicBezTo>
                  <a:pt x="11968" y="10060"/>
                  <a:pt x="12030" y="10065"/>
                  <a:pt x="12088" y="10085"/>
                </a:cubicBezTo>
                <a:cubicBezTo>
                  <a:pt x="12108" y="10092"/>
                  <a:pt x="12167" y="10112"/>
                  <a:pt x="12166" y="10142"/>
                </a:cubicBezTo>
                <a:cubicBezTo>
                  <a:pt x="12165" y="10158"/>
                  <a:pt x="12153" y="10157"/>
                  <a:pt x="12148" y="10165"/>
                </a:cubicBezTo>
                <a:cubicBezTo>
                  <a:pt x="12138" y="10138"/>
                  <a:pt x="12130" y="10123"/>
                  <a:pt x="12151" y="10086"/>
                </a:cubicBezTo>
                <a:cubicBezTo>
                  <a:pt x="12174" y="10044"/>
                  <a:pt x="12207" y="10008"/>
                  <a:pt x="12241" y="9975"/>
                </a:cubicBezTo>
                <a:cubicBezTo>
                  <a:pt x="12259" y="9957"/>
                  <a:pt x="12282" y="9928"/>
                  <a:pt x="12310" y="9936"/>
                </a:cubicBezTo>
                <a:cubicBezTo>
                  <a:pt x="12322" y="9943"/>
                  <a:pt x="12327" y="9947"/>
                  <a:pt x="12333" y="9955"/>
                </a:cubicBezTo>
              </a:path>
              <a:path w="2105" h="687">
                <a:moveTo>
                  <a:pt x="12508" y="10022"/>
                </a:moveTo>
                <a:cubicBezTo>
                  <a:pt x="12507" y="9996"/>
                  <a:pt x="12484" y="10002"/>
                  <a:pt x="12460" y="10007"/>
                </a:cubicBezTo>
                <a:cubicBezTo>
                  <a:pt x="12422" y="10015"/>
                  <a:pt x="12396" y="10031"/>
                  <a:pt x="12371" y="10061"/>
                </a:cubicBezTo>
                <a:cubicBezTo>
                  <a:pt x="12354" y="10081"/>
                  <a:pt x="12344" y="10111"/>
                  <a:pt x="12374" y="10125"/>
                </a:cubicBezTo>
                <a:cubicBezTo>
                  <a:pt x="12412" y="10143"/>
                  <a:pt x="12463" y="10134"/>
                  <a:pt x="12501" y="10125"/>
                </a:cubicBezTo>
                <a:cubicBezTo>
                  <a:pt x="12535" y="10117"/>
                  <a:pt x="12577" y="10103"/>
                  <a:pt x="12600" y="10075"/>
                </a:cubicBezTo>
                <a:cubicBezTo>
                  <a:pt x="12614" y="10057"/>
                  <a:pt x="12603" y="10056"/>
                  <a:pt x="12597" y="10041"/>
                </a:cubicBezTo>
                <a:cubicBezTo>
                  <a:pt x="12576" y="10062"/>
                  <a:pt x="12576" y="10081"/>
                  <a:pt x="12574" y="10112"/>
                </a:cubicBezTo>
                <a:cubicBezTo>
                  <a:pt x="12570" y="10182"/>
                  <a:pt x="12571" y="10251"/>
                  <a:pt x="12553" y="10320"/>
                </a:cubicBezTo>
                <a:cubicBezTo>
                  <a:pt x="12540" y="10368"/>
                  <a:pt x="12519" y="10424"/>
                  <a:pt x="12479" y="10458"/>
                </a:cubicBezTo>
                <a:cubicBezTo>
                  <a:pt x="12456" y="10478"/>
                  <a:pt x="12417" y="10488"/>
                  <a:pt x="12403" y="10452"/>
                </a:cubicBezTo>
                <a:cubicBezTo>
                  <a:pt x="12391" y="10421"/>
                  <a:pt x="12406" y="10386"/>
                  <a:pt x="12413" y="10357"/>
                </a:cubicBezTo>
              </a:path>
              <a:path w="2105" h="687">
                <a:moveTo>
                  <a:pt x="12800" y="10052"/>
                </a:moveTo>
                <a:cubicBezTo>
                  <a:pt x="12780" y="10055"/>
                  <a:pt x="12767" y="10077"/>
                  <a:pt x="12763" y="10101"/>
                </a:cubicBezTo>
                <a:cubicBezTo>
                  <a:pt x="12759" y="10123"/>
                  <a:pt x="12760" y="10154"/>
                  <a:pt x="12784" y="10164"/>
                </a:cubicBezTo>
                <a:cubicBezTo>
                  <a:pt x="12816" y="10178"/>
                  <a:pt x="12859" y="10160"/>
                  <a:pt x="12887" y="10146"/>
                </a:cubicBezTo>
                <a:cubicBezTo>
                  <a:pt x="12916" y="10131"/>
                  <a:pt x="12945" y="10112"/>
                  <a:pt x="12965" y="10086"/>
                </a:cubicBezTo>
                <a:cubicBezTo>
                  <a:pt x="12967" y="10083"/>
                  <a:pt x="12969" y="10079"/>
                  <a:pt x="12971" y="10076"/>
                </a:cubicBezTo>
                <a:cubicBezTo>
                  <a:pt x="12952" y="10081"/>
                  <a:pt x="12947" y="10103"/>
                  <a:pt x="12973" y="10112"/>
                </a:cubicBezTo>
                <a:cubicBezTo>
                  <a:pt x="12979" y="10113"/>
                  <a:pt x="12984" y="10114"/>
                  <a:pt x="12990" y="10115"/>
                </a:cubicBezTo>
              </a:path>
              <a:path w="2105" h="687">
                <a:moveTo>
                  <a:pt x="13120" y="10136"/>
                </a:moveTo>
                <a:cubicBezTo>
                  <a:pt x="13117" y="10147"/>
                  <a:pt x="13115" y="10152"/>
                  <a:pt x="13109" y="10158"/>
                </a:cubicBezTo>
                <a:cubicBezTo>
                  <a:pt x="13118" y="10131"/>
                  <a:pt x="13131" y="10115"/>
                  <a:pt x="13149" y="10093"/>
                </a:cubicBezTo>
                <a:cubicBezTo>
                  <a:pt x="13170" y="10068"/>
                  <a:pt x="13195" y="10045"/>
                  <a:pt x="13223" y="10028"/>
                </a:cubicBezTo>
                <a:cubicBezTo>
                  <a:pt x="13249" y="10012"/>
                  <a:pt x="13258" y="10019"/>
                  <a:pt x="13277" y="10039"/>
                </a:cubicBezTo>
                <a:cubicBezTo>
                  <a:pt x="13295" y="10057"/>
                  <a:pt x="13310" y="10060"/>
                  <a:pt x="13336" y="10053"/>
                </a:cubicBezTo>
                <a:cubicBezTo>
                  <a:pt x="13367" y="10045"/>
                  <a:pt x="13400" y="10029"/>
                  <a:pt x="13427" y="10012"/>
                </a:cubicBezTo>
                <a:cubicBezTo>
                  <a:pt x="13443" y="10002"/>
                  <a:pt x="13452" y="9989"/>
                  <a:pt x="13464" y="9977"/>
                </a:cubicBezTo>
                <a:cubicBezTo>
                  <a:pt x="13427" y="9986"/>
                  <a:pt x="13397" y="10005"/>
                  <a:pt x="13367" y="10031"/>
                </a:cubicBezTo>
                <a:cubicBezTo>
                  <a:pt x="13341" y="10054"/>
                  <a:pt x="13300" y="10091"/>
                  <a:pt x="13303" y="10130"/>
                </a:cubicBezTo>
                <a:cubicBezTo>
                  <a:pt x="13306" y="10169"/>
                  <a:pt x="13370" y="10166"/>
                  <a:pt x="13395" y="10166"/>
                </a:cubicBezTo>
                <a:cubicBezTo>
                  <a:pt x="13458" y="10165"/>
                  <a:pt x="13509" y="10142"/>
                  <a:pt x="13566" y="10122"/>
                </a:cubicBezTo>
                <a:cubicBezTo>
                  <a:pt x="13611" y="10106"/>
                  <a:pt x="13651" y="10090"/>
                  <a:pt x="13681" y="10050"/>
                </a:cubicBezTo>
                <a:cubicBezTo>
                  <a:pt x="13685" y="10043"/>
                  <a:pt x="13688" y="10037"/>
                  <a:pt x="13692" y="10030"/>
                </a:cubicBezTo>
              </a:path>
              <a:path w="2105" h="687">
                <a:moveTo>
                  <a:pt x="13942" y="9906"/>
                </a:moveTo>
                <a:cubicBezTo>
                  <a:pt x="13917" y="9902"/>
                  <a:pt x="13906" y="9905"/>
                  <a:pt x="13883" y="9913"/>
                </a:cubicBezTo>
                <a:cubicBezTo>
                  <a:pt x="13851" y="9925"/>
                  <a:pt x="13826" y="9943"/>
                  <a:pt x="13808" y="9973"/>
                </a:cubicBezTo>
                <a:cubicBezTo>
                  <a:pt x="13791" y="10002"/>
                  <a:pt x="13803" y="10022"/>
                  <a:pt x="13823" y="10045"/>
                </a:cubicBezTo>
                <a:cubicBezTo>
                  <a:pt x="13845" y="10071"/>
                  <a:pt x="13887" y="10089"/>
                  <a:pt x="13898" y="10124"/>
                </a:cubicBezTo>
                <a:cubicBezTo>
                  <a:pt x="13906" y="10151"/>
                  <a:pt x="13883" y="10174"/>
                  <a:pt x="13863" y="10188"/>
                </a:cubicBezTo>
                <a:cubicBezTo>
                  <a:pt x="13829" y="10211"/>
                  <a:pt x="13776" y="10219"/>
                  <a:pt x="13737" y="10206"/>
                </a:cubicBezTo>
                <a:cubicBezTo>
                  <a:pt x="13711" y="10198"/>
                  <a:pt x="13698" y="10178"/>
                  <a:pt x="13681" y="10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nk 30"/>
          <p:cNvSpPr/>
          <p:nvPr/>
        </p:nvSpPr>
        <p:spPr>
          <a:xfrm>
            <a:off x="7873920" y="3298680"/>
            <a:ext cx="6480" cy="117720"/>
          </a:xfrm>
          <a:custGeom>
            <a:avLst/>
            <a:gdLst/>
            <a:ahLst/>
            <a:rect l="l" t="t" r="r" b="b"/>
            <a:pathLst>
              <a:path w="19" h="325">
                <a:moveTo>
                  <a:pt x="21877" y="9165"/>
                </a:moveTo>
                <a:cubicBezTo>
                  <a:pt x="21878" y="9183"/>
                  <a:pt x="21876" y="9200"/>
                  <a:pt x="21874" y="9217"/>
                </a:cubicBezTo>
                <a:cubicBezTo>
                  <a:pt x="21872" y="9243"/>
                  <a:pt x="21873" y="9269"/>
                  <a:pt x="21874" y="9295"/>
                </a:cubicBezTo>
                <a:cubicBezTo>
                  <a:pt x="21876" y="9325"/>
                  <a:pt x="21878" y="9357"/>
                  <a:pt x="21883" y="9386"/>
                </a:cubicBezTo>
                <a:cubicBezTo>
                  <a:pt x="21888" y="9416"/>
                  <a:pt x="21892" y="9442"/>
                  <a:pt x="21889" y="9473"/>
                </a:cubicBezTo>
                <a:cubicBezTo>
                  <a:pt x="21888" y="9478"/>
                  <a:pt x="21888" y="9484"/>
                  <a:pt x="21887" y="94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Ink 31"/>
          <p:cNvSpPr/>
          <p:nvPr/>
        </p:nvSpPr>
        <p:spPr>
          <a:xfrm>
            <a:off x="3378240" y="3787920"/>
            <a:ext cx="101520" cy="203040"/>
          </a:xfrm>
          <a:custGeom>
            <a:avLst/>
            <a:gdLst/>
            <a:ahLst/>
            <a:rect l="l" t="t" r="r" b="b"/>
            <a:pathLst>
              <a:path w="280" h="565">
                <a:moveTo>
                  <a:pt x="9470" y="10531"/>
                </a:moveTo>
                <a:cubicBezTo>
                  <a:pt x="9445" y="10523"/>
                  <a:pt x="9443" y="10540"/>
                  <a:pt x="9441" y="10567"/>
                </a:cubicBezTo>
                <a:cubicBezTo>
                  <a:pt x="9438" y="10613"/>
                  <a:pt x="9433" y="10660"/>
                  <a:pt x="9429" y="10706"/>
                </a:cubicBezTo>
                <a:cubicBezTo>
                  <a:pt x="9421" y="10794"/>
                  <a:pt x="9411" y="10882"/>
                  <a:pt x="9399" y="10969"/>
                </a:cubicBezTo>
                <a:cubicBezTo>
                  <a:pt x="9394" y="11005"/>
                  <a:pt x="9383" y="11042"/>
                  <a:pt x="9388" y="11077"/>
                </a:cubicBezTo>
                <a:cubicBezTo>
                  <a:pt x="9393" y="11092"/>
                  <a:pt x="9397" y="11092"/>
                  <a:pt x="9410" y="11069"/>
                </a:cubicBezTo>
              </a:path>
              <a:path w="280" h="565">
                <a:moveTo>
                  <a:pt x="9660" y="10829"/>
                </a:moveTo>
                <a:cubicBezTo>
                  <a:pt x="9662" y="10803"/>
                  <a:pt x="9647" y="10806"/>
                  <a:pt x="9663" y="10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Ink 32"/>
          <p:cNvSpPr/>
          <p:nvPr/>
        </p:nvSpPr>
        <p:spPr>
          <a:xfrm>
            <a:off x="3638520" y="3768840"/>
            <a:ext cx="841320" cy="237960"/>
          </a:xfrm>
          <a:custGeom>
            <a:avLst/>
            <a:gdLst/>
            <a:ahLst/>
            <a:rect l="l" t="t" r="r" b="b"/>
            <a:pathLst>
              <a:path w="2335" h="661">
                <a:moveTo>
                  <a:pt x="10133" y="10539"/>
                </a:moveTo>
                <a:cubicBezTo>
                  <a:pt x="10121" y="10530"/>
                  <a:pt x="10117" y="10528"/>
                  <a:pt x="10112" y="10520"/>
                </a:cubicBezTo>
                <a:cubicBezTo>
                  <a:pt x="10135" y="10509"/>
                  <a:pt x="10149" y="10505"/>
                  <a:pt x="10178" y="10505"/>
                </a:cubicBezTo>
                <a:cubicBezTo>
                  <a:pt x="10213" y="10505"/>
                  <a:pt x="10284" y="10507"/>
                  <a:pt x="10294" y="10551"/>
                </a:cubicBezTo>
                <a:cubicBezTo>
                  <a:pt x="10301" y="10579"/>
                  <a:pt x="10276" y="10603"/>
                  <a:pt x="10263" y="10624"/>
                </a:cubicBezTo>
                <a:cubicBezTo>
                  <a:pt x="10250" y="10644"/>
                  <a:pt x="10229" y="10670"/>
                  <a:pt x="10237" y="10696"/>
                </a:cubicBezTo>
                <a:cubicBezTo>
                  <a:pt x="10247" y="10729"/>
                  <a:pt x="10293" y="10747"/>
                  <a:pt x="10317" y="10766"/>
                </a:cubicBezTo>
                <a:cubicBezTo>
                  <a:pt x="10355" y="10796"/>
                  <a:pt x="10394" y="10829"/>
                  <a:pt x="10410" y="10876"/>
                </a:cubicBezTo>
                <a:cubicBezTo>
                  <a:pt x="10432" y="10943"/>
                  <a:pt x="10390" y="11004"/>
                  <a:pt x="10341" y="11045"/>
                </a:cubicBezTo>
                <a:cubicBezTo>
                  <a:pt x="10296" y="11083"/>
                  <a:pt x="10240" y="11111"/>
                  <a:pt x="10183" y="11125"/>
                </a:cubicBezTo>
                <a:cubicBezTo>
                  <a:pt x="10153" y="11132"/>
                  <a:pt x="10136" y="11129"/>
                  <a:pt x="10110" y="11118"/>
                </a:cubicBezTo>
                <a:cubicBezTo>
                  <a:pt x="10114" y="11087"/>
                  <a:pt x="10127" y="11081"/>
                  <a:pt x="10151" y="11055"/>
                </a:cubicBezTo>
              </a:path>
              <a:path w="2335" h="661">
                <a:moveTo>
                  <a:pt x="10771" y="10662"/>
                </a:moveTo>
                <a:cubicBezTo>
                  <a:pt x="10726" y="10663"/>
                  <a:pt x="10704" y="10672"/>
                  <a:pt x="10660" y="10688"/>
                </a:cubicBezTo>
                <a:cubicBezTo>
                  <a:pt x="10625" y="10701"/>
                  <a:pt x="10596" y="10705"/>
                  <a:pt x="10580" y="10739"/>
                </a:cubicBezTo>
                <a:cubicBezTo>
                  <a:pt x="10624" y="10765"/>
                  <a:pt x="10674" y="10768"/>
                  <a:pt x="10724" y="10779"/>
                </a:cubicBezTo>
                <a:cubicBezTo>
                  <a:pt x="10782" y="10791"/>
                  <a:pt x="10864" y="10804"/>
                  <a:pt x="10908" y="10849"/>
                </a:cubicBezTo>
                <a:cubicBezTo>
                  <a:pt x="10950" y="10893"/>
                  <a:pt x="10907" y="10945"/>
                  <a:pt x="10874" y="10976"/>
                </a:cubicBezTo>
                <a:cubicBezTo>
                  <a:pt x="10832" y="11016"/>
                  <a:pt x="10772" y="11054"/>
                  <a:pt x="10714" y="11064"/>
                </a:cubicBezTo>
                <a:cubicBezTo>
                  <a:pt x="10690" y="11064"/>
                  <a:pt x="10683" y="11065"/>
                  <a:pt x="10671" y="11053"/>
                </a:cubicBezTo>
                <a:cubicBezTo>
                  <a:pt x="10676" y="10996"/>
                  <a:pt x="10708" y="10952"/>
                  <a:pt x="10745" y="10906"/>
                </a:cubicBezTo>
                <a:cubicBezTo>
                  <a:pt x="10815" y="10820"/>
                  <a:pt x="10900" y="10747"/>
                  <a:pt x="10967" y="10658"/>
                </a:cubicBezTo>
                <a:cubicBezTo>
                  <a:pt x="10995" y="10621"/>
                  <a:pt x="11014" y="10597"/>
                  <a:pt x="10999" y="10554"/>
                </a:cubicBezTo>
                <a:cubicBezTo>
                  <a:pt x="10972" y="10544"/>
                  <a:pt x="10951" y="10537"/>
                  <a:pt x="10923" y="10548"/>
                </a:cubicBezTo>
                <a:cubicBezTo>
                  <a:pt x="10900" y="10557"/>
                  <a:pt x="10909" y="10561"/>
                  <a:pt x="10902" y="10578"/>
                </a:cubicBezTo>
              </a:path>
              <a:path w="2335" h="661">
                <a:moveTo>
                  <a:pt x="11265" y="10573"/>
                </a:moveTo>
                <a:cubicBezTo>
                  <a:pt x="11247" y="10555"/>
                  <a:pt x="11232" y="10554"/>
                  <a:pt x="11207" y="10569"/>
                </a:cubicBezTo>
                <a:cubicBezTo>
                  <a:pt x="11182" y="10584"/>
                  <a:pt x="11165" y="10613"/>
                  <a:pt x="11177" y="10642"/>
                </a:cubicBezTo>
                <a:cubicBezTo>
                  <a:pt x="11200" y="10696"/>
                  <a:pt x="11278" y="10725"/>
                  <a:pt x="11322" y="10757"/>
                </a:cubicBezTo>
                <a:cubicBezTo>
                  <a:pt x="11360" y="10784"/>
                  <a:pt x="11403" y="10817"/>
                  <a:pt x="11396" y="10870"/>
                </a:cubicBezTo>
                <a:cubicBezTo>
                  <a:pt x="11389" y="10922"/>
                  <a:pt x="11336" y="10957"/>
                  <a:pt x="11293" y="10976"/>
                </a:cubicBezTo>
                <a:cubicBezTo>
                  <a:pt x="11269" y="10987"/>
                  <a:pt x="11194" y="11018"/>
                  <a:pt x="11170" y="10990"/>
                </a:cubicBezTo>
                <a:cubicBezTo>
                  <a:pt x="11169" y="10984"/>
                  <a:pt x="11168" y="10978"/>
                  <a:pt x="11167" y="10972"/>
                </a:cubicBezTo>
                <a:cubicBezTo>
                  <a:pt x="11202" y="10910"/>
                  <a:pt x="11251" y="10869"/>
                  <a:pt x="11306" y="10822"/>
                </a:cubicBezTo>
                <a:cubicBezTo>
                  <a:pt x="11380" y="10759"/>
                  <a:pt x="11457" y="10700"/>
                  <a:pt x="11525" y="10631"/>
                </a:cubicBezTo>
                <a:cubicBezTo>
                  <a:pt x="11557" y="10599"/>
                  <a:pt x="11586" y="10569"/>
                  <a:pt x="11576" y="10525"/>
                </a:cubicBezTo>
                <a:cubicBezTo>
                  <a:pt x="11542" y="10512"/>
                  <a:pt x="11521" y="10512"/>
                  <a:pt x="11486" y="10518"/>
                </a:cubicBezTo>
                <a:cubicBezTo>
                  <a:pt x="11462" y="10522"/>
                  <a:pt x="11442" y="10529"/>
                  <a:pt x="11420" y="10539"/>
                </a:cubicBezTo>
              </a:path>
              <a:path w="2335" h="661">
                <a:moveTo>
                  <a:pt x="11919" y="10520"/>
                </a:moveTo>
                <a:cubicBezTo>
                  <a:pt x="11899" y="10512"/>
                  <a:pt x="11892" y="10523"/>
                  <a:pt x="11876" y="10542"/>
                </a:cubicBezTo>
                <a:cubicBezTo>
                  <a:pt x="11850" y="10573"/>
                  <a:pt x="11838" y="10607"/>
                  <a:pt x="11823" y="10644"/>
                </a:cubicBezTo>
                <a:cubicBezTo>
                  <a:pt x="11802" y="10695"/>
                  <a:pt x="11788" y="10751"/>
                  <a:pt x="11782" y="10807"/>
                </a:cubicBezTo>
                <a:cubicBezTo>
                  <a:pt x="11777" y="10859"/>
                  <a:pt x="11773" y="10933"/>
                  <a:pt x="11811" y="10975"/>
                </a:cubicBezTo>
                <a:cubicBezTo>
                  <a:pt x="11833" y="10999"/>
                  <a:pt x="11868" y="10998"/>
                  <a:pt x="11893" y="10982"/>
                </a:cubicBezTo>
                <a:cubicBezTo>
                  <a:pt x="11926" y="10960"/>
                  <a:pt x="11940" y="10922"/>
                  <a:pt x="11941" y="10884"/>
                </a:cubicBezTo>
                <a:cubicBezTo>
                  <a:pt x="11942" y="10850"/>
                  <a:pt x="11928" y="10812"/>
                  <a:pt x="11896" y="10795"/>
                </a:cubicBezTo>
                <a:cubicBezTo>
                  <a:pt x="11864" y="10778"/>
                  <a:pt x="11833" y="10785"/>
                  <a:pt x="11803" y="10796"/>
                </a:cubicBezTo>
                <a:cubicBezTo>
                  <a:pt x="11783" y="10803"/>
                  <a:pt x="11772" y="10804"/>
                  <a:pt x="11785" y="10816"/>
                </a:cubicBezTo>
              </a:path>
              <a:path w="2335" h="661">
                <a:moveTo>
                  <a:pt x="12249" y="10572"/>
                </a:moveTo>
                <a:cubicBezTo>
                  <a:pt x="12216" y="10574"/>
                  <a:pt x="12175" y="10579"/>
                  <a:pt x="12146" y="10596"/>
                </a:cubicBezTo>
                <a:cubicBezTo>
                  <a:pt x="12117" y="10613"/>
                  <a:pt x="12078" y="10648"/>
                  <a:pt x="12084" y="10686"/>
                </a:cubicBezTo>
                <a:cubicBezTo>
                  <a:pt x="12091" y="10734"/>
                  <a:pt x="12159" y="10763"/>
                  <a:pt x="12196" y="10781"/>
                </a:cubicBezTo>
                <a:cubicBezTo>
                  <a:pt x="12243" y="10804"/>
                  <a:pt x="12308" y="10824"/>
                  <a:pt x="12339" y="10871"/>
                </a:cubicBezTo>
                <a:cubicBezTo>
                  <a:pt x="12370" y="10918"/>
                  <a:pt x="12315" y="10952"/>
                  <a:pt x="12278" y="10967"/>
                </a:cubicBezTo>
                <a:cubicBezTo>
                  <a:pt x="12221" y="10990"/>
                  <a:pt x="12136" y="10996"/>
                  <a:pt x="12080" y="10966"/>
                </a:cubicBezTo>
                <a:cubicBezTo>
                  <a:pt x="12010" y="10929"/>
                  <a:pt x="12040" y="10857"/>
                  <a:pt x="12077" y="10808"/>
                </a:cubicBezTo>
                <a:cubicBezTo>
                  <a:pt x="12153" y="10707"/>
                  <a:pt x="12268" y="10642"/>
                  <a:pt x="12367" y="10567"/>
                </a:cubicBezTo>
                <a:cubicBezTo>
                  <a:pt x="12397" y="10545"/>
                  <a:pt x="12421" y="10523"/>
                  <a:pt x="12442" y="10494"/>
                </a:cubicBezTo>
                <a:cubicBezTo>
                  <a:pt x="12396" y="10471"/>
                  <a:pt x="12343" y="10474"/>
                  <a:pt x="12291" y="10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Ink 33"/>
          <p:cNvSpPr/>
          <p:nvPr/>
        </p:nvSpPr>
        <p:spPr>
          <a:xfrm>
            <a:off x="5014800" y="3827520"/>
            <a:ext cx="162000" cy="68040"/>
          </a:xfrm>
          <a:custGeom>
            <a:avLst/>
            <a:gdLst/>
            <a:ahLst/>
            <a:rect l="l" t="t" r="r" b="b"/>
            <a:pathLst>
              <a:path w="450" h="187">
                <a:moveTo>
                  <a:pt x="13934" y="10711"/>
                </a:moveTo>
                <a:cubicBezTo>
                  <a:pt x="13936" y="10697"/>
                  <a:pt x="13951" y="10688"/>
                  <a:pt x="13967" y="10680"/>
                </a:cubicBezTo>
                <a:cubicBezTo>
                  <a:pt x="13993" y="10666"/>
                  <a:pt x="14023" y="10654"/>
                  <a:pt x="14051" y="10646"/>
                </a:cubicBezTo>
                <a:cubicBezTo>
                  <a:pt x="14085" y="10636"/>
                  <a:pt x="14110" y="10638"/>
                  <a:pt x="14144" y="10639"/>
                </a:cubicBezTo>
                <a:cubicBezTo>
                  <a:pt x="14171" y="10640"/>
                  <a:pt x="14178" y="10638"/>
                  <a:pt x="14184" y="10664"/>
                </a:cubicBezTo>
              </a:path>
              <a:path w="450" h="187">
                <a:moveTo>
                  <a:pt x="14015" y="10802"/>
                </a:moveTo>
                <a:cubicBezTo>
                  <a:pt x="14033" y="10811"/>
                  <a:pt x="14049" y="10813"/>
                  <a:pt x="14069" y="10815"/>
                </a:cubicBezTo>
                <a:cubicBezTo>
                  <a:pt x="14105" y="10818"/>
                  <a:pt x="14138" y="10818"/>
                  <a:pt x="14175" y="10815"/>
                </a:cubicBezTo>
                <a:cubicBezTo>
                  <a:pt x="14222" y="10811"/>
                  <a:pt x="14267" y="10799"/>
                  <a:pt x="14314" y="10793"/>
                </a:cubicBezTo>
                <a:cubicBezTo>
                  <a:pt x="14348" y="10789"/>
                  <a:pt x="14359" y="10788"/>
                  <a:pt x="14381" y="10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Ink 34"/>
          <p:cNvSpPr/>
          <p:nvPr/>
        </p:nvSpPr>
        <p:spPr>
          <a:xfrm>
            <a:off x="5468760" y="3716280"/>
            <a:ext cx="366840" cy="217440"/>
          </a:xfrm>
          <a:custGeom>
            <a:avLst/>
            <a:gdLst/>
            <a:ahLst/>
            <a:rect l="l" t="t" r="r" b="b"/>
            <a:pathLst>
              <a:path w="1017" h="605">
                <a:moveTo>
                  <a:pt x="15252" y="10345"/>
                </a:moveTo>
                <a:cubicBezTo>
                  <a:pt x="15261" y="10334"/>
                  <a:pt x="15264" y="10331"/>
                  <a:pt x="15265" y="10322"/>
                </a:cubicBezTo>
                <a:cubicBezTo>
                  <a:pt x="15265" y="10357"/>
                  <a:pt x="15263" y="10392"/>
                  <a:pt x="15259" y="10427"/>
                </a:cubicBezTo>
                <a:cubicBezTo>
                  <a:pt x="15251" y="10491"/>
                  <a:pt x="15243" y="10555"/>
                  <a:pt x="15233" y="10619"/>
                </a:cubicBezTo>
                <a:cubicBezTo>
                  <a:pt x="15222" y="10688"/>
                  <a:pt x="15211" y="10757"/>
                  <a:pt x="15198" y="10826"/>
                </a:cubicBezTo>
                <a:cubicBezTo>
                  <a:pt x="15195" y="10839"/>
                  <a:pt x="15182" y="10886"/>
                  <a:pt x="15207" y="10880"/>
                </a:cubicBezTo>
                <a:cubicBezTo>
                  <a:pt x="15210" y="10877"/>
                  <a:pt x="15214" y="10873"/>
                  <a:pt x="15217" y="10870"/>
                </a:cubicBezTo>
              </a:path>
              <a:path w="1017" h="605">
                <a:moveTo>
                  <a:pt x="15406" y="10604"/>
                </a:moveTo>
                <a:cubicBezTo>
                  <a:pt x="15402" y="10618"/>
                  <a:pt x="15385" y="10651"/>
                  <a:pt x="15411" y="10651"/>
                </a:cubicBezTo>
                <a:cubicBezTo>
                  <a:pt x="15416" y="10649"/>
                  <a:pt x="15420" y="10647"/>
                  <a:pt x="15425" y="10645"/>
                </a:cubicBezTo>
              </a:path>
              <a:path w="1017" h="605">
                <a:moveTo>
                  <a:pt x="15774" y="10366"/>
                </a:moveTo>
                <a:cubicBezTo>
                  <a:pt x="15784" y="10356"/>
                  <a:pt x="15787" y="10353"/>
                  <a:pt x="15796" y="10361"/>
                </a:cubicBezTo>
                <a:cubicBezTo>
                  <a:pt x="15801" y="10398"/>
                  <a:pt x="15789" y="10433"/>
                  <a:pt x="15781" y="10470"/>
                </a:cubicBezTo>
                <a:cubicBezTo>
                  <a:pt x="15767" y="10533"/>
                  <a:pt x="15746" y="10594"/>
                  <a:pt x="15728" y="10656"/>
                </a:cubicBezTo>
                <a:cubicBezTo>
                  <a:pt x="15718" y="10689"/>
                  <a:pt x="15693" y="10744"/>
                  <a:pt x="15703" y="10779"/>
                </a:cubicBezTo>
                <a:cubicBezTo>
                  <a:pt x="15711" y="10807"/>
                  <a:pt x="15754" y="10800"/>
                  <a:pt x="15774" y="10798"/>
                </a:cubicBezTo>
                <a:cubicBezTo>
                  <a:pt x="15827" y="10793"/>
                  <a:pt x="15880" y="10781"/>
                  <a:pt x="15933" y="10771"/>
                </a:cubicBezTo>
                <a:cubicBezTo>
                  <a:pt x="15993" y="10760"/>
                  <a:pt x="16052" y="10757"/>
                  <a:pt x="16112" y="10750"/>
                </a:cubicBezTo>
                <a:cubicBezTo>
                  <a:pt x="16145" y="10746"/>
                  <a:pt x="16177" y="10739"/>
                  <a:pt x="16209" y="10731"/>
                </a:cubicBezTo>
              </a:path>
              <a:path w="1017" h="605">
                <a:moveTo>
                  <a:pt x="16066" y="10557"/>
                </a:moveTo>
                <a:cubicBezTo>
                  <a:pt x="16045" y="10587"/>
                  <a:pt x="16037" y="10618"/>
                  <a:pt x="16028" y="10656"/>
                </a:cubicBezTo>
                <a:cubicBezTo>
                  <a:pt x="16016" y="10705"/>
                  <a:pt x="15996" y="10768"/>
                  <a:pt x="15997" y="10819"/>
                </a:cubicBezTo>
                <a:cubicBezTo>
                  <a:pt x="15998" y="10867"/>
                  <a:pt x="16015" y="10896"/>
                  <a:pt x="16048" y="10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Ink 35"/>
          <p:cNvSpPr/>
          <p:nvPr/>
        </p:nvSpPr>
        <p:spPr>
          <a:xfrm>
            <a:off x="6164280" y="3695760"/>
            <a:ext cx="463680" cy="201600"/>
          </a:xfrm>
          <a:custGeom>
            <a:avLst/>
            <a:gdLst/>
            <a:ahLst/>
            <a:rect l="l" t="t" r="r" b="b"/>
            <a:pathLst>
              <a:path w="1286" h="560">
                <a:moveTo>
                  <a:pt x="17137" y="10434"/>
                </a:moveTo>
                <a:cubicBezTo>
                  <a:pt x="17124" y="10401"/>
                  <a:pt x="17150" y="10399"/>
                  <a:pt x="17185" y="10395"/>
                </a:cubicBezTo>
                <a:cubicBezTo>
                  <a:pt x="17247" y="10388"/>
                  <a:pt x="17341" y="10391"/>
                  <a:pt x="17378" y="10451"/>
                </a:cubicBezTo>
                <a:cubicBezTo>
                  <a:pt x="17403" y="10491"/>
                  <a:pt x="17389" y="10547"/>
                  <a:pt x="17367" y="10585"/>
                </a:cubicBezTo>
                <a:cubicBezTo>
                  <a:pt x="17339" y="10633"/>
                  <a:pt x="17297" y="10669"/>
                  <a:pt x="17262" y="10710"/>
                </a:cubicBezTo>
                <a:cubicBezTo>
                  <a:pt x="17237" y="10739"/>
                  <a:pt x="17237" y="10743"/>
                  <a:pt x="17243" y="10770"/>
                </a:cubicBezTo>
                <a:cubicBezTo>
                  <a:pt x="17292" y="10778"/>
                  <a:pt x="17332" y="10771"/>
                  <a:pt x="17381" y="10764"/>
                </a:cubicBezTo>
                <a:cubicBezTo>
                  <a:pt x="17452" y="10754"/>
                  <a:pt x="17522" y="10743"/>
                  <a:pt x="17592" y="10726"/>
                </a:cubicBezTo>
              </a:path>
              <a:path w="1286" h="560">
                <a:moveTo>
                  <a:pt x="17778" y="10613"/>
                </a:moveTo>
                <a:cubicBezTo>
                  <a:pt x="17770" y="10598"/>
                  <a:pt x="17757" y="10580"/>
                  <a:pt x="17737" y="10578"/>
                </a:cubicBezTo>
                <a:cubicBezTo>
                  <a:pt x="17722" y="10577"/>
                  <a:pt x="17704" y="10594"/>
                  <a:pt x="17699" y="10607"/>
                </a:cubicBezTo>
                <a:cubicBezTo>
                  <a:pt x="17690" y="10629"/>
                  <a:pt x="17722" y="10645"/>
                  <a:pt x="17736" y="10652"/>
                </a:cubicBezTo>
                <a:cubicBezTo>
                  <a:pt x="17773" y="10669"/>
                  <a:pt x="17812" y="10676"/>
                  <a:pt x="17849" y="10693"/>
                </a:cubicBezTo>
                <a:cubicBezTo>
                  <a:pt x="17872" y="10703"/>
                  <a:pt x="17908" y="10719"/>
                  <a:pt x="17898" y="10750"/>
                </a:cubicBezTo>
                <a:cubicBezTo>
                  <a:pt x="17888" y="10781"/>
                  <a:pt x="17846" y="10800"/>
                  <a:pt x="17819" y="10811"/>
                </a:cubicBezTo>
                <a:cubicBezTo>
                  <a:pt x="17793" y="10822"/>
                  <a:pt x="17770" y="10825"/>
                  <a:pt x="17742" y="10822"/>
                </a:cubicBezTo>
                <a:cubicBezTo>
                  <a:pt x="17740" y="10795"/>
                  <a:pt x="17768" y="10791"/>
                  <a:pt x="17794" y="10778"/>
                </a:cubicBezTo>
                <a:cubicBezTo>
                  <a:pt x="17805" y="10773"/>
                  <a:pt x="17815" y="10767"/>
                  <a:pt x="17826" y="10762"/>
                </a:cubicBezTo>
              </a:path>
              <a:path w="1286" h="560">
                <a:moveTo>
                  <a:pt x="18173" y="10648"/>
                </a:moveTo>
                <a:cubicBezTo>
                  <a:pt x="18191" y="10628"/>
                  <a:pt x="18202" y="10621"/>
                  <a:pt x="18186" y="10597"/>
                </a:cubicBezTo>
                <a:cubicBezTo>
                  <a:pt x="18170" y="10572"/>
                  <a:pt x="18154" y="10563"/>
                  <a:pt x="18131" y="10579"/>
                </a:cubicBezTo>
                <a:cubicBezTo>
                  <a:pt x="18152" y="10586"/>
                  <a:pt x="18161" y="10578"/>
                  <a:pt x="18181" y="10566"/>
                </a:cubicBezTo>
                <a:cubicBezTo>
                  <a:pt x="18196" y="10557"/>
                  <a:pt x="18211" y="10548"/>
                  <a:pt x="18226" y="10539"/>
                </a:cubicBezTo>
              </a:path>
              <a:path w="1286" h="560">
                <a:moveTo>
                  <a:pt x="18406" y="10357"/>
                </a:moveTo>
                <a:cubicBezTo>
                  <a:pt x="18410" y="10333"/>
                  <a:pt x="18415" y="10309"/>
                  <a:pt x="18402" y="10286"/>
                </a:cubicBezTo>
                <a:cubicBezTo>
                  <a:pt x="18382" y="10251"/>
                  <a:pt x="18357" y="10275"/>
                  <a:pt x="18334" y="10295"/>
                </a:cubicBezTo>
                <a:cubicBezTo>
                  <a:pt x="18283" y="10340"/>
                  <a:pt x="18247" y="10398"/>
                  <a:pt x="18214" y="10456"/>
                </a:cubicBezTo>
                <a:cubicBezTo>
                  <a:pt x="18177" y="10522"/>
                  <a:pt x="18146" y="10591"/>
                  <a:pt x="18135" y="10666"/>
                </a:cubicBezTo>
                <a:cubicBezTo>
                  <a:pt x="18129" y="10708"/>
                  <a:pt x="18130" y="10756"/>
                  <a:pt x="18149" y="10795"/>
                </a:cubicBezTo>
                <a:cubicBezTo>
                  <a:pt x="18159" y="10815"/>
                  <a:pt x="18172" y="10841"/>
                  <a:pt x="18173" y="10810"/>
                </a:cubicBezTo>
              </a:path>
              <a:path w="1286" h="560">
                <a:moveTo>
                  <a:pt x="18034" y="10565"/>
                </a:moveTo>
                <a:cubicBezTo>
                  <a:pt x="18069" y="10567"/>
                  <a:pt x="18102" y="10569"/>
                  <a:pt x="18137" y="10576"/>
                </a:cubicBezTo>
                <a:cubicBezTo>
                  <a:pt x="18195" y="10588"/>
                  <a:pt x="18250" y="10610"/>
                  <a:pt x="18308" y="10622"/>
                </a:cubicBezTo>
                <a:cubicBezTo>
                  <a:pt x="18322" y="10625"/>
                  <a:pt x="18335" y="10627"/>
                  <a:pt x="18349" y="10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Ink 36"/>
          <p:cNvSpPr/>
          <p:nvPr/>
        </p:nvSpPr>
        <p:spPr>
          <a:xfrm>
            <a:off x="7440480" y="3476520"/>
            <a:ext cx="1111320" cy="503280"/>
          </a:xfrm>
          <a:custGeom>
            <a:avLst/>
            <a:gdLst/>
            <a:ahLst/>
            <a:rect l="l" t="t" r="r" b="b"/>
            <a:pathLst>
              <a:path w="3084" h="1397">
                <a:moveTo>
                  <a:pt x="21056" y="9908"/>
                </a:moveTo>
                <a:cubicBezTo>
                  <a:pt x="21070" y="9893"/>
                  <a:pt x="21055" y="9937"/>
                  <a:pt x="21053" y="9952"/>
                </a:cubicBezTo>
                <a:cubicBezTo>
                  <a:pt x="21045" y="10001"/>
                  <a:pt x="21035" y="10051"/>
                  <a:pt x="21024" y="10100"/>
                </a:cubicBezTo>
                <a:cubicBezTo>
                  <a:pt x="21011" y="10157"/>
                  <a:pt x="20995" y="10214"/>
                  <a:pt x="20986" y="10272"/>
                </a:cubicBezTo>
                <a:cubicBezTo>
                  <a:pt x="20982" y="10299"/>
                  <a:pt x="20967" y="10348"/>
                  <a:pt x="20980" y="10375"/>
                </a:cubicBezTo>
                <a:cubicBezTo>
                  <a:pt x="20989" y="10384"/>
                  <a:pt x="20991" y="10387"/>
                  <a:pt x="21000" y="10382"/>
                </a:cubicBezTo>
              </a:path>
              <a:path w="3084" h="1397">
                <a:moveTo>
                  <a:pt x="21235" y="10097"/>
                </a:moveTo>
                <a:cubicBezTo>
                  <a:pt x="21230" y="10083"/>
                  <a:pt x="21232" y="10085"/>
                  <a:pt x="21215" y="10085"/>
                </a:cubicBezTo>
                <a:cubicBezTo>
                  <a:pt x="21240" y="10090"/>
                  <a:pt x="21243" y="10090"/>
                  <a:pt x="21268" y="10083"/>
                </a:cubicBezTo>
              </a:path>
              <a:path w="3084" h="1397">
                <a:moveTo>
                  <a:pt x="21568" y="9881"/>
                </a:moveTo>
                <a:cubicBezTo>
                  <a:pt x="21588" y="9859"/>
                  <a:pt x="21611" y="9840"/>
                  <a:pt x="21641" y="9832"/>
                </a:cubicBezTo>
                <a:cubicBezTo>
                  <a:pt x="21684" y="9821"/>
                  <a:pt x="21746" y="9815"/>
                  <a:pt x="21785" y="9841"/>
                </a:cubicBezTo>
                <a:cubicBezTo>
                  <a:pt x="21814" y="9861"/>
                  <a:pt x="21798" y="9892"/>
                  <a:pt x="21782" y="9914"/>
                </a:cubicBezTo>
                <a:cubicBezTo>
                  <a:pt x="21762" y="9942"/>
                  <a:pt x="21729" y="9964"/>
                  <a:pt x="21712" y="9994"/>
                </a:cubicBezTo>
                <a:cubicBezTo>
                  <a:pt x="21696" y="10022"/>
                  <a:pt x="21708" y="10045"/>
                  <a:pt x="21730" y="10065"/>
                </a:cubicBezTo>
                <a:cubicBezTo>
                  <a:pt x="21756" y="10089"/>
                  <a:pt x="21788" y="10109"/>
                  <a:pt x="21807" y="10140"/>
                </a:cubicBezTo>
                <a:cubicBezTo>
                  <a:pt x="21826" y="10171"/>
                  <a:pt x="21816" y="10200"/>
                  <a:pt x="21790" y="10224"/>
                </a:cubicBezTo>
                <a:cubicBezTo>
                  <a:pt x="21757" y="10254"/>
                  <a:pt x="21705" y="10269"/>
                  <a:pt x="21662" y="10277"/>
                </a:cubicBezTo>
                <a:cubicBezTo>
                  <a:pt x="21622" y="10284"/>
                  <a:pt x="21647" y="10255"/>
                  <a:pt x="21656" y="10241"/>
                </a:cubicBezTo>
              </a:path>
              <a:path w="3084" h="1397">
                <a:moveTo>
                  <a:pt x="22178" y="9852"/>
                </a:moveTo>
                <a:cubicBezTo>
                  <a:pt x="22174" y="9827"/>
                  <a:pt x="22158" y="9824"/>
                  <a:pt x="22130" y="9833"/>
                </a:cubicBezTo>
                <a:cubicBezTo>
                  <a:pt x="22115" y="9840"/>
                  <a:pt x="22111" y="9842"/>
                  <a:pt x="22103" y="9850"/>
                </a:cubicBezTo>
                <a:cubicBezTo>
                  <a:pt x="22104" y="9885"/>
                  <a:pt x="22122" y="9898"/>
                  <a:pt x="22151" y="9919"/>
                </a:cubicBezTo>
                <a:cubicBezTo>
                  <a:pt x="22215" y="9966"/>
                  <a:pt x="22308" y="9999"/>
                  <a:pt x="22349" y="10070"/>
                </a:cubicBezTo>
                <a:cubicBezTo>
                  <a:pt x="22373" y="10111"/>
                  <a:pt x="22349" y="10151"/>
                  <a:pt x="22318" y="10179"/>
                </a:cubicBezTo>
                <a:cubicBezTo>
                  <a:pt x="22282" y="10213"/>
                  <a:pt x="22228" y="10235"/>
                  <a:pt x="22179" y="10242"/>
                </a:cubicBezTo>
                <a:cubicBezTo>
                  <a:pt x="22147" y="10247"/>
                  <a:pt x="22110" y="10242"/>
                  <a:pt x="22111" y="10202"/>
                </a:cubicBezTo>
                <a:cubicBezTo>
                  <a:pt x="22112" y="10151"/>
                  <a:pt x="22164" y="10104"/>
                  <a:pt x="22195" y="10069"/>
                </a:cubicBezTo>
                <a:cubicBezTo>
                  <a:pt x="22238" y="10020"/>
                  <a:pt x="22285" y="9975"/>
                  <a:pt x="22328" y="9925"/>
                </a:cubicBezTo>
                <a:cubicBezTo>
                  <a:pt x="22351" y="9898"/>
                  <a:pt x="22369" y="9873"/>
                  <a:pt x="22372" y="9838"/>
                </a:cubicBezTo>
                <a:cubicBezTo>
                  <a:pt x="22352" y="9825"/>
                  <a:pt x="22352" y="9822"/>
                  <a:pt x="22325" y="9831"/>
                </a:cubicBezTo>
                <a:cubicBezTo>
                  <a:pt x="22309" y="9837"/>
                  <a:pt x="22300" y="9843"/>
                  <a:pt x="22287" y="9854"/>
                </a:cubicBezTo>
              </a:path>
              <a:path w="3084" h="1397">
                <a:moveTo>
                  <a:pt x="22915" y="9786"/>
                </a:moveTo>
                <a:cubicBezTo>
                  <a:pt x="22902" y="9770"/>
                  <a:pt x="22903" y="9768"/>
                  <a:pt x="22864" y="9780"/>
                </a:cubicBezTo>
                <a:cubicBezTo>
                  <a:pt x="22821" y="9793"/>
                  <a:pt x="22777" y="9811"/>
                  <a:pt x="22740" y="9836"/>
                </a:cubicBezTo>
                <a:cubicBezTo>
                  <a:pt x="22717" y="9854"/>
                  <a:pt x="22711" y="9859"/>
                  <a:pt x="22701" y="9875"/>
                </a:cubicBezTo>
                <a:cubicBezTo>
                  <a:pt x="22707" y="9926"/>
                  <a:pt x="22736" y="9940"/>
                  <a:pt x="22782" y="9965"/>
                </a:cubicBezTo>
                <a:cubicBezTo>
                  <a:pt x="22842" y="9998"/>
                  <a:pt x="22906" y="10024"/>
                  <a:pt x="22961" y="10065"/>
                </a:cubicBezTo>
                <a:cubicBezTo>
                  <a:pt x="23002" y="10095"/>
                  <a:pt x="23024" y="10132"/>
                  <a:pt x="22985" y="10174"/>
                </a:cubicBezTo>
                <a:cubicBezTo>
                  <a:pt x="22942" y="10221"/>
                  <a:pt x="22868" y="10239"/>
                  <a:pt x="22808" y="10249"/>
                </a:cubicBezTo>
                <a:cubicBezTo>
                  <a:pt x="22752" y="10259"/>
                  <a:pt x="22710" y="10259"/>
                  <a:pt x="22665" y="10225"/>
                </a:cubicBezTo>
                <a:cubicBezTo>
                  <a:pt x="22676" y="10168"/>
                  <a:pt x="22717" y="10137"/>
                  <a:pt x="22763" y="10099"/>
                </a:cubicBezTo>
                <a:cubicBezTo>
                  <a:pt x="22831" y="10042"/>
                  <a:pt x="22904" y="9993"/>
                  <a:pt x="22973" y="9937"/>
                </a:cubicBezTo>
                <a:cubicBezTo>
                  <a:pt x="23003" y="9912"/>
                  <a:pt x="23062" y="9873"/>
                  <a:pt x="23058" y="9827"/>
                </a:cubicBezTo>
                <a:cubicBezTo>
                  <a:pt x="23056" y="9821"/>
                  <a:pt x="23053" y="9816"/>
                  <a:pt x="23051" y="9810"/>
                </a:cubicBezTo>
                <a:cubicBezTo>
                  <a:pt x="23016" y="9794"/>
                  <a:pt x="22990" y="9792"/>
                  <a:pt x="22951" y="9798"/>
                </a:cubicBezTo>
                <a:cubicBezTo>
                  <a:pt x="22926" y="9802"/>
                  <a:pt x="22909" y="9811"/>
                  <a:pt x="22888" y="9823"/>
                </a:cubicBezTo>
              </a:path>
              <a:path w="3084" h="1397">
                <a:moveTo>
                  <a:pt x="23336" y="9844"/>
                </a:moveTo>
                <a:cubicBezTo>
                  <a:pt x="23310" y="9855"/>
                  <a:pt x="23307" y="9863"/>
                  <a:pt x="23291" y="9887"/>
                </a:cubicBezTo>
                <a:cubicBezTo>
                  <a:pt x="23253" y="9944"/>
                  <a:pt x="23219" y="10007"/>
                  <a:pt x="23193" y="10070"/>
                </a:cubicBezTo>
                <a:cubicBezTo>
                  <a:pt x="23163" y="10142"/>
                  <a:pt x="23123" y="10249"/>
                  <a:pt x="23153" y="10328"/>
                </a:cubicBezTo>
                <a:cubicBezTo>
                  <a:pt x="23171" y="10375"/>
                  <a:pt x="23223" y="10384"/>
                  <a:pt x="23266" y="10374"/>
                </a:cubicBezTo>
                <a:cubicBezTo>
                  <a:pt x="23302" y="10366"/>
                  <a:pt x="23350" y="10342"/>
                  <a:pt x="23362" y="10304"/>
                </a:cubicBezTo>
                <a:cubicBezTo>
                  <a:pt x="23373" y="10269"/>
                  <a:pt x="23326" y="10248"/>
                  <a:pt x="23301" y="10238"/>
                </a:cubicBezTo>
                <a:cubicBezTo>
                  <a:pt x="23274" y="10228"/>
                  <a:pt x="23269" y="10236"/>
                  <a:pt x="23261" y="10212"/>
                </a:cubicBezTo>
              </a:path>
              <a:path w="3084" h="1397">
                <a:moveTo>
                  <a:pt x="23679" y="10095"/>
                </a:moveTo>
                <a:cubicBezTo>
                  <a:pt x="23645" y="10107"/>
                  <a:pt x="23608" y="10121"/>
                  <a:pt x="23583" y="10148"/>
                </a:cubicBezTo>
                <a:cubicBezTo>
                  <a:pt x="23552" y="10181"/>
                  <a:pt x="23584" y="10207"/>
                  <a:pt x="23613" y="10223"/>
                </a:cubicBezTo>
                <a:cubicBezTo>
                  <a:pt x="23655" y="10247"/>
                  <a:pt x="23706" y="10256"/>
                  <a:pt x="23740" y="10292"/>
                </a:cubicBezTo>
                <a:cubicBezTo>
                  <a:pt x="23771" y="10325"/>
                  <a:pt x="23738" y="10356"/>
                  <a:pt x="23708" y="10373"/>
                </a:cubicBezTo>
                <a:cubicBezTo>
                  <a:pt x="23652" y="10405"/>
                  <a:pt x="23548" y="10422"/>
                  <a:pt x="23497" y="10370"/>
                </a:cubicBezTo>
                <a:cubicBezTo>
                  <a:pt x="23464" y="10336"/>
                  <a:pt x="23480" y="10290"/>
                  <a:pt x="23497" y="10254"/>
                </a:cubicBezTo>
                <a:cubicBezTo>
                  <a:pt x="23520" y="10205"/>
                  <a:pt x="23557" y="10169"/>
                  <a:pt x="23588" y="10126"/>
                </a:cubicBezTo>
                <a:cubicBezTo>
                  <a:pt x="23605" y="10102"/>
                  <a:pt x="23621" y="10080"/>
                  <a:pt x="23641" y="10058"/>
                </a:cubicBezTo>
              </a:path>
              <a:path w="3084" h="1397">
                <a:moveTo>
                  <a:pt x="20675" y="10687"/>
                </a:moveTo>
                <a:cubicBezTo>
                  <a:pt x="20674" y="10663"/>
                  <a:pt x="20689" y="10672"/>
                  <a:pt x="20716" y="10672"/>
                </a:cubicBezTo>
                <a:cubicBezTo>
                  <a:pt x="20777" y="10672"/>
                  <a:pt x="20837" y="10669"/>
                  <a:pt x="20897" y="10666"/>
                </a:cubicBezTo>
                <a:cubicBezTo>
                  <a:pt x="20942" y="10664"/>
                  <a:pt x="20987" y="10660"/>
                  <a:pt x="21032" y="10655"/>
                </a:cubicBezTo>
                <a:cubicBezTo>
                  <a:pt x="21064" y="10651"/>
                  <a:pt x="21097" y="10649"/>
                  <a:pt x="21128" y="10642"/>
                </a:cubicBezTo>
                <a:cubicBezTo>
                  <a:pt x="21150" y="10637"/>
                  <a:pt x="21166" y="10633"/>
                  <a:pt x="21186" y="10637"/>
                </a:cubicBezTo>
                <a:cubicBezTo>
                  <a:pt x="21197" y="10639"/>
                  <a:pt x="21206" y="10640"/>
                  <a:pt x="21217" y="10640"/>
                </a:cubicBezTo>
              </a:path>
              <a:path w="3084" h="1397">
                <a:moveTo>
                  <a:pt x="21455" y="10674"/>
                </a:moveTo>
                <a:cubicBezTo>
                  <a:pt x="21432" y="10668"/>
                  <a:pt x="21472" y="10667"/>
                  <a:pt x="21481" y="10666"/>
                </a:cubicBezTo>
                <a:cubicBezTo>
                  <a:pt x="21510" y="10663"/>
                  <a:pt x="21540" y="10659"/>
                  <a:pt x="21569" y="10657"/>
                </a:cubicBezTo>
                <a:cubicBezTo>
                  <a:pt x="21605" y="10654"/>
                  <a:pt x="21642" y="10648"/>
                  <a:pt x="21678" y="10646"/>
                </a:cubicBezTo>
                <a:cubicBezTo>
                  <a:pt x="21714" y="10644"/>
                  <a:pt x="21749" y="10643"/>
                  <a:pt x="21782" y="10626"/>
                </a:cubicBezTo>
                <a:cubicBezTo>
                  <a:pt x="21798" y="10617"/>
                  <a:pt x="21803" y="10613"/>
                  <a:pt x="21810" y="10602"/>
                </a:cubicBezTo>
              </a:path>
              <a:path w="3084" h="1397">
                <a:moveTo>
                  <a:pt x="21883" y="9657"/>
                </a:moveTo>
                <a:cubicBezTo>
                  <a:pt x="21891" y="9672"/>
                  <a:pt x="21901" y="9687"/>
                  <a:pt x="21905" y="9704"/>
                </a:cubicBezTo>
                <a:cubicBezTo>
                  <a:pt x="21909" y="9722"/>
                  <a:pt x="21910" y="9741"/>
                  <a:pt x="21910" y="9759"/>
                </a:cubicBezTo>
                <a:cubicBezTo>
                  <a:pt x="21910" y="9780"/>
                  <a:pt x="21911" y="9800"/>
                  <a:pt x="21912" y="9821"/>
                </a:cubicBezTo>
                <a:cubicBezTo>
                  <a:pt x="21912" y="9837"/>
                  <a:pt x="21913" y="9854"/>
                  <a:pt x="21913" y="9870"/>
                </a:cubicBezTo>
              </a:path>
              <a:path w="3084" h="1397">
                <a:moveTo>
                  <a:pt x="21902" y="10035"/>
                </a:moveTo>
                <a:cubicBezTo>
                  <a:pt x="21899" y="10054"/>
                  <a:pt x="21902" y="10071"/>
                  <a:pt x="21907" y="10090"/>
                </a:cubicBezTo>
                <a:cubicBezTo>
                  <a:pt x="21912" y="10107"/>
                  <a:pt x="21919" y="10125"/>
                  <a:pt x="21922" y="10143"/>
                </a:cubicBezTo>
                <a:cubicBezTo>
                  <a:pt x="21925" y="10161"/>
                  <a:pt x="21930" y="10179"/>
                  <a:pt x="21932" y="10198"/>
                </a:cubicBezTo>
                <a:cubicBezTo>
                  <a:pt x="21933" y="10203"/>
                  <a:pt x="21933" y="10208"/>
                  <a:pt x="21934" y="10213"/>
                </a:cubicBezTo>
              </a:path>
              <a:path w="3084" h="1397">
                <a:moveTo>
                  <a:pt x="21956" y="10367"/>
                </a:moveTo>
                <a:cubicBezTo>
                  <a:pt x="21955" y="10384"/>
                  <a:pt x="21956" y="10401"/>
                  <a:pt x="21956" y="10418"/>
                </a:cubicBezTo>
                <a:cubicBezTo>
                  <a:pt x="21956" y="10435"/>
                  <a:pt x="21958" y="10451"/>
                  <a:pt x="21958" y="10468"/>
                </a:cubicBezTo>
                <a:cubicBezTo>
                  <a:pt x="21959" y="10488"/>
                  <a:pt x="21964" y="10507"/>
                  <a:pt x="21967" y="10527"/>
                </a:cubicBezTo>
              </a:path>
              <a:path w="3084" h="1397">
                <a:moveTo>
                  <a:pt x="21960" y="10663"/>
                </a:moveTo>
                <a:cubicBezTo>
                  <a:pt x="21954" y="10680"/>
                  <a:pt x="21949" y="10693"/>
                  <a:pt x="21946" y="10710"/>
                </a:cubicBezTo>
                <a:cubicBezTo>
                  <a:pt x="21943" y="10728"/>
                  <a:pt x="21936" y="10747"/>
                  <a:pt x="21937" y="10766"/>
                </a:cubicBezTo>
                <a:cubicBezTo>
                  <a:pt x="21939" y="10787"/>
                  <a:pt x="21942" y="10812"/>
                  <a:pt x="21948" y="10832"/>
                </a:cubicBezTo>
                <a:cubicBezTo>
                  <a:pt x="21954" y="10855"/>
                  <a:pt x="21966" y="10876"/>
                  <a:pt x="21972" y="10899"/>
                </a:cubicBezTo>
                <a:cubicBezTo>
                  <a:pt x="21976" y="10916"/>
                  <a:pt x="21978" y="10933"/>
                  <a:pt x="21982" y="10950"/>
                </a:cubicBezTo>
                <a:cubicBezTo>
                  <a:pt x="21988" y="10973"/>
                  <a:pt x="21987" y="11003"/>
                  <a:pt x="21984" y="11027"/>
                </a:cubicBezTo>
                <a:cubicBezTo>
                  <a:pt x="21982" y="11036"/>
                  <a:pt x="21980" y="11044"/>
                  <a:pt x="21978" y="11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Ink 37"/>
          <p:cNvSpPr/>
          <p:nvPr/>
        </p:nvSpPr>
        <p:spPr>
          <a:xfrm>
            <a:off x="3475080" y="4383000"/>
            <a:ext cx="555480" cy="425520"/>
          </a:xfrm>
          <a:custGeom>
            <a:avLst/>
            <a:gdLst/>
            <a:ahLst/>
            <a:rect l="l" t="t" r="r" b="b"/>
            <a:pathLst>
              <a:path w="1546" h="1179">
                <a:moveTo>
                  <a:pt x="9732" y="12372"/>
                </a:moveTo>
                <a:cubicBezTo>
                  <a:pt x="9722" y="12369"/>
                  <a:pt x="9719" y="12368"/>
                  <a:pt x="9712" y="12372"/>
                </a:cubicBezTo>
                <a:cubicBezTo>
                  <a:pt x="9714" y="12394"/>
                  <a:pt x="9713" y="12414"/>
                  <a:pt x="9713" y="12436"/>
                </a:cubicBezTo>
                <a:cubicBezTo>
                  <a:pt x="9712" y="12485"/>
                  <a:pt x="9707" y="12534"/>
                  <a:pt x="9697" y="12583"/>
                </a:cubicBezTo>
                <a:cubicBezTo>
                  <a:pt x="9686" y="12637"/>
                  <a:pt x="9673" y="12692"/>
                  <a:pt x="9660" y="12745"/>
                </a:cubicBezTo>
                <a:cubicBezTo>
                  <a:pt x="9651" y="12782"/>
                  <a:pt x="9643" y="12799"/>
                  <a:pt x="9675" y="12818"/>
                </a:cubicBezTo>
              </a:path>
              <a:path w="1546" h="1179">
                <a:moveTo>
                  <a:pt x="9984" y="12464"/>
                </a:moveTo>
                <a:cubicBezTo>
                  <a:pt x="9947" y="12508"/>
                  <a:pt x="9924" y="12561"/>
                  <a:pt x="9913" y="12617"/>
                </a:cubicBezTo>
                <a:cubicBezTo>
                  <a:pt x="9901" y="12676"/>
                  <a:pt x="9903" y="12742"/>
                  <a:pt x="9933" y="12796"/>
                </a:cubicBezTo>
                <a:cubicBezTo>
                  <a:pt x="9963" y="12849"/>
                  <a:pt x="10026" y="12860"/>
                  <a:pt x="10082" y="12850"/>
                </a:cubicBezTo>
                <a:cubicBezTo>
                  <a:pt x="10158" y="12836"/>
                  <a:pt x="10226" y="12787"/>
                  <a:pt x="10278" y="12732"/>
                </a:cubicBezTo>
                <a:cubicBezTo>
                  <a:pt x="10329" y="12678"/>
                  <a:pt x="10371" y="12611"/>
                  <a:pt x="10386" y="12538"/>
                </a:cubicBezTo>
                <a:cubicBezTo>
                  <a:pt x="10395" y="12490"/>
                  <a:pt x="10386" y="12436"/>
                  <a:pt x="10339" y="12412"/>
                </a:cubicBezTo>
                <a:cubicBezTo>
                  <a:pt x="10292" y="12388"/>
                  <a:pt x="10221" y="12408"/>
                  <a:pt x="10176" y="12427"/>
                </a:cubicBezTo>
                <a:cubicBezTo>
                  <a:pt x="10127" y="12448"/>
                  <a:pt x="10073" y="12483"/>
                  <a:pt x="10055" y="12537"/>
                </a:cubicBezTo>
                <a:cubicBezTo>
                  <a:pt x="10054" y="12547"/>
                  <a:pt x="10053" y="12558"/>
                  <a:pt x="10052" y="12568"/>
                </a:cubicBezTo>
              </a:path>
              <a:path w="1546" h="1179">
                <a:moveTo>
                  <a:pt x="10819" y="12545"/>
                </a:moveTo>
                <a:cubicBezTo>
                  <a:pt x="10798" y="12531"/>
                  <a:pt x="10794" y="12527"/>
                  <a:pt x="10764" y="12535"/>
                </a:cubicBezTo>
                <a:cubicBezTo>
                  <a:pt x="10720" y="12546"/>
                  <a:pt x="10682" y="12573"/>
                  <a:pt x="10647" y="12602"/>
                </a:cubicBezTo>
                <a:cubicBezTo>
                  <a:pt x="10617" y="12627"/>
                  <a:pt x="10572" y="12664"/>
                  <a:pt x="10564" y="12705"/>
                </a:cubicBezTo>
                <a:cubicBezTo>
                  <a:pt x="10559" y="12721"/>
                  <a:pt x="10557" y="12726"/>
                  <a:pt x="10564" y="12736"/>
                </a:cubicBezTo>
                <a:cubicBezTo>
                  <a:pt x="10594" y="12739"/>
                  <a:pt x="10614" y="12741"/>
                  <a:pt x="10644" y="12728"/>
                </a:cubicBezTo>
                <a:cubicBezTo>
                  <a:pt x="10675" y="12715"/>
                  <a:pt x="10703" y="12697"/>
                  <a:pt x="10729" y="12676"/>
                </a:cubicBezTo>
                <a:cubicBezTo>
                  <a:pt x="10732" y="12673"/>
                  <a:pt x="10736" y="12671"/>
                  <a:pt x="10739" y="12668"/>
                </a:cubicBezTo>
                <a:cubicBezTo>
                  <a:pt x="10748" y="12711"/>
                  <a:pt x="10736" y="12752"/>
                  <a:pt x="10729" y="12796"/>
                </a:cubicBezTo>
                <a:cubicBezTo>
                  <a:pt x="10715" y="12881"/>
                  <a:pt x="10700" y="12966"/>
                  <a:pt x="10677" y="13049"/>
                </a:cubicBezTo>
                <a:cubicBezTo>
                  <a:pt x="10650" y="13148"/>
                  <a:pt x="10610" y="13270"/>
                  <a:pt x="10524" y="13335"/>
                </a:cubicBezTo>
                <a:cubicBezTo>
                  <a:pt x="10492" y="13359"/>
                  <a:pt x="10455" y="13363"/>
                  <a:pt x="10434" y="13325"/>
                </a:cubicBezTo>
                <a:cubicBezTo>
                  <a:pt x="10400" y="13264"/>
                  <a:pt x="10421" y="13190"/>
                  <a:pt x="10431" y="13127"/>
                </a:cubicBezTo>
              </a:path>
              <a:path w="1546" h="1179">
                <a:moveTo>
                  <a:pt x="11040" y="12231"/>
                </a:moveTo>
                <a:cubicBezTo>
                  <a:pt x="11044" y="12205"/>
                  <a:pt x="11044" y="12193"/>
                  <a:pt x="11070" y="12182"/>
                </a:cubicBezTo>
                <a:cubicBezTo>
                  <a:pt x="11082" y="12177"/>
                  <a:pt x="11104" y="12174"/>
                  <a:pt x="11116" y="12182"/>
                </a:cubicBezTo>
                <a:cubicBezTo>
                  <a:pt x="11136" y="12196"/>
                  <a:pt x="11139" y="12210"/>
                  <a:pt x="11138" y="12232"/>
                </a:cubicBezTo>
                <a:cubicBezTo>
                  <a:pt x="11138" y="12249"/>
                  <a:pt x="11132" y="12265"/>
                  <a:pt x="11136" y="12282"/>
                </a:cubicBezTo>
                <a:cubicBezTo>
                  <a:pt x="11142" y="12309"/>
                  <a:pt x="11165" y="12324"/>
                  <a:pt x="11177" y="12347"/>
                </a:cubicBezTo>
                <a:cubicBezTo>
                  <a:pt x="11192" y="12374"/>
                  <a:pt x="11200" y="12403"/>
                  <a:pt x="11197" y="12434"/>
                </a:cubicBezTo>
                <a:cubicBezTo>
                  <a:pt x="11193" y="12469"/>
                  <a:pt x="11179" y="12495"/>
                  <a:pt x="11154" y="12519"/>
                </a:cubicBezTo>
                <a:cubicBezTo>
                  <a:pt x="11134" y="12538"/>
                  <a:pt x="11111" y="12549"/>
                  <a:pt x="11084" y="12548"/>
                </a:cubicBezTo>
                <a:cubicBezTo>
                  <a:pt x="11069" y="12547"/>
                  <a:pt x="11059" y="12540"/>
                  <a:pt x="11046" y="12534"/>
                </a:cubicBezTo>
              </a:path>
              <a:path w="1546" h="1179">
                <a:moveTo>
                  <a:pt x="10834" y="12576"/>
                </a:moveTo>
                <a:cubicBezTo>
                  <a:pt x="10815" y="12563"/>
                  <a:pt x="10812" y="12570"/>
                  <a:pt x="10806" y="12592"/>
                </a:cubicBezTo>
                <a:cubicBezTo>
                  <a:pt x="10798" y="12619"/>
                  <a:pt x="10786" y="12644"/>
                  <a:pt x="10777" y="12671"/>
                </a:cubicBezTo>
                <a:cubicBezTo>
                  <a:pt x="10770" y="12692"/>
                  <a:pt x="10765" y="12713"/>
                  <a:pt x="10759" y="12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Ink 38"/>
          <p:cNvSpPr/>
          <p:nvPr/>
        </p:nvSpPr>
        <p:spPr>
          <a:xfrm>
            <a:off x="7929720" y="4005360"/>
            <a:ext cx="307800" cy="118800"/>
          </a:xfrm>
          <a:custGeom>
            <a:avLst/>
            <a:gdLst/>
            <a:ahLst/>
            <a:rect l="l" t="t" r="r" b="b"/>
            <a:pathLst>
              <a:path w="853" h="331">
                <a:moveTo>
                  <a:pt x="22211" y="11196"/>
                </a:moveTo>
                <a:cubicBezTo>
                  <a:pt x="22209" y="11175"/>
                  <a:pt x="22180" y="11183"/>
                  <a:pt x="22154" y="11193"/>
                </a:cubicBezTo>
                <a:cubicBezTo>
                  <a:pt x="22119" y="11207"/>
                  <a:pt x="22080" y="11229"/>
                  <a:pt x="22054" y="11257"/>
                </a:cubicBezTo>
                <a:cubicBezTo>
                  <a:pt x="22031" y="11283"/>
                  <a:pt x="22021" y="11309"/>
                  <a:pt x="22041" y="11338"/>
                </a:cubicBezTo>
                <a:cubicBezTo>
                  <a:pt x="22062" y="11368"/>
                  <a:pt x="22105" y="11364"/>
                  <a:pt x="22137" y="11365"/>
                </a:cubicBezTo>
              </a:path>
              <a:path w="853" h="331">
                <a:moveTo>
                  <a:pt x="22331" y="11266"/>
                </a:moveTo>
                <a:cubicBezTo>
                  <a:pt x="22318" y="11278"/>
                  <a:pt x="22303" y="11287"/>
                  <a:pt x="22303" y="11306"/>
                </a:cubicBezTo>
                <a:cubicBezTo>
                  <a:pt x="22303" y="11328"/>
                  <a:pt x="22327" y="11338"/>
                  <a:pt x="22346" y="11338"/>
                </a:cubicBezTo>
                <a:cubicBezTo>
                  <a:pt x="22383" y="11338"/>
                  <a:pt x="22421" y="11322"/>
                  <a:pt x="22455" y="11309"/>
                </a:cubicBezTo>
                <a:cubicBezTo>
                  <a:pt x="22475" y="11301"/>
                  <a:pt x="22493" y="11294"/>
                  <a:pt x="22513" y="11288"/>
                </a:cubicBezTo>
                <a:cubicBezTo>
                  <a:pt x="22528" y="11309"/>
                  <a:pt x="22520" y="11318"/>
                  <a:pt x="22515" y="11344"/>
                </a:cubicBezTo>
                <a:cubicBezTo>
                  <a:pt x="22511" y="11364"/>
                  <a:pt x="22494" y="11393"/>
                  <a:pt x="22526" y="11400"/>
                </a:cubicBezTo>
                <a:cubicBezTo>
                  <a:pt x="22531" y="11399"/>
                  <a:pt x="22535" y="11398"/>
                  <a:pt x="22540" y="11397"/>
                </a:cubicBezTo>
              </a:path>
              <a:path w="853" h="331">
                <a:moveTo>
                  <a:pt x="22769" y="11125"/>
                </a:moveTo>
                <a:cubicBezTo>
                  <a:pt x="22742" y="11164"/>
                  <a:pt x="22723" y="11206"/>
                  <a:pt x="22704" y="11250"/>
                </a:cubicBezTo>
                <a:cubicBezTo>
                  <a:pt x="22683" y="11300"/>
                  <a:pt x="22667" y="11348"/>
                  <a:pt x="22653" y="11401"/>
                </a:cubicBezTo>
                <a:cubicBezTo>
                  <a:pt x="22648" y="11419"/>
                  <a:pt x="22644" y="11437"/>
                  <a:pt x="22640" y="11455"/>
                </a:cubicBezTo>
              </a:path>
              <a:path w="853" h="331">
                <a:moveTo>
                  <a:pt x="22608" y="11335"/>
                </a:moveTo>
                <a:cubicBezTo>
                  <a:pt x="22620" y="11320"/>
                  <a:pt x="22642" y="11325"/>
                  <a:pt x="22666" y="11330"/>
                </a:cubicBezTo>
                <a:cubicBezTo>
                  <a:pt x="22721" y="11342"/>
                  <a:pt x="22774" y="11353"/>
                  <a:pt x="22830" y="11360"/>
                </a:cubicBezTo>
                <a:cubicBezTo>
                  <a:pt x="22847" y="11362"/>
                  <a:pt x="22863" y="11364"/>
                  <a:pt x="22880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Ink 39"/>
          <p:cNvSpPr/>
          <p:nvPr/>
        </p:nvSpPr>
        <p:spPr>
          <a:xfrm>
            <a:off x="5583240" y="5006880"/>
            <a:ext cx="130320" cy="149400"/>
          </a:xfrm>
          <a:custGeom>
            <a:avLst/>
            <a:gdLst/>
            <a:ahLst/>
            <a:rect l="l" t="t" r="r" b="b"/>
            <a:pathLst>
              <a:path w="359" h="414">
                <a:moveTo>
                  <a:pt x="15602" y="13970"/>
                </a:moveTo>
                <a:cubicBezTo>
                  <a:pt x="15605" y="13956"/>
                  <a:pt x="15606" y="13945"/>
                  <a:pt x="15607" y="13931"/>
                </a:cubicBezTo>
                <a:cubicBezTo>
                  <a:pt x="15582" y="13945"/>
                  <a:pt x="15574" y="13964"/>
                  <a:pt x="15560" y="13990"/>
                </a:cubicBezTo>
                <a:cubicBezTo>
                  <a:pt x="15536" y="14033"/>
                  <a:pt x="15519" y="14077"/>
                  <a:pt x="15513" y="14127"/>
                </a:cubicBezTo>
                <a:cubicBezTo>
                  <a:pt x="15505" y="14189"/>
                  <a:pt x="15516" y="14251"/>
                  <a:pt x="15565" y="14292"/>
                </a:cubicBezTo>
                <a:cubicBezTo>
                  <a:pt x="15604" y="14325"/>
                  <a:pt x="15649" y="14327"/>
                  <a:pt x="15696" y="14313"/>
                </a:cubicBezTo>
                <a:cubicBezTo>
                  <a:pt x="15752" y="14297"/>
                  <a:pt x="15792" y="14260"/>
                  <a:pt x="15824" y="14213"/>
                </a:cubicBezTo>
                <a:cubicBezTo>
                  <a:pt x="15854" y="14169"/>
                  <a:pt x="15874" y="14116"/>
                  <a:pt x="15869" y="14062"/>
                </a:cubicBezTo>
                <a:cubicBezTo>
                  <a:pt x="15865" y="14019"/>
                  <a:pt x="15843" y="13972"/>
                  <a:pt x="15811" y="13942"/>
                </a:cubicBezTo>
                <a:cubicBezTo>
                  <a:pt x="15790" y="13922"/>
                  <a:pt x="15756" y="13904"/>
                  <a:pt x="15726" y="13909"/>
                </a:cubicBezTo>
                <a:cubicBezTo>
                  <a:pt x="15712" y="13914"/>
                  <a:pt x="15708" y="13916"/>
                  <a:pt x="15703" y="13926"/>
                </a:cubicBezTo>
                <a:cubicBezTo>
                  <a:pt x="15700" y="13953"/>
                  <a:pt x="15713" y="13972"/>
                  <a:pt x="15735" y="13991"/>
                </a:cubicBezTo>
                <a:cubicBezTo>
                  <a:pt x="15743" y="13996"/>
                  <a:pt x="15750" y="14002"/>
                  <a:pt x="15758" y="14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Ink 40"/>
          <p:cNvSpPr/>
          <p:nvPr/>
        </p:nvSpPr>
        <p:spPr>
          <a:xfrm>
            <a:off x="5805360" y="5046840"/>
            <a:ext cx="27000" cy="6120"/>
          </a:xfrm>
          <a:custGeom>
            <a:avLst/>
            <a:gdLst/>
            <a:ahLst/>
            <a:rect l="l" t="t" r="r" b="b"/>
            <a:pathLst>
              <a:path w="74" h="20">
                <a:moveTo>
                  <a:pt x="16126" y="14026"/>
                </a:moveTo>
                <a:cubicBezTo>
                  <a:pt x="16137" y="14023"/>
                  <a:pt x="16147" y="14019"/>
                  <a:pt x="16158" y="14017"/>
                </a:cubicBezTo>
                <a:cubicBezTo>
                  <a:pt x="16151" y="14036"/>
                  <a:pt x="16177" y="14033"/>
                  <a:pt x="16199" y="140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Ink 41"/>
          <p:cNvSpPr/>
          <p:nvPr/>
        </p:nvSpPr>
        <p:spPr>
          <a:xfrm>
            <a:off x="5929200" y="4978440"/>
            <a:ext cx="123840" cy="123840"/>
          </a:xfrm>
          <a:custGeom>
            <a:avLst/>
            <a:gdLst/>
            <a:ahLst/>
            <a:rect l="l" t="t" r="r" b="b"/>
            <a:pathLst>
              <a:path w="345" h="340">
                <a:moveTo>
                  <a:pt x="16594" y="13863"/>
                </a:moveTo>
                <a:cubicBezTo>
                  <a:pt x="16591" y="13824"/>
                  <a:pt x="16559" y="13873"/>
                  <a:pt x="16546" y="13889"/>
                </a:cubicBezTo>
                <a:cubicBezTo>
                  <a:pt x="16516" y="13926"/>
                  <a:pt x="16494" y="13969"/>
                  <a:pt x="16480" y="14015"/>
                </a:cubicBezTo>
                <a:cubicBezTo>
                  <a:pt x="16466" y="14058"/>
                  <a:pt x="16463" y="14103"/>
                  <a:pt x="16491" y="14141"/>
                </a:cubicBezTo>
                <a:cubicBezTo>
                  <a:pt x="16516" y="14176"/>
                  <a:pt x="16560" y="14175"/>
                  <a:pt x="16598" y="14163"/>
                </a:cubicBezTo>
                <a:cubicBezTo>
                  <a:pt x="16655" y="14144"/>
                  <a:pt x="16703" y="14104"/>
                  <a:pt x="16741" y="14059"/>
                </a:cubicBezTo>
                <a:cubicBezTo>
                  <a:pt x="16776" y="14018"/>
                  <a:pt x="16809" y="13970"/>
                  <a:pt x="16814" y="13914"/>
                </a:cubicBezTo>
                <a:cubicBezTo>
                  <a:pt x="16817" y="13874"/>
                  <a:pt x="16796" y="13842"/>
                  <a:pt x="16757" y="13833"/>
                </a:cubicBezTo>
                <a:cubicBezTo>
                  <a:pt x="16717" y="13824"/>
                  <a:pt x="16666" y="13838"/>
                  <a:pt x="16632" y="13859"/>
                </a:cubicBezTo>
                <a:cubicBezTo>
                  <a:pt x="16612" y="13872"/>
                  <a:pt x="16566" y="13899"/>
                  <a:pt x="16575" y="13930"/>
                </a:cubicBezTo>
                <a:cubicBezTo>
                  <a:pt x="16586" y="13943"/>
                  <a:pt x="16590" y="13947"/>
                  <a:pt x="16603" y="13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42"/>
          <p:cNvSpPr/>
          <p:nvPr/>
        </p:nvSpPr>
        <p:spPr>
          <a:xfrm>
            <a:off x="6299280" y="4946760"/>
            <a:ext cx="114120" cy="166680"/>
          </a:xfrm>
          <a:custGeom>
            <a:avLst/>
            <a:gdLst/>
            <a:ahLst/>
            <a:rect l="l" t="t" r="r" b="b"/>
            <a:pathLst>
              <a:path w="318" h="464">
                <a:moveTo>
                  <a:pt x="17701" y="13767"/>
                </a:moveTo>
                <a:cubicBezTo>
                  <a:pt x="17694" y="13742"/>
                  <a:pt x="17699" y="13732"/>
                  <a:pt x="17664" y="13749"/>
                </a:cubicBezTo>
                <a:cubicBezTo>
                  <a:pt x="17639" y="13761"/>
                  <a:pt x="17611" y="13784"/>
                  <a:pt x="17591" y="13803"/>
                </a:cubicBezTo>
                <a:cubicBezTo>
                  <a:pt x="17564" y="13828"/>
                  <a:pt x="17536" y="13858"/>
                  <a:pt x="17526" y="13894"/>
                </a:cubicBezTo>
                <a:cubicBezTo>
                  <a:pt x="17515" y="13934"/>
                  <a:pt x="17543" y="13958"/>
                  <a:pt x="17575" y="13975"/>
                </a:cubicBezTo>
                <a:cubicBezTo>
                  <a:pt x="17624" y="14001"/>
                  <a:pt x="17678" y="14010"/>
                  <a:pt x="17729" y="14028"/>
                </a:cubicBezTo>
                <a:cubicBezTo>
                  <a:pt x="17759" y="14039"/>
                  <a:pt x="17814" y="14057"/>
                  <a:pt x="17815" y="14097"/>
                </a:cubicBezTo>
                <a:cubicBezTo>
                  <a:pt x="17816" y="14139"/>
                  <a:pt x="17754" y="14169"/>
                  <a:pt x="17723" y="14181"/>
                </a:cubicBezTo>
                <a:cubicBezTo>
                  <a:pt x="17670" y="14202"/>
                  <a:pt x="17603" y="14213"/>
                  <a:pt x="17548" y="14196"/>
                </a:cubicBezTo>
                <a:cubicBezTo>
                  <a:pt x="17495" y="14180"/>
                  <a:pt x="17491" y="14135"/>
                  <a:pt x="17513" y="14092"/>
                </a:cubicBezTo>
                <a:cubicBezTo>
                  <a:pt x="17546" y="14025"/>
                  <a:pt x="17610" y="13970"/>
                  <a:pt x="17666" y="13923"/>
                </a:cubicBezTo>
                <a:cubicBezTo>
                  <a:pt x="17711" y="13885"/>
                  <a:pt x="17761" y="13851"/>
                  <a:pt x="17800" y="13807"/>
                </a:cubicBezTo>
                <a:cubicBezTo>
                  <a:pt x="17803" y="13803"/>
                  <a:pt x="17806" y="13799"/>
                  <a:pt x="17809" y="13795"/>
                </a:cubicBezTo>
                <a:cubicBezTo>
                  <a:pt x="17775" y="13786"/>
                  <a:pt x="17758" y="13800"/>
                  <a:pt x="17726" y="13814"/>
                </a:cubicBezTo>
                <a:cubicBezTo>
                  <a:pt x="17695" y="13828"/>
                  <a:pt x="17677" y="13837"/>
                  <a:pt x="17670" y="138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43"/>
          <p:cNvSpPr/>
          <p:nvPr/>
        </p:nvSpPr>
        <p:spPr>
          <a:xfrm>
            <a:off x="6507000" y="4927680"/>
            <a:ext cx="433440" cy="160200"/>
          </a:xfrm>
          <a:custGeom>
            <a:avLst/>
            <a:gdLst/>
            <a:ahLst/>
            <a:rect l="l" t="t" r="r" b="b"/>
            <a:pathLst>
              <a:path w="1202" h="449">
                <a:moveTo>
                  <a:pt x="18077" y="13706"/>
                </a:moveTo>
                <a:cubicBezTo>
                  <a:pt x="18100" y="13697"/>
                  <a:pt x="18127" y="13686"/>
                  <a:pt x="18152" y="13686"/>
                </a:cubicBezTo>
                <a:cubicBezTo>
                  <a:pt x="18187" y="13686"/>
                  <a:pt x="18231" y="13701"/>
                  <a:pt x="18258" y="13724"/>
                </a:cubicBezTo>
                <a:cubicBezTo>
                  <a:pt x="18294" y="13755"/>
                  <a:pt x="18291" y="13800"/>
                  <a:pt x="18280" y="13842"/>
                </a:cubicBezTo>
                <a:cubicBezTo>
                  <a:pt x="18264" y="13900"/>
                  <a:pt x="18225" y="13946"/>
                  <a:pt x="18188" y="13992"/>
                </a:cubicBezTo>
                <a:cubicBezTo>
                  <a:pt x="18162" y="14024"/>
                  <a:pt x="18124" y="14058"/>
                  <a:pt x="18107" y="14096"/>
                </a:cubicBezTo>
                <a:cubicBezTo>
                  <a:pt x="18106" y="14100"/>
                  <a:pt x="18106" y="14104"/>
                  <a:pt x="18105" y="14108"/>
                </a:cubicBezTo>
                <a:cubicBezTo>
                  <a:pt x="18143" y="14122"/>
                  <a:pt x="18176" y="14123"/>
                  <a:pt x="18217" y="14113"/>
                </a:cubicBezTo>
                <a:cubicBezTo>
                  <a:pt x="18257" y="14103"/>
                  <a:pt x="18305" y="14093"/>
                  <a:pt x="18342" y="14074"/>
                </a:cubicBezTo>
                <a:cubicBezTo>
                  <a:pt x="18350" y="14069"/>
                  <a:pt x="18357" y="14064"/>
                  <a:pt x="18365" y="14059"/>
                </a:cubicBezTo>
              </a:path>
              <a:path w="1202" h="449">
                <a:moveTo>
                  <a:pt x="18559" y="13742"/>
                </a:moveTo>
                <a:cubicBezTo>
                  <a:pt x="18540" y="13737"/>
                  <a:pt x="18538" y="13733"/>
                  <a:pt x="18526" y="13724"/>
                </a:cubicBezTo>
                <a:cubicBezTo>
                  <a:pt x="18548" y="13711"/>
                  <a:pt x="18566" y="13706"/>
                  <a:pt x="18593" y="13710"/>
                </a:cubicBezTo>
                <a:cubicBezTo>
                  <a:pt x="18625" y="13714"/>
                  <a:pt x="18664" y="13734"/>
                  <a:pt x="18671" y="13769"/>
                </a:cubicBezTo>
                <a:cubicBezTo>
                  <a:pt x="18676" y="13794"/>
                  <a:pt x="18662" y="13816"/>
                  <a:pt x="18647" y="13834"/>
                </a:cubicBezTo>
                <a:cubicBezTo>
                  <a:pt x="18637" y="13847"/>
                  <a:pt x="18630" y="13854"/>
                  <a:pt x="18623" y="13869"/>
                </a:cubicBezTo>
                <a:cubicBezTo>
                  <a:pt x="18650" y="13884"/>
                  <a:pt x="18679" y="13894"/>
                  <a:pt x="18706" y="13910"/>
                </a:cubicBezTo>
                <a:cubicBezTo>
                  <a:pt x="18735" y="13928"/>
                  <a:pt x="18769" y="13952"/>
                  <a:pt x="18775" y="13989"/>
                </a:cubicBezTo>
                <a:cubicBezTo>
                  <a:pt x="18781" y="14028"/>
                  <a:pt x="18747" y="14063"/>
                  <a:pt x="18719" y="14084"/>
                </a:cubicBezTo>
                <a:cubicBezTo>
                  <a:pt x="18690" y="14106"/>
                  <a:pt x="18639" y="14131"/>
                  <a:pt x="18602" y="14134"/>
                </a:cubicBezTo>
                <a:cubicBezTo>
                  <a:pt x="18540" y="14139"/>
                  <a:pt x="18596" y="14086"/>
                  <a:pt x="18609" y="14072"/>
                </a:cubicBezTo>
              </a:path>
              <a:path w="1202" h="449">
                <a:moveTo>
                  <a:pt x="19123" y="13694"/>
                </a:moveTo>
                <a:cubicBezTo>
                  <a:pt x="19097" y="13730"/>
                  <a:pt x="19070" y="13770"/>
                  <a:pt x="19053" y="13812"/>
                </a:cubicBezTo>
                <a:cubicBezTo>
                  <a:pt x="19032" y="13864"/>
                  <a:pt x="19011" y="13939"/>
                  <a:pt x="19029" y="13995"/>
                </a:cubicBezTo>
                <a:cubicBezTo>
                  <a:pt x="19046" y="14047"/>
                  <a:pt x="19099" y="14069"/>
                  <a:pt x="19148" y="14071"/>
                </a:cubicBezTo>
                <a:cubicBezTo>
                  <a:pt x="19188" y="14073"/>
                  <a:pt x="19242" y="14064"/>
                  <a:pt x="19270" y="14032"/>
                </a:cubicBezTo>
                <a:cubicBezTo>
                  <a:pt x="19273" y="14026"/>
                  <a:pt x="19275" y="14021"/>
                  <a:pt x="19278" y="14015"/>
                </a:cubicBezTo>
                <a:cubicBezTo>
                  <a:pt x="19259" y="13983"/>
                  <a:pt x="19239" y="13986"/>
                  <a:pt x="19202" y="13986"/>
                </a:cubicBezTo>
                <a:cubicBezTo>
                  <a:pt x="19164" y="13986"/>
                  <a:pt x="19127" y="13988"/>
                  <a:pt x="19090" y="13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44"/>
          <p:cNvSpPr/>
          <p:nvPr/>
        </p:nvSpPr>
        <p:spPr>
          <a:xfrm>
            <a:off x="5259240" y="6126120"/>
            <a:ext cx="238320" cy="260280"/>
          </a:xfrm>
          <a:custGeom>
            <a:avLst/>
            <a:gdLst/>
            <a:ahLst/>
            <a:rect l="l" t="t" r="r" b="b"/>
            <a:pathLst>
              <a:path w="663" h="722">
                <a:moveTo>
                  <a:pt x="14840" y="17039"/>
                </a:moveTo>
                <a:cubicBezTo>
                  <a:pt x="14827" y="17017"/>
                  <a:pt x="14833" y="17013"/>
                  <a:pt x="14798" y="17040"/>
                </a:cubicBezTo>
                <a:cubicBezTo>
                  <a:pt x="14754" y="17073"/>
                  <a:pt x="14730" y="17126"/>
                  <a:pt x="14705" y="17174"/>
                </a:cubicBezTo>
                <a:cubicBezTo>
                  <a:pt x="14661" y="17258"/>
                  <a:pt x="14633" y="17347"/>
                  <a:pt x="14618" y="17441"/>
                </a:cubicBezTo>
                <a:cubicBezTo>
                  <a:pt x="14606" y="17518"/>
                  <a:pt x="14599" y="17616"/>
                  <a:pt x="14638" y="17687"/>
                </a:cubicBezTo>
                <a:cubicBezTo>
                  <a:pt x="14670" y="17745"/>
                  <a:pt x="14731" y="17749"/>
                  <a:pt x="14787" y="17726"/>
                </a:cubicBezTo>
                <a:cubicBezTo>
                  <a:pt x="14857" y="17697"/>
                  <a:pt x="14916" y="17632"/>
                  <a:pt x="14955" y="17569"/>
                </a:cubicBezTo>
                <a:cubicBezTo>
                  <a:pt x="14983" y="17523"/>
                  <a:pt x="15011" y="17455"/>
                  <a:pt x="14980" y="17403"/>
                </a:cubicBezTo>
                <a:cubicBezTo>
                  <a:pt x="14954" y="17360"/>
                  <a:pt x="14899" y="17362"/>
                  <a:pt x="14857" y="17375"/>
                </a:cubicBezTo>
                <a:cubicBezTo>
                  <a:pt x="14847" y="17378"/>
                  <a:pt x="14719" y="17454"/>
                  <a:pt x="14750" y="17471"/>
                </a:cubicBezTo>
                <a:cubicBezTo>
                  <a:pt x="14776" y="17485"/>
                  <a:pt x="14793" y="17472"/>
                  <a:pt x="14820" y="17464"/>
                </a:cubicBezTo>
              </a:path>
              <a:path w="663" h="722">
                <a:moveTo>
                  <a:pt x="15236" y="17073"/>
                </a:moveTo>
                <a:cubicBezTo>
                  <a:pt x="15239" y="17068"/>
                  <a:pt x="15243" y="17063"/>
                  <a:pt x="15246" y="17058"/>
                </a:cubicBezTo>
                <a:cubicBezTo>
                  <a:pt x="15246" y="17106"/>
                  <a:pt x="15241" y="17152"/>
                  <a:pt x="15237" y="17200"/>
                </a:cubicBezTo>
                <a:cubicBezTo>
                  <a:pt x="15231" y="17287"/>
                  <a:pt x="15225" y="17373"/>
                  <a:pt x="15225" y="17460"/>
                </a:cubicBezTo>
                <a:cubicBezTo>
                  <a:pt x="15225" y="17516"/>
                  <a:pt x="15210" y="17624"/>
                  <a:pt x="15256" y="17668"/>
                </a:cubicBezTo>
                <a:cubicBezTo>
                  <a:pt x="15261" y="17670"/>
                  <a:pt x="15267" y="17673"/>
                  <a:pt x="15272" y="17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45"/>
          <p:cNvSpPr/>
          <p:nvPr/>
        </p:nvSpPr>
        <p:spPr>
          <a:xfrm>
            <a:off x="5827680" y="5548320"/>
            <a:ext cx="517680" cy="289080"/>
          </a:xfrm>
          <a:custGeom>
            <a:avLst/>
            <a:gdLst/>
            <a:ahLst/>
            <a:rect l="l" t="t" r="r" b="b"/>
            <a:pathLst>
              <a:path w="1436" h="801">
                <a:moveTo>
                  <a:pt x="16250" y="15610"/>
                </a:moveTo>
                <a:cubicBezTo>
                  <a:pt x="16229" y="15603"/>
                  <a:pt x="16210" y="15598"/>
                  <a:pt x="16188" y="15593"/>
                </a:cubicBezTo>
                <a:cubicBezTo>
                  <a:pt x="16212" y="15589"/>
                  <a:pt x="16235" y="15584"/>
                  <a:pt x="16258" y="15579"/>
                </a:cubicBezTo>
                <a:cubicBezTo>
                  <a:pt x="16306" y="15568"/>
                  <a:pt x="16385" y="15546"/>
                  <a:pt x="16431" y="15572"/>
                </a:cubicBezTo>
                <a:cubicBezTo>
                  <a:pt x="16467" y="15592"/>
                  <a:pt x="16453" y="15635"/>
                  <a:pt x="16444" y="15665"/>
                </a:cubicBezTo>
                <a:cubicBezTo>
                  <a:pt x="16428" y="15716"/>
                  <a:pt x="16399" y="15753"/>
                  <a:pt x="16365" y="15793"/>
                </a:cubicBezTo>
                <a:cubicBezTo>
                  <a:pt x="16337" y="15825"/>
                  <a:pt x="16310" y="15848"/>
                  <a:pt x="16298" y="15881"/>
                </a:cubicBezTo>
                <a:cubicBezTo>
                  <a:pt x="16327" y="15890"/>
                  <a:pt x="16358" y="15896"/>
                  <a:pt x="16387" y="15905"/>
                </a:cubicBezTo>
                <a:cubicBezTo>
                  <a:pt x="16434" y="15920"/>
                  <a:pt x="16490" y="15946"/>
                  <a:pt x="16505" y="15998"/>
                </a:cubicBezTo>
                <a:cubicBezTo>
                  <a:pt x="16517" y="16041"/>
                  <a:pt x="16499" y="16086"/>
                  <a:pt x="16473" y="16120"/>
                </a:cubicBezTo>
                <a:cubicBezTo>
                  <a:pt x="16443" y="16159"/>
                  <a:pt x="16404" y="16188"/>
                  <a:pt x="16358" y="16206"/>
                </a:cubicBezTo>
                <a:cubicBezTo>
                  <a:pt x="16335" y="16213"/>
                  <a:pt x="16328" y="16215"/>
                  <a:pt x="16312" y="16209"/>
                </a:cubicBezTo>
                <a:cubicBezTo>
                  <a:pt x="16295" y="16156"/>
                  <a:pt x="16318" y="16133"/>
                  <a:pt x="16348" y="16084"/>
                </a:cubicBezTo>
              </a:path>
              <a:path w="1436" h="801">
                <a:moveTo>
                  <a:pt x="16812" y="15569"/>
                </a:moveTo>
                <a:cubicBezTo>
                  <a:pt x="16786" y="15622"/>
                  <a:pt x="16753" y="15672"/>
                  <a:pt x="16730" y="15727"/>
                </a:cubicBezTo>
                <a:cubicBezTo>
                  <a:pt x="16693" y="15818"/>
                  <a:pt x="16662" y="15931"/>
                  <a:pt x="16685" y="16029"/>
                </a:cubicBezTo>
                <a:cubicBezTo>
                  <a:pt x="16700" y="16091"/>
                  <a:pt x="16737" y="16132"/>
                  <a:pt x="16802" y="16135"/>
                </a:cubicBezTo>
                <a:cubicBezTo>
                  <a:pt x="16862" y="16138"/>
                  <a:pt x="16924" y="16103"/>
                  <a:pt x="16970" y="16067"/>
                </a:cubicBezTo>
                <a:cubicBezTo>
                  <a:pt x="16997" y="16046"/>
                  <a:pt x="17042" y="16003"/>
                  <a:pt x="17027" y="15963"/>
                </a:cubicBezTo>
                <a:cubicBezTo>
                  <a:pt x="17014" y="15929"/>
                  <a:pt x="16961" y="15944"/>
                  <a:pt x="16937" y="15949"/>
                </a:cubicBezTo>
                <a:cubicBezTo>
                  <a:pt x="16928" y="15951"/>
                  <a:pt x="16846" y="15997"/>
                  <a:pt x="16854" y="15998"/>
                </a:cubicBezTo>
                <a:cubicBezTo>
                  <a:pt x="16875" y="16001"/>
                  <a:pt x="16896" y="15983"/>
                  <a:pt x="16916" y="15972"/>
                </a:cubicBezTo>
              </a:path>
              <a:path w="1436" h="801">
                <a:moveTo>
                  <a:pt x="17132" y="15749"/>
                </a:moveTo>
                <a:cubicBezTo>
                  <a:pt x="17158" y="15709"/>
                  <a:pt x="17123" y="15806"/>
                  <a:pt x="17121" y="15813"/>
                </a:cubicBezTo>
                <a:cubicBezTo>
                  <a:pt x="17107" y="15870"/>
                  <a:pt x="17096" y="15932"/>
                  <a:pt x="17115" y="15989"/>
                </a:cubicBezTo>
                <a:cubicBezTo>
                  <a:pt x="17135" y="16048"/>
                  <a:pt x="17183" y="16050"/>
                  <a:pt x="17234" y="16031"/>
                </a:cubicBezTo>
                <a:cubicBezTo>
                  <a:pt x="17294" y="16008"/>
                  <a:pt x="17346" y="15966"/>
                  <a:pt x="17380" y="15912"/>
                </a:cubicBezTo>
                <a:cubicBezTo>
                  <a:pt x="17403" y="15877"/>
                  <a:pt x="17422" y="15823"/>
                  <a:pt x="17393" y="15785"/>
                </a:cubicBezTo>
                <a:cubicBezTo>
                  <a:pt x="17372" y="15757"/>
                  <a:pt x="17326" y="15748"/>
                  <a:pt x="17294" y="15747"/>
                </a:cubicBezTo>
                <a:cubicBezTo>
                  <a:pt x="17278" y="15746"/>
                  <a:pt x="17228" y="15763"/>
                  <a:pt x="17265" y="15735"/>
                </a:cubicBezTo>
                <a:cubicBezTo>
                  <a:pt x="17290" y="15719"/>
                  <a:pt x="17300" y="15712"/>
                  <a:pt x="17314" y="15697"/>
                </a:cubicBezTo>
              </a:path>
              <a:path w="1436" h="801">
                <a:moveTo>
                  <a:pt x="17477" y="15476"/>
                </a:moveTo>
                <a:cubicBezTo>
                  <a:pt x="17478" y="15470"/>
                  <a:pt x="17478" y="15465"/>
                  <a:pt x="17479" y="15459"/>
                </a:cubicBezTo>
                <a:cubicBezTo>
                  <a:pt x="17458" y="15469"/>
                  <a:pt x="17458" y="15489"/>
                  <a:pt x="17465" y="15513"/>
                </a:cubicBezTo>
                <a:cubicBezTo>
                  <a:pt x="17474" y="15542"/>
                  <a:pt x="17499" y="15572"/>
                  <a:pt x="17532" y="15568"/>
                </a:cubicBezTo>
                <a:cubicBezTo>
                  <a:pt x="17568" y="15564"/>
                  <a:pt x="17602" y="15531"/>
                  <a:pt x="17616" y="15499"/>
                </a:cubicBezTo>
                <a:cubicBezTo>
                  <a:pt x="17629" y="15469"/>
                  <a:pt x="17624" y="15437"/>
                  <a:pt x="17595" y="15421"/>
                </a:cubicBezTo>
                <a:cubicBezTo>
                  <a:pt x="17567" y="15405"/>
                  <a:pt x="17539" y="15419"/>
                  <a:pt x="17511" y="15427"/>
                </a:cubicBezTo>
                <a:cubicBezTo>
                  <a:pt x="17505" y="15429"/>
                  <a:pt x="17498" y="15430"/>
                  <a:pt x="17492" y="1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46"/>
          <p:cNvSpPr/>
          <p:nvPr/>
        </p:nvSpPr>
        <p:spPr>
          <a:xfrm>
            <a:off x="6137280" y="4975200"/>
            <a:ext cx="103320" cy="142920"/>
          </a:xfrm>
          <a:custGeom>
            <a:avLst/>
            <a:gdLst/>
            <a:ahLst/>
            <a:rect l="l" t="t" r="r" b="b"/>
            <a:pathLst>
              <a:path w="289" h="394">
                <a:moveTo>
                  <a:pt x="17174" y="13848"/>
                </a:moveTo>
                <a:cubicBezTo>
                  <a:pt x="17179" y="13833"/>
                  <a:pt x="17180" y="13829"/>
                  <a:pt x="17187" y="13821"/>
                </a:cubicBezTo>
                <a:cubicBezTo>
                  <a:pt x="17166" y="13833"/>
                  <a:pt x="17158" y="13845"/>
                  <a:pt x="17144" y="13864"/>
                </a:cubicBezTo>
                <a:cubicBezTo>
                  <a:pt x="17124" y="13891"/>
                  <a:pt x="17107" y="13920"/>
                  <a:pt x="17092" y="13950"/>
                </a:cubicBezTo>
                <a:cubicBezTo>
                  <a:pt x="17077" y="13981"/>
                  <a:pt x="17063" y="14012"/>
                  <a:pt x="17054" y="14045"/>
                </a:cubicBezTo>
                <a:cubicBezTo>
                  <a:pt x="17041" y="14090"/>
                  <a:pt x="17043" y="14135"/>
                  <a:pt x="17068" y="14175"/>
                </a:cubicBezTo>
                <a:cubicBezTo>
                  <a:pt x="17089" y="14209"/>
                  <a:pt x="17122" y="14221"/>
                  <a:pt x="17161" y="14210"/>
                </a:cubicBezTo>
                <a:cubicBezTo>
                  <a:pt x="17192" y="14202"/>
                  <a:pt x="17219" y="14181"/>
                  <a:pt x="17242" y="14159"/>
                </a:cubicBezTo>
                <a:cubicBezTo>
                  <a:pt x="17269" y="14133"/>
                  <a:pt x="17290" y="14100"/>
                  <a:pt x="17307" y="14067"/>
                </a:cubicBezTo>
                <a:cubicBezTo>
                  <a:pt x="17320" y="14041"/>
                  <a:pt x="17330" y="14016"/>
                  <a:pt x="17333" y="13986"/>
                </a:cubicBezTo>
                <a:cubicBezTo>
                  <a:pt x="17336" y="13960"/>
                  <a:pt x="17333" y="13934"/>
                  <a:pt x="17323" y="13910"/>
                </a:cubicBezTo>
                <a:cubicBezTo>
                  <a:pt x="17313" y="13887"/>
                  <a:pt x="17296" y="13879"/>
                  <a:pt x="17272" y="13878"/>
                </a:cubicBezTo>
                <a:cubicBezTo>
                  <a:pt x="17245" y="13877"/>
                  <a:pt x="17215" y="13884"/>
                  <a:pt x="17190" y="13894"/>
                </a:cubicBezTo>
                <a:cubicBezTo>
                  <a:pt x="17170" y="13904"/>
                  <a:pt x="17163" y="13907"/>
                  <a:pt x="17148" y="13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47"/>
          <p:cNvSpPr/>
          <p:nvPr/>
        </p:nvSpPr>
        <p:spPr>
          <a:xfrm>
            <a:off x="5992920" y="6121440"/>
            <a:ext cx="331560" cy="290520"/>
          </a:xfrm>
          <a:custGeom>
            <a:avLst/>
            <a:gdLst/>
            <a:ahLst/>
            <a:rect l="l" t="t" r="r" b="b"/>
            <a:pathLst>
              <a:path w="924" h="807">
                <a:moveTo>
                  <a:pt x="16652" y="17136"/>
                </a:moveTo>
                <a:cubicBezTo>
                  <a:pt x="16642" y="17163"/>
                  <a:pt x="16646" y="17176"/>
                  <a:pt x="16666" y="17199"/>
                </a:cubicBezTo>
                <a:cubicBezTo>
                  <a:pt x="16689" y="17227"/>
                  <a:pt x="16721" y="17248"/>
                  <a:pt x="16753" y="17265"/>
                </a:cubicBezTo>
                <a:cubicBezTo>
                  <a:pt x="16791" y="17285"/>
                  <a:pt x="16833" y="17292"/>
                  <a:pt x="16874" y="17301"/>
                </a:cubicBezTo>
                <a:cubicBezTo>
                  <a:pt x="16884" y="17303"/>
                  <a:pt x="16893" y="17306"/>
                  <a:pt x="16903" y="17308"/>
                </a:cubicBezTo>
              </a:path>
              <a:path w="924" h="807">
                <a:moveTo>
                  <a:pt x="17154" y="17002"/>
                </a:moveTo>
                <a:cubicBezTo>
                  <a:pt x="17134" y="17020"/>
                  <a:pt x="17120" y="17035"/>
                  <a:pt x="17106" y="17059"/>
                </a:cubicBezTo>
                <a:cubicBezTo>
                  <a:pt x="17072" y="17118"/>
                  <a:pt x="17039" y="17177"/>
                  <a:pt x="17003" y="17235"/>
                </a:cubicBezTo>
                <a:cubicBezTo>
                  <a:pt x="16928" y="17357"/>
                  <a:pt x="16841" y="17478"/>
                  <a:pt x="16778" y="17607"/>
                </a:cubicBezTo>
                <a:cubicBezTo>
                  <a:pt x="16766" y="17631"/>
                  <a:pt x="16765" y="17652"/>
                  <a:pt x="16760" y="17676"/>
                </a:cubicBezTo>
              </a:path>
              <a:path w="924" h="807">
                <a:moveTo>
                  <a:pt x="17024" y="17584"/>
                </a:moveTo>
                <a:cubicBezTo>
                  <a:pt x="17046" y="17588"/>
                  <a:pt x="17061" y="17591"/>
                  <a:pt x="17085" y="17583"/>
                </a:cubicBezTo>
                <a:cubicBezTo>
                  <a:pt x="17128" y="17569"/>
                  <a:pt x="17161" y="17536"/>
                  <a:pt x="17192" y="17505"/>
                </a:cubicBezTo>
                <a:cubicBezTo>
                  <a:pt x="17229" y="17467"/>
                  <a:pt x="17261" y="17430"/>
                  <a:pt x="17285" y="17383"/>
                </a:cubicBezTo>
                <a:cubicBezTo>
                  <a:pt x="17298" y="17358"/>
                  <a:pt x="17293" y="17351"/>
                  <a:pt x="17294" y="17327"/>
                </a:cubicBezTo>
                <a:cubicBezTo>
                  <a:pt x="17255" y="17335"/>
                  <a:pt x="17233" y="17340"/>
                  <a:pt x="17200" y="17372"/>
                </a:cubicBezTo>
                <a:cubicBezTo>
                  <a:pt x="17148" y="17422"/>
                  <a:pt x="17086" y="17503"/>
                  <a:pt x="17081" y="17578"/>
                </a:cubicBezTo>
                <a:cubicBezTo>
                  <a:pt x="17077" y="17635"/>
                  <a:pt x="17128" y="17639"/>
                  <a:pt x="17170" y="17631"/>
                </a:cubicBezTo>
                <a:cubicBezTo>
                  <a:pt x="17278" y="17610"/>
                  <a:pt x="17378" y="17541"/>
                  <a:pt x="17462" y="17474"/>
                </a:cubicBezTo>
                <a:cubicBezTo>
                  <a:pt x="17492" y="17450"/>
                  <a:pt x="17524" y="17425"/>
                  <a:pt x="17541" y="17390"/>
                </a:cubicBezTo>
                <a:cubicBezTo>
                  <a:pt x="17542" y="17387"/>
                  <a:pt x="17543" y="17384"/>
                  <a:pt x="17544" y="17381"/>
                </a:cubicBezTo>
                <a:cubicBezTo>
                  <a:pt x="17536" y="17422"/>
                  <a:pt x="17539" y="17458"/>
                  <a:pt x="17544" y="17500"/>
                </a:cubicBezTo>
                <a:cubicBezTo>
                  <a:pt x="17550" y="17559"/>
                  <a:pt x="17563" y="17616"/>
                  <a:pt x="17567" y="17675"/>
                </a:cubicBezTo>
                <a:cubicBezTo>
                  <a:pt x="17569" y="17713"/>
                  <a:pt x="17571" y="17756"/>
                  <a:pt x="17544" y="17786"/>
                </a:cubicBezTo>
                <a:cubicBezTo>
                  <a:pt x="17513" y="17820"/>
                  <a:pt x="17472" y="17807"/>
                  <a:pt x="17437" y="17789"/>
                </a:cubicBezTo>
                <a:cubicBezTo>
                  <a:pt x="17410" y="17773"/>
                  <a:pt x="17401" y="17767"/>
                  <a:pt x="17386" y="17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of… and Fractions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of $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28% of $4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of 7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34% of $268,  or ¼ of  $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8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0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50 300 000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2.25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common factors of 28 &amp;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3"/>
              <p:cNvSpPr txBox="1"/>
              <p:nvPr/>
            </p:nvSpPr>
            <p:spPr>
              <a:xfrm>
                <a:off x="976320" y="3716280"/>
                <a:ext cx="1219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5"/>
              <p:cNvSpPr txBox="1"/>
              <p:nvPr/>
            </p:nvSpPr>
            <p:spPr>
              <a:xfrm>
                <a:off x="1033560" y="1873080"/>
                <a:ext cx="439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1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000" y="188640"/>
            <a:ext cx="85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of… and Fractions of…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of $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28% of $4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of 7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34% of $268,  or ¼ of  $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8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0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50 300 000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2.25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common factors of 28 &amp;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3"/>
              <p:cNvSpPr txBox="1"/>
              <p:nvPr/>
            </p:nvSpPr>
            <p:spPr>
              <a:xfrm>
                <a:off x="976320" y="3716280"/>
                <a:ext cx="1219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1033560" y="1873080"/>
                <a:ext cx="439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6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A shirt changes price from $20 to $24.  What is the percentage 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A tie changes price from $18 to $14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45% of $41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17% of $410,  or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3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8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0.00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highest common factor of 60 &amp;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3"/>
              <p:cNvSpPr txBox="1"/>
              <p:nvPr/>
            </p:nvSpPr>
            <p:spPr>
              <a:xfrm>
                <a:off x="934920" y="3736800"/>
                <a:ext cx="7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6"/>
              <p:cNvSpPr txBox="1"/>
              <p:nvPr/>
            </p:nvSpPr>
            <p:spPr>
              <a:xfrm>
                <a:off x="954000" y="4906800"/>
                <a:ext cx="1746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Change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A shirt changes price from $20 to $24.  What is the percentage 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A tie changes price from $18 to $14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45% of $41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17% of $410,  or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3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8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0.00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highest common factor of 60 &amp;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3"/>
              <p:cNvSpPr txBox="1"/>
              <p:nvPr/>
            </p:nvSpPr>
            <p:spPr>
              <a:xfrm>
                <a:off x="934920" y="3736800"/>
                <a:ext cx="7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4"/>
              <p:cNvSpPr txBox="1"/>
              <p:nvPr/>
            </p:nvSpPr>
            <p:spPr>
              <a:xfrm>
                <a:off x="954000" y="4906800"/>
                <a:ext cx="1746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Increase &amp; Decr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34 by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182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0.3% of $28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less: 55% of $18,  or 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Expand 3g(4g + 9)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to $44 (originally $64)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Factorise 6m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3m – 4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971640" y="3726000"/>
                <a:ext cx="1368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4"/>
              <p:cNvSpPr txBox="1"/>
              <p:nvPr/>
            </p:nvSpPr>
            <p:spPr>
              <a:xfrm>
                <a:off x="971640" y="4941720"/>
                <a:ext cx="2019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ra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993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Increase &amp; Decrease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34 by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182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0.3% of $28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less: 55% of $18,  or 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Expand 3g(4g + 9)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to $44 (originally $64)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Factorise 6m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3m – 4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3"/>
              <p:cNvSpPr txBox="1"/>
              <p:nvPr/>
            </p:nvSpPr>
            <p:spPr>
              <a:xfrm>
                <a:off x="971640" y="3726000"/>
                <a:ext cx="1368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14"/>
              <p:cNvSpPr txBox="1"/>
              <p:nvPr/>
            </p:nvSpPr>
            <p:spPr>
              <a:xfrm>
                <a:off x="971640" y="4941720"/>
                <a:ext cx="2019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ra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fit &amp;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18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440 by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14.5% of $6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4500 car depreciates by 18% is now wo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539640" y="31654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52.50.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ecreases from $450 to $320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              to 3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5m(3m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9 + 3m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13"/>
              <p:cNvSpPr txBox="1"/>
              <p:nvPr/>
            </p:nvSpPr>
            <p:spPr>
              <a:xfrm>
                <a:off x="927000" y="3652920"/>
                <a:ext cx="242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4"/>
              <p:cNvSpPr txBox="1"/>
              <p:nvPr/>
            </p:nvSpPr>
            <p:spPr>
              <a:xfrm>
                <a:off x="898560" y="4869000"/>
                <a:ext cx="100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6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fit &amp; Los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18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440 by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14.5% of $6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4500 car depreciates by 18% is now wo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539640" y="31654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52.50.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ecreases from $450 to $320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              to 3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5m(3m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9 + 3m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3"/>
              <p:cNvSpPr txBox="1"/>
              <p:nvPr/>
            </p:nvSpPr>
            <p:spPr>
              <a:xfrm>
                <a:off x="927000" y="3652920"/>
                <a:ext cx="242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4"/>
              <p:cNvSpPr txBox="1"/>
              <p:nvPr/>
            </p:nvSpPr>
            <p:spPr>
              <a:xfrm>
                <a:off x="898560" y="4869000"/>
                <a:ext cx="100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General Number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3 +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quare of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The factors of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Round $3.45 to the nearest whole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5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ree quarters of $3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w + 2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8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4"/>
          <p:cNvSpPr/>
          <p:nvPr/>
        </p:nvSpPr>
        <p:spPr>
          <a:xfrm>
            <a:off x="2801880" y="1339920"/>
            <a:ext cx="528840" cy="317520"/>
          </a:xfrm>
          <a:custGeom>
            <a:avLst/>
            <a:gdLst/>
            <a:ahLst/>
            <a:rect l="l" t="t" r="r" b="b"/>
            <a:pathLst>
              <a:path w="1466" h="883">
                <a:moveTo>
                  <a:pt x="7953" y="4017"/>
                </a:moveTo>
                <a:cubicBezTo>
                  <a:pt x="7954" y="3996"/>
                  <a:pt x="7955" y="3977"/>
                  <a:pt x="7956" y="3956"/>
                </a:cubicBezTo>
                <a:cubicBezTo>
                  <a:pt x="7936" y="3989"/>
                  <a:pt x="7917" y="4020"/>
                  <a:pt x="7900" y="4055"/>
                </a:cubicBezTo>
                <a:cubicBezTo>
                  <a:pt x="7864" y="4130"/>
                  <a:pt x="7837" y="4207"/>
                  <a:pt x="7814" y="4287"/>
                </a:cubicBezTo>
                <a:cubicBezTo>
                  <a:pt x="7792" y="4366"/>
                  <a:pt x="7761" y="4477"/>
                  <a:pt x="7803" y="4554"/>
                </a:cubicBezTo>
                <a:cubicBezTo>
                  <a:pt x="7829" y="4602"/>
                  <a:pt x="7886" y="4608"/>
                  <a:pt x="7935" y="4598"/>
                </a:cubicBezTo>
                <a:cubicBezTo>
                  <a:pt x="7992" y="4586"/>
                  <a:pt x="8047" y="4551"/>
                  <a:pt x="8085" y="4508"/>
                </a:cubicBezTo>
                <a:cubicBezTo>
                  <a:pt x="8105" y="4485"/>
                  <a:pt x="8133" y="4439"/>
                  <a:pt x="8095" y="4417"/>
                </a:cubicBezTo>
                <a:cubicBezTo>
                  <a:pt x="8064" y="4398"/>
                  <a:pt x="8009" y="4405"/>
                  <a:pt x="7975" y="4407"/>
                </a:cubicBezTo>
                <a:cubicBezTo>
                  <a:pt x="7947" y="4408"/>
                  <a:pt x="7952" y="4404"/>
                  <a:pt x="7935" y="4395"/>
                </a:cubicBezTo>
              </a:path>
              <a:path w="1466" h="883">
                <a:moveTo>
                  <a:pt x="8361" y="3770"/>
                </a:moveTo>
                <a:cubicBezTo>
                  <a:pt x="8383" y="3745"/>
                  <a:pt x="8396" y="3732"/>
                  <a:pt x="8428" y="3724"/>
                </a:cubicBezTo>
                <a:cubicBezTo>
                  <a:pt x="8451" y="3718"/>
                  <a:pt x="8480" y="3713"/>
                  <a:pt x="8493" y="3738"/>
                </a:cubicBezTo>
                <a:cubicBezTo>
                  <a:pt x="8508" y="3766"/>
                  <a:pt x="8492" y="3802"/>
                  <a:pt x="8482" y="3829"/>
                </a:cubicBezTo>
                <a:cubicBezTo>
                  <a:pt x="8469" y="3863"/>
                  <a:pt x="8446" y="3895"/>
                  <a:pt x="8439" y="3931"/>
                </a:cubicBezTo>
                <a:cubicBezTo>
                  <a:pt x="8433" y="3962"/>
                  <a:pt x="8453" y="3976"/>
                  <a:pt x="8481" y="3981"/>
                </a:cubicBezTo>
                <a:cubicBezTo>
                  <a:pt x="8526" y="3989"/>
                  <a:pt x="8571" y="3979"/>
                  <a:pt x="8615" y="3979"/>
                </a:cubicBezTo>
                <a:cubicBezTo>
                  <a:pt x="8666" y="3979"/>
                  <a:pt x="8708" y="3993"/>
                  <a:pt x="8755" y="4012"/>
                </a:cubicBezTo>
              </a:path>
              <a:path w="1466" h="883">
                <a:moveTo>
                  <a:pt x="9087" y="4188"/>
                </a:moveTo>
                <a:cubicBezTo>
                  <a:pt x="9110" y="4166"/>
                  <a:pt x="9132" y="4148"/>
                  <a:pt x="9164" y="4138"/>
                </a:cubicBezTo>
                <a:cubicBezTo>
                  <a:pt x="9186" y="4131"/>
                  <a:pt x="9221" y="4119"/>
                  <a:pt x="9242" y="4135"/>
                </a:cubicBezTo>
                <a:cubicBezTo>
                  <a:pt x="9250" y="4148"/>
                  <a:pt x="9253" y="4152"/>
                  <a:pt x="9247" y="4163"/>
                </a:cubicBezTo>
              </a:path>
              <a:path w="1466" h="883">
                <a:moveTo>
                  <a:pt x="9112" y="4317"/>
                </a:moveTo>
                <a:cubicBezTo>
                  <a:pt x="9088" y="4345"/>
                  <a:pt x="9071" y="4359"/>
                  <a:pt x="9075" y="4395"/>
                </a:cubicBezTo>
                <a:cubicBezTo>
                  <a:pt x="9112" y="4407"/>
                  <a:pt x="9151" y="4396"/>
                  <a:pt x="9189" y="4388"/>
                </a:cubicBezTo>
                <a:cubicBezTo>
                  <a:pt x="9209" y="4383"/>
                  <a:pt x="9228" y="4379"/>
                  <a:pt x="9248" y="43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5"/>
          <p:cNvSpPr/>
          <p:nvPr/>
        </p:nvSpPr>
        <p:spPr>
          <a:xfrm>
            <a:off x="3695760" y="1401840"/>
            <a:ext cx="152280" cy="239760"/>
          </a:xfrm>
          <a:custGeom>
            <a:avLst/>
            <a:gdLst/>
            <a:ahLst/>
            <a:rect l="l" t="t" r="r" b="b"/>
            <a:pathLst>
              <a:path w="425" h="668">
                <a:moveTo>
                  <a:pt x="10266" y="3929"/>
                </a:moveTo>
                <a:cubicBezTo>
                  <a:pt x="10287" y="3917"/>
                  <a:pt x="10307" y="3906"/>
                  <a:pt x="10332" y="3901"/>
                </a:cubicBezTo>
                <a:cubicBezTo>
                  <a:pt x="10378" y="3892"/>
                  <a:pt x="10429" y="3890"/>
                  <a:pt x="10475" y="3893"/>
                </a:cubicBezTo>
                <a:cubicBezTo>
                  <a:pt x="10512" y="3895"/>
                  <a:pt x="10564" y="3898"/>
                  <a:pt x="10589" y="3930"/>
                </a:cubicBezTo>
                <a:cubicBezTo>
                  <a:pt x="10613" y="3960"/>
                  <a:pt x="10583" y="3997"/>
                  <a:pt x="10565" y="4022"/>
                </a:cubicBezTo>
                <a:cubicBezTo>
                  <a:pt x="10540" y="4056"/>
                  <a:pt x="10503" y="4087"/>
                  <a:pt x="10494" y="4131"/>
                </a:cubicBezTo>
                <a:cubicBezTo>
                  <a:pt x="10485" y="4175"/>
                  <a:pt x="10523" y="4208"/>
                  <a:pt x="10552" y="4234"/>
                </a:cubicBezTo>
                <a:cubicBezTo>
                  <a:pt x="10593" y="4270"/>
                  <a:pt x="10643" y="4302"/>
                  <a:pt x="10673" y="4349"/>
                </a:cubicBezTo>
                <a:cubicBezTo>
                  <a:pt x="10700" y="4393"/>
                  <a:pt x="10691" y="4434"/>
                  <a:pt x="10661" y="4473"/>
                </a:cubicBezTo>
                <a:cubicBezTo>
                  <a:pt x="10631" y="4512"/>
                  <a:pt x="10580" y="4543"/>
                  <a:pt x="10533" y="4556"/>
                </a:cubicBezTo>
                <a:cubicBezTo>
                  <a:pt x="10509" y="4559"/>
                  <a:pt x="10504" y="4562"/>
                  <a:pt x="10491" y="4555"/>
                </a:cubicBezTo>
                <a:cubicBezTo>
                  <a:pt x="10502" y="4525"/>
                  <a:pt x="10504" y="4512"/>
                  <a:pt x="10526" y="4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6"/>
          <p:cNvSpPr/>
          <p:nvPr/>
        </p:nvSpPr>
        <p:spPr>
          <a:xfrm>
            <a:off x="3952800" y="1387440"/>
            <a:ext cx="139680" cy="230400"/>
          </a:xfrm>
          <a:custGeom>
            <a:avLst/>
            <a:gdLst/>
            <a:ahLst/>
            <a:rect l="l" t="t" r="r" b="b"/>
            <a:pathLst>
              <a:path w="388" h="638">
                <a:moveTo>
                  <a:pt x="11240" y="3917"/>
                </a:moveTo>
                <a:cubicBezTo>
                  <a:pt x="11246" y="3899"/>
                  <a:pt x="11251" y="3883"/>
                  <a:pt x="11247" y="3864"/>
                </a:cubicBezTo>
                <a:cubicBezTo>
                  <a:pt x="11245" y="3861"/>
                  <a:pt x="11244" y="3858"/>
                  <a:pt x="11242" y="3855"/>
                </a:cubicBezTo>
                <a:cubicBezTo>
                  <a:pt x="11217" y="3867"/>
                  <a:pt x="11202" y="3877"/>
                  <a:pt x="11181" y="3897"/>
                </a:cubicBezTo>
                <a:cubicBezTo>
                  <a:pt x="11139" y="3939"/>
                  <a:pt x="11101" y="3986"/>
                  <a:pt x="11068" y="4036"/>
                </a:cubicBezTo>
                <a:cubicBezTo>
                  <a:pt x="11029" y="4095"/>
                  <a:pt x="10995" y="4165"/>
                  <a:pt x="10984" y="4236"/>
                </a:cubicBezTo>
                <a:cubicBezTo>
                  <a:pt x="10975" y="4296"/>
                  <a:pt x="10982" y="4363"/>
                  <a:pt x="11020" y="4413"/>
                </a:cubicBezTo>
                <a:cubicBezTo>
                  <a:pt x="11055" y="4460"/>
                  <a:pt x="11118" y="4488"/>
                  <a:pt x="11175" y="4492"/>
                </a:cubicBezTo>
                <a:cubicBezTo>
                  <a:pt x="11228" y="4496"/>
                  <a:pt x="11289" y="4484"/>
                  <a:pt x="11333" y="4453"/>
                </a:cubicBezTo>
                <a:cubicBezTo>
                  <a:pt x="11363" y="4432"/>
                  <a:pt x="11383" y="4392"/>
                  <a:pt x="11356" y="4360"/>
                </a:cubicBezTo>
                <a:cubicBezTo>
                  <a:pt x="11328" y="4327"/>
                  <a:pt x="11258" y="4311"/>
                  <a:pt x="11218" y="4309"/>
                </a:cubicBezTo>
                <a:cubicBezTo>
                  <a:pt x="11178" y="4307"/>
                  <a:pt x="11141" y="4320"/>
                  <a:pt x="11105" y="4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7"/>
          <p:cNvSpPr/>
          <p:nvPr/>
        </p:nvSpPr>
        <p:spPr>
          <a:xfrm>
            <a:off x="4232160" y="1992240"/>
            <a:ext cx="101880" cy="88920"/>
          </a:xfrm>
          <a:custGeom>
            <a:avLst/>
            <a:gdLst/>
            <a:ahLst/>
            <a:rect l="l" t="t" r="r" b="b"/>
            <a:pathLst>
              <a:path w="282" h="246">
                <a:moveTo>
                  <a:pt x="11776" y="5542"/>
                </a:moveTo>
                <a:cubicBezTo>
                  <a:pt x="11766" y="5534"/>
                  <a:pt x="11764" y="5530"/>
                  <a:pt x="11756" y="5537"/>
                </a:cubicBezTo>
                <a:cubicBezTo>
                  <a:pt x="11760" y="5559"/>
                  <a:pt x="11771" y="5576"/>
                  <a:pt x="11783" y="5595"/>
                </a:cubicBezTo>
                <a:cubicBezTo>
                  <a:pt x="11799" y="5622"/>
                  <a:pt x="11817" y="5646"/>
                  <a:pt x="11838" y="5669"/>
                </a:cubicBezTo>
                <a:cubicBezTo>
                  <a:pt x="11861" y="5694"/>
                  <a:pt x="11886" y="5718"/>
                  <a:pt x="11916" y="5734"/>
                </a:cubicBezTo>
                <a:cubicBezTo>
                  <a:pt x="11939" y="5747"/>
                  <a:pt x="11970" y="5761"/>
                  <a:pt x="11997" y="5764"/>
                </a:cubicBezTo>
                <a:cubicBezTo>
                  <a:pt x="12013" y="5766"/>
                  <a:pt x="12022" y="5771"/>
                  <a:pt x="12037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8"/>
          <p:cNvSpPr/>
          <p:nvPr/>
        </p:nvSpPr>
        <p:spPr>
          <a:xfrm>
            <a:off x="3257640" y="2036880"/>
            <a:ext cx="136440" cy="272880"/>
          </a:xfrm>
          <a:custGeom>
            <a:avLst/>
            <a:gdLst/>
            <a:ahLst/>
            <a:rect l="l" t="t" r="r" b="b"/>
            <a:pathLst>
              <a:path w="379" h="761">
                <a:moveTo>
                  <a:pt x="9057" y="5666"/>
                </a:moveTo>
                <a:cubicBezTo>
                  <a:pt x="9078" y="5658"/>
                  <a:pt x="9075" y="5699"/>
                  <a:pt x="9075" y="5725"/>
                </a:cubicBezTo>
                <a:cubicBezTo>
                  <a:pt x="9074" y="5795"/>
                  <a:pt x="9068" y="5868"/>
                  <a:pt x="9062" y="5938"/>
                </a:cubicBezTo>
                <a:cubicBezTo>
                  <a:pt x="9054" y="6033"/>
                  <a:pt x="9047" y="6124"/>
                  <a:pt x="9053" y="6219"/>
                </a:cubicBezTo>
                <a:cubicBezTo>
                  <a:pt x="9056" y="6269"/>
                  <a:pt x="9066" y="6303"/>
                  <a:pt x="9092" y="6345"/>
                </a:cubicBezTo>
              </a:path>
              <a:path w="379" h="761">
                <a:moveTo>
                  <a:pt x="9418" y="6152"/>
                </a:moveTo>
                <a:cubicBezTo>
                  <a:pt x="9425" y="6194"/>
                  <a:pt x="9411" y="6217"/>
                  <a:pt x="9397" y="6258"/>
                </a:cubicBezTo>
                <a:cubicBezTo>
                  <a:pt x="9381" y="6302"/>
                  <a:pt x="9364" y="6345"/>
                  <a:pt x="9352" y="6389"/>
                </a:cubicBezTo>
                <a:cubicBezTo>
                  <a:pt x="9347" y="6404"/>
                  <a:pt x="9344" y="6408"/>
                  <a:pt x="9349" y="6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9"/>
          <p:cNvSpPr/>
          <p:nvPr/>
        </p:nvSpPr>
        <p:spPr>
          <a:xfrm>
            <a:off x="3622680" y="2068560"/>
            <a:ext cx="228600" cy="257040"/>
          </a:xfrm>
          <a:custGeom>
            <a:avLst/>
            <a:gdLst/>
            <a:ahLst/>
            <a:rect l="l" t="t" r="r" b="b"/>
            <a:pathLst>
              <a:path w="634" h="712">
                <a:moveTo>
                  <a:pt x="10064" y="5751"/>
                </a:moveTo>
                <a:cubicBezTo>
                  <a:pt x="10094" y="5751"/>
                  <a:pt x="10125" y="5752"/>
                  <a:pt x="10156" y="5758"/>
                </a:cubicBezTo>
                <a:cubicBezTo>
                  <a:pt x="10212" y="5769"/>
                  <a:pt x="10279" y="5793"/>
                  <a:pt x="10308" y="5846"/>
                </a:cubicBezTo>
                <a:cubicBezTo>
                  <a:pt x="10335" y="5895"/>
                  <a:pt x="10316" y="5948"/>
                  <a:pt x="10292" y="5993"/>
                </a:cubicBezTo>
                <a:cubicBezTo>
                  <a:pt x="10256" y="6062"/>
                  <a:pt x="10199" y="6117"/>
                  <a:pt x="10157" y="6182"/>
                </a:cubicBezTo>
                <a:cubicBezTo>
                  <a:pt x="10138" y="6212"/>
                  <a:pt x="10124" y="6243"/>
                  <a:pt x="10166" y="6259"/>
                </a:cubicBezTo>
                <a:cubicBezTo>
                  <a:pt x="10218" y="6279"/>
                  <a:pt x="10276" y="6263"/>
                  <a:pt x="10329" y="6260"/>
                </a:cubicBezTo>
                <a:cubicBezTo>
                  <a:pt x="10397" y="6256"/>
                  <a:pt x="10459" y="6248"/>
                  <a:pt x="10525" y="6233"/>
                </a:cubicBezTo>
              </a:path>
              <a:path w="634" h="712">
                <a:moveTo>
                  <a:pt x="10694" y="6204"/>
                </a:moveTo>
                <a:cubicBezTo>
                  <a:pt x="10696" y="6237"/>
                  <a:pt x="10687" y="6266"/>
                  <a:pt x="10676" y="6298"/>
                </a:cubicBezTo>
                <a:cubicBezTo>
                  <a:pt x="10661" y="6341"/>
                  <a:pt x="10644" y="6384"/>
                  <a:pt x="10628" y="6427"/>
                </a:cubicBezTo>
                <a:cubicBezTo>
                  <a:pt x="10622" y="6443"/>
                  <a:pt x="10619" y="6447"/>
                  <a:pt x="10622" y="6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20"/>
          <p:cNvSpPr/>
          <p:nvPr/>
        </p:nvSpPr>
        <p:spPr>
          <a:xfrm>
            <a:off x="4103640" y="2004840"/>
            <a:ext cx="282600" cy="301680"/>
          </a:xfrm>
          <a:custGeom>
            <a:avLst/>
            <a:gdLst/>
            <a:ahLst/>
            <a:rect l="l" t="t" r="r" b="b"/>
            <a:pathLst>
              <a:path w="785" h="840">
                <a:moveTo>
                  <a:pt x="11397" y="5655"/>
                </a:moveTo>
                <a:cubicBezTo>
                  <a:pt x="11413" y="5644"/>
                  <a:pt x="11420" y="5636"/>
                  <a:pt x="11441" y="5624"/>
                </a:cubicBezTo>
                <a:cubicBezTo>
                  <a:pt x="11463" y="5611"/>
                  <a:pt x="11487" y="5603"/>
                  <a:pt x="11512" y="5596"/>
                </a:cubicBezTo>
                <a:cubicBezTo>
                  <a:pt x="11546" y="5586"/>
                  <a:pt x="11582" y="5584"/>
                  <a:pt x="11616" y="5575"/>
                </a:cubicBezTo>
                <a:cubicBezTo>
                  <a:pt x="11636" y="5570"/>
                  <a:pt x="11656" y="5568"/>
                  <a:pt x="11677" y="5568"/>
                </a:cubicBezTo>
                <a:cubicBezTo>
                  <a:pt x="11682" y="5568"/>
                  <a:pt x="11688" y="5569"/>
                  <a:pt x="11693" y="5569"/>
                </a:cubicBezTo>
              </a:path>
              <a:path w="785" h="840">
                <a:moveTo>
                  <a:pt x="11653" y="5568"/>
                </a:moveTo>
                <a:cubicBezTo>
                  <a:pt x="11609" y="5591"/>
                  <a:pt x="11576" y="5618"/>
                  <a:pt x="11538" y="5649"/>
                </a:cubicBezTo>
                <a:cubicBezTo>
                  <a:pt x="11489" y="5689"/>
                  <a:pt x="11445" y="5728"/>
                  <a:pt x="11415" y="5785"/>
                </a:cubicBezTo>
                <a:cubicBezTo>
                  <a:pt x="11392" y="5828"/>
                  <a:pt x="11398" y="5865"/>
                  <a:pt x="11437" y="5895"/>
                </a:cubicBezTo>
                <a:cubicBezTo>
                  <a:pt x="11484" y="5931"/>
                  <a:pt x="11547" y="5954"/>
                  <a:pt x="11598" y="5984"/>
                </a:cubicBezTo>
                <a:cubicBezTo>
                  <a:pt x="11646" y="6012"/>
                  <a:pt x="11699" y="6045"/>
                  <a:pt x="11714" y="6103"/>
                </a:cubicBezTo>
                <a:cubicBezTo>
                  <a:pt x="11727" y="6153"/>
                  <a:pt x="11695" y="6200"/>
                  <a:pt x="11657" y="6229"/>
                </a:cubicBezTo>
                <a:cubicBezTo>
                  <a:pt x="11611" y="6265"/>
                  <a:pt x="11562" y="6281"/>
                  <a:pt x="11505" y="6281"/>
                </a:cubicBezTo>
                <a:cubicBezTo>
                  <a:pt x="11463" y="6281"/>
                  <a:pt x="11440" y="6250"/>
                  <a:pt x="11450" y="6208"/>
                </a:cubicBezTo>
                <a:cubicBezTo>
                  <a:pt x="11455" y="6196"/>
                  <a:pt x="11460" y="6185"/>
                  <a:pt x="11465" y="6173"/>
                </a:cubicBezTo>
              </a:path>
              <a:path w="785" h="840">
                <a:moveTo>
                  <a:pt x="12181" y="6215"/>
                </a:moveTo>
                <a:cubicBezTo>
                  <a:pt x="12166" y="6255"/>
                  <a:pt x="12147" y="6286"/>
                  <a:pt x="12125" y="6322"/>
                </a:cubicBezTo>
                <a:cubicBezTo>
                  <a:pt x="12106" y="6353"/>
                  <a:pt x="12087" y="6380"/>
                  <a:pt x="12062" y="6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21"/>
          <p:cNvSpPr/>
          <p:nvPr/>
        </p:nvSpPr>
        <p:spPr>
          <a:xfrm>
            <a:off x="4603680" y="2046240"/>
            <a:ext cx="297000" cy="165240"/>
          </a:xfrm>
          <a:custGeom>
            <a:avLst/>
            <a:gdLst/>
            <a:ahLst/>
            <a:rect l="l" t="t" r="r" b="b"/>
            <a:pathLst>
              <a:path w="826" h="457">
                <a:moveTo>
                  <a:pt x="12945" y="5685"/>
                </a:moveTo>
                <a:cubicBezTo>
                  <a:pt x="12933" y="5735"/>
                  <a:pt x="12918" y="5785"/>
                  <a:pt x="12899" y="5832"/>
                </a:cubicBezTo>
                <a:cubicBezTo>
                  <a:pt x="12867" y="5910"/>
                  <a:pt x="12819" y="5983"/>
                  <a:pt x="12793" y="6063"/>
                </a:cubicBezTo>
                <a:cubicBezTo>
                  <a:pt x="12782" y="6099"/>
                  <a:pt x="12790" y="6101"/>
                  <a:pt x="12816" y="6118"/>
                </a:cubicBezTo>
              </a:path>
              <a:path w="826" h="457">
                <a:moveTo>
                  <a:pt x="13239" y="5843"/>
                </a:moveTo>
                <a:cubicBezTo>
                  <a:pt x="13212" y="5881"/>
                  <a:pt x="13181" y="5919"/>
                  <a:pt x="13160" y="5960"/>
                </a:cubicBezTo>
                <a:cubicBezTo>
                  <a:pt x="13138" y="6002"/>
                  <a:pt x="13119" y="6066"/>
                  <a:pt x="13153" y="6108"/>
                </a:cubicBezTo>
                <a:cubicBezTo>
                  <a:pt x="13192" y="6156"/>
                  <a:pt x="13282" y="6144"/>
                  <a:pt x="13333" y="6133"/>
                </a:cubicBezTo>
                <a:cubicBezTo>
                  <a:pt x="13414" y="6115"/>
                  <a:pt x="13500" y="6074"/>
                  <a:pt x="13561" y="6017"/>
                </a:cubicBezTo>
                <a:cubicBezTo>
                  <a:pt x="13599" y="5982"/>
                  <a:pt x="13640" y="5920"/>
                  <a:pt x="13590" y="5877"/>
                </a:cubicBezTo>
                <a:cubicBezTo>
                  <a:pt x="13544" y="5837"/>
                  <a:pt x="13451" y="5835"/>
                  <a:pt x="13394" y="5837"/>
                </a:cubicBezTo>
                <a:cubicBezTo>
                  <a:pt x="13354" y="5838"/>
                  <a:pt x="13319" y="5847"/>
                  <a:pt x="13282" y="5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22"/>
          <p:cNvSpPr/>
          <p:nvPr/>
        </p:nvSpPr>
        <p:spPr>
          <a:xfrm>
            <a:off x="5745240" y="1940040"/>
            <a:ext cx="534960" cy="404640"/>
          </a:xfrm>
          <a:custGeom>
            <a:avLst/>
            <a:gdLst/>
            <a:ahLst/>
            <a:rect l="l" t="t" r="r" b="b"/>
            <a:pathLst>
              <a:path w="1486" h="1125">
                <a:moveTo>
                  <a:pt x="16025" y="5945"/>
                </a:moveTo>
                <a:cubicBezTo>
                  <a:pt x="16002" y="5951"/>
                  <a:pt x="15982" y="5953"/>
                  <a:pt x="15958" y="5954"/>
                </a:cubicBezTo>
                <a:cubicBezTo>
                  <a:pt x="15971" y="5925"/>
                  <a:pt x="15988" y="5903"/>
                  <a:pt x="16006" y="5875"/>
                </a:cubicBezTo>
                <a:cubicBezTo>
                  <a:pt x="16057" y="5795"/>
                  <a:pt x="16115" y="5723"/>
                  <a:pt x="16174" y="5649"/>
                </a:cubicBezTo>
                <a:cubicBezTo>
                  <a:pt x="16241" y="5566"/>
                  <a:pt x="16313" y="5461"/>
                  <a:pt x="16404" y="5402"/>
                </a:cubicBezTo>
                <a:cubicBezTo>
                  <a:pt x="16440" y="5378"/>
                  <a:pt x="16468" y="5385"/>
                  <a:pt x="16486" y="5424"/>
                </a:cubicBezTo>
                <a:cubicBezTo>
                  <a:pt x="16511" y="5479"/>
                  <a:pt x="16513" y="5551"/>
                  <a:pt x="16516" y="5610"/>
                </a:cubicBezTo>
                <a:cubicBezTo>
                  <a:pt x="16520" y="5680"/>
                  <a:pt x="16518" y="5752"/>
                  <a:pt x="16512" y="5821"/>
                </a:cubicBezTo>
                <a:cubicBezTo>
                  <a:pt x="16509" y="5859"/>
                  <a:pt x="16509" y="5905"/>
                  <a:pt x="16494" y="5940"/>
                </a:cubicBezTo>
                <a:cubicBezTo>
                  <a:pt x="16485" y="5961"/>
                  <a:pt x="16474" y="5959"/>
                  <a:pt x="16459" y="5970"/>
                </a:cubicBezTo>
              </a:path>
              <a:path w="1486" h="1125">
                <a:moveTo>
                  <a:pt x="16170" y="5834"/>
                </a:moveTo>
                <a:cubicBezTo>
                  <a:pt x="16187" y="5801"/>
                  <a:pt x="16209" y="5775"/>
                  <a:pt x="16245" y="5760"/>
                </a:cubicBezTo>
                <a:cubicBezTo>
                  <a:pt x="16298" y="5738"/>
                  <a:pt x="16354" y="5737"/>
                  <a:pt x="16410" y="5733"/>
                </a:cubicBezTo>
                <a:cubicBezTo>
                  <a:pt x="16471" y="5729"/>
                  <a:pt x="16532" y="5733"/>
                  <a:pt x="16594" y="5729"/>
                </a:cubicBezTo>
                <a:cubicBezTo>
                  <a:pt x="16639" y="5724"/>
                  <a:pt x="16653" y="5723"/>
                  <a:pt x="16683" y="5719"/>
                </a:cubicBezTo>
              </a:path>
              <a:path w="1486" h="1125">
                <a:moveTo>
                  <a:pt x="16836" y="5699"/>
                </a:moveTo>
                <a:cubicBezTo>
                  <a:pt x="16829" y="5728"/>
                  <a:pt x="16819" y="5760"/>
                  <a:pt x="16807" y="5787"/>
                </a:cubicBezTo>
                <a:cubicBezTo>
                  <a:pt x="16797" y="5811"/>
                  <a:pt x="16789" y="5833"/>
                  <a:pt x="16783" y="5857"/>
                </a:cubicBezTo>
                <a:cubicBezTo>
                  <a:pt x="16819" y="5843"/>
                  <a:pt x="16845" y="5819"/>
                  <a:pt x="16876" y="5795"/>
                </a:cubicBezTo>
                <a:cubicBezTo>
                  <a:pt x="16917" y="5763"/>
                  <a:pt x="16957" y="5727"/>
                  <a:pt x="17006" y="5707"/>
                </a:cubicBezTo>
                <a:cubicBezTo>
                  <a:pt x="17030" y="5697"/>
                  <a:pt x="17061" y="5693"/>
                  <a:pt x="17077" y="5719"/>
                </a:cubicBezTo>
                <a:cubicBezTo>
                  <a:pt x="17090" y="5740"/>
                  <a:pt x="17083" y="5779"/>
                  <a:pt x="17100" y="5797"/>
                </a:cubicBezTo>
                <a:cubicBezTo>
                  <a:pt x="17118" y="5816"/>
                  <a:pt x="17146" y="5809"/>
                  <a:pt x="17167" y="5806"/>
                </a:cubicBezTo>
              </a:path>
              <a:path w="1486" h="1125">
                <a:moveTo>
                  <a:pt x="17295" y="5770"/>
                </a:moveTo>
                <a:cubicBezTo>
                  <a:pt x="17294" y="5794"/>
                  <a:pt x="17284" y="5807"/>
                  <a:pt x="17278" y="5830"/>
                </a:cubicBezTo>
                <a:cubicBezTo>
                  <a:pt x="17277" y="5844"/>
                  <a:pt x="17277" y="5847"/>
                  <a:pt x="17278" y="5855"/>
                </a:cubicBezTo>
                <a:cubicBezTo>
                  <a:pt x="17302" y="5861"/>
                  <a:pt x="17313" y="5864"/>
                  <a:pt x="17340" y="5856"/>
                </a:cubicBezTo>
                <a:cubicBezTo>
                  <a:pt x="17369" y="5847"/>
                  <a:pt x="17390" y="5830"/>
                  <a:pt x="17417" y="5817"/>
                </a:cubicBezTo>
                <a:cubicBezTo>
                  <a:pt x="17421" y="5816"/>
                  <a:pt x="17424" y="5814"/>
                  <a:pt x="17428" y="5813"/>
                </a:cubicBezTo>
                <a:cubicBezTo>
                  <a:pt x="17452" y="5846"/>
                  <a:pt x="17442" y="5880"/>
                  <a:pt x="17440" y="5921"/>
                </a:cubicBezTo>
                <a:cubicBezTo>
                  <a:pt x="17435" y="6004"/>
                  <a:pt x="17426" y="6087"/>
                  <a:pt x="17410" y="6169"/>
                </a:cubicBezTo>
                <a:cubicBezTo>
                  <a:pt x="17394" y="6251"/>
                  <a:pt x="17369" y="6335"/>
                  <a:pt x="17326" y="6407"/>
                </a:cubicBezTo>
                <a:cubicBezTo>
                  <a:pt x="17305" y="6443"/>
                  <a:pt x="17259" y="6507"/>
                  <a:pt x="17212" y="6512"/>
                </a:cubicBezTo>
                <a:cubicBezTo>
                  <a:pt x="17166" y="6517"/>
                  <a:pt x="17169" y="6447"/>
                  <a:pt x="17174" y="6421"/>
                </a:cubicBezTo>
                <a:cubicBezTo>
                  <a:pt x="17179" y="6405"/>
                  <a:pt x="17183" y="6388"/>
                  <a:pt x="17188" y="6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23"/>
          <p:cNvSpPr/>
          <p:nvPr/>
        </p:nvSpPr>
        <p:spPr>
          <a:xfrm>
            <a:off x="6578640" y="1974960"/>
            <a:ext cx="836640" cy="196920"/>
          </a:xfrm>
          <a:custGeom>
            <a:avLst/>
            <a:gdLst/>
            <a:ahLst/>
            <a:rect l="l" t="t" r="r" b="b"/>
            <a:pathLst>
              <a:path w="2326" h="544">
                <a:moveTo>
                  <a:pt x="18394" y="5824"/>
                </a:moveTo>
                <a:cubicBezTo>
                  <a:pt x="18379" y="5818"/>
                  <a:pt x="18354" y="5808"/>
                  <a:pt x="18337" y="5812"/>
                </a:cubicBezTo>
                <a:cubicBezTo>
                  <a:pt x="18312" y="5819"/>
                  <a:pt x="18285" y="5845"/>
                  <a:pt x="18277" y="5870"/>
                </a:cubicBezTo>
                <a:cubicBezTo>
                  <a:pt x="18265" y="5907"/>
                  <a:pt x="18278" y="5947"/>
                  <a:pt x="18309" y="5970"/>
                </a:cubicBezTo>
                <a:cubicBezTo>
                  <a:pt x="18347" y="5999"/>
                  <a:pt x="18410" y="5999"/>
                  <a:pt x="18454" y="5987"/>
                </a:cubicBezTo>
                <a:cubicBezTo>
                  <a:pt x="18496" y="5975"/>
                  <a:pt x="18542" y="5949"/>
                  <a:pt x="18551" y="5903"/>
                </a:cubicBezTo>
                <a:cubicBezTo>
                  <a:pt x="18559" y="5859"/>
                  <a:pt x="18521" y="5819"/>
                  <a:pt x="18491" y="5794"/>
                </a:cubicBezTo>
                <a:cubicBezTo>
                  <a:pt x="18462" y="5769"/>
                  <a:pt x="18424" y="5748"/>
                  <a:pt x="18385" y="5750"/>
                </a:cubicBezTo>
                <a:cubicBezTo>
                  <a:pt x="18361" y="5751"/>
                  <a:pt x="18372" y="5765"/>
                  <a:pt x="18377" y="5779"/>
                </a:cubicBezTo>
              </a:path>
              <a:path w="2326" h="544">
                <a:moveTo>
                  <a:pt x="18726" y="6002"/>
                </a:moveTo>
                <a:cubicBezTo>
                  <a:pt x="18726" y="6007"/>
                  <a:pt x="18726" y="6013"/>
                  <a:pt x="18726" y="6018"/>
                </a:cubicBezTo>
                <a:cubicBezTo>
                  <a:pt x="18745" y="5991"/>
                  <a:pt x="18766" y="5968"/>
                  <a:pt x="18789" y="5944"/>
                </a:cubicBezTo>
                <a:cubicBezTo>
                  <a:pt x="18829" y="5901"/>
                  <a:pt x="18872" y="5860"/>
                  <a:pt x="18914" y="5819"/>
                </a:cubicBezTo>
                <a:cubicBezTo>
                  <a:pt x="18945" y="5788"/>
                  <a:pt x="18977" y="5759"/>
                  <a:pt x="19017" y="5740"/>
                </a:cubicBezTo>
                <a:cubicBezTo>
                  <a:pt x="19025" y="5737"/>
                  <a:pt x="19032" y="5734"/>
                  <a:pt x="19040" y="5731"/>
                </a:cubicBezTo>
              </a:path>
              <a:path w="2326" h="544">
                <a:moveTo>
                  <a:pt x="19400" y="5805"/>
                </a:moveTo>
                <a:cubicBezTo>
                  <a:pt x="19353" y="5798"/>
                  <a:pt x="19319" y="5792"/>
                  <a:pt x="19269" y="5804"/>
                </a:cubicBezTo>
                <a:cubicBezTo>
                  <a:pt x="19221" y="5816"/>
                  <a:pt x="19156" y="5834"/>
                  <a:pt x="19124" y="5875"/>
                </a:cubicBezTo>
                <a:cubicBezTo>
                  <a:pt x="19111" y="5892"/>
                  <a:pt x="19107" y="5895"/>
                  <a:pt x="19106" y="5909"/>
                </a:cubicBezTo>
                <a:cubicBezTo>
                  <a:pt x="19152" y="5919"/>
                  <a:pt x="19185" y="5921"/>
                  <a:pt x="19238" y="5904"/>
                </a:cubicBezTo>
                <a:cubicBezTo>
                  <a:pt x="19347" y="5870"/>
                  <a:pt x="19453" y="5801"/>
                  <a:pt x="19534" y="5721"/>
                </a:cubicBezTo>
                <a:cubicBezTo>
                  <a:pt x="19584" y="5672"/>
                  <a:pt x="19634" y="5608"/>
                  <a:pt x="19654" y="5540"/>
                </a:cubicBezTo>
                <a:cubicBezTo>
                  <a:pt x="19657" y="5513"/>
                  <a:pt x="19660" y="5508"/>
                  <a:pt x="19654" y="5492"/>
                </a:cubicBezTo>
                <a:cubicBezTo>
                  <a:pt x="19615" y="5504"/>
                  <a:pt x="19596" y="5512"/>
                  <a:pt x="19566" y="5554"/>
                </a:cubicBezTo>
                <a:cubicBezTo>
                  <a:pt x="19516" y="5624"/>
                  <a:pt x="19465" y="5739"/>
                  <a:pt x="19502" y="5825"/>
                </a:cubicBezTo>
                <a:cubicBezTo>
                  <a:pt x="19522" y="5872"/>
                  <a:pt x="19569" y="5898"/>
                  <a:pt x="19616" y="5908"/>
                </a:cubicBezTo>
                <a:cubicBezTo>
                  <a:pt x="19712" y="5929"/>
                  <a:pt x="19825" y="5881"/>
                  <a:pt x="19874" y="5797"/>
                </a:cubicBezTo>
                <a:cubicBezTo>
                  <a:pt x="19875" y="5791"/>
                  <a:pt x="19875" y="5786"/>
                  <a:pt x="19876" y="5780"/>
                </a:cubicBezTo>
                <a:cubicBezTo>
                  <a:pt x="19859" y="5774"/>
                  <a:pt x="19858" y="5756"/>
                  <a:pt x="19826" y="5763"/>
                </a:cubicBezTo>
                <a:cubicBezTo>
                  <a:pt x="19791" y="5770"/>
                  <a:pt x="19784" y="5790"/>
                  <a:pt x="19761" y="5812"/>
                </a:cubicBezTo>
                <a:cubicBezTo>
                  <a:pt x="19783" y="5842"/>
                  <a:pt x="19785" y="5854"/>
                  <a:pt x="19826" y="5875"/>
                </a:cubicBezTo>
                <a:cubicBezTo>
                  <a:pt x="19881" y="5903"/>
                  <a:pt x="19940" y="5925"/>
                  <a:pt x="19995" y="5953"/>
                </a:cubicBezTo>
                <a:cubicBezTo>
                  <a:pt x="20013" y="5962"/>
                  <a:pt x="20099" y="6033"/>
                  <a:pt x="20117" y="6030"/>
                </a:cubicBezTo>
                <a:cubicBezTo>
                  <a:pt x="20143" y="6025"/>
                  <a:pt x="20164" y="5989"/>
                  <a:pt x="20181" y="5970"/>
                </a:cubicBezTo>
                <a:cubicBezTo>
                  <a:pt x="20234" y="5910"/>
                  <a:pt x="20287" y="5858"/>
                  <a:pt x="20348" y="5807"/>
                </a:cubicBezTo>
                <a:cubicBezTo>
                  <a:pt x="20414" y="5751"/>
                  <a:pt x="20477" y="5723"/>
                  <a:pt x="20557" y="5695"/>
                </a:cubicBezTo>
                <a:cubicBezTo>
                  <a:pt x="20571" y="5690"/>
                  <a:pt x="20584" y="5685"/>
                  <a:pt x="20598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24"/>
          <p:cNvSpPr/>
          <p:nvPr/>
        </p:nvSpPr>
        <p:spPr>
          <a:xfrm>
            <a:off x="5929200" y="2620800"/>
            <a:ext cx="366840" cy="233640"/>
          </a:xfrm>
          <a:custGeom>
            <a:avLst/>
            <a:gdLst/>
            <a:ahLst/>
            <a:rect l="l" t="t" r="r" b="b"/>
            <a:pathLst>
              <a:path w="1020" h="646">
                <a:moveTo>
                  <a:pt x="16772" y="7329"/>
                </a:moveTo>
                <a:cubicBezTo>
                  <a:pt x="16735" y="7334"/>
                  <a:pt x="16696" y="7340"/>
                  <a:pt x="16661" y="7353"/>
                </a:cubicBezTo>
                <a:cubicBezTo>
                  <a:pt x="16616" y="7370"/>
                  <a:pt x="16559" y="7394"/>
                  <a:pt x="16527" y="7432"/>
                </a:cubicBezTo>
                <a:cubicBezTo>
                  <a:pt x="16498" y="7467"/>
                  <a:pt x="16524" y="7497"/>
                  <a:pt x="16553" y="7519"/>
                </a:cubicBezTo>
                <a:cubicBezTo>
                  <a:pt x="16620" y="7570"/>
                  <a:pt x="16764" y="7608"/>
                  <a:pt x="16785" y="7701"/>
                </a:cubicBezTo>
                <a:cubicBezTo>
                  <a:pt x="16795" y="7746"/>
                  <a:pt x="16737" y="7783"/>
                  <a:pt x="16704" y="7797"/>
                </a:cubicBezTo>
                <a:cubicBezTo>
                  <a:pt x="16649" y="7821"/>
                  <a:pt x="16588" y="7830"/>
                  <a:pt x="16530" y="7819"/>
                </a:cubicBezTo>
                <a:cubicBezTo>
                  <a:pt x="16475" y="7808"/>
                  <a:pt x="16475" y="7778"/>
                  <a:pt x="16470" y="7730"/>
                </a:cubicBezTo>
              </a:path>
              <a:path w="1020" h="646">
                <a:moveTo>
                  <a:pt x="16680" y="7281"/>
                </a:moveTo>
                <a:cubicBezTo>
                  <a:pt x="16686" y="7314"/>
                  <a:pt x="16677" y="7346"/>
                  <a:pt x="16673" y="7379"/>
                </a:cubicBezTo>
                <a:cubicBezTo>
                  <a:pt x="16663" y="7473"/>
                  <a:pt x="16657" y="7568"/>
                  <a:pt x="16659" y="7662"/>
                </a:cubicBezTo>
                <a:cubicBezTo>
                  <a:pt x="16660" y="7721"/>
                  <a:pt x="16666" y="7777"/>
                  <a:pt x="16677" y="7835"/>
                </a:cubicBezTo>
                <a:cubicBezTo>
                  <a:pt x="16683" y="7864"/>
                  <a:pt x="16689" y="7874"/>
                  <a:pt x="16717" y="7868"/>
                </a:cubicBezTo>
              </a:path>
              <a:path w="1020" h="646">
                <a:moveTo>
                  <a:pt x="17182" y="7353"/>
                </a:moveTo>
                <a:cubicBezTo>
                  <a:pt x="17205" y="7331"/>
                  <a:pt x="17215" y="7318"/>
                  <a:pt x="17249" y="7310"/>
                </a:cubicBezTo>
                <a:cubicBezTo>
                  <a:pt x="17289" y="7301"/>
                  <a:pt x="17331" y="7299"/>
                  <a:pt x="17371" y="7311"/>
                </a:cubicBezTo>
                <a:cubicBezTo>
                  <a:pt x="17415" y="7324"/>
                  <a:pt x="17436" y="7364"/>
                  <a:pt x="17421" y="7407"/>
                </a:cubicBezTo>
                <a:cubicBezTo>
                  <a:pt x="17410" y="7440"/>
                  <a:pt x="17384" y="7465"/>
                  <a:pt x="17370" y="7497"/>
                </a:cubicBezTo>
                <a:cubicBezTo>
                  <a:pt x="17356" y="7529"/>
                  <a:pt x="17367" y="7552"/>
                  <a:pt x="17386" y="7578"/>
                </a:cubicBezTo>
                <a:cubicBezTo>
                  <a:pt x="17413" y="7614"/>
                  <a:pt x="17450" y="7641"/>
                  <a:pt x="17472" y="7682"/>
                </a:cubicBezTo>
                <a:cubicBezTo>
                  <a:pt x="17496" y="7726"/>
                  <a:pt x="17494" y="7769"/>
                  <a:pt x="17465" y="7810"/>
                </a:cubicBezTo>
                <a:cubicBezTo>
                  <a:pt x="17430" y="7859"/>
                  <a:pt x="17372" y="7886"/>
                  <a:pt x="17317" y="7904"/>
                </a:cubicBezTo>
                <a:cubicBezTo>
                  <a:pt x="17262" y="7922"/>
                  <a:pt x="17209" y="7926"/>
                  <a:pt x="17153" y="7921"/>
                </a:cubicBezTo>
                <a:cubicBezTo>
                  <a:pt x="17121" y="7918"/>
                  <a:pt x="17100" y="7909"/>
                  <a:pt x="17072" y="7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25"/>
          <p:cNvSpPr/>
          <p:nvPr/>
        </p:nvSpPr>
        <p:spPr>
          <a:xfrm>
            <a:off x="2324160" y="905040"/>
            <a:ext cx="395280" cy="247320"/>
          </a:xfrm>
          <a:custGeom>
            <a:avLst/>
            <a:gdLst/>
            <a:ahLst/>
            <a:rect l="l" t="t" r="r" b="b"/>
            <a:pathLst>
              <a:path w="1096" h="685">
                <a:moveTo>
                  <a:pt x="6456" y="2663"/>
                </a:moveTo>
                <a:cubicBezTo>
                  <a:pt x="6460" y="2633"/>
                  <a:pt x="6461" y="2631"/>
                  <a:pt x="6483" y="2613"/>
                </a:cubicBezTo>
                <a:cubicBezTo>
                  <a:pt x="6512" y="2589"/>
                  <a:pt x="6547" y="2578"/>
                  <a:pt x="6583" y="2567"/>
                </a:cubicBezTo>
                <a:cubicBezTo>
                  <a:pt x="6628" y="2554"/>
                  <a:pt x="6676" y="2547"/>
                  <a:pt x="6723" y="2550"/>
                </a:cubicBezTo>
                <a:cubicBezTo>
                  <a:pt x="6751" y="2552"/>
                  <a:pt x="6796" y="2564"/>
                  <a:pt x="6805" y="2596"/>
                </a:cubicBezTo>
                <a:cubicBezTo>
                  <a:pt x="6815" y="2635"/>
                  <a:pt x="6778" y="2676"/>
                  <a:pt x="6757" y="2703"/>
                </a:cubicBezTo>
                <a:cubicBezTo>
                  <a:pt x="6725" y="2744"/>
                  <a:pt x="6682" y="2780"/>
                  <a:pt x="6656" y="2825"/>
                </a:cubicBezTo>
                <a:cubicBezTo>
                  <a:pt x="6638" y="2856"/>
                  <a:pt x="6640" y="2886"/>
                  <a:pt x="6672" y="2906"/>
                </a:cubicBezTo>
                <a:cubicBezTo>
                  <a:pt x="6715" y="2933"/>
                  <a:pt x="6769" y="2940"/>
                  <a:pt x="6816" y="2957"/>
                </a:cubicBezTo>
                <a:cubicBezTo>
                  <a:pt x="6854" y="2970"/>
                  <a:pt x="6911" y="2986"/>
                  <a:pt x="6931" y="3025"/>
                </a:cubicBezTo>
                <a:cubicBezTo>
                  <a:pt x="6949" y="3061"/>
                  <a:pt x="6910" y="3094"/>
                  <a:pt x="6886" y="3112"/>
                </a:cubicBezTo>
                <a:cubicBezTo>
                  <a:pt x="6842" y="3145"/>
                  <a:pt x="6784" y="3168"/>
                  <a:pt x="6732" y="3184"/>
                </a:cubicBezTo>
                <a:cubicBezTo>
                  <a:pt x="6710" y="3191"/>
                  <a:pt x="6645" y="3213"/>
                  <a:pt x="6625" y="3190"/>
                </a:cubicBezTo>
                <a:cubicBezTo>
                  <a:pt x="6613" y="3175"/>
                  <a:pt x="6662" y="3137"/>
                  <a:pt x="6664" y="3135"/>
                </a:cubicBezTo>
              </a:path>
              <a:path w="1096" h="685">
                <a:moveTo>
                  <a:pt x="7472" y="2652"/>
                </a:moveTo>
                <a:cubicBezTo>
                  <a:pt x="7472" y="2628"/>
                  <a:pt x="7472" y="2602"/>
                  <a:pt x="7464" y="2579"/>
                </a:cubicBezTo>
                <a:cubicBezTo>
                  <a:pt x="7454" y="2551"/>
                  <a:pt x="7438" y="2529"/>
                  <a:pt x="7409" y="2520"/>
                </a:cubicBezTo>
                <a:cubicBezTo>
                  <a:pt x="7370" y="2507"/>
                  <a:pt x="7326" y="2532"/>
                  <a:pt x="7295" y="2553"/>
                </a:cubicBezTo>
                <a:cubicBezTo>
                  <a:pt x="7253" y="2582"/>
                  <a:pt x="7214" y="2623"/>
                  <a:pt x="7194" y="2670"/>
                </a:cubicBezTo>
                <a:cubicBezTo>
                  <a:pt x="7180" y="2703"/>
                  <a:pt x="7185" y="2737"/>
                  <a:pt x="7225" y="2745"/>
                </a:cubicBezTo>
                <a:cubicBezTo>
                  <a:pt x="7272" y="2755"/>
                  <a:pt x="7333" y="2730"/>
                  <a:pt x="7374" y="2710"/>
                </a:cubicBezTo>
                <a:cubicBezTo>
                  <a:pt x="7423" y="2687"/>
                  <a:pt x="7468" y="2657"/>
                  <a:pt x="7508" y="2621"/>
                </a:cubicBezTo>
                <a:cubicBezTo>
                  <a:pt x="7525" y="2606"/>
                  <a:pt x="7538" y="2590"/>
                  <a:pt x="7551" y="2572"/>
                </a:cubicBezTo>
                <a:cubicBezTo>
                  <a:pt x="7540" y="2617"/>
                  <a:pt x="7526" y="2661"/>
                  <a:pt x="7513" y="2705"/>
                </a:cubicBezTo>
                <a:cubicBezTo>
                  <a:pt x="7493" y="2775"/>
                  <a:pt x="7474" y="2844"/>
                  <a:pt x="7454" y="2914"/>
                </a:cubicBezTo>
                <a:cubicBezTo>
                  <a:pt x="7437" y="2972"/>
                  <a:pt x="7411" y="3033"/>
                  <a:pt x="7401" y="3092"/>
                </a:cubicBezTo>
                <a:cubicBezTo>
                  <a:pt x="7396" y="3122"/>
                  <a:pt x="7393" y="3152"/>
                  <a:pt x="7389" y="3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26"/>
          <p:cNvSpPr/>
          <p:nvPr/>
        </p:nvSpPr>
        <p:spPr>
          <a:xfrm>
            <a:off x="3624120" y="3214800"/>
            <a:ext cx="669960" cy="195120"/>
          </a:xfrm>
          <a:custGeom>
            <a:avLst/>
            <a:gdLst/>
            <a:ahLst/>
            <a:rect l="l" t="t" r="r" b="b"/>
            <a:pathLst>
              <a:path w="1861" h="543">
                <a:moveTo>
                  <a:pt x="10180" y="9040"/>
                </a:moveTo>
                <a:cubicBezTo>
                  <a:pt x="10179" y="9027"/>
                  <a:pt x="10178" y="9015"/>
                  <a:pt x="10176" y="9002"/>
                </a:cubicBezTo>
                <a:cubicBezTo>
                  <a:pt x="10152" y="9031"/>
                  <a:pt x="10137" y="9060"/>
                  <a:pt x="10122" y="9095"/>
                </a:cubicBezTo>
                <a:cubicBezTo>
                  <a:pt x="10086" y="9176"/>
                  <a:pt x="10040" y="9283"/>
                  <a:pt x="10078" y="9372"/>
                </a:cubicBezTo>
                <a:cubicBezTo>
                  <a:pt x="10101" y="9427"/>
                  <a:pt x="10162" y="9437"/>
                  <a:pt x="10214" y="9426"/>
                </a:cubicBezTo>
                <a:cubicBezTo>
                  <a:pt x="10287" y="9411"/>
                  <a:pt x="10357" y="9367"/>
                  <a:pt x="10412" y="9318"/>
                </a:cubicBezTo>
                <a:cubicBezTo>
                  <a:pt x="10455" y="9279"/>
                  <a:pt x="10498" y="9224"/>
                  <a:pt x="10497" y="9162"/>
                </a:cubicBezTo>
                <a:cubicBezTo>
                  <a:pt x="10496" y="9106"/>
                  <a:pt x="10456" y="9074"/>
                  <a:pt x="10408" y="9055"/>
                </a:cubicBezTo>
                <a:cubicBezTo>
                  <a:pt x="10356" y="9035"/>
                  <a:pt x="10282" y="9030"/>
                  <a:pt x="10243" y="9074"/>
                </a:cubicBezTo>
                <a:cubicBezTo>
                  <a:pt x="10222" y="9098"/>
                  <a:pt x="10241" y="9111"/>
                  <a:pt x="10255" y="9131"/>
                </a:cubicBezTo>
              </a:path>
              <a:path w="1861" h="543">
                <a:moveTo>
                  <a:pt x="10652" y="9234"/>
                </a:moveTo>
                <a:cubicBezTo>
                  <a:pt x="10640" y="9255"/>
                  <a:pt x="10630" y="9255"/>
                  <a:pt x="10604" y="9256"/>
                </a:cubicBezTo>
                <a:cubicBezTo>
                  <a:pt x="10620" y="9239"/>
                  <a:pt x="10639" y="9239"/>
                  <a:pt x="10664" y="9231"/>
                </a:cubicBezTo>
                <a:cubicBezTo>
                  <a:pt x="10672" y="9228"/>
                  <a:pt x="10679" y="9225"/>
                  <a:pt x="10687" y="9222"/>
                </a:cubicBezTo>
              </a:path>
              <a:path w="1861" h="543">
                <a:moveTo>
                  <a:pt x="10938" y="9006"/>
                </a:moveTo>
                <a:cubicBezTo>
                  <a:pt x="10940" y="8974"/>
                  <a:pt x="10948" y="8976"/>
                  <a:pt x="10979" y="8976"/>
                </a:cubicBezTo>
                <a:cubicBezTo>
                  <a:pt x="11019" y="8975"/>
                  <a:pt x="11059" y="8981"/>
                  <a:pt x="11099" y="8984"/>
                </a:cubicBezTo>
                <a:cubicBezTo>
                  <a:pt x="11136" y="8987"/>
                  <a:pt x="11210" y="8982"/>
                  <a:pt x="11234" y="9019"/>
                </a:cubicBezTo>
                <a:cubicBezTo>
                  <a:pt x="11255" y="9051"/>
                  <a:pt x="11222" y="9104"/>
                  <a:pt x="11207" y="9131"/>
                </a:cubicBezTo>
                <a:cubicBezTo>
                  <a:pt x="11176" y="9185"/>
                  <a:pt x="11137" y="9234"/>
                  <a:pt x="11101" y="9285"/>
                </a:cubicBezTo>
                <a:cubicBezTo>
                  <a:pt x="11097" y="9290"/>
                  <a:pt x="11040" y="9363"/>
                  <a:pt x="11053" y="9373"/>
                </a:cubicBezTo>
                <a:cubicBezTo>
                  <a:pt x="11059" y="9373"/>
                  <a:pt x="11065" y="9374"/>
                  <a:pt x="11071" y="9374"/>
                </a:cubicBezTo>
              </a:path>
              <a:path w="1861" h="543">
                <a:moveTo>
                  <a:pt x="11526" y="9039"/>
                </a:moveTo>
                <a:cubicBezTo>
                  <a:pt x="11538" y="9021"/>
                  <a:pt x="11547" y="8997"/>
                  <a:pt x="11560" y="8981"/>
                </a:cubicBezTo>
                <a:cubicBezTo>
                  <a:pt x="11563" y="8979"/>
                  <a:pt x="11566" y="8976"/>
                  <a:pt x="11569" y="8974"/>
                </a:cubicBezTo>
                <a:cubicBezTo>
                  <a:pt x="11546" y="9000"/>
                  <a:pt x="11527" y="9025"/>
                  <a:pt x="11517" y="9059"/>
                </a:cubicBezTo>
                <a:cubicBezTo>
                  <a:pt x="11499" y="9119"/>
                  <a:pt x="11525" y="9158"/>
                  <a:pt x="11572" y="9193"/>
                </a:cubicBezTo>
                <a:cubicBezTo>
                  <a:pt x="11616" y="9226"/>
                  <a:pt x="11670" y="9249"/>
                  <a:pt x="11710" y="9286"/>
                </a:cubicBezTo>
                <a:cubicBezTo>
                  <a:pt x="11744" y="9317"/>
                  <a:pt x="11758" y="9354"/>
                  <a:pt x="11731" y="9394"/>
                </a:cubicBezTo>
                <a:cubicBezTo>
                  <a:pt x="11700" y="9440"/>
                  <a:pt x="11639" y="9462"/>
                  <a:pt x="11587" y="9469"/>
                </a:cubicBezTo>
                <a:cubicBezTo>
                  <a:pt x="11537" y="9475"/>
                  <a:pt x="11519" y="9458"/>
                  <a:pt x="11482" y="9431"/>
                </a:cubicBezTo>
              </a:path>
              <a:path w="1861" h="543">
                <a:moveTo>
                  <a:pt x="11622" y="8974"/>
                </a:moveTo>
                <a:cubicBezTo>
                  <a:pt x="11660" y="8942"/>
                  <a:pt x="11677" y="8923"/>
                  <a:pt x="11728" y="8930"/>
                </a:cubicBezTo>
                <a:cubicBezTo>
                  <a:pt x="11764" y="8935"/>
                  <a:pt x="11798" y="8953"/>
                  <a:pt x="11831" y="8967"/>
                </a:cubicBezTo>
                <a:cubicBezTo>
                  <a:pt x="11862" y="8980"/>
                  <a:pt x="11894" y="8990"/>
                  <a:pt x="11926" y="8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27"/>
          <p:cNvSpPr/>
          <p:nvPr/>
        </p:nvSpPr>
        <p:spPr>
          <a:xfrm>
            <a:off x="3941640" y="3774960"/>
            <a:ext cx="1305000" cy="246240"/>
          </a:xfrm>
          <a:custGeom>
            <a:avLst/>
            <a:gdLst/>
            <a:ahLst/>
            <a:rect l="l" t="t" r="r" b="b"/>
            <a:pathLst>
              <a:path w="3627" h="684">
                <a:moveTo>
                  <a:pt x="10950" y="10651"/>
                </a:moveTo>
                <a:cubicBezTo>
                  <a:pt x="10967" y="10638"/>
                  <a:pt x="10982" y="10630"/>
                  <a:pt x="11010" y="10624"/>
                </a:cubicBezTo>
                <a:cubicBezTo>
                  <a:pt x="11047" y="10616"/>
                  <a:pt x="11083" y="10611"/>
                  <a:pt x="11121" y="10616"/>
                </a:cubicBezTo>
                <a:cubicBezTo>
                  <a:pt x="11147" y="10620"/>
                  <a:pt x="11179" y="10631"/>
                  <a:pt x="11183" y="10662"/>
                </a:cubicBezTo>
                <a:cubicBezTo>
                  <a:pt x="11187" y="10697"/>
                  <a:pt x="11160" y="10733"/>
                  <a:pt x="11143" y="10760"/>
                </a:cubicBezTo>
                <a:cubicBezTo>
                  <a:pt x="11127" y="10786"/>
                  <a:pt x="11098" y="10814"/>
                  <a:pt x="11096" y="10846"/>
                </a:cubicBezTo>
                <a:cubicBezTo>
                  <a:pt x="11094" y="10879"/>
                  <a:pt x="11130" y="10897"/>
                  <a:pt x="11153" y="10914"/>
                </a:cubicBezTo>
                <a:cubicBezTo>
                  <a:pt x="11189" y="10940"/>
                  <a:pt x="11229" y="10965"/>
                  <a:pt x="11252" y="11004"/>
                </a:cubicBezTo>
                <a:cubicBezTo>
                  <a:pt x="11274" y="11041"/>
                  <a:pt x="11268" y="11080"/>
                  <a:pt x="11240" y="11112"/>
                </a:cubicBezTo>
                <a:cubicBezTo>
                  <a:pt x="11215" y="11141"/>
                  <a:pt x="11149" y="11180"/>
                  <a:pt x="11108" y="11168"/>
                </a:cubicBezTo>
                <a:cubicBezTo>
                  <a:pt x="11063" y="11155"/>
                  <a:pt x="11108" y="11091"/>
                  <a:pt x="11117" y="11073"/>
                </a:cubicBezTo>
              </a:path>
              <a:path w="3627" h="684">
                <a:moveTo>
                  <a:pt x="11738" y="10612"/>
                </a:moveTo>
                <a:cubicBezTo>
                  <a:pt x="11765" y="10610"/>
                  <a:pt x="11700" y="10658"/>
                  <a:pt x="11684" y="10675"/>
                </a:cubicBezTo>
                <a:cubicBezTo>
                  <a:pt x="11638" y="10724"/>
                  <a:pt x="11592" y="10782"/>
                  <a:pt x="11570" y="10846"/>
                </a:cubicBezTo>
                <a:cubicBezTo>
                  <a:pt x="11554" y="10893"/>
                  <a:pt x="11563" y="10942"/>
                  <a:pt x="11612" y="10964"/>
                </a:cubicBezTo>
                <a:cubicBezTo>
                  <a:pt x="11655" y="10983"/>
                  <a:pt x="11718" y="10973"/>
                  <a:pt x="11760" y="10956"/>
                </a:cubicBezTo>
                <a:cubicBezTo>
                  <a:pt x="11790" y="10944"/>
                  <a:pt x="11808" y="10928"/>
                  <a:pt x="11798" y="10899"/>
                </a:cubicBezTo>
                <a:cubicBezTo>
                  <a:pt x="11764" y="10887"/>
                  <a:pt x="11726" y="10884"/>
                  <a:pt x="11690" y="10891"/>
                </a:cubicBezTo>
                <a:cubicBezTo>
                  <a:pt x="11668" y="10895"/>
                  <a:pt x="11659" y="10901"/>
                  <a:pt x="11649" y="10916"/>
                </a:cubicBezTo>
              </a:path>
              <a:path w="3627" h="684">
                <a:moveTo>
                  <a:pt x="12104" y="10794"/>
                </a:moveTo>
                <a:cubicBezTo>
                  <a:pt x="12133" y="10790"/>
                  <a:pt x="12161" y="10784"/>
                  <a:pt x="12190" y="10779"/>
                </a:cubicBezTo>
                <a:cubicBezTo>
                  <a:pt x="12245" y="10770"/>
                  <a:pt x="12300" y="10760"/>
                  <a:pt x="12355" y="10752"/>
                </a:cubicBezTo>
                <a:cubicBezTo>
                  <a:pt x="12407" y="10745"/>
                  <a:pt x="12459" y="10736"/>
                  <a:pt x="12511" y="10731"/>
                </a:cubicBezTo>
                <a:cubicBezTo>
                  <a:pt x="12533" y="10729"/>
                  <a:pt x="12551" y="10727"/>
                  <a:pt x="12573" y="10722"/>
                </a:cubicBezTo>
              </a:path>
              <a:path w="3627" h="684">
                <a:moveTo>
                  <a:pt x="12421" y="10509"/>
                </a:moveTo>
                <a:cubicBezTo>
                  <a:pt x="12409" y="10495"/>
                  <a:pt x="12405" y="10490"/>
                  <a:pt x="12389" y="10485"/>
                </a:cubicBezTo>
                <a:cubicBezTo>
                  <a:pt x="12389" y="10513"/>
                  <a:pt x="12396" y="10541"/>
                  <a:pt x="12397" y="10571"/>
                </a:cubicBezTo>
                <a:cubicBezTo>
                  <a:pt x="12397" y="10602"/>
                  <a:pt x="12397" y="10612"/>
                  <a:pt x="12400" y="10633"/>
                </a:cubicBezTo>
              </a:path>
              <a:path w="3627" h="684">
                <a:moveTo>
                  <a:pt x="12397" y="10885"/>
                </a:moveTo>
                <a:cubicBezTo>
                  <a:pt x="12400" y="10896"/>
                  <a:pt x="12400" y="10922"/>
                  <a:pt x="12410" y="10929"/>
                </a:cubicBezTo>
                <a:cubicBezTo>
                  <a:pt x="12423" y="10932"/>
                  <a:pt x="12430" y="10931"/>
                  <a:pt x="12439" y="10925"/>
                </a:cubicBezTo>
              </a:path>
              <a:path w="3627" h="684">
                <a:moveTo>
                  <a:pt x="12877" y="10557"/>
                </a:moveTo>
                <a:cubicBezTo>
                  <a:pt x="12899" y="10577"/>
                  <a:pt x="12882" y="10597"/>
                  <a:pt x="12873" y="10627"/>
                </a:cubicBezTo>
                <a:cubicBezTo>
                  <a:pt x="12858" y="10681"/>
                  <a:pt x="12837" y="10732"/>
                  <a:pt x="12821" y="10786"/>
                </a:cubicBezTo>
                <a:cubicBezTo>
                  <a:pt x="12808" y="10829"/>
                  <a:pt x="12795" y="10872"/>
                  <a:pt x="12794" y="10917"/>
                </a:cubicBezTo>
                <a:cubicBezTo>
                  <a:pt x="12794" y="10944"/>
                  <a:pt x="12810" y="10953"/>
                  <a:pt x="12836" y="10950"/>
                </a:cubicBezTo>
                <a:cubicBezTo>
                  <a:pt x="12897" y="10942"/>
                  <a:pt x="12958" y="10908"/>
                  <a:pt x="13016" y="10889"/>
                </a:cubicBezTo>
                <a:cubicBezTo>
                  <a:pt x="13067" y="10872"/>
                  <a:pt x="13118" y="10854"/>
                  <a:pt x="13172" y="10846"/>
                </a:cubicBezTo>
                <a:cubicBezTo>
                  <a:pt x="13192" y="10843"/>
                  <a:pt x="13211" y="10840"/>
                  <a:pt x="13231" y="10837"/>
                </a:cubicBezTo>
              </a:path>
              <a:path w="3627" h="684">
                <a:moveTo>
                  <a:pt x="13077" y="10764"/>
                </a:moveTo>
                <a:cubicBezTo>
                  <a:pt x="13052" y="10780"/>
                  <a:pt x="13047" y="10796"/>
                  <a:pt x="13037" y="10824"/>
                </a:cubicBezTo>
                <a:cubicBezTo>
                  <a:pt x="13026" y="10856"/>
                  <a:pt x="13018" y="10899"/>
                  <a:pt x="13023" y="10933"/>
                </a:cubicBezTo>
                <a:cubicBezTo>
                  <a:pt x="13030" y="10978"/>
                  <a:pt x="13051" y="11010"/>
                  <a:pt x="13092" y="11030"/>
                </a:cubicBezTo>
                <a:cubicBezTo>
                  <a:pt x="13103" y="11034"/>
                  <a:pt x="13114" y="11038"/>
                  <a:pt x="13125" y="11042"/>
                </a:cubicBezTo>
              </a:path>
              <a:path w="3627" h="684">
                <a:moveTo>
                  <a:pt x="13954" y="10723"/>
                </a:moveTo>
                <a:cubicBezTo>
                  <a:pt x="13931" y="10750"/>
                  <a:pt x="13904" y="10774"/>
                  <a:pt x="13878" y="10800"/>
                </a:cubicBezTo>
                <a:cubicBezTo>
                  <a:pt x="13835" y="10843"/>
                  <a:pt x="13793" y="10886"/>
                  <a:pt x="13749" y="10928"/>
                </a:cubicBezTo>
                <a:cubicBezTo>
                  <a:pt x="13727" y="10949"/>
                  <a:pt x="13704" y="10969"/>
                  <a:pt x="13679" y="10987"/>
                </a:cubicBezTo>
              </a:path>
              <a:path w="3627" h="684">
                <a:moveTo>
                  <a:pt x="13756" y="10774"/>
                </a:moveTo>
                <a:cubicBezTo>
                  <a:pt x="13779" y="10777"/>
                  <a:pt x="13798" y="10786"/>
                  <a:pt x="13819" y="10798"/>
                </a:cubicBezTo>
                <a:cubicBezTo>
                  <a:pt x="13855" y="10818"/>
                  <a:pt x="13889" y="10833"/>
                  <a:pt x="13929" y="10840"/>
                </a:cubicBezTo>
                <a:cubicBezTo>
                  <a:pt x="13963" y="10845"/>
                  <a:pt x="13974" y="10847"/>
                  <a:pt x="13997" y="10843"/>
                </a:cubicBezTo>
              </a:path>
              <a:path w="3627" h="684">
                <a:moveTo>
                  <a:pt x="14239" y="10543"/>
                </a:moveTo>
                <a:cubicBezTo>
                  <a:pt x="14275" y="10525"/>
                  <a:pt x="14307" y="10507"/>
                  <a:pt x="14348" y="10511"/>
                </a:cubicBezTo>
                <a:cubicBezTo>
                  <a:pt x="14386" y="10515"/>
                  <a:pt x="14422" y="10533"/>
                  <a:pt x="14438" y="10569"/>
                </a:cubicBezTo>
                <a:cubicBezTo>
                  <a:pt x="14455" y="10607"/>
                  <a:pt x="14437" y="10643"/>
                  <a:pt x="14419" y="10677"/>
                </a:cubicBezTo>
                <a:cubicBezTo>
                  <a:pt x="14412" y="10689"/>
                  <a:pt x="14368" y="10741"/>
                  <a:pt x="14374" y="10756"/>
                </a:cubicBezTo>
                <a:cubicBezTo>
                  <a:pt x="14386" y="10784"/>
                  <a:pt x="14422" y="10790"/>
                  <a:pt x="14448" y="10803"/>
                </a:cubicBezTo>
                <a:cubicBezTo>
                  <a:pt x="14491" y="10824"/>
                  <a:pt x="14560" y="10851"/>
                  <a:pt x="14574" y="10903"/>
                </a:cubicBezTo>
                <a:cubicBezTo>
                  <a:pt x="14586" y="10950"/>
                  <a:pt x="14539" y="10983"/>
                  <a:pt x="14505" y="11003"/>
                </a:cubicBezTo>
                <a:cubicBezTo>
                  <a:pt x="14454" y="11033"/>
                  <a:pt x="14392" y="11046"/>
                  <a:pt x="14333" y="11043"/>
                </a:cubicBezTo>
                <a:cubicBezTo>
                  <a:pt x="14297" y="11041"/>
                  <a:pt x="14282" y="11031"/>
                  <a:pt x="14257" y="11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28"/>
          <p:cNvSpPr/>
          <p:nvPr/>
        </p:nvSpPr>
        <p:spPr>
          <a:xfrm>
            <a:off x="5934240" y="3790800"/>
            <a:ext cx="885600" cy="177840"/>
          </a:xfrm>
          <a:custGeom>
            <a:avLst/>
            <a:gdLst/>
            <a:ahLst/>
            <a:rect l="l" t="t" r="r" b="b"/>
            <a:pathLst>
              <a:path w="2458" h="494">
                <a:moveTo>
                  <a:pt x="16484" y="10786"/>
                </a:moveTo>
                <a:cubicBezTo>
                  <a:pt x="16527" y="10763"/>
                  <a:pt x="16569" y="10747"/>
                  <a:pt x="16615" y="10731"/>
                </a:cubicBezTo>
                <a:cubicBezTo>
                  <a:pt x="16685" y="10707"/>
                  <a:pt x="16761" y="10685"/>
                  <a:pt x="16833" y="10672"/>
                </a:cubicBezTo>
                <a:cubicBezTo>
                  <a:pt x="16891" y="10662"/>
                  <a:pt x="16949" y="10664"/>
                  <a:pt x="17007" y="10668"/>
                </a:cubicBezTo>
              </a:path>
              <a:path w="2458" h="494">
                <a:moveTo>
                  <a:pt x="16736" y="10853"/>
                </a:moveTo>
                <a:cubicBezTo>
                  <a:pt x="16715" y="10869"/>
                  <a:pt x="16710" y="10872"/>
                  <a:pt x="16703" y="10887"/>
                </a:cubicBezTo>
                <a:cubicBezTo>
                  <a:pt x="16744" y="10910"/>
                  <a:pt x="16800" y="10902"/>
                  <a:pt x="16848" y="10897"/>
                </a:cubicBezTo>
                <a:cubicBezTo>
                  <a:pt x="16929" y="10888"/>
                  <a:pt x="17007" y="10873"/>
                  <a:pt x="17087" y="10857"/>
                </a:cubicBezTo>
              </a:path>
              <a:path w="2458" h="494">
                <a:moveTo>
                  <a:pt x="17481" y="10624"/>
                </a:moveTo>
                <a:cubicBezTo>
                  <a:pt x="17503" y="10600"/>
                  <a:pt x="17520" y="10586"/>
                  <a:pt x="17557" y="10578"/>
                </a:cubicBezTo>
                <a:cubicBezTo>
                  <a:pt x="17627" y="10562"/>
                  <a:pt x="17752" y="10554"/>
                  <a:pt x="17800" y="10621"/>
                </a:cubicBezTo>
                <a:cubicBezTo>
                  <a:pt x="17829" y="10662"/>
                  <a:pt x="17805" y="10711"/>
                  <a:pt x="17784" y="10748"/>
                </a:cubicBezTo>
                <a:cubicBezTo>
                  <a:pt x="17762" y="10788"/>
                  <a:pt x="17722" y="10820"/>
                  <a:pt x="17705" y="10862"/>
                </a:cubicBezTo>
                <a:cubicBezTo>
                  <a:pt x="17688" y="10902"/>
                  <a:pt x="17734" y="10906"/>
                  <a:pt x="17762" y="10906"/>
                </a:cubicBezTo>
                <a:cubicBezTo>
                  <a:pt x="17835" y="10907"/>
                  <a:pt x="17909" y="10894"/>
                  <a:pt x="17981" y="10881"/>
                </a:cubicBezTo>
                <a:cubicBezTo>
                  <a:pt x="18045" y="10869"/>
                  <a:pt x="18106" y="10852"/>
                  <a:pt x="18168" y="10833"/>
                </a:cubicBezTo>
              </a:path>
              <a:path w="2458" h="494">
                <a:moveTo>
                  <a:pt x="18410" y="10561"/>
                </a:moveTo>
                <a:cubicBezTo>
                  <a:pt x="18433" y="10554"/>
                  <a:pt x="18456" y="10546"/>
                  <a:pt x="18480" y="10543"/>
                </a:cubicBezTo>
                <a:cubicBezTo>
                  <a:pt x="18540" y="10535"/>
                  <a:pt x="18603" y="10533"/>
                  <a:pt x="18664" y="10532"/>
                </a:cubicBezTo>
                <a:cubicBezTo>
                  <a:pt x="18738" y="10530"/>
                  <a:pt x="18836" y="10521"/>
                  <a:pt x="18906" y="10549"/>
                </a:cubicBezTo>
                <a:cubicBezTo>
                  <a:pt x="18957" y="10569"/>
                  <a:pt x="18940" y="10612"/>
                  <a:pt x="18916" y="10648"/>
                </a:cubicBezTo>
                <a:cubicBezTo>
                  <a:pt x="18863" y="10729"/>
                  <a:pt x="18791" y="10802"/>
                  <a:pt x="18731" y="10878"/>
                </a:cubicBezTo>
                <a:cubicBezTo>
                  <a:pt x="18692" y="10927"/>
                  <a:pt x="18675" y="10964"/>
                  <a:pt x="18668" y="11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29"/>
          <p:cNvSpPr/>
          <p:nvPr/>
        </p:nvSpPr>
        <p:spPr>
          <a:xfrm>
            <a:off x="1947960" y="4191120"/>
            <a:ext cx="765000" cy="195120"/>
          </a:xfrm>
          <a:custGeom>
            <a:avLst/>
            <a:gdLst/>
            <a:ahLst/>
            <a:rect l="l" t="t" r="r" b="b"/>
            <a:pathLst>
              <a:path w="2126" h="544">
                <a:moveTo>
                  <a:pt x="5411" y="12159"/>
                </a:moveTo>
                <a:cubicBezTo>
                  <a:pt x="5433" y="12130"/>
                  <a:pt x="5451" y="12110"/>
                  <a:pt x="5479" y="12087"/>
                </a:cubicBezTo>
                <a:cubicBezTo>
                  <a:pt x="5528" y="12048"/>
                  <a:pt x="5587" y="12022"/>
                  <a:pt x="5645" y="11999"/>
                </a:cubicBezTo>
                <a:cubicBezTo>
                  <a:pt x="5745" y="11960"/>
                  <a:pt x="5856" y="11951"/>
                  <a:pt x="5959" y="11983"/>
                </a:cubicBezTo>
                <a:cubicBezTo>
                  <a:pt x="6011" y="11999"/>
                  <a:pt x="6064" y="12024"/>
                  <a:pt x="6106" y="12059"/>
                </a:cubicBezTo>
                <a:cubicBezTo>
                  <a:pt x="6140" y="12087"/>
                  <a:pt x="6160" y="12128"/>
                  <a:pt x="6180" y="12166"/>
                </a:cubicBezTo>
                <a:cubicBezTo>
                  <a:pt x="6163" y="12169"/>
                  <a:pt x="6149" y="12174"/>
                  <a:pt x="6129" y="12171"/>
                </a:cubicBezTo>
                <a:cubicBezTo>
                  <a:pt x="6114" y="12169"/>
                  <a:pt x="6096" y="12161"/>
                  <a:pt x="6083" y="12154"/>
                </a:cubicBezTo>
                <a:cubicBezTo>
                  <a:pt x="6050" y="12137"/>
                  <a:pt x="6020" y="12112"/>
                  <a:pt x="5990" y="12091"/>
                </a:cubicBezTo>
                <a:cubicBezTo>
                  <a:pt x="6014" y="12115"/>
                  <a:pt x="6035" y="12137"/>
                  <a:pt x="6067" y="12153"/>
                </a:cubicBezTo>
                <a:cubicBezTo>
                  <a:pt x="6106" y="12172"/>
                  <a:pt x="6157" y="12201"/>
                  <a:pt x="6198" y="12174"/>
                </a:cubicBezTo>
                <a:cubicBezTo>
                  <a:pt x="6227" y="12155"/>
                  <a:pt x="6231" y="12112"/>
                  <a:pt x="6242" y="12082"/>
                </a:cubicBezTo>
                <a:cubicBezTo>
                  <a:pt x="6256" y="12045"/>
                  <a:pt x="6273" y="11994"/>
                  <a:pt x="6302" y="11966"/>
                </a:cubicBezTo>
                <a:cubicBezTo>
                  <a:pt x="6341" y="11929"/>
                  <a:pt x="6397" y="11915"/>
                  <a:pt x="6447" y="11899"/>
                </a:cubicBezTo>
              </a:path>
              <a:path w="2126" h="544">
                <a:moveTo>
                  <a:pt x="5571" y="12127"/>
                </a:moveTo>
                <a:cubicBezTo>
                  <a:pt x="5552" y="12116"/>
                  <a:pt x="5543" y="12107"/>
                  <a:pt x="5527" y="12095"/>
                </a:cubicBezTo>
                <a:cubicBezTo>
                  <a:pt x="5550" y="12069"/>
                  <a:pt x="5563" y="12046"/>
                  <a:pt x="5596" y="12023"/>
                </a:cubicBezTo>
                <a:cubicBezTo>
                  <a:pt x="5672" y="11970"/>
                  <a:pt x="5759" y="11926"/>
                  <a:pt x="5843" y="11888"/>
                </a:cubicBezTo>
                <a:cubicBezTo>
                  <a:pt x="6132" y="11758"/>
                  <a:pt x="6449" y="11659"/>
                  <a:pt x="6766" y="11643"/>
                </a:cubicBezTo>
                <a:cubicBezTo>
                  <a:pt x="6967" y="11633"/>
                  <a:pt x="7176" y="11668"/>
                  <a:pt x="7321" y="11818"/>
                </a:cubicBezTo>
                <a:cubicBezTo>
                  <a:pt x="7409" y="11909"/>
                  <a:pt x="7437" y="12043"/>
                  <a:pt x="7522" y="12132"/>
                </a:cubicBezTo>
                <a:cubicBezTo>
                  <a:pt x="7527" y="12134"/>
                  <a:pt x="7531" y="12136"/>
                  <a:pt x="7536" y="12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0"/>
          <p:cNvSpPr/>
          <p:nvPr/>
        </p:nvSpPr>
        <p:spPr>
          <a:xfrm>
            <a:off x="3171960" y="4334040"/>
            <a:ext cx="1312560" cy="261720"/>
          </a:xfrm>
          <a:custGeom>
            <a:avLst/>
            <a:gdLst/>
            <a:ahLst/>
            <a:rect l="l" t="t" r="r" b="b"/>
            <a:pathLst>
              <a:path w="3645" h="730">
                <a:moveTo>
                  <a:pt x="9014" y="12050"/>
                </a:moveTo>
                <a:cubicBezTo>
                  <a:pt x="9014" y="12050"/>
                  <a:pt x="9022" y="12084"/>
                  <a:pt x="9003" y="12135"/>
                </a:cubicBezTo>
                <a:cubicBezTo>
                  <a:pt x="8970" y="12224"/>
                  <a:pt x="8935" y="12312"/>
                  <a:pt x="8901" y="12400"/>
                </a:cubicBezTo>
                <a:cubicBezTo>
                  <a:pt x="8868" y="12487"/>
                  <a:pt x="8809" y="12593"/>
                  <a:pt x="8812" y="12689"/>
                </a:cubicBezTo>
                <a:cubicBezTo>
                  <a:pt x="8814" y="12738"/>
                  <a:pt x="8862" y="12736"/>
                  <a:pt x="8898" y="12733"/>
                </a:cubicBezTo>
                <a:cubicBezTo>
                  <a:pt x="8967" y="12727"/>
                  <a:pt x="9035" y="12701"/>
                  <a:pt x="9101" y="12680"/>
                </a:cubicBezTo>
                <a:cubicBezTo>
                  <a:pt x="9190" y="12651"/>
                  <a:pt x="9287" y="12624"/>
                  <a:pt x="9372" y="12583"/>
                </a:cubicBezTo>
                <a:cubicBezTo>
                  <a:pt x="9400" y="12569"/>
                  <a:pt x="9446" y="12552"/>
                  <a:pt x="9467" y="12527"/>
                </a:cubicBezTo>
                <a:cubicBezTo>
                  <a:pt x="9467" y="12523"/>
                  <a:pt x="9467" y="12518"/>
                  <a:pt x="9467" y="12514"/>
                </a:cubicBezTo>
              </a:path>
              <a:path w="3645" h="730">
                <a:moveTo>
                  <a:pt x="9267" y="12280"/>
                </a:moveTo>
                <a:cubicBezTo>
                  <a:pt x="9244" y="12297"/>
                  <a:pt x="9243" y="12319"/>
                  <a:pt x="9235" y="12347"/>
                </a:cubicBezTo>
                <a:cubicBezTo>
                  <a:pt x="9220" y="12402"/>
                  <a:pt x="9214" y="12457"/>
                  <a:pt x="9207" y="12513"/>
                </a:cubicBezTo>
                <a:cubicBezTo>
                  <a:pt x="9200" y="12564"/>
                  <a:pt x="9193" y="12614"/>
                  <a:pt x="9209" y="12664"/>
                </a:cubicBezTo>
                <a:cubicBezTo>
                  <a:pt x="9222" y="12703"/>
                  <a:pt x="9242" y="12722"/>
                  <a:pt x="9283" y="12725"/>
                </a:cubicBezTo>
                <a:cubicBezTo>
                  <a:pt x="9292" y="12725"/>
                  <a:pt x="9302" y="12724"/>
                  <a:pt x="9311" y="12724"/>
                </a:cubicBezTo>
              </a:path>
              <a:path w="3645" h="730">
                <a:moveTo>
                  <a:pt x="9660" y="12449"/>
                </a:moveTo>
                <a:cubicBezTo>
                  <a:pt x="9630" y="12441"/>
                  <a:pt x="9636" y="12441"/>
                  <a:pt x="9614" y="12462"/>
                </a:cubicBezTo>
                <a:cubicBezTo>
                  <a:pt x="9594" y="12481"/>
                  <a:pt x="9581" y="12505"/>
                  <a:pt x="9577" y="12533"/>
                </a:cubicBezTo>
                <a:cubicBezTo>
                  <a:pt x="9573" y="12561"/>
                  <a:pt x="9589" y="12574"/>
                  <a:pt x="9616" y="12574"/>
                </a:cubicBezTo>
                <a:cubicBezTo>
                  <a:pt x="9679" y="12574"/>
                  <a:pt x="9756" y="12520"/>
                  <a:pt x="9816" y="12557"/>
                </a:cubicBezTo>
                <a:cubicBezTo>
                  <a:pt x="9845" y="12575"/>
                  <a:pt x="9857" y="12618"/>
                  <a:pt x="9871" y="12647"/>
                </a:cubicBezTo>
                <a:cubicBezTo>
                  <a:pt x="9881" y="12668"/>
                  <a:pt x="9894" y="12706"/>
                  <a:pt x="9921" y="12707"/>
                </a:cubicBezTo>
                <a:cubicBezTo>
                  <a:pt x="9953" y="12709"/>
                  <a:pt x="9983" y="12672"/>
                  <a:pt x="10000" y="12651"/>
                </a:cubicBezTo>
                <a:cubicBezTo>
                  <a:pt x="10035" y="12608"/>
                  <a:pt x="10065" y="12556"/>
                  <a:pt x="10093" y="12509"/>
                </a:cubicBezTo>
                <a:cubicBezTo>
                  <a:pt x="10115" y="12471"/>
                  <a:pt x="10132" y="12432"/>
                  <a:pt x="10167" y="12404"/>
                </a:cubicBezTo>
                <a:cubicBezTo>
                  <a:pt x="10184" y="12390"/>
                  <a:pt x="10195" y="12399"/>
                  <a:pt x="10213" y="12406"/>
                </a:cubicBezTo>
              </a:path>
              <a:path w="3645" h="730">
                <a:moveTo>
                  <a:pt x="10678" y="12500"/>
                </a:moveTo>
                <a:cubicBezTo>
                  <a:pt x="10689" y="12469"/>
                  <a:pt x="10710" y="12467"/>
                  <a:pt x="10743" y="12462"/>
                </a:cubicBezTo>
                <a:cubicBezTo>
                  <a:pt x="10797" y="12453"/>
                  <a:pt x="10852" y="12450"/>
                  <a:pt x="10907" y="12447"/>
                </a:cubicBezTo>
                <a:cubicBezTo>
                  <a:pt x="10976" y="12443"/>
                  <a:pt x="11044" y="12438"/>
                  <a:pt x="11113" y="12436"/>
                </a:cubicBezTo>
                <a:cubicBezTo>
                  <a:pt x="11166" y="12434"/>
                  <a:pt x="11219" y="12431"/>
                  <a:pt x="11272" y="12429"/>
                </a:cubicBezTo>
                <a:cubicBezTo>
                  <a:pt x="11292" y="12429"/>
                  <a:pt x="11296" y="12430"/>
                  <a:pt x="11308" y="12426"/>
                </a:cubicBezTo>
              </a:path>
              <a:path w="3645" h="730">
                <a:moveTo>
                  <a:pt x="11049" y="12270"/>
                </a:moveTo>
                <a:cubicBezTo>
                  <a:pt x="11021" y="12278"/>
                  <a:pt x="11028" y="12300"/>
                  <a:pt x="11023" y="12329"/>
                </a:cubicBezTo>
                <a:cubicBezTo>
                  <a:pt x="11013" y="12385"/>
                  <a:pt x="11001" y="12441"/>
                  <a:pt x="10996" y="12497"/>
                </a:cubicBezTo>
                <a:cubicBezTo>
                  <a:pt x="10990" y="12557"/>
                  <a:pt x="10993" y="12619"/>
                  <a:pt x="10982" y="12678"/>
                </a:cubicBezTo>
                <a:cubicBezTo>
                  <a:pt x="10979" y="12689"/>
                  <a:pt x="10976" y="12699"/>
                  <a:pt x="10973" y="12710"/>
                </a:cubicBezTo>
              </a:path>
              <a:path w="3645" h="730">
                <a:moveTo>
                  <a:pt x="12254" y="12177"/>
                </a:moveTo>
                <a:cubicBezTo>
                  <a:pt x="12294" y="12140"/>
                  <a:pt x="12268" y="12156"/>
                  <a:pt x="12234" y="12177"/>
                </a:cubicBezTo>
                <a:cubicBezTo>
                  <a:pt x="12177" y="12212"/>
                  <a:pt x="12111" y="12261"/>
                  <a:pt x="12078" y="12321"/>
                </a:cubicBezTo>
                <a:cubicBezTo>
                  <a:pt x="12051" y="12370"/>
                  <a:pt x="12073" y="12401"/>
                  <a:pt x="12115" y="12429"/>
                </a:cubicBezTo>
                <a:cubicBezTo>
                  <a:pt x="12184" y="12475"/>
                  <a:pt x="12271" y="12494"/>
                  <a:pt x="12330" y="12556"/>
                </a:cubicBezTo>
                <a:cubicBezTo>
                  <a:pt x="12371" y="12599"/>
                  <a:pt x="12371" y="12652"/>
                  <a:pt x="12333" y="12697"/>
                </a:cubicBezTo>
                <a:cubicBezTo>
                  <a:pt x="12294" y="12743"/>
                  <a:pt x="12230" y="12768"/>
                  <a:pt x="12170" y="12766"/>
                </a:cubicBezTo>
                <a:cubicBezTo>
                  <a:pt x="12110" y="12764"/>
                  <a:pt x="12095" y="12717"/>
                  <a:pt x="12113" y="12666"/>
                </a:cubicBezTo>
                <a:cubicBezTo>
                  <a:pt x="12145" y="12576"/>
                  <a:pt x="12221" y="12501"/>
                  <a:pt x="12279" y="12428"/>
                </a:cubicBezTo>
                <a:cubicBezTo>
                  <a:pt x="12338" y="12354"/>
                  <a:pt x="12436" y="12261"/>
                  <a:pt x="12456" y="12164"/>
                </a:cubicBezTo>
                <a:cubicBezTo>
                  <a:pt x="12456" y="12155"/>
                  <a:pt x="12455" y="12146"/>
                  <a:pt x="12455" y="12137"/>
                </a:cubicBezTo>
                <a:cubicBezTo>
                  <a:pt x="12415" y="12107"/>
                  <a:pt x="12380" y="12115"/>
                  <a:pt x="12330" y="12128"/>
                </a:cubicBezTo>
                <a:cubicBezTo>
                  <a:pt x="12273" y="12142"/>
                  <a:pt x="12219" y="12164"/>
                  <a:pt x="12164" y="12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31"/>
          <p:cNvSpPr/>
          <p:nvPr/>
        </p:nvSpPr>
        <p:spPr>
          <a:xfrm>
            <a:off x="3319560" y="4819680"/>
            <a:ext cx="387360" cy="309600"/>
          </a:xfrm>
          <a:custGeom>
            <a:avLst/>
            <a:gdLst/>
            <a:ahLst/>
            <a:rect l="l" t="t" r="r" b="b"/>
            <a:pathLst>
              <a:path w="1074" h="859">
                <a:moveTo>
                  <a:pt x="9221" y="14025"/>
                </a:moveTo>
                <a:cubicBezTo>
                  <a:pt x="9241" y="14011"/>
                  <a:pt x="9262" y="14007"/>
                  <a:pt x="9282" y="13995"/>
                </a:cubicBezTo>
                <a:cubicBezTo>
                  <a:pt x="9285" y="13992"/>
                  <a:pt x="9289" y="13989"/>
                  <a:pt x="9292" y="13986"/>
                </a:cubicBezTo>
                <a:cubicBezTo>
                  <a:pt x="9288" y="14004"/>
                  <a:pt x="9282" y="14022"/>
                  <a:pt x="9278" y="14040"/>
                </a:cubicBezTo>
                <a:cubicBezTo>
                  <a:pt x="9271" y="14074"/>
                  <a:pt x="9262" y="14107"/>
                  <a:pt x="9257" y="14141"/>
                </a:cubicBezTo>
                <a:cubicBezTo>
                  <a:pt x="9254" y="14159"/>
                  <a:pt x="9241" y="14217"/>
                  <a:pt x="9254" y="14234"/>
                </a:cubicBezTo>
                <a:cubicBezTo>
                  <a:pt x="9271" y="14256"/>
                  <a:pt x="9292" y="14241"/>
                  <a:pt x="9312" y="14227"/>
                </a:cubicBezTo>
                <a:cubicBezTo>
                  <a:pt x="9353" y="14198"/>
                  <a:pt x="9391" y="14163"/>
                  <a:pt x="9429" y="14130"/>
                </a:cubicBezTo>
                <a:cubicBezTo>
                  <a:pt x="9456" y="14107"/>
                  <a:pt x="9483" y="14073"/>
                  <a:pt x="9521" y="14085"/>
                </a:cubicBezTo>
                <a:cubicBezTo>
                  <a:pt x="9550" y="14094"/>
                  <a:pt x="9564" y="14132"/>
                  <a:pt x="9582" y="14154"/>
                </a:cubicBezTo>
                <a:cubicBezTo>
                  <a:pt x="9613" y="14191"/>
                  <a:pt x="9653" y="14221"/>
                  <a:pt x="9705" y="14214"/>
                </a:cubicBezTo>
                <a:cubicBezTo>
                  <a:pt x="9753" y="14207"/>
                  <a:pt x="9801" y="14166"/>
                  <a:pt x="9826" y="14127"/>
                </a:cubicBezTo>
                <a:cubicBezTo>
                  <a:pt x="9845" y="14097"/>
                  <a:pt x="9860" y="14055"/>
                  <a:pt x="9861" y="14020"/>
                </a:cubicBezTo>
                <a:cubicBezTo>
                  <a:pt x="9862" y="13999"/>
                  <a:pt x="9860" y="13973"/>
                  <a:pt x="9848" y="13955"/>
                </a:cubicBezTo>
                <a:cubicBezTo>
                  <a:pt x="9843" y="13952"/>
                  <a:pt x="9838" y="13948"/>
                  <a:pt x="9833" y="13945"/>
                </a:cubicBezTo>
              </a:path>
              <a:path w="1074" h="859">
                <a:moveTo>
                  <a:pt x="10288" y="13453"/>
                </a:moveTo>
                <a:cubicBezTo>
                  <a:pt x="10293" y="13432"/>
                  <a:pt x="10298" y="13426"/>
                  <a:pt x="10281" y="13408"/>
                </a:cubicBezTo>
                <a:cubicBezTo>
                  <a:pt x="10266" y="13392"/>
                  <a:pt x="10239" y="13389"/>
                  <a:pt x="10218" y="13389"/>
                </a:cubicBezTo>
                <a:cubicBezTo>
                  <a:pt x="10189" y="13389"/>
                  <a:pt x="10163" y="13395"/>
                  <a:pt x="10137" y="13407"/>
                </a:cubicBezTo>
                <a:cubicBezTo>
                  <a:pt x="10108" y="13420"/>
                  <a:pt x="10086" y="13439"/>
                  <a:pt x="10065" y="13463"/>
                </a:cubicBezTo>
                <a:cubicBezTo>
                  <a:pt x="10049" y="13482"/>
                  <a:pt x="10043" y="13497"/>
                  <a:pt x="10046" y="13521"/>
                </a:cubicBezTo>
                <a:cubicBezTo>
                  <a:pt x="10077" y="13532"/>
                  <a:pt x="10090" y="13529"/>
                  <a:pt x="10120" y="13513"/>
                </a:cubicBezTo>
                <a:cubicBezTo>
                  <a:pt x="10154" y="13494"/>
                  <a:pt x="10186" y="13469"/>
                  <a:pt x="10215" y="13443"/>
                </a:cubicBezTo>
                <a:cubicBezTo>
                  <a:pt x="10224" y="13435"/>
                  <a:pt x="10267" y="13386"/>
                  <a:pt x="10281" y="13388"/>
                </a:cubicBezTo>
                <a:cubicBezTo>
                  <a:pt x="10283" y="13391"/>
                  <a:pt x="10285" y="13394"/>
                  <a:pt x="10287" y="13397"/>
                </a:cubicBezTo>
                <a:cubicBezTo>
                  <a:pt x="10278" y="13433"/>
                  <a:pt x="10264" y="13468"/>
                  <a:pt x="10254" y="13504"/>
                </a:cubicBezTo>
                <a:cubicBezTo>
                  <a:pt x="10237" y="13563"/>
                  <a:pt x="10223" y="13624"/>
                  <a:pt x="10217" y="13685"/>
                </a:cubicBezTo>
                <a:cubicBezTo>
                  <a:pt x="10214" y="13710"/>
                  <a:pt x="10218" y="13750"/>
                  <a:pt x="10240" y="13767"/>
                </a:cubicBezTo>
                <a:cubicBezTo>
                  <a:pt x="10256" y="13773"/>
                  <a:pt x="10263" y="13775"/>
                  <a:pt x="10275" y="137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32"/>
          <p:cNvSpPr/>
          <p:nvPr/>
        </p:nvSpPr>
        <p:spPr>
          <a:xfrm>
            <a:off x="4327560" y="4830840"/>
            <a:ext cx="628560" cy="272880"/>
          </a:xfrm>
          <a:custGeom>
            <a:avLst/>
            <a:gdLst/>
            <a:ahLst/>
            <a:rect l="l" t="t" r="r" b="b"/>
            <a:pathLst>
              <a:path w="1745" h="759">
                <a:moveTo>
                  <a:pt x="12441" y="14066"/>
                </a:moveTo>
                <a:cubicBezTo>
                  <a:pt x="12420" y="14082"/>
                  <a:pt x="12424" y="14083"/>
                  <a:pt x="12400" y="14079"/>
                </a:cubicBezTo>
                <a:cubicBezTo>
                  <a:pt x="12416" y="14036"/>
                  <a:pt x="12439" y="14003"/>
                  <a:pt x="12465" y="13965"/>
                </a:cubicBezTo>
                <a:cubicBezTo>
                  <a:pt x="12507" y="13905"/>
                  <a:pt x="12547" y="13843"/>
                  <a:pt x="12591" y="13784"/>
                </a:cubicBezTo>
                <a:cubicBezTo>
                  <a:pt x="12632" y="13729"/>
                  <a:pt x="12672" y="13673"/>
                  <a:pt x="12715" y="13620"/>
                </a:cubicBezTo>
                <a:cubicBezTo>
                  <a:pt x="12740" y="13589"/>
                  <a:pt x="12758" y="13574"/>
                  <a:pt x="12790" y="13556"/>
                </a:cubicBezTo>
                <a:cubicBezTo>
                  <a:pt x="12805" y="13590"/>
                  <a:pt x="12810" y="13610"/>
                  <a:pt x="12809" y="13651"/>
                </a:cubicBezTo>
                <a:cubicBezTo>
                  <a:pt x="12808" y="13716"/>
                  <a:pt x="12802" y="13782"/>
                  <a:pt x="12794" y="13846"/>
                </a:cubicBezTo>
                <a:cubicBezTo>
                  <a:pt x="12787" y="13901"/>
                  <a:pt x="12777" y="13954"/>
                  <a:pt x="12763" y="14007"/>
                </a:cubicBezTo>
                <a:cubicBezTo>
                  <a:pt x="12754" y="14041"/>
                  <a:pt x="12746" y="14050"/>
                  <a:pt x="12724" y="14070"/>
                </a:cubicBezTo>
              </a:path>
              <a:path w="1745" h="759">
                <a:moveTo>
                  <a:pt x="12590" y="13868"/>
                </a:moveTo>
                <a:cubicBezTo>
                  <a:pt x="12590" y="13844"/>
                  <a:pt x="12604" y="13850"/>
                  <a:pt x="12633" y="13853"/>
                </a:cubicBezTo>
                <a:cubicBezTo>
                  <a:pt x="12670" y="13857"/>
                  <a:pt x="12707" y="13861"/>
                  <a:pt x="12743" y="13865"/>
                </a:cubicBezTo>
                <a:cubicBezTo>
                  <a:pt x="12797" y="13871"/>
                  <a:pt x="12852" y="13874"/>
                  <a:pt x="12906" y="13878"/>
                </a:cubicBezTo>
                <a:cubicBezTo>
                  <a:pt x="12950" y="13881"/>
                  <a:pt x="12993" y="13881"/>
                  <a:pt x="13037" y="13882"/>
                </a:cubicBezTo>
              </a:path>
              <a:path w="1745" h="759">
                <a:moveTo>
                  <a:pt x="13166" y="13872"/>
                </a:moveTo>
                <a:cubicBezTo>
                  <a:pt x="13183" y="13866"/>
                  <a:pt x="13218" y="13858"/>
                  <a:pt x="13217" y="13833"/>
                </a:cubicBezTo>
                <a:cubicBezTo>
                  <a:pt x="13215" y="13804"/>
                  <a:pt x="13194" y="13788"/>
                  <a:pt x="13169" y="13780"/>
                </a:cubicBezTo>
                <a:cubicBezTo>
                  <a:pt x="13132" y="13768"/>
                  <a:pt x="13093" y="13778"/>
                  <a:pt x="13059" y="13793"/>
                </a:cubicBezTo>
                <a:cubicBezTo>
                  <a:pt x="13019" y="13811"/>
                  <a:pt x="12985" y="13837"/>
                  <a:pt x="12976" y="13880"/>
                </a:cubicBezTo>
                <a:cubicBezTo>
                  <a:pt x="13015" y="13883"/>
                  <a:pt x="13038" y="13881"/>
                  <a:pt x="13078" y="13860"/>
                </a:cubicBezTo>
                <a:cubicBezTo>
                  <a:pt x="13165" y="13814"/>
                  <a:pt x="13246" y="13742"/>
                  <a:pt x="13309" y="13667"/>
                </a:cubicBezTo>
                <a:cubicBezTo>
                  <a:pt x="13347" y="13621"/>
                  <a:pt x="13381" y="13567"/>
                  <a:pt x="13396" y="13509"/>
                </a:cubicBezTo>
                <a:cubicBezTo>
                  <a:pt x="13398" y="13488"/>
                  <a:pt x="13398" y="13481"/>
                  <a:pt x="13375" y="13490"/>
                </a:cubicBezTo>
                <a:cubicBezTo>
                  <a:pt x="13342" y="13537"/>
                  <a:pt x="13319" y="13584"/>
                  <a:pt x="13300" y="13639"/>
                </a:cubicBezTo>
                <a:cubicBezTo>
                  <a:pt x="13278" y="13702"/>
                  <a:pt x="13262" y="13771"/>
                  <a:pt x="13271" y="13838"/>
                </a:cubicBezTo>
                <a:cubicBezTo>
                  <a:pt x="13276" y="13878"/>
                  <a:pt x="13292" y="13894"/>
                  <a:pt x="13319" y="13920"/>
                </a:cubicBezTo>
              </a:path>
              <a:path w="1745" h="759">
                <a:moveTo>
                  <a:pt x="13566" y="13835"/>
                </a:moveTo>
                <a:cubicBezTo>
                  <a:pt x="13568" y="13805"/>
                  <a:pt x="13563" y="13790"/>
                  <a:pt x="13529" y="13783"/>
                </a:cubicBezTo>
                <a:cubicBezTo>
                  <a:pt x="13496" y="13776"/>
                  <a:pt x="13458" y="13794"/>
                  <a:pt x="13433" y="13813"/>
                </a:cubicBezTo>
                <a:cubicBezTo>
                  <a:pt x="13409" y="13831"/>
                  <a:pt x="13393" y="13849"/>
                  <a:pt x="13397" y="13878"/>
                </a:cubicBezTo>
                <a:cubicBezTo>
                  <a:pt x="13443" y="13879"/>
                  <a:pt x="13477" y="13859"/>
                  <a:pt x="13516" y="13835"/>
                </a:cubicBezTo>
                <a:cubicBezTo>
                  <a:pt x="13585" y="13792"/>
                  <a:pt x="13638" y="13739"/>
                  <a:pt x="13690" y="13677"/>
                </a:cubicBezTo>
                <a:cubicBezTo>
                  <a:pt x="13722" y="13638"/>
                  <a:pt x="13749" y="13597"/>
                  <a:pt x="13764" y="13549"/>
                </a:cubicBezTo>
                <a:cubicBezTo>
                  <a:pt x="13725" y="13581"/>
                  <a:pt x="13700" y="13635"/>
                  <a:pt x="13684" y="13685"/>
                </a:cubicBezTo>
                <a:cubicBezTo>
                  <a:pt x="13661" y="13754"/>
                  <a:pt x="13636" y="13839"/>
                  <a:pt x="13655" y="13912"/>
                </a:cubicBezTo>
                <a:cubicBezTo>
                  <a:pt x="13661" y="13925"/>
                  <a:pt x="13668" y="13939"/>
                  <a:pt x="13674" y="13952"/>
                </a:cubicBezTo>
              </a:path>
              <a:path w="1745" h="759">
                <a:moveTo>
                  <a:pt x="12149" y="13420"/>
                </a:moveTo>
                <a:cubicBezTo>
                  <a:pt x="12129" y="13480"/>
                  <a:pt x="12104" y="13535"/>
                  <a:pt x="12085" y="13595"/>
                </a:cubicBezTo>
                <a:cubicBezTo>
                  <a:pt x="12055" y="13690"/>
                  <a:pt x="12026" y="13790"/>
                  <a:pt x="12020" y="13890"/>
                </a:cubicBezTo>
                <a:cubicBezTo>
                  <a:pt x="12013" y="13996"/>
                  <a:pt x="12034" y="14082"/>
                  <a:pt x="12073" y="14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33"/>
          <p:cNvSpPr/>
          <p:nvPr/>
        </p:nvSpPr>
        <p:spPr>
          <a:xfrm>
            <a:off x="5211720" y="4836960"/>
            <a:ext cx="1022400" cy="317520"/>
          </a:xfrm>
          <a:custGeom>
            <a:avLst/>
            <a:gdLst/>
            <a:ahLst/>
            <a:rect l="l" t="t" r="r" b="b"/>
            <a:pathLst>
              <a:path w="2841" h="885">
                <a:moveTo>
                  <a:pt x="14478" y="14139"/>
                </a:moveTo>
                <a:cubicBezTo>
                  <a:pt x="14496" y="14176"/>
                  <a:pt x="14509" y="14210"/>
                  <a:pt x="14520" y="14250"/>
                </a:cubicBezTo>
                <a:cubicBezTo>
                  <a:pt x="14526" y="14274"/>
                  <a:pt x="14530" y="14294"/>
                  <a:pt x="14530" y="14319"/>
                </a:cubicBezTo>
                <a:cubicBezTo>
                  <a:pt x="14540" y="14247"/>
                  <a:pt x="14558" y="14179"/>
                  <a:pt x="14584" y="14111"/>
                </a:cubicBezTo>
                <a:cubicBezTo>
                  <a:pt x="14620" y="14017"/>
                  <a:pt x="14668" y="13927"/>
                  <a:pt x="14725" y="13844"/>
                </a:cubicBezTo>
                <a:cubicBezTo>
                  <a:pt x="14754" y="13802"/>
                  <a:pt x="14802" y="13729"/>
                  <a:pt x="14862" y="13734"/>
                </a:cubicBezTo>
                <a:cubicBezTo>
                  <a:pt x="14868" y="13737"/>
                  <a:pt x="14874" y="13740"/>
                  <a:pt x="14880" y="13743"/>
                </a:cubicBezTo>
                <a:cubicBezTo>
                  <a:pt x="14888" y="13793"/>
                  <a:pt x="14875" y="13825"/>
                  <a:pt x="14848" y="13869"/>
                </a:cubicBezTo>
                <a:cubicBezTo>
                  <a:pt x="14816" y="13920"/>
                  <a:pt x="14771" y="13960"/>
                  <a:pt x="14720" y="13991"/>
                </a:cubicBezTo>
                <a:cubicBezTo>
                  <a:pt x="14711" y="13997"/>
                  <a:pt x="14644" y="14041"/>
                  <a:pt x="14647" y="14007"/>
                </a:cubicBezTo>
                <a:cubicBezTo>
                  <a:pt x="14653" y="14003"/>
                  <a:pt x="14659" y="13999"/>
                  <a:pt x="14665" y="13995"/>
                </a:cubicBezTo>
              </a:path>
              <a:path w="2841" h="885">
                <a:moveTo>
                  <a:pt x="15078" y="13883"/>
                </a:moveTo>
                <a:cubicBezTo>
                  <a:pt x="15074" y="13917"/>
                  <a:pt x="15052" y="13927"/>
                  <a:pt x="15033" y="13954"/>
                </a:cubicBezTo>
                <a:cubicBezTo>
                  <a:pt x="15021" y="13971"/>
                  <a:pt x="14992" y="14014"/>
                  <a:pt x="15013" y="14035"/>
                </a:cubicBezTo>
                <a:cubicBezTo>
                  <a:pt x="15039" y="14061"/>
                  <a:pt x="15104" y="14026"/>
                  <a:pt x="15128" y="14016"/>
                </a:cubicBezTo>
                <a:cubicBezTo>
                  <a:pt x="15179" y="13994"/>
                  <a:pt x="15225" y="13963"/>
                  <a:pt x="15258" y="13918"/>
                </a:cubicBezTo>
                <a:cubicBezTo>
                  <a:pt x="15279" y="13889"/>
                  <a:pt x="15283" y="13858"/>
                  <a:pt x="15243" y="13847"/>
                </a:cubicBezTo>
                <a:cubicBezTo>
                  <a:pt x="15198" y="13835"/>
                  <a:pt x="15162" y="13857"/>
                  <a:pt x="15123" y="13873"/>
                </a:cubicBezTo>
                <a:cubicBezTo>
                  <a:pt x="15118" y="13875"/>
                  <a:pt x="15047" y="13906"/>
                  <a:pt x="15081" y="13921"/>
                </a:cubicBezTo>
                <a:cubicBezTo>
                  <a:pt x="15087" y="13921"/>
                  <a:pt x="15092" y="13922"/>
                  <a:pt x="15098" y="13922"/>
                </a:cubicBezTo>
              </a:path>
              <a:path w="2841" h="885">
                <a:moveTo>
                  <a:pt x="15392" y="13805"/>
                </a:moveTo>
                <a:cubicBezTo>
                  <a:pt x="15375" y="13809"/>
                  <a:pt x="15352" y="13811"/>
                  <a:pt x="15348" y="13832"/>
                </a:cubicBezTo>
                <a:cubicBezTo>
                  <a:pt x="15344" y="13855"/>
                  <a:pt x="15359" y="13867"/>
                  <a:pt x="15379" y="13874"/>
                </a:cubicBezTo>
                <a:cubicBezTo>
                  <a:pt x="15403" y="13882"/>
                  <a:pt x="15429" y="13872"/>
                  <a:pt x="15453" y="13878"/>
                </a:cubicBezTo>
                <a:cubicBezTo>
                  <a:pt x="15484" y="13885"/>
                  <a:pt x="15504" y="13906"/>
                  <a:pt x="15523" y="13930"/>
                </a:cubicBezTo>
                <a:cubicBezTo>
                  <a:pt x="15545" y="13958"/>
                  <a:pt x="15564" y="13992"/>
                  <a:pt x="15594" y="14013"/>
                </a:cubicBezTo>
                <a:cubicBezTo>
                  <a:pt x="15621" y="14032"/>
                  <a:pt x="15655" y="14027"/>
                  <a:pt x="15681" y="14007"/>
                </a:cubicBezTo>
                <a:cubicBezTo>
                  <a:pt x="15715" y="13980"/>
                  <a:pt x="15733" y="13940"/>
                  <a:pt x="15759" y="13907"/>
                </a:cubicBezTo>
                <a:cubicBezTo>
                  <a:pt x="15777" y="13884"/>
                  <a:pt x="15802" y="13849"/>
                  <a:pt x="15830" y="13838"/>
                </a:cubicBezTo>
                <a:cubicBezTo>
                  <a:pt x="15836" y="13837"/>
                  <a:pt x="15841" y="13836"/>
                  <a:pt x="15847" y="13835"/>
                </a:cubicBezTo>
              </a:path>
              <a:path w="2841" h="885">
                <a:moveTo>
                  <a:pt x="16110" y="13864"/>
                </a:moveTo>
                <a:cubicBezTo>
                  <a:pt x="16098" y="13871"/>
                  <a:pt x="16094" y="13874"/>
                  <a:pt x="16090" y="13883"/>
                </a:cubicBezTo>
                <a:cubicBezTo>
                  <a:pt x="16118" y="13885"/>
                  <a:pt x="16137" y="13883"/>
                  <a:pt x="16168" y="13874"/>
                </a:cubicBezTo>
                <a:cubicBezTo>
                  <a:pt x="16208" y="13862"/>
                  <a:pt x="16248" y="13843"/>
                  <a:pt x="16282" y="13819"/>
                </a:cubicBezTo>
                <a:cubicBezTo>
                  <a:pt x="16297" y="13806"/>
                  <a:pt x="16302" y="13804"/>
                  <a:pt x="16306" y="13791"/>
                </a:cubicBezTo>
                <a:cubicBezTo>
                  <a:pt x="16280" y="13776"/>
                  <a:pt x="16272" y="13775"/>
                  <a:pt x="16232" y="13784"/>
                </a:cubicBezTo>
                <a:cubicBezTo>
                  <a:pt x="16179" y="13797"/>
                  <a:pt x="16127" y="13824"/>
                  <a:pt x="16085" y="13859"/>
                </a:cubicBezTo>
                <a:cubicBezTo>
                  <a:pt x="16057" y="13883"/>
                  <a:pt x="16024" y="13920"/>
                  <a:pt x="16045" y="13958"/>
                </a:cubicBezTo>
                <a:cubicBezTo>
                  <a:pt x="16065" y="13996"/>
                  <a:pt x="16138" y="14008"/>
                  <a:pt x="16175" y="14016"/>
                </a:cubicBezTo>
                <a:cubicBezTo>
                  <a:pt x="16232" y="14028"/>
                  <a:pt x="16291" y="14032"/>
                  <a:pt x="16349" y="14042"/>
                </a:cubicBezTo>
                <a:cubicBezTo>
                  <a:pt x="16378" y="14047"/>
                  <a:pt x="16401" y="14053"/>
                  <a:pt x="16427" y="14064"/>
                </a:cubicBezTo>
                <a:cubicBezTo>
                  <a:pt x="16420" y="14028"/>
                  <a:pt x="16428" y="14002"/>
                  <a:pt x="16446" y="13969"/>
                </a:cubicBezTo>
                <a:cubicBezTo>
                  <a:pt x="16468" y="13928"/>
                  <a:pt x="16500" y="13880"/>
                  <a:pt x="16537" y="13851"/>
                </a:cubicBezTo>
                <a:cubicBezTo>
                  <a:pt x="16570" y="13825"/>
                  <a:pt x="16613" y="13809"/>
                  <a:pt x="16654" y="13805"/>
                </a:cubicBezTo>
                <a:cubicBezTo>
                  <a:pt x="16692" y="13802"/>
                  <a:pt x="16732" y="13806"/>
                  <a:pt x="16769" y="13797"/>
                </a:cubicBezTo>
                <a:cubicBezTo>
                  <a:pt x="16810" y="13787"/>
                  <a:pt x="16795" y="13786"/>
                  <a:pt x="16798" y="13774"/>
                </a:cubicBezTo>
                <a:cubicBezTo>
                  <a:pt x="16780" y="13779"/>
                  <a:pt x="16754" y="13778"/>
                  <a:pt x="16744" y="13798"/>
                </a:cubicBezTo>
                <a:cubicBezTo>
                  <a:pt x="16730" y="13825"/>
                  <a:pt x="16748" y="13847"/>
                  <a:pt x="16767" y="13865"/>
                </a:cubicBezTo>
                <a:cubicBezTo>
                  <a:pt x="16807" y="13904"/>
                  <a:pt x="16882" y="13951"/>
                  <a:pt x="16864" y="14019"/>
                </a:cubicBezTo>
                <a:cubicBezTo>
                  <a:pt x="16853" y="14061"/>
                  <a:pt x="16806" y="14092"/>
                  <a:pt x="16766" y="14102"/>
                </a:cubicBezTo>
                <a:cubicBezTo>
                  <a:pt x="16733" y="14110"/>
                  <a:pt x="16723" y="14103"/>
                  <a:pt x="16701" y="14085"/>
                </a:cubicBezTo>
              </a:path>
              <a:path w="2841" h="885">
                <a:moveTo>
                  <a:pt x="17167" y="13435"/>
                </a:moveTo>
                <a:cubicBezTo>
                  <a:pt x="17218" y="13471"/>
                  <a:pt x="17240" y="13504"/>
                  <a:pt x="17264" y="13563"/>
                </a:cubicBezTo>
                <a:cubicBezTo>
                  <a:pt x="17301" y="13652"/>
                  <a:pt x="17315" y="13743"/>
                  <a:pt x="17318" y="13839"/>
                </a:cubicBezTo>
                <a:cubicBezTo>
                  <a:pt x="17322" y="13946"/>
                  <a:pt x="17307" y="14047"/>
                  <a:pt x="17266" y="14147"/>
                </a:cubicBezTo>
                <a:cubicBezTo>
                  <a:pt x="17234" y="14211"/>
                  <a:pt x="17224" y="14232"/>
                  <a:pt x="17195" y="14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34"/>
          <p:cNvSpPr/>
          <p:nvPr/>
        </p:nvSpPr>
        <p:spPr>
          <a:xfrm>
            <a:off x="3456000" y="5621400"/>
            <a:ext cx="171360" cy="125280"/>
          </a:xfrm>
          <a:custGeom>
            <a:avLst/>
            <a:gdLst/>
            <a:ahLst/>
            <a:rect l="l" t="t" r="r" b="b"/>
            <a:pathLst>
              <a:path w="476" h="348">
                <a:moveTo>
                  <a:pt x="9638" y="15673"/>
                </a:moveTo>
                <a:cubicBezTo>
                  <a:pt x="9617" y="15682"/>
                  <a:pt x="9617" y="15681"/>
                  <a:pt x="9608" y="15705"/>
                </a:cubicBezTo>
                <a:cubicBezTo>
                  <a:pt x="9600" y="15727"/>
                  <a:pt x="9598" y="15750"/>
                  <a:pt x="9604" y="15773"/>
                </a:cubicBezTo>
                <a:cubicBezTo>
                  <a:pt x="9609" y="15793"/>
                  <a:pt x="9619" y="15812"/>
                  <a:pt x="9638" y="15821"/>
                </a:cubicBezTo>
                <a:cubicBezTo>
                  <a:pt x="9660" y="15832"/>
                  <a:pt x="9684" y="15835"/>
                  <a:pt x="9706" y="15847"/>
                </a:cubicBezTo>
                <a:cubicBezTo>
                  <a:pt x="9749" y="15871"/>
                  <a:pt x="9782" y="15910"/>
                  <a:pt x="9823" y="15937"/>
                </a:cubicBezTo>
                <a:cubicBezTo>
                  <a:pt x="9854" y="15958"/>
                  <a:pt x="9888" y="15973"/>
                  <a:pt x="9925" y="15957"/>
                </a:cubicBezTo>
                <a:cubicBezTo>
                  <a:pt x="9968" y="15938"/>
                  <a:pt x="9991" y="15892"/>
                  <a:pt x="10012" y="15853"/>
                </a:cubicBezTo>
                <a:cubicBezTo>
                  <a:pt x="10035" y="15810"/>
                  <a:pt x="10049" y="15761"/>
                  <a:pt x="10055" y="15713"/>
                </a:cubicBezTo>
                <a:cubicBezTo>
                  <a:pt x="10058" y="15693"/>
                  <a:pt x="10049" y="15646"/>
                  <a:pt x="10057" y="15629"/>
                </a:cubicBezTo>
                <a:cubicBezTo>
                  <a:pt x="10060" y="15618"/>
                  <a:pt x="10062" y="15614"/>
                  <a:pt x="10075" y="15617"/>
                </a:cubicBezTo>
              </a:path>
              <a:path w="476" h="348">
                <a:moveTo>
                  <a:pt x="9851" y="15746"/>
                </a:moveTo>
                <a:cubicBezTo>
                  <a:pt x="9856" y="15738"/>
                  <a:pt x="9878" y="15698"/>
                  <a:pt x="9891" y="15724"/>
                </a:cubicBezTo>
                <a:cubicBezTo>
                  <a:pt x="9898" y="15737"/>
                  <a:pt x="9879" y="15784"/>
                  <a:pt x="9875" y="15796"/>
                </a:cubicBezTo>
                <a:cubicBezTo>
                  <a:pt x="9865" y="15824"/>
                  <a:pt x="9847" y="15846"/>
                  <a:pt x="9827" y="15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35"/>
          <p:cNvSpPr/>
          <p:nvPr/>
        </p:nvSpPr>
        <p:spPr>
          <a:xfrm>
            <a:off x="3747960" y="5635800"/>
            <a:ext cx="122400" cy="72720"/>
          </a:xfrm>
          <a:custGeom>
            <a:avLst/>
            <a:gdLst/>
            <a:ahLst/>
            <a:rect l="l" t="t" r="r" b="b"/>
            <a:pathLst>
              <a:path w="337" h="202">
                <a:moveTo>
                  <a:pt x="10424" y="15666"/>
                </a:moveTo>
                <a:cubicBezTo>
                  <a:pt x="10420" y="15663"/>
                  <a:pt x="10417" y="15660"/>
                  <a:pt x="10413" y="15657"/>
                </a:cubicBezTo>
                <a:cubicBezTo>
                  <a:pt x="10442" y="15656"/>
                  <a:pt x="10467" y="15661"/>
                  <a:pt x="10496" y="15665"/>
                </a:cubicBezTo>
                <a:cubicBezTo>
                  <a:pt x="10536" y="15671"/>
                  <a:pt x="10575" y="15681"/>
                  <a:pt x="10615" y="15688"/>
                </a:cubicBezTo>
                <a:cubicBezTo>
                  <a:pt x="10645" y="15693"/>
                  <a:pt x="10661" y="15692"/>
                  <a:pt x="10673" y="15719"/>
                </a:cubicBezTo>
              </a:path>
              <a:path w="337" h="202">
                <a:moveTo>
                  <a:pt x="10462" y="15809"/>
                </a:moveTo>
                <a:cubicBezTo>
                  <a:pt x="10469" y="15830"/>
                  <a:pt x="10493" y="15828"/>
                  <a:pt x="10520" y="15830"/>
                </a:cubicBezTo>
                <a:cubicBezTo>
                  <a:pt x="10564" y="15834"/>
                  <a:pt x="10606" y="15839"/>
                  <a:pt x="10650" y="15846"/>
                </a:cubicBezTo>
                <a:cubicBezTo>
                  <a:pt x="10683" y="15851"/>
                  <a:pt x="10716" y="15854"/>
                  <a:pt x="10749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36"/>
          <p:cNvSpPr/>
          <p:nvPr/>
        </p:nvSpPr>
        <p:spPr>
          <a:xfrm>
            <a:off x="4084560" y="5551560"/>
            <a:ext cx="203400" cy="183960"/>
          </a:xfrm>
          <a:custGeom>
            <a:avLst/>
            <a:gdLst/>
            <a:ahLst/>
            <a:rect l="l" t="t" r="r" b="b"/>
            <a:pathLst>
              <a:path w="565" h="513">
                <a:moveTo>
                  <a:pt x="11403" y="15501"/>
                </a:moveTo>
                <a:cubicBezTo>
                  <a:pt x="11387" y="15491"/>
                  <a:pt x="11388" y="15537"/>
                  <a:pt x="11385" y="15558"/>
                </a:cubicBezTo>
                <a:cubicBezTo>
                  <a:pt x="11378" y="15609"/>
                  <a:pt x="11370" y="15660"/>
                  <a:pt x="11362" y="15711"/>
                </a:cubicBezTo>
                <a:cubicBezTo>
                  <a:pt x="11354" y="15757"/>
                  <a:pt x="11349" y="15803"/>
                  <a:pt x="11347" y="15850"/>
                </a:cubicBezTo>
                <a:cubicBezTo>
                  <a:pt x="11346" y="15874"/>
                  <a:pt x="11341" y="15877"/>
                  <a:pt x="11358" y="15887"/>
                </a:cubicBezTo>
              </a:path>
              <a:path w="565" h="513">
                <a:moveTo>
                  <a:pt x="11571" y="15497"/>
                </a:moveTo>
                <a:cubicBezTo>
                  <a:pt x="11591" y="15487"/>
                  <a:pt x="11615" y="15471"/>
                  <a:pt x="11636" y="15467"/>
                </a:cubicBezTo>
                <a:cubicBezTo>
                  <a:pt x="11669" y="15460"/>
                  <a:pt x="11701" y="15454"/>
                  <a:pt x="11734" y="15446"/>
                </a:cubicBezTo>
                <a:cubicBezTo>
                  <a:pt x="11772" y="15437"/>
                  <a:pt x="11811" y="15431"/>
                  <a:pt x="11850" y="15424"/>
                </a:cubicBezTo>
                <a:cubicBezTo>
                  <a:pt x="11873" y="15420"/>
                  <a:pt x="11888" y="15417"/>
                  <a:pt x="11910" y="15426"/>
                </a:cubicBezTo>
              </a:path>
              <a:path w="565" h="513">
                <a:moveTo>
                  <a:pt x="11741" y="15431"/>
                </a:moveTo>
                <a:cubicBezTo>
                  <a:pt x="11722" y="15437"/>
                  <a:pt x="11707" y="15437"/>
                  <a:pt x="11695" y="15454"/>
                </a:cubicBezTo>
                <a:cubicBezTo>
                  <a:pt x="11679" y="15477"/>
                  <a:pt x="11666" y="15511"/>
                  <a:pt x="11661" y="15538"/>
                </a:cubicBezTo>
                <a:cubicBezTo>
                  <a:pt x="11654" y="15572"/>
                  <a:pt x="11651" y="15612"/>
                  <a:pt x="11670" y="15642"/>
                </a:cubicBezTo>
                <a:cubicBezTo>
                  <a:pt x="11690" y="15674"/>
                  <a:pt x="11733" y="15688"/>
                  <a:pt x="11766" y="15699"/>
                </a:cubicBezTo>
                <a:cubicBezTo>
                  <a:pt x="11806" y="15712"/>
                  <a:pt x="11850" y="15727"/>
                  <a:pt x="11881" y="15756"/>
                </a:cubicBezTo>
                <a:cubicBezTo>
                  <a:pt x="11909" y="15782"/>
                  <a:pt x="11914" y="15811"/>
                  <a:pt x="11897" y="15844"/>
                </a:cubicBezTo>
                <a:cubicBezTo>
                  <a:pt x="11879" y="15879"/>
                  <a:pt x="11837" y="15915"/>
                  <a:pt x="11798" y="15925"/>
                </a:cubicBezTo>
                <a:cubicBezTo>
                  <a:pt x="11752" y="15937"/>
                  <a:pt x="11690" y="15935"/>
                  <a:pt x="11649" y="15911"/>
                </a:cubicBezTo>
                <a:cubicBezTo>
                  <a:pt x="11639" y="15903"/>
                  <a:pt x="11628" y="15894"/>
                  <a:pt x="11618" y="158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37"/>
          <p:cNvSpPr/>
          <p:nvPr/>
        </p:nvSpPr>
        <p:spPr>
          <a:xfrm>
            <a:off x="2055960" y="6397560"/>
            <a:ext cx="299880" cy="33480"/>
          </a:xfrm>
          <a:custGeom>
            <a:avLst/>
            <a:gdLst/>
            <a:ahLst/>
            <a:rect l="l" t="t" r="r" b="b"/>
            <a:pathLst>
              <a:path w="833" h="96">
                <a:moveTo>
                  <a:pt x="5739" y="17839"/>
                </a:moveTo>
                <a:cubicBezTo>
                  <a:pt x="5748" y="17820"/>
                  <a:pt x="5753" y="17830"/>
                  <a:pt x="5774" y="17827"/>
                </a:cubicBezTo>
                <a:cubicBezTo>
                  <a:pt x="5824" y="17819"/>
                  <a:pt x="5875" y="17817"/>
                  <a:pt x="5925" y="17812"/>
                </a:cubicBezTo>
                <a:cubicBezTo>
                  <a:pt x="6004" y="17804"/>
                  <a:pt x="6082" y="17792"/>
                  <a:pt x="6161" y="17786"/>
                </a:cubicBezTo>
                <a:cubicBezTo>
                  <a:pt x="6263" y="17779"/>
                  <a:pt x="6369" y="17762"/>
                  <a:pt x="6471" y="17769"/>
                </a:cubicBezTo>
                <a:cubicBezTo>
                  <a:pt x="6494" y="17772"/>
                  <a:pt x="6499" y="17774"/>
                  <a:pt x="6513" y="17773"/>
                </a:cubicBezTo>
                <a:cubicBezTo>
                  <a:pt x="6488" y="17797"/>
                  <a:pt x="6443" y="17806"/>
                  <a:pt x="6407" y="17810"/>
                </a:cubicBezTo>
                <a:cubicBezTo>
                  <a:pt x="6328" y="17820"/>
                  <a:pt x="6247" y="17830"/>
                  <a:pt x="6167" y="17836"/>
                </a:cubicBezTo>
                <a:cubicBezTo>
                  <a:pt x="6081" y="17843"/>
                  <a:pt x="5994" y="17838"/>
                  <a:pt x="5908" y="17845"/>
                </a:cubicBezTo>
                <a:cubicBezTo>
                  <a:pt x="5851" y="17850"/>
                  <a:pt x="5798" y="17858"/>
                  <a:pt x="5741" y="17858"/>
                </a:cubicBezTo>
                <a:cubicBezTo>
                  <a:pt x="5701" y="17867"/>
                  <a:pt x="5713" y="17865"/>
                  <a:pt x="5748" y="17861"/>
                </a:cubicBezTo>
                <a:cubicBezTo>
                  <a:pt x="5826" y="17851"/>
                  <a:pt x="5906" y="17840"/>
                  <a:pt x="5984" y="17840"/>
                </a:cubicBezTo>
                <a:cubicBezTo>
                  <a:pt x="6128" y="17839"/>
                  <a:pt x="6271" y="17838"/>
                  <a:pt x="6415" y="17837"/>
                </a:cubicBezTo>
                <a:cubicBezTo>
                  <a:pt x="6457" y="17837"/>
                  <a:pt x="6500" y="17837"/>
                  <a:pt x="6542" y="17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38"/>
          <p:cNvSpPr/>
          <p:nvPr/>
        </p:nvSpPr>
        <p:spPr>
          <a:xfrm>
            <a:off x="3268800" y="6411960"/>
            <a:ext cx="303120" cy="9360"/>
          </a:xfrm>
          <a:custGeom>
            <a:avLst/>
            <a:gdLst/>
            <a:ahLst/>
            <a:rect l="l" t="t" r="r" b="b"/>
            <a:pathLst>
              <a:path w="844" h="26">
                <a:moveTo>
                  <a:pt x="9079" y="17835"/>
                </a:moveTo>
                <a:cubicBezTo>
                  <a:pt x="9198" y="17835"/>
                  <a:pt x="9322" y="17841"/>
                  <a:pt x="9426" y="17810"/>
                </a:cubicBezTo>
                <a:cubicBezTo>
                  <a:pt x="9564" y="17769"/>
                  <a:pt x="9776" y="17810"/>
                  <a:pt x="9922" y="1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39"/>
          <p:cNvSpPr/>
          <p:nvPr/>
        </p:nvSpPr>
        <p:spPr>
          <a:xfrm>
            <a:off x="4764240" y="6116760"/>
            <a:ext cx="712800" cy="176040"/>
          </a:xfrm>
          <a:custGeom>
            <a:avLst/>
            <a:gdLst/>
            <a:ahLst/>
            <a:rect l="l" t="t" r="r" b="b"/>
            <a:pathLst>
              <a:path w="1982" h="490">
                <a:moveTo>
                  <a:pt x="13237" y="17114"/>
                </a:moveTo>
                <a:cubicBezTo>
                  <a:pt x="13240" y="17099"/>
                  <a:pt x="13242" y="17088"/>
                  <a:pt x="13241" y="17072"/>
                </a:cubicBezTo>
                <a:cubicBezTo>
                  <a:pt x="13249" y="17038"/>
                  <a:pt x="13238" y="17132"/>
                  <a:pt x="13238" y="17138"/>
                </a:cubicBezTo>
                <a:cubicBezTo>
                  <a:pt x="13237" y="17195"/>
                  <a:pt x="13233" y="17252"/>
                  <a:pt x="13233" y="17309"/>
                </a:cubicBezTo>
                <a:cubicBezTo>
                  <a:pt x="13233" y="17353"/>
                  <a:pt x="13231" y="17405"/>
                  <a:pt x="13242" y="17448"/>
                </a:cubicBezTo>
                <a:cubicBezTo>
                  <a:pt x="13249" y="17477"/>
                  <a:pt x="13263" y="17481"/>
                  <a:pt x="13286" y="17471"/>
                </a:cubicBezTo>
              </a:path>
              <a:path w="1982" h="490">
                <a:moveTo>
                  <a:pt x="13505" y="17091"/>
                </a:moveTo>
                <a:cubicBezTo>
                  <a:pt x="13522" y="17067"/>
                  <a:pt x="13535" y="17050"/>
                  <a:pt x="13561" y="17033"/>
                </a:cubicBezTo>
                <a:cubicBezTo>
                  <a:pt x="13609" y="17002"/>
                  <a:pt x="13678" y="16985"/>
                  <a:pt x="13735" y="16990"/>
                </a:cubicBezTo>
                <a:cubicBezTo>
                  <a:pt x="13773" y="16993"/>
                  <a:pt x="13818" y="17006"/>
                  <a:pt x="13833" y="17045"/>
                </a:cubicBezTo>
                <a:cubicBezTo>
                  <a:pt x="13849" y="17085"/>
                  <a:pt x="13821" y="17135"/>
                  <a:pt x="13798" y="17165"/>
                </a:cubicBezTo>
                <a:cubicBezTo>
                  <a:pt x="13749" y="17229"/>
                  <a:pt x="13678" y="17274"/>
                  <a:pt x="13613" y="17319"/>
                </a:cubicBezTo>
                <a:cubicBezTo>
                  <a:pt x="13582" y="17340"/>
                  <a:pt x="13553" y="17362"/>
                  <a:pt x="13526" y="17386"/>
                </a:cubicBezTo>
                <a:cubicBezTo>
                  <a:pt x="13580" y="17397"/>
                  <a:pt x="13630" y="17385"/>
                  <a:pt x="13686" y="17378"/>
                </a:cubicBezTo>
                <a:cubicBezTo>
                  <a:pt x="13818" y="17361"/>
                  <a:pt x="13951" y="17340"/>
                  <a:pt x="14084" y="17330"/>
                </a:cubicBezTo>
                <a:cubicBezTo>
                  <a:pt x="14107" y="17328"/>
                  <a:pt x="14128" y="17328"/>
                  <a:pt x="14151" y="17328"/>
                </a:cubicBezTo>
              </a:path>
              <a:path w="1982" h="490">
                <a:moveTo>
                  <a:pt x="14413" y="17200"/>
                </a:moveTo>
                <a:cubicBezTo>
                  <a:pt x="14397" y="17209"/>
                  <a:pt x="14380" y="17213"/>
                  <a:pt x="14365" y="17224"/>
                </a:cubicBezTo>
                <a:cubicBezTo>
                  <a:pt x="14352" y="17233"/>
                  <a:pt x="14338" y="17248"/>
                  <a:pt x="14337" y="17265"/>
                </a:cubicBezTo>
                <a:cubicBezTo>
                  <a:pt x="14335" y="17285"/>
                  <a:pt x="14350" y="17292"/>
                  <a:pt x="14365" y="17298"/>
                </a:cubicBezTo>
                <a:cubicBezTo>
                  <a:pt x="14392" y="17308"/>
                  <a:pt x="14441" y="17286"/>
                  <a:pt x="14465" y="17276"/>
                </a:cubicBezTo>
                <a:cubicBezTo>
                  <a:pt x="14515" y="17256"/>
                  <a:pt x="14561" y="17229"/>
                  <a:pt x="14610" y="17207"/>
                </a:cubicBezTo>
                <a:cubicBezTo>
                  <a:pt x="14637" y="17195"/>
                  <a:pt x="14675" y="17180"/>
                  <a:pt x="14699" y="17207"/>
                </a:cubicBezTo>
                <a:cubicBezTo>
                  <a:pt x="14717" y="17228"/>
                  <a:pt x="14714" y="17263"/>
                  <a:pt x="14724" y="17287"/>
                </a:cubicBezTo>
                <a:cubicBezTo>
                  <a:pt x="14739" y="17322"/>
                  <a:pt x="14765" y="17327"/>
                  <a:pt x="14800" y="17328"/>
                </a:cubicBezTo>
                <a:cubicBezTo>
                  <a:pt x="14855" y="17329"/>
                  <a:pt x="14906" y="17312"/>
                  <a:pt x="14957" y="17293"/>
                </a:cubicBezTo>
                <a:cubicBezTo>
                  <a:pt x="15015" y="17271"/>
                  <a:pt x="15072" y="17239"/>
                  <a:pt x="15122" y="17203"/>
                </a:cubicBezTo>
                <a:cubicBezTo>
                  <a:pt x="15156" y="17178"/>
                  <a:pt x="15189" y="17144"/>
                  <a:pt x="15208" y="17106"/>
                </a:cubicBezTo>
                <a:cubicBezTo>
                  <a:pt x="15219" y="17083"/>
                  <a:pt x="15212" y="17074"/>
                  <a:pt x="15189" y="17074"/>
                </a:cubicBezTo>
                <a:cubicBezTo>
                  <a:pt x="15184" y="17077"/>
                  <a:pt x="15180" y="17079"/>
                  <a:pt x="15175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40"/>
          <p:cNvSpPr/>
          <p:nvPr/>
        </p:nvSpPr>
        <p:spPr>
          <a:xfrm>
            <a:off x="5816520" y="6040440"/>
            <a:ext cx="587520" cy="422280"/>
          </a:xfrm>
          <a:custGeom>
            <a:avLst/>
            <a:gdLst/>
            <a:ahLst/>
            <a:rect l="l" t="t" r="r" b="b"/>
            <a:pathLst>
              <a:path w="1632" h="1173">
                <a:moveTo>
                  <a:pt x="16202" y="17120"/>
                </a:moveTo>
                <a:cubicBezTo>
                  <a:pt x="16179" y="17124"/>
                  <a:pt x="16169" y="17132"/>
                  <a:pt x="16156" y="17116"/>
                </a:cubicBezTo>
                <a:cubicBezTo>
                  <a:pt x="16177" y="17109"/>
                  <a:pt x="16194" y="17106"/>
                  <a:pt x="16216" y="17103"/>
                </a:cubicBezTo>
                <a:cubicBezTo>
                  <a:pt x="16254" y="17098"/>
                  <a:pt x="16293" y="17095"/>
                  <a:pt x="16332" y="17095"/>
                </a:cubicBezTo>
                <a:cubicBezTo>
                  <a:pt x="16378" y="17094"/>
                  <a:pt x="16424" y="17093"/>
                  <a:pt x="16470" y="17095"/>
                </a:cubicBezTo>
                <a:cubicBezTo>
                  <a:pt x="16500" y="17096"/>
                  <a:pt x="16535" y="17098"/>
                  <a:pt x="16564" y="17089"/>
                </a:cubicBezTo>
                <a:cubicBezTo>
                  <a:pt x="16569" y="17087"/>
                  <a:pt x="16574" y="17084"/>
                  <a:pt x="16579" y="17082"/>
                </a:cubicBezTo>
              </a:path>
              <a:path w="1632" h="1173">
                <a:moveTo>
                  <a:pt x="16360" y="16930"/>
                </a:moveTo>
                <a:cubicBezTo>
                  <a:pt x="16347" y="16948"/>
                  <a:pt x="16355" y="16959"/>
                  <a:pt x="16360" y="16982"/>
                </a:cubicBezTo>
                <a:cubicBezTo>
                  <a:pt x="16371" y="17034"/>
                  <a:pt x="16374" y="17086"/>
                  <a:pt x="16378" y="17138"/>
                </a:cubicBezTo>
                <a:cubicBezTo>
                  <a:pt x="16380" y="17161"/>
                  <a:pt x="16380" y="17188"/>
                  <a:pt x="16402" y="17201"/>
                </a:cubicBezTo>
                <a:cubicBezTo>
                  <a:pt x="16407" y="17203"/>
                  <a:pt x="16411" y="17204"/>
                  <a:pt x="16416" y="17206"/>
                </a:cubicBezTo>
              </a:path>
              <a:path w="1632" h="1173">
                <a:moveTo>
                  <a:pt x="16816" y="16811"/>
                </a:moveTo>
                <a:cubicBezTo>
                  <a:pt x="16836" y="16788"/>
                  <a:pt x="16841" y="16787"/>
                  <a:pt x="16874" y="16783"/>
                </a:cubicBezTo>
                <a:cubicBezTo>
                  <a:pt x="16929" y="16777"/>
                  <a:pt x="16984" y="16778"/>
                  <a:pt x="17039" y="16779"/>
                </a:cubicBezTo>
                <a:cubicBezTo>
                  <a:pt x="17108" y="16780"/>
                  <a:pt x="17188" y="16774"/>
                  <a:pt x="17255" y="16792"/>
                </a:cubicBezTo>
                <a:cubicBezTo>
                  <a:pt x="17300" y="16804"/>
                  <a:pt x="17311" y="16839"/>
                  <a:pt x="17303" y="16881"/>
                </a:cubicBezTo>
                <a:cubicBezTo>
                  <a:pt x="17290" y="16948"/>
                  <a:pt x="17244" y="17009"/>
                  <a:pt x="17207" y="17064"/>
                </a:cubicBezTo>
                <a:cubicBezTo>
                  <a:pt x="17169" y="17122"/>
                  <a:pt x="17125" y="17176"/>
                  <a:pt x="17088" y="17235"/>
                </a:cubicBezTo>
                <a:cubicBezTo>
                  <a:pt x="17071" y="17263"/>
                  <a:pt x="17076" y="17267"/>
                  <a:pt x="17073" y="17292"/>
                </a:cubicBezTo>
              </a:path>
              <a:path w="1632" h="1173">
                <a:moveTo>
                  <a:pt x="17698" y="17140"/>
                </a:moveTo>
                <a:cubicBezTo>
                  <a:pt x="17717" y="17132"/>
                  <a:pt x="17729" y="17133"/>
                  <a:pt x="17745" y="17110"/>
                </a:cubicBezTo>
                <a:cubicBezTo>
                  <a:pt x="17762" y="17086"/>
                  <a:pt x="17756" y="17079"/>
                  <a:pt x="17748" y="17053"/>
                </a:cubicBezTo>
                <a:cubicBezTo>
                  <a:pt x="17714" y="17050"/>
                  <a:pt x="17690" y="17049"/>
                  <a:pt x="17655" y="17062"/>
                </a:cubicBezTo>
                <a:cubicBezTo>
                  <a:pt x="17591" y="17087"/>
                  <a:pt x="17506" y="17136"/>
                  <a:pt x="17483" y="17205"/>
                </a:cubicBezTo>
                <a:cubicBezTo>
                  <a:pt x="17469" y="17246"/>
                  <a:pt x="17515" y="17250"/>
                  <a:pt x="17543" y="17248"/>
                </a:cubicBezTo>
                <a:cubicBezTo>
                  <a:pt x="17621" y="17242"/>
                  <a:pt x="17691" y="17197"/>
                  <a:pt x="17752" y="17152"/>
                </a:cubicBezTo>
                <a:cubicBezTo>
                  <a:pt x="17772" y="17138"/>
                  <a:pt x="17776" y="17135"/>
                  <a:pt x="17787" y="17125"/>
                </a:cubicBezTo>
                <a:cubicBezTo>
                  <a:pt x="17778" y="17181"/>
                  <a:pt x="17760" y="17236"/>
                  <a:pt x="17748" y="17292"/>
                </a:cubicBezTo>
                <a:cubicBezTo>
                  <a:pt x="17719" y="17426"/>
                  <a:pt x="17706" y="17567"/>
                  <a:pt x="17665" y="17698"/>
                </a:cubicBezTo>
                <a:cubicBezTo>
                  <a:pt x="17636" y="17790"/>
                  <a:pt x="17596" y="17896"/>
                  <a:pt x="17502" y="17937"/>
                </a:cubicBezTo>
                <a:cubicBezTo>
                  <a:pt x="17427" y="17969"/>
                  <a:pt x="17379" y="17940"/>
                  <a:pt x="17320" y="17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42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60 into the ratio 2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Divide $48 into the ratio 1: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200 bike is sold for a 17% profit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14.50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changes from $50 to $65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27% of $2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Decrease $98 by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ncrease 4.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13"/>
              <p:cNvSpPr txBox="1"/>
              <p:nvPr/>
            </p:nvSpPr>
            <p:spPr>
              <a:xfrm>
                <a:off x="900000" y="3632040"/>
                <a:ext cx="2927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e>
                        </m:d>
                        <m:r>
                          <m:t xml:space="preserve">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3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atio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42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60 into the ratio 2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Divide $48 into the ratio 1: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200 bike is sold for a 17% profit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14.50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changes from $50 to $65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27% of $2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Decrease $98 by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ncrease 4.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3"/>
              <p:cNvSpPr txBox="1"/>
              <p:nvPr/>
            </p:nvSpPr>
            <p:spPr>
              <a:xfrm>
                <a:off x="900000" y="3632040"/>
                <a:ext cx="2927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e>
                        </m:d>
                        <m:r>
                          <m:t xml:space="preserve">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6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ixed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18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54 into the ratio 7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-4 –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4.50 rabbit is sold for a 32% loss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6% of ‘x’ is $52.  What is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to 1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rops from $84 to $66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0.4% of $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Increase $1450 by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Decrease 8.88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15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3"/>
              <p:cNvSpPr txBox="1"/>
              <p:nvPr/>
            </p:nvSpPr>
            <p:spPr>
              <a:xfrm>
                <a:off x="971640" y="3632040"/>
                <a:ext cx="267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9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ixed Q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18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54 into the ratio 7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-4 –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4.50 rabbit is sold for a 32% loss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6% of ‘x’ is $52.  What is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to 1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rops from $84 to $66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0.4% of $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Increase $1450 by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Decrease 8.88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15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3"/>
              <p:cNvSpPr txBox="1"/>
              <p:nvPr/>
            </p:nvSpPr>
            <p:spPr>
              <a:xfrm>
                <a:off x="971640" y="3632040"/>
                <a:ext cx="267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2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15"/>
          <p:cNvSpPr/>
          <p:nvPr/>
        </p:nvSpPr>
        <p:spPr>
          <a:xfrm>
            <a:off x="2917800" y="1187280"/>
            <a:ext cx="115920" cy="176400"/>
          </a:xfrm>
          <a:custGeom>
            <a:avLst/>
            <a:gdLst/>
            <a:ahLst/>
            <a:rect l="l" t="t" r="r" b="b"/>
            <a:pathLst>
              <a:path w="323" h="492">
                <a:moveTo>
                  <a:pt x="8409" y="3402"/>
                </a:moveTo>
                <a:cubicBezTo>
                  <a:pt x="8416" y="3381"/>
                  <a:pt x="8414" y="3357"/>
                  <a:pt x="8400" y="3335"/>
                </a:cubicBezTo>
                <a:cubicBezTo>
                  <a:pt x="8386" y="3312"/>
                  <a:pt x="8363" y="3300"/>
                  <a:pt x="8335" y="3297"/>
                </a:cubicBezTo>
                <a:cubicBezTo>
                  <a:pt x="8301" y="3294"/>
                  <a:pt x="8269" y="3301"/>
                  <a:pt x="8238" y="3315"/>
                </a:cubicBezTo>
                <a:cubicBezTo>
                  <a:pt x="8200" y="3331"/>
                  <a:pt x="8169" y="3356"/>
                  <a:pt x="8144" y="3389"/>
                </a:cubicBezTo>
                <a:cubicBezTo>
                  <a:pt x="8115" y="3427"/>
                  <a:pt x="8088" y="3494"/>
                  <a:pt x="8115" y="3540"/>
                </a:cubicBezTo>
                <a:cubicBezTo>
                  <a:pt x="8134" y="3572"/>
                  <a:pt x="8173" y="3563"/>
                  <a:pt x="8202" y="3554"/>
                </a:cubicBezTo>
                <a:cubicBezTo>
                  <a:pt x="8250" y="3539"/>
                  <a:pt x="8288" y="3507"/>
                  <a:pt x="8325" y="3474"/>
                </a:cubicBezTo>
                <a:cubicBezTo>
                  <a:pt x="8355" y="3447"/>
                  <a:pt x="8381" y="3416"/>
                  <a:pt x="8400" y="3381"/>
                </a:cubicBezTo>
                <a:cubicBezTo>
                  <a:pt x="8407" y="3367"/>
                  <a:pt x="8413" y="3353"/>
                  <a:pt x="8421" y="3340"/>
                </a:cubicBezTo>
                <a:cubicBezTo>
                  <a:pt x="8423" y="3363"/>
                  <a:pt x="8424" y="3387"/>
                  <a:pt x="8425" y="3411"/>
                </a:cubicBezTo>
                <a:cubicBezTo>
                  <a:pt x="8427" y="3452"/>
                  <a:pt x="8425" y="3493"/>
                  <a:pt x="8424" y="3534"/>
                </a:cubicBezTo>
                <a:cubicBezTo>
                  <a:pt x="8423" y="3600"/>
                  <a:pt x="8405" y="3661"/>
                  <a:pt x="8394" y="3725"/>
                </a:cubicBezTo>
                <a:cubicBezTo>
                  <a:pt x="8390" y="3748"/>
                  <a:pt x="8387" y="3766"/>
                  <a:pt x="8390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16"/>
          <p:cNvSpPr/>
          <p:nvPr/>
        </p:nvSpPr>
        <p:spPr>
          <a:xfrm>
            <a:off x="3162240" y="1198440"/>
            <a:ext cx="370080" cy="136800"/>
          </a:xfrm>
          <a:custGeom>
            <a:avLst/>
            <a:gdLst/>
            <a:ahLst/>
            <a:rect l="l" t="t" r="r" b="b"/>
            <a:pathLst>
              <a:path w="1025" h="376">
                <a:moveTo>
                  <a:pt x="8859" y="3444"/>
                </a:moveTo>
                <a:cubicBezTo>
                  <a:pt x="8842" y="3444"/>
                  <a:pt x="8828" y="3439"/>
                  <a:pt x="8819" y="3455"/>
                </a:cubicBezTo>
                <a:cubicBezTo>
                  <a:pt x="8815" y="3466"/>
                  <a:pt x="8814" y="3470"/>
                  <a:pt x="8819" y="3478"/>
                </a:cubicBezTo>
              </a:path>
              <a:path w="1025" h="376">
                <a:moveTo>
                  <a:pt x="8786" y="3621"/>
                </a:moveTo>
                <a:cubicBezTo>
                  <a:pt x="8786" y="3625"/>
                  <a:pt x="8786" y="3629"/>
                  <a:pt x="8786" y="3633"/>
                </a:cubicBezTo>
                <a:cubicBezTo>
                  <a:pt x="8805" y="3636"/>
                  <a:pt x="8819" y="3640"/>
                  <a:pt x="8838" y="3635"/>
                </a:cubicBezTo>
                <a:cubicBezTo>
                  <a:pt x="8843" y="3633"/>
                  <a:pt x="8849" y="3631"/>
                  <a:pt x="8854" y="3629"/>
                </a:cubicBezTo>
              </a:path>
              <a:path w="1025" h="376">
                <a:moveTo>
                  <a:pt x="9072" y="3343"/>
                </a:moveTo>
                <a:cubicBezTo>
                  <a:pt x="9094" y="3331"/>
                  <a:pt x="9103" y="3327"/>
                  <a:pt x="9127" y="3337"/>
                </a:cubicBezTo>
                <a:cubicBezTo>
                  <a:pt x="9150" y="3347"/>
                  <a:pt x="9169" y="3367"/>
                  <a:pt x="9181" y="3389"/>
                </a:cubicBezTo>
                <a:cubicBezTo>
                  <a:pt x="9198" y="3420"/>
                  <a:pt x="9195" y="3458"/>
                  <a:pt x="9190" y="3492"/>
                </a:cubicBezTo>
                <a:cubicBezTo>
                  <a:pt x="9184" y="3535"/>
                  <a:pt x="9166" y="3576"/>
                  <a:pt x="9146" y="3614"/>
                </a:cubicBezTo>
                <a:cubicBezTo>
                  <a:pt x="9134" y="3637"/>
                  <a:pt x="9107" y="3665"/>
                  <a:pt x="9101" y="3691"/>
                </a:cubicBezTo>
                <a:cubicBezTo>
                  <a:pt x="9101" y="3696"/>
                  <a:pt x="9101" y="3701"/>
                  <a:pt x="9101" y="3706"/>
                </a:cubicBezTo>
                <a:cubicBezTo>
                  <a:pt x="9128" y="3703"/>
                  <a:pt x="9153" y="3695"/>
                  <a:pt x="9179" y="3688"/>
                </a:cubicBezTo>
                <a:cubicBezTo>
                  <a:pt x="9220" y="3677"/>
                  <a:pt x="9261" y="3664"/>
                  <a:pt x="9300" y="3648"/>
                </a:cubicBezTo>
                <a:cubicBezTo>
                  <a:pt x="9340" y="3632"/>
                  <a:pt x="9381" y="3623"/>
                  <a:pt x="9421" y="3605"/>
                </a:cubicBezTo>
                <a:cubicBezTo>
                  <a:pt x="9446" y="3592"/>
                  <a:pt x="9454" y="3588"/>
                  <a:pt x="9471" y="3581"/>
                </a:cubicBezTo>
              </a:path>
              <a:path w="1025" h="376">
                <a:moveTo>
                  <a:pt x="9534" y="3462"/>
                </a:moveTo>
                <a:cubicBezTo>
                  <a:pt x="9521" y="3482"/>
                  <a:pt x="9501" y="3505"/>
                  <a:pt x="9496" y="3529"/>
                </a:cubicBezTo>
                <a:cubicBezTo>
                  <a:pt x="9489" y="3564"/>
                  <a:pt x="9489" y="3609"/>
                  <a:pt x="9510" y="3640"/>
                </a:cubicBezTo>
                <a:cubicBezTo>
                  <a:pt x="9535" y="3678"/>
                  <a:pt x="9580" y="3689"/>
                  <a:pt x="9623" y="3681"/>
                </a:cubicBezTo>
                <a:cubicBezTo>
                  <a:pt x="9686" y="3670"/>
                  <a:pt x="9750" y="3628"/>
                  <a:pt x="9785" y="3574"/>
                </a:cubicBezTo>
                <a:cubicBezTo>
                  <a:pt x="9806" y="3542"/>
                  <a:pt x="9823" y="3491"/>
                  <a:pt x="9803" y="3454"/>
                </a:cubicBezTo>
                <a:cubicBezTo>
                  <a:pt x="9781" y="3412"/>
                  <a:pt x="9722" y="3407"/>
                  <a:pt x="9681" y="3411"/>
                </a:cubicBezTo>
                <a:cubicBezTo>
                  <a:pt x="9614" y="3417"/>
                  <a:pt x="9543" y="3439"/>
                  <a:pt x="9481" y="3464"/>
                </a:cubicBezTo>
                <a:cubicBezTo>
                  <a:pt x="9449" y="3480"/>
                  <a:pt x="9440" y="3485"/>
                  <a:pt x="9419" y="3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17"/>
          <p:cNvSpPr/>
          <p:nvPr/>
        </p:nvSpPr>
        <p:spPr>
          <a:xfrm>
            <a:off x="2987640" y="1347840"/>
            <a:ext cx="546120" cy="108000"/>
          </a:xfrm>
          <a:custGeom>
            <a:avLst/>
            <a:gdLst/>
            <a:ahLst/>
            <a:rect l="l" t="t" r="r" b="b"/>
            <a:pathLst>
              <a:path w="1519" h="300">
                <a:moveTo>
                  <a:pt x="8357" y="3912"/>
                </a:moveTo>
                <a:cubicBezTo>
                  <a:pt x="8337" y="3901"/>
                  <a:pt x="8318" y="3891"/>
                  <a:pt x="8298" y="3880"/>
                </a:cubicBezTo>
                <a:cubicBezTo>
                  <a:pt x="8331" y="3878"/>
                  <a:pt x="8366" y="3881"/>
                  <a:pt x="8401" y="3880"/>
                </a:cubicBezTo>
                <a:cubicBezTo>
                  <a:pt x="8498" y="3879"/>
                  <a:pt x="8596" y="3870"/>
                  <a:pt x="8693" y="3861"/>
                </a:cubicBezTo>
                <a:cubicBezTo>
                  <a:pt x="8991" y="3832"/>
                  <a:pt x="9287" y="3779"/>
                  <a:pt x="9585" y="3753"/>
                </a:cubicBezTo>
                <a:cubicBezTo>
                  <a:pt x="9656" y="3747"/>
                  <a:pt x="9733" y="3737"/>
                  <a:pt x="9804" y="3746"/>
                </a:cubicBezTo>
                <a:cubicBezTo>
                  <a:pt x="9844" y="3751"/>
                  <a:pt x="9756" y="3780"/>
                  <a:pt x="9718" y="3792"/>
                </a:cubicBezTo>
              </a:path>
              <a:path w="1519" h="300">
                <a:moveTo>
                  <a:pt x="8341" y="4043"/>
                </a:moveTo>
                <a:cubicBezTo>
                  <a:pt x="8375" y="4018"/>
                  <a:pt x="8399" y="4007"/>
                  <a:pt x="8444" y="3994"/>
                </a:cubicBezTo>
                <a:cubicBezTo>
                  <a:pt x="8556" y="3961"/>
                  <a:pt x="8675" y="3943"/>
                  <a:pt x="8791" y="3932"/>
                </a:cubicBezTo>
                <a:cubicBezTo>
                  <a:pt x="8910" y="3920"/>
                  <a:pt x="9029" y="3917"/>
                  <a:pt x="9149" y="3915"/>
                </a:cubicBezTo>
                <a:cubicBezTo>
                  <a:pt x="9250" y="3913"/>
                  <a:pt x="9350" y="3914"/>
                  <a:pt x="9451" y="3921"/>
                </a:cubicBezTo>
                <a:cubicBezTo>
                  <a:pt x="9470" y="3923"/>
                  <a:pt x="9488" y="3924"/>
                  <a:pt x="9507" y="3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8"/>
          <p:cNvSpPr/>
          <p:nvPr/>
        </p:nvSpPr>
        <p:spPr>
          <a:xfrm>
            <a:off x="2878200" y="2030400"/>
            <a:ext cx="681120" cy="258840"/>
          </a:xfrm>
          <a:custGeom>
            <a:avLst/>
            <a:gdLst/>
            <a:ahLst/>
            <a:rect l="l" t="t" r="r" b="b"/>
            <a:pathLst>
              <a:path w="1892" h="723">
                <a:moveTo>
                  <a:pt x="8004" y="6030"/>
                </a:moveTo>
                <a:cubicBezTo>
                  <a:pt x="8001" y="6027"/>
                  <a:pt x="7998" y="6023"/>
                  <a:pt x="7995" y="6020"/>
                </a:cubicBezTo>
                <a:cubicBezTo>
                  <a:pt x="8014" y="6003"/>
                  <a:pt x="8037" y="6004"/>
                  <a:pt x="8066" y="6003"/>
                </a:cubicBezTo>
                <a:cubicBezTo>
                  <a:pt x="8114" y="6002"/>
                  <a:pt x="8165" y="6004"/>
                  <a:pt x="8213" y="6011"/>
                </a:cubicBezTo>
                <a:cubicBezTo>
                  <a:pt x="8269" y="6019"/>
                  <a:pt x="8324" y="6031"/>
                  <a:pt x="8380" y="6034"/>
                </a:cubicBezTo>
                <a:cubicBezTo>
                  <a:pt x="8392" y="6034"/>
                  <a:pt x="8404" y="6034"/>
                  <a:pt x="8416" y="6034"/>
                </a:cubicBezTo>
              </a:path>
              <a:path w="1892" h="723">
                <a:moveTo>
                  <a:pt x="8590" y="5870"/>
                </a:moveTo>
                <a:cubicBezTo>
                  <a:pt x="8584" y="5907"/>
                  <a:pt x="8578" y="5944"/>
                  <a:pt x="8574" y="5981"/>
                </a:cubicBezTo>
                <a:cubicBezTo>
                  <a:pt x="8567" y="6048"/>
                  <a:pt x="8560" y="6114"/>
                  <a:pt x="8553" y="6181"/>
                </a:cubicBezTo>
                <a:cubicBezTo>
                  <a:pt x="8548" y="6233"/>
                  <a:pt x="8542" y="6293"/>
                  <a:pt x="8559" y="6344"/>
                </a:cubicBezTo>
                <a:cubicBezTo>
                  <a:pt x="8567" y="6358"/>
                  <a:pt x="8571" y="6362"/>
                  <a:pt x="8584" y="6360"/>
                </a:cubicBezTo>
              </a:path>
              <a:path w="1892" h="723">
                <a:moveTo>
                  <a:pt x="8828" y="5876"/>
                </a:moveTo>
                <a:cubicBezTo>
                  <a:pt x="8847" y="5857"/>
                  <a:pt x="8866" y="5836"/>
                  <a:pt x="8895" y="5838"/>
                </a:cubicBezTo>
                <a:cubicBezTo>
                  <a:pt x="8927" y="5840"/>
                  <a:pt x="8948" y="5872"/>
                  <a:pt x="8959" y="5899"/>
                </a:cubicBezTo>
                <a:cubicBezTo>
                  <a:pt x="8996" y="5991"/>
                  <a:pt x="8978" y="6105"/>
                  <a:pt x="8963" y="6199"/>
                </a:cubicBezTo>
                <a:cubicBezTo>
                  <a:pt x="8957" y="6235"/>
                  <a:pt x="8949" y="6269"/>
                  <a:pt x="8950" y="6305"/>
                </a:cubicBezTo>
                <a:cubicBezTo>
                  <a:pt x="8979" y="6314"/>
                  <a:pt x="8996" y="6308"/>
                  <a:pt x="9024" y="6292"/>
                </a:cubicBezTo>
                <a:cubicBezTo>
                  <a:pt x="9061" y="6272"/>
                  <a:pt x="9095" y="6244"/>
                  <a:pt x="9131" y="6223"/>
                </a:cubicBezTo>
                <a:cubicBezTo>
                  <a:pt x="9164" y="6204"/>
                  <a:pt x="9198" y="6189"/>
                  <a:pt x="9230" y="6169"/>
                </a:cubicBezTo>
              </a:path>
              <a:path w="1892" h="723">
                <a:moveTo>
                  <a:pt x="9299" y="5994"/>
                </a:moveTo>
                <a:cubicBezTo>
                  <a:pt x="9291" y="5968"/>
                  <a:pt x="9298" y="5967"/>
                  <a:pt x="9323" y="5957"/>
                </a:cubicBezTo>
                <a:cubicBezTo>
                  <a:pt x="9348" y="5948"/>
                  <a:pt x="9358" y="5945"/>
                  <a:pt x="9374" y="5936"/>
                </a:cubicBezTo>
              </a:path>
              <a:path w="1892" h="723">
                <a:moveTo>
                  <a:pt x="9635" y="5773"/>
                </a:moveTo>
                <a:cubicBezTo>
                  <a:pt x="9598" y="5792"/>
                  <a:pt x="9564" y="5811"/>
                  <a:pt x="9534" y="5840"/>
                </a:cubicBezTo>
                <a:cubicBezTo>
                  <a:pt x="9518" y="5856"/>
                  <a:pt x="9513" y="5861"/>
                  <a:pt x="9515" y="5878"/>
                </a:cubicBezTo>
                <a:cubicBezTo>
                  <a:pt x="9537" y="5912"/>
                  <a:pt x="9569" y="5924"/>
                  <a:pt x="9606" y="5941"/>
                </a:cubicBezTo>
                <a:cubicBezTo>
                  <a:pt x="9659" y="5965"/>
                  <a:pt x="9714" y="5984"/>
                  <a:pt x="9753" y="6029"/>
                </a:cubicBezTo>
                <a:cubicBezTo>
                  <a:pt x="9786" y="6067"/>
                  <a:pt x="9795" y="6116"/>
                  <a:pt x="9775" y="6162"/>
                </a:cubicBezTo>
                <a:cubicBezTo>
                  <a:pt x="9754" y="6209"/>
                  <a:pt x="9712" y="6245"/>
                  <a:pt x="9663" y="6260"/>
                </a:cubicBezTo>
                <a:cubicBezTo>
                  <a:pt x="9623" y="6272"/>
                  <a:pt x="9584" y="6258"/>
                  <a:pt x="9579" y="6212"/>
                </a:cubicBezTo>
                <a:cubicBezTo>
                  <a:pt x="9570" y="6125"/>
                  <a:pt x="9645" y="6032"/>
                  <a:pt x="9690" y="5966"/>
                </a:cubicBezTo>
                <a:cubicBezTo>
                  <a:pt x="9748" y="5880"/>
                  <a:pt x="9821" y="5799"/>
                  <a:pt x="9869" y="5707"/>
                </a:cubicBezTo>
                <a:cubicBezTo>
                  <a:pt x="9886" y="5675"/>
                  <a:pt x="9879" y="5668"/>
                  <a:pt x="9880" y="5640"/>
                </a:cubicBezTo>
                <a:cubicBezTo>
                  <a:pt x="9838" y="5639"/>
                  <a:pt x="9815" y="5655"/>
                  <a:pt x="9780" y="5677"/>
                </a:cubicBezTo>
                <a:cubicBezTo>
                  <a:pt x="9740" y="5702"/>
                  <a:pt x="9706" y="5733"/>
                  <a:pt x="9671" y="5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9"/>
          <p:cNvSpPr/>
          <p:nvPr/>
        </p:nvSpPr>
        <p:spPr>
          <a:xfrm>
            <a:off x="4162320" y="1509840"/>
            <a:ext cx="295560" cy="156960"/>
          </a:xfrm>
          <a:custGeom>
            <a:avLst/>
            <a:gdLst/>
            <a:ahLst/>
            <a:rect l="l" t="t" r="r" b="b"/>
            <a:pathLst>
              <a:path w="821" h="436">
                <a:moveTo>
                  <a:pt x="11563" y="4220"/>
                </a:moveTo>
                <a:cubicBezTo>
                  <a:pt x="11580" y="4229"/>
                  <a:pt x="11600" y="4241"/>
                  <a:pt x="11619" y="4244"/>
                </a:cubicBezTo>
                <a:cubicBezTo>
                  <a:pt x="11646" y="4248"/>
                  <a:pt x="11679" y="4248"/>
                  <a:pt x="11706" y="4244"/>
                </a:cubicBezTo>
                <a:cubicBezTo>
                  <a:pt x="11735" y="4240"/>
                  <a:pt x="11769" y="4232"/>
                  <a:pt x="11796" y="4222"/>
                </a:cubicBezTo>
                <a:cubicBezTo>
                  <a:pt x="11812" y="4215"/>
                  <a:pt x="11817" y="4212"/>
                  <a:pt x="11827" y="4208"/>
                </a:cubicBezTo>
              </a:path>
              <a:path w="821" h="436">
                <a:moveTo>
                  <a:pt x="11685" y="4193"/>
                </a:moveTo>
                <a:cubicBezTo>
                  <a:pt x="11654" y="4214"/>
                  <a:pt x="11637" y="4231"/>
                  <a:pt x="11617" y="4263"/>
                </a:cubicBezTo>
                <a:cubicBezTo>
                  <a:pt x="11595" y="4297"/>
                  <a:pt x="11583" y="4334"/>
                  <a:pt x="11589" y="4375"/>
                </a:cubicBezTo>
                <a:cubicBezTo>
                  <a:pt x="11596" y="4419"/>
                  <a:pt x="11624" y="4441"/>
                  <a:pt x="11658" y="4465"/>
                </a:cubicBezTo>
                <a:cubicBezTo>
                  <a:pt x="11689" y="4486"/>
                  <a:pt x="11722" y="4502"/>
                  <a:pt x="11751" y="4526"/>
                </a:cubicBezTo>
                <a:cubicBezTo>
                  <a:pt x="11772" y="4544"/>
                  <a:pt x="11780" y="4565"/>
                  <a:pt x="11760" y="4589"/>
                </a:cubicBezTo>
                <a:cubicBezTo>
                  <a:pt x="11737" y="4617"/>
                  <a:pt x="11697" y="4626"/>
                  <a:pt x="11663" y="4628"/>
                </a:cubicBezTo>
                <a:cubicBezTo>
                  <a:pt x="11631" y="4630"/>
                  <a:pt x="11586" y="4626"/>
                  <a:pt x="11566" y="4596"/>
                </a:cubicBezTo>
                <a:cubicBezTo>
                  <a:pt x="11544" y="4564"/>
                  <a:pt x="11585" y="4529"/>
                  <a:pt x="11602" y="4508"/>
                </a:cubicBezTo>
              </a:path>
              <a:path w="821" h="436">
                <a:moveTo>
                  <a:pt x="12080" y="4199"/>
                </a:moveTo>
                <a:cubicBezTo>
                  <a:pt x="12075" y="4231"/>
                  <a:pt x="12058" y="4250"/>
                  <a:pt x="12043" y="4279"/>
                </a:cubicBezTo>
                <a:cubicBezTo>
                  <a:pt x="12022" y="4322"/>
                  <a:pt x="12004" y="4366"/>
                  <a:pt x="11989" y="4411"/>
                </a:cubicBezTo>
                <a:cubicBezTo>
                  <a:pt x="11978" y="4443"/>
                  <a:pt x="11956" y="4497"/>
                  <a:pt x="11978" y="4530"/>
                </a:cubicBezTo>
                <a:cubicBezTo>
                  <a:pt x="11992" y="4551"/>
                  <a:pt x="12028" y="4548"/>
                  <a:pt x="12050" y="4546"/>
                </a:cubicBezTo>
                <a:cubicBezTo>
                  <a:pt x="12094" y="4541"/>
                  <a:pt x="12141" y="4528"/>
                  <a:pt x="12183" y="4515"/>
                </a:cubicBezTo>
                <a:cubicBezTo>
                  <a:pt x="12226" y="4502"/>
                  <a:pt x="12277" y="4490"/>
                  <a:pt x="12318" y="4471"/>
                </a:cubicBezTo>
                <a:cubicBezTo>
                  <a:pt x="12347" y="4457"/>
                  <a:pt x="12365" y="4447"/>
                  <a:pt x="12381" y="4421"/>
                </a:cubicBezTo>
              </a:path>
              <a:path w="821" h="436">
                <a:moveTo>
                  <a:pt x="12298" y="4309"/>
                </a:moveTo>
                <a:cubicBezTo>
                  <a:pt x="12277" y="4332"/>
                  <a:pt x="12265" y="4354"/>
                  <a:pt x="12259" y="4385"/>
                </a:cubicBezTo>
                <a:cubicBezTo>
                  <a:pt x="12251" y="4423"/>
                  <a:pt x="12245" y="4460"/>
                  <a:pt x="12243" y="4499"/>
                </a:cubicBezTo>
                <a:cubicBezTo>
                  <a:pt x="12241" y="4527"/>
                  <a:pt x="12241" y="4559"/>
                  <a:pt x="12262" y="4581"/>
                </a:cubicBezTo>
                <a:cubicBezTo>
                  <a:pt x="12279" y="4599"/>
                  <a:pt x="12323" y="4596"/>
                  <a:pt x="12344" y="4591"/>
                </a:cubicBezTo>
                <a:cubicBezTo>
                  <a:pt x="12353" y="4588"/>
                  <a:pt x="12362" y="4584"/>
                  <a:pt x="12371" y="4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20"/>
          <p:cNvSpPr/>
          <p:nvPr/>
        </p:nvSpPr>
        <p:spPr>
          <a:xfrm>
            <a:off x="4576680" y="1461960"/>
            <a:ext cx="309600" cy="165240"/>
          </a:xfrm>
          <a:custGeom>
            <a:avLst/>
            <a:gdLst/>
            <a:ahLst/>
            <a:rect l="l" t="t" r="r" b="b"/>
            <a:pathLst>
              <a:path w="859" h="459">
                <a:moveTo>
                  <a:pt x="12712" y="4279"/>
                </a:moveTo>
                <a:cubicBezTo>
                  <a:pt x="12738" y="4278"/>
                  <a:pt x="12764" y="4276"/>
                  <a:pt x="12790" y="4276"/>
                </a:cubicBezTo>
                <a:cubicBezTo>
                  <a:pt x="12825" y="4276"/>
                  <a:pt x="12857" y="4277"/>
                  <a:pt x="12891" y="4282"/>
                </a:cubicBezTo>
                <a:cubicBezTo>
                  <a:pt x="12919" y="4286"/>
                  <a:pt x="12947" y="4294"/>
                  <a:pt x="12975" y="4296"/>
                </a:cubicBezTo>
                <a:cubicBezTo>
                  <a:pt x="12994" y="4297"/>
                  <a:pt x="13006" y="4291"/>
                  <a:pt x="13021" y="4281"/>
                </a:cubicBezTo>
              </a:path>
              <a:path w="859" h="459">
                <a:moveTo>
                  <a:pt x="12879" y="4092"/>
                </a:moveTo>
                <a:cubicBezTo>
                  <a:pt x="12854" y="4081"/>
                  <a:pt x="12843" y="4076"/>
                  <a:pt x="12844" y="4108"/>
                </a:cubicBezTo>
                <a:cubicBezTo>
                  <a:pt x="12845" y="4133"/>
                  <a:pt x="12855" y="4159"/>
                  <a:pt x="12858" y="4184"/>
                </a:cubicBezTo>
                <a:cubicBezTo>
                  <a:pt x="12859" y="4211"/>
                  <a:pt x="12859" y="4220"/>
                  <a:pt x="12861" y="4238"/>
                </a:cubicBezTo>
              </a:path>
              <a:path w="859" h="459">
                <a:moveTo>
                  <a:pt x="12863" y="4443"/>
                </a:moveTo>
                <a:cubicBezTo>
                  <a:pt x="12861" y="4446"/>
                  <a:pt x="12860" y="4450"/>
                  <a:pt x="12858" y="4453"/>
                </a:cubicBezTo>
                <a:cubicBezTo>
                  <a:pt x="12883" y="4456"/>
                  <a:pt x="12903" y="4454"/>
                  <a:pt x="12928" y="4450"/>
                </a:cubicBezTo>
              </a:path>
              <a:path w="859" h="459">
                <a:moveTo>
                  <a:pt x="13524" y="4110"/>
                </a:moveTo>
                <a:cubicBezTo>
                  <a:pt x="13530" y="4092"/>
                  <a:pt x="13537" y="4086"/>
                  <a:pt x="13516" y="4076"/>
                </a:cubicBezTo>
                <a:cubicBezTo>
                  <a:pt x="13500" y="4069"/>
                  <a:pt x="13484" y="4065"/>
                  <a:pt x="13466" y="4063"/>
                </a:cubicBezTo>
                <a:cubicBezTo>
                  <a:pt x="13444" y="4061"/>
                  <a:pt x="13424" y="4060"/>
                  <a:pt x="13402" y="4064"/>
                </a:cubicBezTo>
                <a:cubicBezTo>
                  <a:pt x="13347" y="4075"/>
                  <a:pt x="13295" y="4110"/>
                  <a:pt x="13267" y="4158"/>
                </a:cubicBezTo>
                <a:cubicBezTo>
                  <a:pt x="13249" y="4189"/>
                  <a:pt x="13229" y="4238"/>
                  <a:pt x="13251" y="4272"/>
                </a:cubicBezTo>
                <a:cubicBezTo>
                  <a:pt x="13269" y="4300"/>
                  <a:pt x="13303" y="4302"/>
                  <a:pt x="13332" y="4297"/>
                </a:cubicBezTo>
                <a:cubicBezTo>
                  <a:pt x="13373" y="4290"/>
                  <a:pt x="13416" y="4268"/>
                  <a:pt x="13449" y="4242"/>
                </a:cubicBezTo>
                <a:cubicBezTo>
                  <a:pt x="13480" y="4218"/>
                  <a:pt x="13508" y="4187"/>
                  <a:pt x="13531" y="4155"/>
                </a:cubicBezTo>
                <a:cubicBezTo>
                  <a:pt x="13545" y="4135"/>
                  <a:pt x="13555" y="4114"/>
                  <a:pt x="13566" y="4092"/>
                </a:cubicBezTo>
                <a:cubicBezTo>
                  <a:pt x="13569" y="4123"/>
                  <a:pt x="13559" y="4153"/>
                  <a:pt x="13551" y="4184"/>
                </a:cubicBezTo>
                <a:cubicBezTo>
                  <a:pt x="13539" y="4234"/>
                  <a:pt x="13525" y="4283"/>
                  <a:pt x="13513" y="4333"/>
                </a:cubicBezTo>
                <a:cubicBezTo>
                  <a:pt x="13503" y="4373"/>
                  <a:pt x="13482" y="4431"/>
                  <a:pt x="13493" y="4473"/>
                </a:cubicBezTo>
                <a:cubicBezTo>
                  <a:pt x="13499" y="4498"/>
                  <a:pt x="13515" y="4518"/>
                  <a:pt x="13542" y="4518"/>
                </a:cubicBezTo>
                <a:cubicBezTo>
                  <a:pt x="13549" y="4517"/>
                  <a:pt x="13555" y="4516"/>
                  <a:pt x="13562" y="4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21"/>
          <p:cNvSpPr/>
          <p:nvPr/>
        </p:nvSpPr>
        <p:spPr>
          <a:xfrm>
            <a:off x="5016600" y="1519200"/>
            <a:ext cx="60120" cy="66600"/>
          </a:xfrm>
          <a:custGeom>
            <a:avLst/>
            <a:gdLst/>
            <a:ahLst/>
            <a:rect l="l" t="t" r="r" b="b"/>
            <a:pathLst>
              <a:path w="169" h="188">
                <a:moveTo>
                  <a:pt x="13945" y="4235"/>
                </a:moveTo>
                <a:cubicBezTo>
                  <a:pt x="13967" y="4227"/>
                  <a:pt x="13987" y="4223"/>
                  <a:pt x="14011" y="4222"/>
                </a:cubicBezTo>
                <a:cubicBezTo>
                  <a:pt x="14038" y="4220"/>
                  <a:pt x="14065" y="4216"/>
                  <a:pt x="14091" y="4222"/>
                </a:cubicBezTo>
                <a:cubicBezTo>
                  <a:pt x="14095" y="4224"/>
                  <a:pt x="14099" y="4225"/>
                  <a:pt x="14103" y="4227"/>
                </a:cubicBezTo>
              </a:path>
              <a:path w="169" h="188">
                <a:moveTo>
                  <a:pt x="13938" y="4363"/>
                </a:moveTo>
                <a:cubicBezTo>
                  <a:pt x="13934" y="4389"/>
                  <a:pt x="13943" y="4394"/>
                  <a:pt x="13970" y="4397"/>
                </a:cubicBezTo>
                <a:cubicBezTo>
                  <a:pt x="13999" y="4400"/>
                  <a:pt x="14029" y="4400"/>
                  <a:pt x="14059" y="4403"/>
                </a:cubicBezTo>
                <a:cubicBezTo>
                  <a:pt x="14066" y="4404"/>
                  <a:pt x="14073" y="4404"/>
                  <a:pt x="14080" y="4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22"/>
          <p:cNvSpPr/>
          <p:nvPr/>
        </p:nvSpPr>
        <p:spPr>
          <a:xfrm>
            <a:off x="5234040" y="1444680"/>
            <a:ext cx="101520" cy="187200"/>
          </a:xfrm>
          <a:custGeom>
            <a:avLst/>
            <a:gdLst/>
            <a:ahLst/>
            <a:rect l="l" t="t" r="r" b="b"/>
            <a:pathLst>
              <a:path w="285" h="522">
                <a:moveTo>
                  <a:pt x="14700" y="4012"/>
                </a:moveTo>
                <a:cubicBezTo>
                  <a:pt x="14672" y="4044"/>
                  <a:pt x="14655" y="4081"/>
                  <a:pt x="14637" y="4121"/>
                </a:cubicBezTo>
                <a:cubicBezTo>
                  <a:pt x="14598" y="4206"/>
                  <a:pt x="14563" y="4293"/>
                  <a:pt x="14545" y="4385"/>
                </a:cubicBezTo>
                <a:cubicBezTo>
                  <a:pt x="14537" y="4428"/>
                  <a:pt x="14526" y="4488"/>
                  <a:pt x="14565" y="4520"/>
                </a:cubicBezTo>
                <a:cubicBezTo>
                  <a:pt x="14600" y="4548"/>
                  <a:pt x="14656" y="4529"/>
                  <a:pt x="14691" y="4514"/>
                </a:cubicBezTo>
                <a:cubicBezTo>
                  <a:pt x="14741" y="4493"/>
                  <a:pt x="14786" y="4460"/>
                  <a:pt x="14812" y="4412"/>
                </a:cubicBezTo>
                <a:cubicBezTo>
                  <a:pt x="14831" y="4376"/>
                  <a:pt x="14817" y="4340"/>
                  <a:pt x="14778" y="4326"/>
                </a:cubicBezTo>
                <a:cubicBezTo>
                  <a:pt x="14728" y="4308"/>
                  <a:pt x="14678" y="4323"/>
                  <a:pt x="14632" y="4340"/>
                </a:cubicBezTo>
                <a:cubicBezTo>
                  <a:pt x="14595" y="4353"/>
                  <a:pt x="14571" y="4365"/>
                  <a:pt x="14549" y="4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23"/>
          <p:cNvSpPr/>
          <p:nvPr/>
        </p:nvSpPr>
        <p:spPr>
          <a:xfrm>
            <a:off x="6459480" y="1425600"/>
            <a:ext cx="831960" cy="328680"/>
          </a:xfrm>
          <a:custGeom>
            <a:avLst/>
            <a:gdLst/>
            <a:ahLst/>
            <a:rect l="l" t="t" r="r" b="b"/>
            <a:pathLst>
              <a:path w="2310" h="916">
                <a:moveTo>
                  <a:pt x="18171" y="4032"/>
                </a:moveTo>
                <a:cubicBezTo>
                  <a:pt x="18154" y="4047"/>
                  <a:pt x="18148" y="4053"/>
                  <a:pt x="18140" y="4081"/>
                </a:cubicBezTo>
                <a:cubicBezTo>
                  <a:pt x="18126" y="4130"/>
                  <a:pt x="18104" y="4174"/>
                  <a:pt x="18084" y="4220"/>
                </a:cubicBezTo>
                <a:cubicBezTo>
                  <a:pt x="18057" y="4281"/>
                  <a:pt x="18025" y="4337"/>
                  <a:pt x="17996" y="4397"/>
                </a:cubicBezTo>
                <a:cubicBezTo>
                  <a:pt x="17985" y="4419"/>
                  <a:pt x="17986" y="4424"/>
                  <a:pt x="17985" y="4446"/>
                </a:cubicBezTo>
                <a:cubicBezTo>
                  <a:pt x="18011" y="4444"/>
                  <a:pt x="18037" y="4441"/>
                  <a:pt x="18064" y="4437"/>
                </a:cubicBezTo>
                <a:cubicBezTo>
                  <a:pt x="18121" y="4428"/>
                  <a:pt x="18178" y="4415"/>
                  <a:pt x="18235" y="4404"/>
                </a:cubicBezTo>
                <a:cubicBezTo>
                  <a:pt x="18301" y="4391"/>
                  <a:pt x="18367" y="4378"/>
                  <a:pt x="18433" y="4362"/>
                </a:cubicBezTo>
                <a:cubicBezTo>
                  <a:pt x="18470" y="4353"/>
                  <a:pt x="18524" y="4348"/>
                  <a:pt x="18553" y="4322"/>
                </a:cubicBezTo>
                <a:cubicBezTo>
                  <a:pt x="18576" y="4302"/>
                  <a:pt x="18555" y="4322"/>
                  <a:pt x="18553" y="4302"/>
                </a:cubicBezTo>
              </a:path>
              <a:path w="2310" h="916">
                <a:moveTo>
                  <a:pt x="18337" y="4134"/>
                </a:moveTo>
                <a:cubicBezTo>
                  <a:pt x="18317" y="4158"/>
                  <a:pt x="18301" y="4185"/>
                  <a:pt x="18293" y="4216"/>
                </a:cubicBezTo>
                <a:cubicBezTo>
                  <a:pt x="18279" y="4266"/>
                  <a:pt x="18268" y="4317"/>
                  <a:pt x="18263" y="4368"/>
                </a:cubicBezTo>
                <a:cubicBezTo>
                  <a:pt x="18259" y="4407"/>
                  <a:pt x="18257" y="4449"/>
                  <a:pt x="18270" y="4486"/>
                </a:cubicBezTo>
                <a:cubicBezTo>
                  <a:pt x="18277" y="4505"/>
                  <a:pt x="18301" y="4514"/>
                  <a:pt x="18319" y="4507"/>
                </a:cubicBezTo>
                <a:cubicBezTo>
                  <a:pt x="18324" y="4504"/>
                  <a:pt x="18330" y="4500"/>
                  <a:pt x="18335" y="4497"/>
                </a:cubicBezTo>
              </a:path>
              <a:path w="2310" h="916">
                <a:moveTo>
                  <a:pt x="18550" y="4033"/>
                </a:moveTo>
                <a:cubicBezTo>
                  <a:pt x="18583" y="4004"/>
                  <a:pt x="18613" y="3985"/>
                  <a:pt x="18655" y="3971"/>
                </a:cubicBezTo>
                <a:cubicBezTo>
                  <a:pt x="18696" y="3957"/>
                  <a:pt x="18749" y="3949"/>
                  <a:pt x="18791" y="3966"/>
                </a:cubicBezTo>
                <a:cubicBezTo>
                  <a:pt x="18833" y="3983"/>
                  <a:pt x="18850" y="4020"/>
                  <a:pt x="18845" y="4063"/>
                </a:cubicBezTo>
                <a:cubicBezTo>
                  <a:pt x="18837" y="4133"/>
                  <a:pt x="18789" y="4200"/>
                  <a:pt x="18753" y="4258"/>
                </a:cubicBezTo>
                <a:cubicBezTo>
                  <a:pt x="18735" y="4287"/>
                  <a:pt x="18704" y="4327"/>
                  <a:pt x="18709" y="4365"/>
                </a:cubicBezTo>
                <a:cubicBezTo>
                  <a:pt x="18714" y="4398"/>
                  <a:pt x="18753" y="4400"/>
                  <a:pt x="18779" y="4401"/>
                </a:cubicBezTo>
                <a:cubicBezTo>
                  <a:pt x="18838" y="4403"/>
                  <a:pt x="18895" y="4387"/>
                  <a:pt x="18949" y="4367"/>
                </a:cubicBezTo>
                <a:cubicBezTo>
                  <a:pt x="18980" y="4356"/>
                  <a:pt x="19000" y="4343"/>
                  <a:pt x="19026" y="4324"/>
                </a:cubicBezTo>
              </a:path>
              <a:path w="2310" h="916">
                <a:moveTo>
                  <a:pt x="19201" y="4008"/>
                </a:moveTo>
                <a:cubicBezTo>
                  <a:pt x="19207" y="4026"/>
                  <a:pt x="19209" y="4043"/>
                  <a:pt x="19208" y="4062"/>
                </a:cubicBezTo>
                <a:cubicBezTo>
                  <a:pt x="19207" y="4085"/>
                  <a:pt x="19207" y="4093"/>
                  <a:pt x="19204" y="4108"/>
                </a:cubicBezTo>
              </a:path>
              <a:path w="2310" h="916">
                <a:moveTo>
                  <a:pt x="19125" y="4354"/>
                </a:moveTo>
                <a:cubicBezTo>
                  <a:pt x="19119" y="4363"/>
                  <a:pt x="19117" y="4365"/>
                  <a:pt x="19117" y="4372"/>
                </a:cubicBezTo>
                <a:cubicBezTo>
                  <a:pt x="19134" y="4374"/>
                  <a:pt x="19147" y="4374"/>
                  <a:pt x="19164" y="4371"/>
                </a:cubicBezTo>
              </a:path>
              <a:path w="2310" h="916">
                <a:moveTo>
                  <a:pt x="19693" y="4062"/>
                </a:moveTo>
                <a:cubicBezTo>
                  <a:pt x="19692" y="4059"/>
                  <a:pt x="19690" y="4055"/>
                  <a:pt x="19689" y="4052"/>
                </a:cubicBezTo>
                <a:cubicBezTo>
                  <a:pt x="19669" y="4064"/>
                  <a:pt x="19672" y="4087"/>
                  <a:pt x="19667" y="4114"/>
                </a:cubicBezTo>
                <a:cubicBezTo>
                  <a:pt x="19657" y="4165"/>
                  <a:pt x="19649" y="4216"/>
                  <a:pt x="19637" y="4266"/>
                </a:cubicBezTo>
                <a:cubicBezTo>
                  <a:pt x="19626" y="4310"/>
                  <a:pt x="19611" y="4354"/>
                  <a:pt x="19600" y="4398"/>
                </a:cubicBezTo>
                <a:cubicBezTo>
                  <a:pt x="19593" y="4423"/>
                  <a:pt x="19585" y="4439"/>
                  <a:pt x="19613" y="4424"/>
                </a:cubicBezTo>
              </a:path>
              <a:path w="2310" h="916">
                <a:moveTo>
                  <a:pt x="19783" y="4035"/>
                </a:moveTo>
                <a:cubicBezTo>
                  <a:pt x="19807" y="4014"/>
                  <a:pt x="19831" y="3993"/>
                  <a:pt x="19865" y="3990"/>
                </a:cubicBezTo>
                <a:cubicBezTo>
                  <a:pt x="19902" y="3987"/>
                  <a:pt x="19940" y="3999"/>
                  <a:pt x="19969" y="4021"/>
                </a:cubicBezTo>
                <a:cubicBezTo>
                  <a:pt x="20005" y="4048"/>
                  <a:pt x="20019" y="4087"/>
                  <a:pt x="20019" y="4131"/>
                </a:cubicBezTo>
                <a:cubicBezTo>
                  <a:pt x="20018" y="4185"/>
                  <a:pt x="19995" y="4240"/>
                  <a:pt x="19970" y="4287"/>
                </a:cubicBezTo>
                <a:cubicBezTo>
                  <a:pt x="19948" y="4328"/>
                  <a:pt x="19918" y="4365"/>
                  <a:pt x="19893" y="4405"/>
                </a:cubicBezTo>
                <a:cubicBezTo>
                  <a:pt x="19881" y="4424"/>
                  <a:pt x="19883" y="4428"/>
                  <a:pt x="19879" y="4446"/>
                </a:cubicBezTo>
                <a:cubicBezTo>
                  <a:pt x="19916" y="4463"/>
                  <a:pt x="19945" y="4464"/>
                  <a:pt x="19987" y="4464"/>
                </a:cubicBezTo>
                <a:cubicBezTo>
                  <a:pt x="20041" y="4464"/>
                  <a:pt x="20097" y="4467"/>
                  <a:pt x="20150" y="4463"/>
                </a:cubicBezTo>
                <a:cubicBezTo>
                  <a:pt x="20188" y="4460"/>
                  <a:pt x="20217" y="4458"/>
                  <a:pt x="20252" y="4473"/>
                </a:cubicBezTo>
              </a:path>
              <a:path w="2310" h="916">
                <a:moveTo>
                  <a:pt x="19206" y="4294"/>
                </a:moveTo>
                <a:cubicBezTo>
                  <a:pt x="19186" y="4300"/>
                  <a:pt x="19186" y="4314"/>
                  <a:pt x="19186" y="4336"/>
                </a:cubicBezTo>
                <a:cubicBezTo>
                  <a:pt x="19207" y="4334"/>
                  <a:pt x="19222" y="4317"/>
                  <a:pt x="19222" y="4291"/>
                </a:cubicBezTo>
                <a:cubicBezTo>
                  <a:pt x="19221" y="4287"/>
                  <a:pt x="19219" y="4283"/>
                  <a:pt x="19218" y="4279"/>
                </a:cubicBezTo>
                <a:cubicBezTo>
                  <a:pt x="19204" y="4284"/>
                  <a:pt x="19173" y="4301"/>
                  <a:pt x="19181" y="4323"/>
                </a:cubicBezTo>
                <a:cubicBezTo>
                  <a:pt x="19191" y="4333"/>
                  <a:pt x="19193" y="4335"/>
                  <a:pt x="19200" y="4340"/>
                </a:cubicBezTo>
              </a:path>
              <a:path w="2310" h="916">
                <a:moveTo>
                  <a:pt x="17960" y="4717"/>
                </a:moveTo>
                <a:cubicBezTo>
                  <a:pt x="17955" y="4708"/>
                  <a:pt x="17948" y="4695"/>
                  <a:pt x="17943" y="4685"/>
                </a:cubicBezTo>
                <a:cubicBezTo>
                  <a:pt x="17978" y="4682"/>
                  <a:pt x="18011" y="4681"/>
                  <a:pt x="18047" y="4681"/>
                </a:cubicBezTo>
                <a:cubicBezTo>
                  <a:pt x="18149" y="4682"/>
                  <a:pt x="18251" y="4686"/>
                  <a:pt x="18353" y="4686"/>
                </a:cubicBezTo>
                <a:cubicBezTo>
                  <a:pt x="18875" y="4688"/>
                  <a:pt x="19397" y="4678"/>
                  <a:pt x="19918" y="4717"/>
                </a:cubicBezTo>
                <a:cubicBezTo>
                  <a:pt x="19994" y="4723"/>
                  <a:pt x="20207" y="4705"/>
                  <a:pt x="20144" y="4748"/>
                </a:cubicBezTo>
                <a:cubicBezTo>
                  <a:pt x="20113" y="4757"/>
                  <a:pt x="20102" y="4760"/>
                  <a:pt x="20079" y="4758"/>
                </a:cubicBezTo>
              </a:path>
              <a:path w="2310" h="916">
                <a:moveTo>
                  <a:pt x="18410" y="4856"/>
                </a:moveTo>
                <a:cubicBezTo>
                  <a:pt x="18379" y="4858"/>
                  <a:pt x="18348" y="4860"/>
                  <a:pt x="18317" y="4861"/>
                </a:cubicBezTo>
                <a:cubicBezTo>
                  <a:pt x="18372" y="4857"/>
                  <a:pt x="18426" y="4857"/>
                  <a:pt x="18481" y="4859"/>
                </a:cubicBezTo>
                <a:cubicBezTo>
                  <a:pt x="18597" y="4862"/>
                  <a:pt x="18712" y="4865"/>
                  <a:pt x="18828" y="4867"/>
                </a:cubicBezTo>
                <a:cubicBezTo>
                  <a:pt x="19014" y="4871"/>
                  <a:pt x="19202" y="4877"/>
                  <a:pt x="19388" y="4873"/>
                </a:cubicBezTo>
                <a:cubicBezTo>
                  <a:pt x="19474" y="4871"/>
                  <a:pt x="19562" y="4875"/>
                  <a:pt x="19648" y="4869"/>
                </a:cubicBezTo>
                <a:cubicBezTo>
                  <a:pt x="19661" y="4868"/>
                  <a:pt x="19673" y="4866"/>
                  <a:pt x="19686" y="48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24"/>
          <p:cNvSpPr/>
          <p:nvPr/>
        </p:nvSpPr>
        <p:spPr>
          <a:xfrm>
            <a:off x="4346640" y="2401920"/>
            <a:ext cx="261720" cy="206280"/>
          </a:xfrm>
          <a:custGeom>
            <a:avLst/>
            <a:gdLst/>
            <a:ahLst/>
            <a:rect l="l" t="t" r="r" b="b"/>
            <a:pathLst>
              <a:path w="726" h="576">
                <a:moveTo>
                  <a:pt x="12085" y="7240"/>
                </a:moveTo>
                <a:cubicBezTo>
                  <a:pt x="12086" y="7235"/>
                  <a:pt x="12096" y="7208"/>
                  <a:pt x="12127" y="7182"/>
                </a:cubicBezTo>
                <a:cubicBezTo>
                  <a:pt x="12187" y="7131"/>
                  <a:pt x="12243" y="7075"/>
                  <a:pt x="12303" y="7024"/>
                </a:cubicBezTo>
                <a:cubicBezTo>
                  <a:pt x="12377" y="6961"/>
                  <a:pt x="12452" y="6898"/>
                  <a:pt x="12529" y="6839"/>
                </a:cubicBezTo>
                <a:cubicBezTo>
                  <a:pt x="12585" y="6797"/>
                  <a:pt x="12644" y="6754"/>
                  <a:pt x="12706" y="6721"/>
                </a:cubicBezTo>
                <a:cubicBezTo>
                  <a:pt x="12728" y="6709"/>
                  <a:pt x="12769" y="6701"/>
                  <a:pt x="12788" y="6685"/>
                </a:cubicBezTo>
                <a:cubicBezTo>
                  <a:pt x="12801" y="6683"/>
                  <a:pt x="12804" y="6682"/>
                  <a:pt x="12794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25"/>
          <p:cNvSpPr/>
          <p:nvPr/>
        </p:nvSpPr>
        <p:spPr>
          <a:xfrm>
            <a:off x="4748040" y="2187720"/>
            <a:ext cx="773280" cy="160200"/>
          </a:xfrm>
          <a:custGeom>
            <a:avLst/>
            <a:gdLst/>
            <a:ahLst/>
            <a:rect l="l" t="t" r="r" b="b"/>
            <a:pathLst>
              <a:path w="2144" h="447">
                <a:moveTo>
                  <a:pt x="13262" y="6163"/>
                </a:moveTo>
                <a:cubicBezTo>
                  <a:pt x="13241" y="6192"/>
                  <a:pt x="13235" y="6219"/>
                  <a:pt x="13227" y="6255"/>
                </a:cubicBezTo>
                <a:cubicBezTo>
                  <a:pt x="13216" y="6304"/>
                  <a:pt x="13205" y="6354"/>
                  <a:pt x="13198" y="6404"/>
                </a:cubicBezTo>
                <a:cubicBezTo>
                  <a:pt x="13195" y="6425"/>
                  <a:pt x="13180" y="6487"/>
                  <a:pt x="13199" y="6506"/>
                </a:cubicBezTo>
                <a:cubicBezTo>
                  <a:pt x="13217" y="6514"/>
                  <a:pt x="13221" y="6518"/>
                  <a:pt x="13233" y="6510"/>
                </a:cubicBezTo>
              </a:path>
              <a:path w="2144" h="447">
                <a:moveTo>
                  <a:pt x="13404" y="6301"/>
                </a:moveTo>
                <a:cubicBezTo>
                  <a:pt x="13398" y="6335"/>
                  <a:pt x="13382" y="6366"/>
                  <a:pt x="13370" y="6399"/>
                </a:cubicBezTo>
                <a:cubicBezTo>
                  <a:pt x="13360" y="6426"/>
                  <a:pt x="13347" y="6470"/>
                  <a:pt x="13375" y="6492"/>
                </a:cubicBezTo>
                <a:cubicBezTo>
                  <a:pt x="13403" y="6514"/>
                  <a:pt x="13457" y="6493"/>
                  <a:pt x="13483" y="6479"/>
                </a:cubicBezTo>
                <a:cubicBezTo>
                  <a:pt x="13526" y="6456"/>
                  <a:pt x="13572" y="6418"/>
                  <a:pt x="13597" y="6375"/>
                </a:cubicBezTo>
                <a:cubicBezTo>
                  <a:pt x="13613" y="6347"/>
                  <a:pt x="13628" y="6303"/>
                  <a:pt x="13603" y="6275"/>
                </a:cubicBezTo>
                <a:cubicBezTo>
                  <a:pt x="13579" y="6249"/>
                  <a:pt x="13533" y="6261"/>
                  <a:pt x="13507" y="6275"/>
                </a:cubicBezTo>
                <a:cubicBezTo>
                  <a:pt x="13482" y="6288"/>
                  <a:pt x="13446" y="6318"/>
                  <a:pt x="13450" y="6351"/>
                </a:cubicBezTo>
                <a:cubicBezTo>
                  <a:pt x="13459" y="6371"/>
                  <a:pt x="13462" y="6378"/>
                  <a:pt x="13477" y="6384"/>
                </a:cubicBezTo>
              </a:path>
              <a:path w="2144" h="447">
                <a:moveTo>
                  <a:pt x="13834" y="6323"/>
                </a:moveTo>
                <a:cubicBezTo>
                  <a:pt x="13834" y="6360"/>
                  <a:pt x="13815" y="6374"/>
                  <a:pt x="13802" y="6407"/>
                </a:cubicBezTo>
                <a:cubicBezTo>
                  <a:pt x="13792" y="6432"/>
                  <a:pt x="13790" y="6468"/>
                  <a:pt x="13821" y="6479"/>
                </a:cubicBezTo>
                <a:cubicBezTo>
                  <a:pt x="13862" y="6493"/>
                  <a:pt x="13908" y="6468"/>
                  <a:pt x="13942" y="6448"/>
                </a:cubicBezTo>
                <a:cubicBezTo>
                  <a:pt x="13985" y="6422"/>
                  <a:pt x="14021" y="6386"/>
                  <a:pt x="14038" y="6338"/>
                </a:cubicBezTo>
                <a:cubicBezTo>
                  <a:pt x="14049" y="6306"/>
                  <a:pt x="14043" y="6270"/>
                  <a:pt x="14014" y="6250"/>
                </a:cubicBezTo>
                <a:cubicBezTo>
                  <a:pt x="13995" y="6237"/>
                  <a:pt x="13961" y="6231"/>
                  <a:pt x="13943" y="6245"/>
                </a:cubicBezTo>
                <a:cubicBezTo>
                  <a:pt x="13927" y="6257"/>
                  <a:pt x="13934" y="6269"/>
                  <a:pt x="13938" y="6285"/>
                </a:cubicBezTo>
              </a:path>
              <a:path w="2144" h="447">
                <a:moveTo>
                  <a:pt x="14269" y="6324"/>
                </a:moveTo>
                <a:cubicBezTo>
                  <a:pt x="14287" y="6327"/>
                  <a:pt x="14298" y="6322"/>
                  <a:pt x="14316" y="6321"/>
                </a:cubicBezTo>
                <a:cubicBezTo>
                  <a:pt x="14349" y="6319"/>
                  <a:pt x="14380" y="6317"/>
                  <a:pt x="14413" y="6319"/>
                </a:cubicBezTo>
                <a:cubicBezTo>
                  <a:pt x="14442" y="6321"/>
                  <a:pt x="14469" y="6321"/>
                  <a:pt x="14498" y="6321"/>
                </a:cubicBezTo>
              </a:path>
              <a:path w="2144" h="447">
                <a:moveTo>
                  <a:pt x="14664" y="6143"/>
                </a:moveTo>
                <a:cubicBezTo>
                  <a:pt x="14681" y="6123"/>
                  <a:pt x="14697" y="6116"/>
                  <a:pt x="14724" y="6113"/>
                </a:cubicBezTo>
                <a:cubicBezTo>
                  <a:pt x="14753" y="6110"/>
                  <a:pt x="14783" y="6124"/>
                  <a:pt x="14798" y="6151"/>
                </a:cubicBezTo>
                <a:cubicBezTo>
                  <a:pt x="14816" y="6183"/>
                  <a:pt x="14808" y="6226"/>
                  <a:pt x="14796" y="6258"/>
                </a:cubicBezTo>
                <a:cubicBezTo>
                  <a:pt x="14785" y="6289"/>
                  <a:pt x="14766" y="6314"/>
                  <a:pt x="14747" y="6340"/>
                </a:cubicBezTo>
                <a:cubicBezTo>
                  <a:pt x="14745" y="6343"/>
                  <a:pt x="14742" y="6346"/>
                  <a:pt x="14740" y="6349"/>
                </a:cubicBezTo>
                <a:cubicBezTo>
                  <a:pt x="14769" y="6359"/>
                  <a:pt x="14796" y="6358"/>
                  <a:pt x="14826" y="6365"/>
                </a:cubicBezTo>
                <a:cubicBezTo>
                  <a:pt x="14848" y="6370"/>
                  <a:pt x="14887" y="6383"/>
                  <a:pt x="14893" y="6409"/>
                </a:cubicBezTo>
                <a:cubicBezTo>
                  <a:pt x="14900" y="6438"/>
                  <a:pt x="14861" y="6466"/>
                  <a:pt x="14842" y="6479"/>
                </a:cubicBezTo>
                <a:cubicBezTo>
                  <a:pt x="14806" y="6503"/>
                  <a:pt x="14765" y="6520"/>
                  <a:pt x="14722" y="6518"/>
                </a:cubicBezTo>
                <a:cubicBezTo>
                  <a:pt x="14715" y="6492"/>
                  <a:pt x="14719" y="6495"/>
                  <a:pt x="14734" y="6468"/>
                </a:cubicBezTo>
              </a:path>
              <a:path w="2144" h="447">
                <a:moveTo>
                  <a:pt x="15083" y="6093"/>
                </a:moveTo>
                <a:cubicBezTo>
                  <a:pt x="15109" y="6082"/>
                  <a:pt x="15131" y="6071"/>
                  <a:pt x="15160" y="6075"/>
                </a:cubicBezTo>
                <a:cubicBezTo>
                  <a:pt x="15189" y="6079"/>
                  <a:pt x="15217" y="6098"/>
                  <a:pt x="15228" y="6126"/>
                </a:cubicBezTo>
                <a:cubicBezTo>
                  <a:pt x="15245" y="6170"/>
                  <a:pt x="15231" y="6219"/>
                  <a:pt x="15216" y="6260"/>
                </a:cubicBezTo>
                <a:cubicBezTo>
                  <a:pt x="15195" y="6315"/>
                  <a:pt x="15164" y="6366"/>
                  <a:pt x="15134" y="6416"/>
                </a:cubicBezTo>
                <a:cubicBezTo>
                  <a:pt x="15122" y="6435"/>
                  <a:pt x="15089" y="6477"/>
                  <a:pt x="15103" y="6502"/>
                </a:cubicBezTo>
                <a:cubicBezTo>
                  <a:pt x="15115" y="6524"/>
                  <a:pt x="15159" y="6511"/>
                  <a:pt x="15177" y="6508"/>
                </a:cubicBezTo>
                <a:cubicBezTo>
                  <a:pt x="15213" y="6503"/>
                  <a:pt x="15248" y="6498"/>
                  <a:pt x="15283" y="6493"/>
                </a:cubicBezTo>
                <a:cubicBezTo>
                  <a:pt x="15300" y="6491"/>
                  <a:pt x="15316" y="6490"/>
                  <a:pt x="15334" y="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26"/>
          <p:cNvSpPr/>
          <p:nvPr/>
        </p:nvSpPr>
        <p:spPr>
          <a:xfrm>
            <a:off x="5694480" y="2176560"/>
            <a:ext cx="601560" cy="214200"/>
          </a:xfrm>
          <a:custGeom>
            <a:avLst/>
            <a:gdLst/>
            <a:ahLst/>
            <a:rect l="l" t="t" r="r" b="b"/>
            <a:pathLst>
              <a:path w="1670" h="596">
                <a:moveTo>
                  <a:pt x="15819" y="6340"/>
                </a:moveTo>
                <a:cubicBezTo>
                  <a:pt x="15840" y="6335"/>
                  <a:pt x="15856" y="6320"/>
                  <a:pt x="15876" y="6314"/>
                </a:cubicBezTo>
                <a:cubicBezTo>
                  <a:pt x="15909" y="6305"/>
                  <a:pt x="15943" y="6296"/>
                  <a:pt x="15977" y="6298"/>
                </a:cubicBezTo>
                <a:cubicBezTo>
                  <a:pt x="16002" y="6300"/>
                  <a:pt x="16018" y="6302"/>
                  <a:pt x="16028" y="6324"/>
                </a:cubicBezTo>
              </a:path>
              <a:path w="1670" h="596">
                <a:moveTo>
                  <a:pt x="15821" y="6468"/>
                </a:moveTo>
                <a:cubicBezTo>
                  <a:pt x="15855" y="6485"/>
                  <a:pt x="15882" y="6476"/>
                  <a:pt x="15921" y="6469"/>
                </a:cubicBezTo>
                <a:cubicBezTo>
                  <a:pt x="15988" y="6456"/>
                  <a:pt x="16056" y="6450"/>
                  <a:pt x="16123" y="6438"/>
                </a:cubicBezTo>
                <a:cubicBezTo>
                  <a:pt x="16176" y="6428"/>
                  <a:pt x="16194" y="6425"/>
                  <a:pt x="16229" y="6414"/>
                </a:cubicBezTo>
              </a:path>
              <a:path w="1670" h="596">
                <a:moveTo>
                  <a:pt x="16573" y="6114"/>
                </a:moveTo>
                <a:cubicBezTo>
                  <a:pt x="16529" y="6131"/>
                  <a:pt x="16500" y="6170"/>
                  <a:pt x="16476" y="6211"/>
                </a:cubicBezTo>
                <a:cubicBezTo>
                  <a:pt x="16440" y="6271"/>
                  <a:pt x="16404" y="6347"/>
                  <a:pt x="16391" y="6416"/>
                </a:cubicBezTo>
                <a:cubicBezTo>
                  <a:pt x="16383" y="6460"/>
                  <a:pt x="16380" y="6522"/>
                  <a:pt x="16429" y="6544"/>
                </a:cubicBezTo>
                <a:cubicBezTo>
                  <a:pt x="16470" y="6562"/>
                  <a:pt x="16531" y="6546"/>
                  <a:pt x="16568" y="6526"/>
                </a:cubicBezTo>
                <a:cubicBezTo>
                  <a:pt x="16602" y="6507"/>
                  <a:pt x="16642" y="6476"/>
                  <a:pt x="16645" y="6434"/>
                </a:cubicBezTo>
                <a:cubicBezTo>
                  <a:pt x="16648" y="6400"/>
                  <a:pt x="16618" y="6389"/>
                  <a:pt x="16591" y="6384"/>
                </a:cubicBezTo>
                <a:cubicBezTo>
                  <a:pt x="16577" y="6381"/>
                  <a:pt x="16506" y="6388"/>
                  <a:pt x="16576" y="6394"/>
                </a:cubicBezTo>
              </a:path>
              <a:path w="1670" h="596">
                <a:moveTo>
                  <a:pt x="16941" y="6207"/>
                </a:moveTo>
                <a:cubicBezTo>
                  <a:pt x="16932" y="6179"/>
                  <a:pt x="16908" y="6201"/>
                  <a:pt x="16887" y="6211"/>
                </a:cubicBezTo>
                <a:cubicBezTo>
                  <a:pt x="16850" y="6229"/>
                  <a:pt x="16820" y="6254"/>
                  <a:pt x="16819" y="6299"/>
                </a:cubicBezTo>
                <a:cubicBezTo>
                  <a:pt x="16818" y="6344"/>
                  <a:pt x="16852" y="6374"/>
                  <a:pt x="16879" y="6405"/>
                </a:cubicBezTo>
                <a:cubicBezTo>
                  <a:pt x="16904" y="6433"/>
                  <a:pt x="16929" y="6463"/>
                  <a:pt x="16914" y="6503"/>
                </a:cubicBezTo>
                <a:cubicBezTo>
                  <a:pt x="16899" y="6542"/>
                  <a:pt x="16852" y="6560"/>
                  <a:pt x="16814" y="6567"/>
                </a:cubicBezTo>
                <a:cubicBezTo>
                  <a:pt x="16786" y="6572"/>
                  <a:pt x="16734" y="6572"/>
                  <a:pt x="16730" y="6533"/>
                </a:cubicBezTo>
                <a:cubicBezTo>
                  <a:pt x="16725" y="6484"/>
                  <a:pt x="16781" y="6427"/>
                  <a:pt x="16809" y="6395"/>
                </a:cubicBezTo>
                <a:cubicBezTo>
                  <a:pt x="16871" y="6324"/>
                  <a:pt x="16958" y="6262"/>
                  <a:pt x="17001" y="6177"/>
                </a:cubicBezTo>
                <a:cubicBezTo>
                  <a:pt x="17006" y="6162"/>
                  <a:pt x="17009" y="6159"/>
                  <a:pt x="17004" y="6150"/>
                </a:cubicBezTo>
                <a:cubicBezTo>
                  <a:pt x="16986" y="6146"/>
                  <a:pt x="16961" y="6148"/>
                  <a:pt x="16947" y="6164"/>
                </a:cubicBezTo>
                <a:cubicBezTo>
                  <a:pt x="16927" y="6185"/>
                  <a:pt x="16947" y="6196"/>
                  <a:pt x="16964" y="6204"/>
                </a:cubicBezTo>
              </a:path>
              <a:path w="1670" h="596">
                <a:moveTo>
                  <a:pt x="17344" y="6056"/>
                </a:moveTo>
                <a:cubicBezTo>
                  <a:pt x="17326" y="6037"/>
                  <a:pt x="17296" y="6063"/>
                  <a:pt x="17272" y="6078"/>
                </a:cubicBezTo>
                <a:cubicBezTo>
                  <a:pt x="17247" y="6094"/>
                  <a:pt x="17211" y="6122"/>
                  <a:pt x="17205" y="6154"/>
                </a:cubicBezTo>
                <a:cubicBezTo>
                  <a:pt x="17200" y="6184"/>
                  <a:pt x="17235" y="6187"/>
                  <a:pt x="17256" y="6186"/>
                </a:cubicBezTo>
                <a:cubicBezTo>
                  <a:pt x="17285" y="6184"/>
                  <a:pt x="17317" y="6172"/>
                  <a:pt x="17338" y="6151"/>
                </a:cubicBezTo>
                <a:cubicBezTo>
                  <a:pt x="17352" y="6137"/>
                  <a:pt x="17359" y="6118"/>
                  <a:pt x="17344" y="6103"/>
                </a:cubicBezTo>
                <a:cubicBezTo>
                  <a:pt x="17329" y="6088"/>
                  <a:pt x="17319" y="6083"/>
                  <a:pt x="17300" y="6076"/>
                </a:cubicBezTo>
                <a:cubicBezTo>
                  <a:pt x="17318" y="6091"/>
                  <a:pt x="17331" y="6096"/>
                  <a:pt x="17353" y="6102"/>
                </a:cubicBezTo>
              </a:path>
              <a:path w="1670" h="596">
                <a:moveTo>
                  <a:pt x="17488" y="6096"/>
                </a:moveTo>
                <a:cubicBezTo>
                  <a:pt x="17476" y="6123"/>
                  <a:pt x="17464" y="6148"/>
                  <a:pt x="17444" y="6172"/>
                </a:cubicBezTo>
                <a:cubicBezTo>
                  <a:pt x="17396" y="6231"/>
                  <a:pt x="17343" y="6288"/>
                  <a:pt x="17294" y="6347"/>
                </a:cubicBezTo>
                <a:cubicBezTo>
                  <a:pt x="17228" y="6425"/>
                  <a:pt x="17163" y="6503"/>
                  <a:pt x="17100" y="6583"/>
                </a:cubicBezTo>
                <a:cubicBezTo>
                  <a:pt x="17081" y="6606"/>
                  <a:pt x="17075" y="6611"/>
                  <a:pt x="17075" y="6631"/>
                </a:cubicBezTo>
                <a:cubicBezTo>
                  <a:pt x="17100" y="6639"/>
                  <a:pt x="17105" y="6632"/>
                  <a:pt x="17134" y="6618"/>
                </a:cubicBezTo>
              </a:path>
              <a:path w="1670" h="596">
                <a:moveTo>
                  <a:pt x="17351" y="6513"/>
                </a:moveTo>
                <a:cubicBezTo>
                  <a:pt x="17337" y="6533"/>
                  <a:pt x="17325" y="6553"/>
                  <a:pt x="17313" y="6574"/>
                </a:cubicBezTo>
                <a:cubicBezTo>
                  <a:pt x="17302" y="6594"/>
                  <a:pt x="17311" y="6609"/>
                  <a:pt x="17336" y="6607"/>
                </a:cubicBezTo>
                <a:cubicBezTo>
                  <a:pt x="17359" y="6605"/>
                  <a:pt x="17393" y="6590"/>
                  <a:pt x="17408" y="6571"/>
                </a:cubicBezTo>
                <a:cubicBezTo>
                  <a:pt x="17427" y="6546"/>
                  <a:pt x="17404" y="6530"/>
                  <a:pt x="17382" y="6522"/>
                </a:cubicBezTo>
                <a:cubicBezTo>
                  <a:pt x="17349" y="6510"/>
                  <a:pt x="17310" y="6509"/>
                  <a:pt x="17275" y="6514"/>
                </a:cubicBezTo>
                <a:cubicBezTo>
                  <a:pt x="17246" y="6521"/>
                  <a:pt x="17235" y="6524"/>
                  <a:pt x="17215" y="6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27"/>
          <p:cNvSpPr/>
          <p:nvPr/>
        </p:nvSpPr>
        <p:spPr>
          <a:xfrm>
            <a:off x="3765600" y="2948040"/>
            <a:ext cx="1349280" cy="195120"/>
          </a:xfrm>
          <a:custGeom>
            <a:avLst/>
            <a:gdLst/>
            <a:ahLst/>
            <a:rect l="l" t="t" r="r" b="b"/>
            <a:pathLst>
              <a:path w="3749" h="545">
                <a:moveTo>
                  <a:pt x="10520" y="8336"/>
                </a:moveTo>
                <a:cubicBezTo>
                  <a:pt x="10509" y="8359"/>
                  <a:pt x="10505" y="8383"/>
                  <a:pt x="10501" y="8408"/>
                </a:cubicBezTo>
                <a:cubicBezTo>
                  <a:pt x="10494" y="8456"/>
                  <a:pt x="10486" y="8504"/>
                  <a:pt x="10480" y="8553"/>
                </a:cubicBezTo>
                <a:cubicBezTo>
                  <a:pt x="10475" y="8595"/>
                  <a:pt x="10468" y="8637"/>
                  <a:pt x="10463" y="8679"/>
                </a:cubicBezTo>
                <a:cubicBezTo>
                  <a:pt x="10462" y="8686"/>
                  <a:pt x="10452" y="8743"/>
                  <a:pt x="10473" y="8732"/>
                </a:cubicBezTo>
                <a:cubicBezTo>
                  <a:pt x="10476" y="8728"/>
                  <a:pt x="10478" y="8724"/>
                  <a:pt x="10481" y="8720"/>
                </a:cubicBezTo>
              </a:path>
              <a:path w="3749" h="545">
                <a:moveTo>
                  <a:pt x="10712" y="8335"/>
                </a:moveTo>
                <a:cubicBezTo>
                  <a:pt x="10717" y="8355"/>
                  <a:pt x="10716" y="8369"/>
                  <a:pt x="10705" y="8403"/>
                </a:cubicBezTo>
                <a:cubicBezTo>
                  <a:pt x="10682" y="8474"/>
                  <a:pt x="10659" y="8546"/>
                  <a:pt x="10635" y="8617"/>
                </a:cubicBezTo>
                <a:cubicBezTo>
                  <a:pt x="10630" y="8632"/>
                  <a:pt x="10607" y="8691"/>
                  <a:pt x="10618" y="8707"/>
                </a:cubicBezTo>
                <a:cubicBezTo>
                  <a:pt x="10632" y="8727"/>
                  <a:pt x="10648" y="8723"/>
                  <a:pt x="10671" y="8714"/>
                </a:cubicBezTo>
                <a:cubicBezTo>
                  <a:pt x="10710" y="8699"/>
                  <a:pt x="10747" y="8679"/>
                  <a:pt x="10784" y="8662"/>
                </a:cubicBezTo>
                <a:cubicBezTo>
                  <a:pt x="10828" y="8642"/>
                  <a:pt x="10871" y="8617"/>
                  <a:pt x="10916" y="8599"/>
                </a:cubicBezTo>
                <a:cubicBezTo>
                  <a:pt x="10942" y="8589"/>
                  <a:pt x="10967" y="8578"/>
                  <a:pt x="10993" y="8568"/>
                </a:cubicBezTo>
              </a:path>
              <a:path w="3749" h="545">
                <a:moveTo>
                  <a:pt x="10940" y="8439"/>
                </a:moveTo>
                <a:cubicBezTo>
                  <a:pt x="10920" y="8458"/>
                  <a:pt x="10916" y="8474"/>
                  <a:pt x="10910" y="8502"/>
                </a:cubicBezTo>
                <a:cubicBezTo>
                  <a:pt x="10903" y="8537"/>
                  <a:pt x="10900" y="8575"/>
                  <a:pt x="10902" y="8610"/>
                </a:cubicBezTo>
                <a:cubicBezTo>
                  <a:pt x="10904" y="8640"/>
                  <a:pt x="10908" y="8677"/>
                  <a:pt x="10936" y="8695"/>
                </a:cubicBezTo>
                <a:cubicBezTo>
                  <a:pt x="10951" y="8704"/>
                  <a:pt x="10970" y="8689"/>
                  <a:pt x="10981" y="8683"/>
                </a:cubicBezTo>
              </a:path>
              <a:path w="3749" h="545">
                <a:moveTo>
                  <a:pt x="11178" y="8430"/>
                </a:moveTo>
                <a:cubicBezTo>
                  <a:pt x="11201" y="8444"/>
                  <a:pt x="11212" y="8447"/>
                  <a:pt x="11239" y="8446"/>
                </a:cubicBezTo>
              </a:path>
              <a:path w="3749" h="545">
                <a:moveTo>
                  <a:pt x="11494" y="8291"/>
                </a:moveTo>
                <a:cubicBezTo>
                  <a:pt x="11491" y="8266"/>
                  <a:pt x="11479" y="8267"/>
                  <a:pt x="11455" y="8272"/>
                </a:cubicBezTo>
                <a:cubicBezTo>
                  <a:pt x="11425" y="8279"/>
                  <a:pt x="11403" y="8297"/>
                  <a:pt x="11391" y="8327"/>
                </a:cubicBezTo>
                <a:cubicBezTo>
                  <a:pt x="11377" y="8362"/>
                  <a:pt x="11394" y="8393"/>
                  <a:pt x="11418" y="8418"/>
                </a:cubicBezTo>
                <a:cubicBezTo>
                  <a:pt x="11460" y="8462"/>
                  <a:pt x="11519" y="8483"/>
                  <a:pt x="11561" y="8526"/>
                </a:cubicBezTo>
                <a:cubicBezTo>
                  <a:pt x="11587" y="8553"/>
                  <a:pt x="11600" y="8584"/>
                  <a:pt x="11574" y="8616"/>
                </a:cubicBezTo>
                <a:cubicBezTo>
                  <a:pt x="11550" y="8645"/>
                  <a:pt x="11513" y="8671"/>
                  <a:pt x="11473" y="8665"/>
                </a:cubicBezTo>
                <a:cubicBezTo>
                  <a:pt x="11443" y="8653"/>
                  <a:pt x="11433" y="8649"/>
                  <a:pt x="11418" y="8633"/>
                </a:cubicBezTo>
              </a:path>
              <a:path w="3749" h="545">
                <a:moveTo>
                  <a:pt x="11411" y="8330"/>
                </a:moveTo>
                <a:cubicBezTo>
                  <a:pt x="11455" y="8295"/>
                  <a:pt x="11493" y="8277"/>
                  <a:pt x="11548" y="8264"/>
                </a:cubicBezTo>
                <a:cubicBezTo>
                  <a:pt x="11604" y="8251"/>
                  <a:pt x="11653" y="8251"/>
                  <a:pt x="11708" y="8269"/>
                </a:cubicBezTo>
                <a:cubicBezTo>
                  <a:pt x="11747" y="8282"/>
                  <a:pt x="11784" y="8303"/>
                  <a:pt x="11821" y="8322"/>
                </a:cubicBezTo>
              </a:path>
              <a:path w="3749" h="545">
                <a:moveTo>
                  <a:pt x="12375" y="8434"/>
                </a:moveTo>
                <a:cubicBezTo>
                  <a:pt x="12360" y="8461"/>
                  <a:pt x="12343" y="8477"/>
                  <a:pt x="12320" y="8498"/>
                </a:cubicBezTo>
                <a:cubicBezTo>
                  <a:pt x="12280" y="8535"/>
                  <a:pt x="12238" y="8569"/>
                  <a:pt x="12195" y="8602"/>
                </a:cubicBezTo>
                <a:cubicBezTo>
                  <a:pt x="12166" y="8624"/>
                  <a:pt x="12130" y="8654"/>
                  <a:pt x="12095" y="8664"/>
                </a:cubicBezTo>
                <a:cubicBezTo>
                  <a:pt x="12076" y="8669"/>
                  <a:pt x="12079" y="8650"/>
                  <a:pt x="12076" y="8638"/>
                </a:cubicBezTo>
              </a:path>
              <a:path w="3749" h="545">
                <a:moveTo>
                  <a:pt x="12128" y="8464"/>
                </a:moveTo>
                <a:cubicBezTo>
                  <a:pt x="12155" y="8440"/>
                  <a:pt x="12164" y="8437"/>
                  <a:pt x="12199" y="8449"/>
                </a:cubicBezTo>
                <a:cubicBezTo>
                  <a:pt x="12237" y="8462"/>
                  <a:pt x="12264" y="8492"/>
                  <a:pt x="12291" y="8520"/>
                </a:cubicBezTo>
                <a:cubicBezTo>
                  <a:pt x="12326" y="8555"/>
                  <a:pt x="12359" y="8592"/>
                  <a:pt x="12390" y="8631"/>
                </a:cubicBezTo>
                <a:cubicBezTo>
                  <a:pt x="12411" y="8657"/>
                  <a:pt x="12417" y="8665"/>
                  <a:pt x="12431" y="8682"/>
                </a:cubicBezTo>
              </a:path>
              <a:path w="3749" h="545">
                <a:moveTo>
                  <a:pt x="12908" y="8462"/>
                </a:moveTo>
                <a:cubicBezTo>
                  <a:pt x="12906" y="8446"/>
                  <a:pt x="12903" y="8440"/>
                  <a:pt x="12895" y="8425"/>
                </a:cubicBezTo>
                <a:cubicBezTo>
                  <a:pt x="12861" y="8436"/>
                  <a:pt x="12848" y="8456"/>
                  <a:pt x="12833" y="8491"/>
                </a:cubicBezTo>
                <a:cubicBezTo>
                  <a:pt x="12814" y="8534"/>
                  <a:pt x="12799" y="8588"/>
                  <a:pt x="12805" y="8636"/>
                </a:cubicBezTo>
                <a:cubicBezTo>
                  <a:pt x="12811" y="8680"/>
                  <a:pt x="12840" y="8712"/>
                  <a:pt x="12885" y="8714"/>
                </a:cubicBezTo>
                <a:cubicBezTo>
                  <a:pt x="12943" y="8717"/>
                  <a:pt x="12994" y="8685"/>
                  <a:pt x="13038" y="8651"/>
                </a:cubicBezTo>
                <a:cubicBezTo>
                  <a:pt x="13086" y="8614"/>
                  <a:pt x="13124" y="8565"/>
                  <a:pt x="13136" y="8505"/>
                </a:cubicBezTo>
                <a:cubicBezTo>
                  <a:pt x="13146" y="8457"/>
                  <a:pt x="13134" y="8407"/>
                  <a:pt x="13095" y="8375"/>
                </a:cubicBezTo>
                <a:cubicBezTo>
                  <a:pt x="13060" y="8347"/>
                  <a:pt x="13006" y="8336"/>
                  <a:pt x="12963" y="8350"/>
                </a:cubicBezTo>
                <a:cubicBezTo>
                  <a:pt x="12928" y="8362"/>
                  <a:pt x="12892" y="8396"/>
                  <a:pt x="12895" y="8436"/>
                </a:cubicBezTo>
                <a:cubicBezTo>
                  <a:pt x="12899" y="8493"/>
                  <a:pt x="12949" y="8516"/>
                  <a:pt x="12991" y="8542"/>
                </a:cubicBezTo>
              </a:path>
              <a:path w="3749" h="545">
                <a:moveTo>
                  <a:pt x="13258" y="8563"/>
                </a:moveTo>
                <a:cubicBezTo>
                  <a:pt x="13290" y="8545"/>
                  <a:pt x="13271" y="8545"/>
                  <a:pt x="13274" y="8519"/>
                </a:cubicBezTo>
                <a:cubicBezTo>
                  <a:pt x="13275" y="8504"/>
                  <a:pt x="13321" y="8504"/>
                  <a:pt x="13333" y="8500"/>
                </a:cubicBezTo>
              </a:path>
              <a:path w="3749" h="545">
                <a:moveTo>
                  <a:pt x="13649" y="8285"/>
                </a:moveTo>
                <a:cubicBezTo>
                  <a:pt x="13650" y="8281"/>
                  <a:pt x="13651" y="8276"/>
                  <a:pt x="13652" y="8272"/>
                </a:cubicBezTo>
                <a:cubicBezTo>
                  <a:pt x="13628" y="8287"/>
                  <a:pt x="13617" y="8313"/>
                  <a:pt x="13602" y="8339"/>
                </a:cubicBezTo>
                <a:cubicBezTo>
                  <a:pt x="13573" y="8389"/>
                  <a:pt x="13549" y="8440"/>
                  <a:pt x="13533" y="8496"/>
                </a:cubicBezTo>
                <a:cubicBezTo>
                  <a:pt x="13522" y="8535"/>
                  <a:pt x="13510" y="8590"/>
                  <a:pt x="13536" y="8627"/>
                </a:cubicBezTo>
                <a:cubicBezTo>
                  <a:pt x="13558" y="8657"/>
                  <a:pt x="13601" y="8659"/>
                  <a:pt x="13633" y="8648"/>
                </a:cubicBezTo>
                <a:cubicBezTo>
                  <a:pt x="13662" y="8638"/>
                  <a:pt x="13695" y="8614"/>
                  <a:pt x="13707" y="8584"/>
                </a:cubicBezTo>
                <a:cubicBezTo>
                  <a:pt x="13717" y="8558"/>
                  <a:pt x="13703" y="8537"/>
                  <a:pt x="13680" y="8526"/>
                </a:cubicBezTo>
                <a:cubicBezTo>
                  <a:pt x="13660" y="8517"/>
                  <a:pt x="13597" y="8503"/>
                  <a:pt x="13614" y="8517"/>
                </a:cubicBezTo>
                <a:cubicBezTo>
                  <a:pt x="13631" y="8521"/>
                  <a:pt x="13638" y="8522"/>
                  <a:pt x="13649" y="8515"/>
                </a:cubicBezTo>
              </a:path>
              <a:path w="3749" h="545">
                <a:moveTo>
                  <a:pt x="14001" y="8350"/>
                </a:moveTo>
                <a:cubicBezTo>
                  <a:pt x="14014" y="8336"/>
                  <a:pt x="14019" y="8333"/>
                  <a:pt x="14020" y="8320"/>
                </a:cubicBezTo>
                <a:cubicBezTo>
                  <a:pt x="13977" y="8321"/>
                  <a:pt x="13948" y="8341"/>
                  <a:pt x="13914" y="8373"/>
                </a:cubicBezTo>
                <a:cubicBezTo>
                  <a:pt x="13886" y="8399"/>
                  <a:pt x="13857" y="8439"/>
                  <a:pt x="13871" y="8479"/>
                </a:cubicBezTo>
                <a:cubicBezTo>
                  <a:pt x="13886" y="8521"/>
                  <a:pt x="13940" y="8543"/>
                  <a:pt x="13976" y="8561"/>
                </a:cubicBezTo>
                <a:cubicBezTo>
                  <a:pt x="14006" y="8576"/>
                  <a:pt x="14055" y="8592"/>
                  <a:pt x="14066" y="8629"/>
                </a:cubicBezTo>
                <a:cubicBezTo>
                  <a:pt x="14066" y="8635"/>
                  <a:pt x="14066" y="8641"/>
                  <a:pt x="14066" y="8647"/>
                </a:cubicBezTo>
                <a:cubicBezTo>
                  <a:pt x="14041" y="8673"/>
                  <a:pt x="14016" y="8684"/>
                  <a:pt x="13978" y="8687"/>
                </a:cubicBezTo>
                <a:cubicBezTo>
                  <a:pt x="13945" y="8690"/>
                  <a:pt x="13901" y="8688"/>
                  <a:pt x="13887" y="8652"/>
                </a:cubicBezTo>
                <a:cubicBezTo>
                  <a:pt x="13870" y="8609"/>
                  <a:pt x="13911" y="8554"/>
                  <a:pt x="13934" y="8523"/>
                </a:cubicBezTo>
                <a:cubicBezTo>
                  <a:pt x="13994" y="8441"/>
                  <a:pt x="14068" y="8372"/>
                  <a:pt x="14136" y="8297"/>
                </a:cubicBezTo>
                <a:cubicBezTo>
                  <a:pt x="14166" y="8264"/>
                  <a:pt x="14194" y="8233"/>
                  <a:pt x="14207" y="8191"/>
                </a:cubicBezTo>
                <a:cubicBezTo>
                  <a:pt x="14179" y="8197"/>
                  <a:pt x="14151" y="8203"/>
                  <a:pt x="14126" y="8225"/>
                </a:cubicBezTo>
                <a:cubicBezTo>
                  <a:pt x="14092" y="8255"/>
                  <a:pt x="14076" y="8290"/>
                  <a:pt x="14065" y="8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28"/>
          <p:cNvSpPr/>
          <p:nvPr/>
        </p:nvSpPr>
        <p:spPr>
          <a:xfrm>
            <a:off x="5327640" y="2938320"/>
            <a:ext cx="1150920" cy="370080"/>
          </a:xfrm>
          <a:custGeom>
            <a:avLst/>
            <a:gdLst/>
            <a:ahLst/>
            <a:rect l="l" t="t" r="r" b="b"/>
            <a:pathLst>
              <a:path w="3195" h="1027">
                <a:moveTo>
                  <a:pt x="14814" y="8412"/>
                </a:moveTo>
                <a:cubicBezTo>
                  <a:pt x="14781" y="8400"/>
                  <a:pt x="14864" y="8403"/>
                  <a:pt x="14877" y="8403"/>
                </a:cubicBezTo>
                <a:cubicBezTo>
                  <a:pt x="14918" y="8402"/>
                  <a:pt x="14963" y="8398"/>
                  <a:pt x="15004" y="8405"/>
                </a:cubicBezTo>
                <a:cubicBezTo>
                  <a:pt x="15032" y="8410"/>
                  <a:pt x="15054" y="8416"/>
                  <a:pt x="15059" y="8443"/>
                </a:cubicBezTo>
              </a:path>
              <a:path w="3195" h="1027">
                <a:moveTo>
                  <a:pt x="14800" y="8580"/>
                </a:moveTo>
                <a:cubicBezTo>
                  <a:pt x="14834" y="8568"/>
                  <a:pt x="14874" y="8557"/>
                  <a:pt x="14911" y="8555"/>
                </a:cubicBezTo>
                <a:cubicBezTo>
                  <a:pt x="14958" y="8552"/>
                  <a:pt x="15005" y="8559"/>
                  <a:pt x="15050" y="8572"/>
                </a:cubicBezTo>
                <a:cubicBezTo>
                  <a:pt x="15059" y="8575"/>
                  <a:pt x="15069" y="8578"/>
                  <a:pt x="15078" y="8581"/>
                </a:cubicBezTo>
              </a:path>
              <a:path w="3195" h="1027">
                <a:moveTo>
                  <a:pt x="16544" y="8357"/>
                </a:moveTo>
                <a:cubicBezTo>
                  <a:pt x="16542" y="8338"/>
                  <a:pt x="16544" y="8320"/>
                  <a:pt x="16524" y="8306"/>
                </a:cubicBezTo>
                <a:cubicBezTo>
                  <a:pt x="16506" y="8294"/>
                  <a:pt x="16480" y="8291"/>
                  <a:pt x="16459" y="8293"/>
                </a:cubicBezTo>
                <a:cubicBezTo>
                  <a:pt x="16426" y="8296"/>
                  <a:pt x="16391" y="8305"/>
                  <a:pt x="16362" y="8322"/>
                </a:cubicBezTo>
                <a:cubicBezTo>
                  <a:pt x="16318" y="8348"/>
                  <a:pt x="16277" y="8400"/>
                  <a:pt x="16271" y="8452"/>
                </a:cubicBezTo>
                <a:cubicBezTo>
                  <a:pt x="16268" y="8481"/>
                  <a:pt x="16277" y="8509"/>
                  <a:pt x="16308" y="8516"/>
                </a:cubicBezTo>
                <a:cubicBezTo>
                  <a:pt x="16349" y="8526"/>
                  <a:pt x="16395" y="8501"/>
                  <a:pt x="16429" y="8481"/>
                </a:cubicBezTo>
                <a:cubicBezTo>
                  <a:pt x="16475" y="8455"/>
                  <a:pt x="16513" y="8421"/>
                  <a:pt x="16548" y="8382"/>
                </a:cubicBezTo>
                <a:cubicBezTo>
                  <a:pt x="16569" y="8358"/>
                  <a:pt x="16581" y="8337"/>
                  <a:pt x="16594" y="8309"/>
                </a:cubicBezTo>
                <a:cubicBezTo>
                  <a:pt x="16577" y="8336"/>
                  <a:pt x="16560" y="8365"/>
                  <a:pt x="16549" y="8396"/>
                </a:cubicBezTo>
                <a:cubicBezTo>
                  <a:pt x="16527" y="8456"/>
                  <a:pt x="16507" y="8516"/>
                  <a:pt x="16486" y="8576"/>
                </a:cubicBezTo>
                <a:cubicBezTo>
                  <a:pt x="16468" y="8629"/>
                  <a:pt x="16452" y="8683"/>
                  <a:pt x="16438" y="8737"/>
                </a:cubicBezTo>
                <a:cubicBezTo>
                  <a:pt x="16430" y="8766"/>
                  <a:pt x="16424" y="8793"/>
                  <a:pt x="16423" y="8823"/>
                </a:cubicBezTo>
                <a:cubicBezTo>
                  <a:pt x="16423" y="8827"/>
                  <a:pt x="16423" y="8830"/>
                  <a:pt x="16423" y="8834"/>
                </a:cubicBezTo>
                <a:cubicBezTo>
                  <a:pt x="16439" y="8809"/>
                  <a:pt x="16451" y="8783"/>
                  <a:pt x="16470" y="8760"/>
                </a:cubicBezTo>
                <a:cubicBezTo>
                  <a:pt x="16488" y="8742"/>
                  <a:pt x="16495" y="8735"/>
                  <a:pt x="16505" y="8721"/>
                </a:cubicBezTo>
              </a:path>
              <a:path w="3195" h="1027">
                <a:moveTo>
                  <a:pt x="16847" y="8500"/>
                </a:moveTo>
                <a:cubicBezTo>
                  <a:pt x="16845" y="8517"/>
                  <a:pt x="16836" y="8527"/>
                  <a:pt x="16830" y="8543"/>
                </a:cubicBezTo>
                <a:cubicBezTo>
                  <a:pt x="16849" y="8535"/>
                  <a:pt x="16861" y="8523"/>
                  <a:pt x="16867" y="8502"/>
                </a:cubicBezTo>
                <a:cubicBezTo>
                  <a:pt x="16868" y="8489"/>
                  <a:pt x="16869" y="8485"/>
                  <a:pt x="16857" y="8484"/>
                </a:cubicBezTo>
                <a:cubicBezTo>
                  <a:pt x="16866" y="8494"/>
                  <a:pt x="16873" y="8501"/>
                  <a:pt x="16884" y="8509"/>
                </a:cubicBezTo>
              </a:path>
              <a:path w="3195" h="1027">
                <a:moveTo>
                  <a:pt x="17389" y="8344"/>
                </a:moveTo>
                <a:cubicBezTo>
                  <a:pt x="17388" y="8316"/>
                  <a:pt x="17366" y="8333"/>
                  <a:pt x="17344" y="8344"/>
                </a:cubicBezTo>
                <a:cubicBezTo>
                  <a:pt x="17300" y="8367"/>
                  <a:pt x="17254" y="8398"/>
                  <a:pt x="17222" y="8437"/>
                </a:cubicBezTo>
                <a:cubicBezTo>
                  <a:pt x="17210" y="8451"/>
                  <a:pt x="17198" y="8475"/>
                  <a:pt x="17217" y="8490"/>
                </a:cubicBezTo>
                <a:cubicBezTo>
                  <a:pt x="17246" y="8512"/>
                  <a:pt x="17287" y="8514"/>
                  <a:pt x="17320" y="8524"/>
                </a:cubicBezTo>
                <a:cubicBezTo>
                  <a:pt x="17371" y="8539"/>
                  <a:pt x="17468" y="8559"/>
                  <a:pt x="17491" y="8615"/>
                </a:cubicBezTo>
                <a:cubicBezTo>
                  <a:pt x="17505" y="8648"/>
                  <a:pt x="17471" y="8684"/>
                  <a:pt x="17447" y="8702"/>
                </a:cubicBezTo>
                <a:cubicBezTo>
                  <a:pt x="17412" y="8728"/>
                  <a:pt x="17361" y="8748"/>
                  <a:pt x="17317" y="8752"/>
                </a:cubicBezTo>
                <a:cubicBezTo>
                  <a:pt x="17285" y="8755"/>
                  <a:pt x="17250" y="8750"/>
                  <a:pt x="17243" y="8714"/>
                </a:cubicBezTo>
                <a:cubicBezTo>
                  <a:pt x="17235" y="8673"/>
                  <a:pt x="17278" y="8622"/>
                  <a:pt x="17302" y="8593"/>
                </a:cubicBezTo>
                <a:cubicBezTo>
                  <a:pt x="17344" y="8543"/>
                  <a:pt x="17392" y="8498"/>
                  <a:pt x="17434" y="8448"/>
                </a:cubicBezTo>
                <a:cubicBezTo>
                  <a:pt x="17456" y="8421"/>
                  <a:pt x="17492" y="8387"/>
                  <a:pt x="17486" y="8349"/>
                </a:cubicBezTo>
                <a:cubicBezTo>
                  <a:pt x="17484" y="8345"/>
                  <a:pt x="17482" y="8340"/>
                  <a:pt x="17480" y="8336"/>
                </a:cubicBezTo>
                <a:cubicBezTo>
                  <a:pt x="17454" y="8325"/>
                  <a:pt x="17426" y="8319"/>
                  <a:pt x="17398" y="8327"/>
                </a:cubicBezTo>
                <a:cubicBezTo>
                  <a:pt x="17379" y="8332"/>
                  <a:pt x="17344" y="8347"/>
                  <a:pt x="17332" y="8364"/>
                </a:cubicBezTo>
                <a:cubicBezTo>
                  <a:pt x="17331" y="8368"/>
                  <a:pt x="17329" y="8373"/>
                  <a:pt x="17328" y="8377"/>
                </a:cubicBezTo>
              </a:path>
              <a:path w="3195" h="1027">
                <a:moveTo>
                  <a:pt x="17979" y="8284"/>
                </a:moveTo>
                <a:cubicBezTo>
                  <a:pt x="17982" y="8272"/>
                  <a:pt x="17983" y="8268"/>
                  <a:pt x="17978" y="8260"/>
                </a:cubicBezTo>
                <a:cubicBezTo>
                  <a:pt x="17961" y="8274"/>
                  <a:pt x="17949" y="8284"/>
                  <a:pt x="17936" y="8303"/>
                </a:cubicBezTo>
                <a:cubicBezTo>
                  <a:pt x="17909" y="8342"/>
                  <a:pt x="17882" y="8383"/>
                  <a:pt x="17859" y="8425"/>
                </a:cubicBezTo>
                <a:cubicBezTo>
                  <a:pt x="17823" y="8490"/>
                  <a:pt x="17785" y="8565"/>
                  <a:pt x="17778" y="8640"/>
                </a:cubicBezTo>
                <a:cubicBezTo>
                  <a:pt x="17774" y="8679"/>
                  <a:pt x="17780" y="8722"/>
                  <a:pt x="17821" y="8738"/>
                </a:cubicBezTo>
                <a:cubicBezTo>
                  <a:pt x="17868" y="8756"/>
                  <a:pt x="17930" y="8728"/>
                  <a:pt x="17966" y="8698"/>
                </a:cubicBezTo>
                <a:cubicBezTo>
                  <a:pt x="17986" y="8681"/>
                  <a:pt x="18010" y="8645"/>
                  <a:pt x="17982" y="8623"/>
                </a:cubicBezTo>
                <a:cubicBezTo>
                  <a:pt x="17948" y="8596"/>
                  <a:pt x="17888" y="8599"/>
                  <a:pt x="17848" y="8599"/>
                </a:cubicBezTo>
                <a:cubicBezTo>
                  <a:pt x="17798" y="8599"/>
                  <a:pt x="17749" y="8603"/>
                  <a:pt x="17699" y="8605"/>
                </a:cubicBezTo>
              </a:path>
              <a:path w="3195" h="1027">
                <a:moveTo>
                  <a:pt x="15904" y="8244"/>
                </a:moveTo>
                <a:cubicBezTo>
                  <a:pt x="15874" y="8234"/>
                  <a:pt x="15870" y="8235"/>
                  <a:pt x="15833" y="8251"/>
                </a:cubicBezTo>
                <a:cubicBezTo>
                  <a:pt x="15777" y="8275"/>
                  <a:pt x="15727" y="8311"/>
                  <a:pt x="15685" y="8356"/>
                </a:cubicBezTo>
                <a:cubicBezTo>
                  <a:pt x="15654" y="8389"/>
                  <a:pt x="15624" y="8440"/>
                  <a:pt x="15648" y="8486"/>
                </a:cubicBezTo>
                <a:cubicBezTo>
                  <a:pt x="15681" y="8549"/>
                  <a:pt x="15770" y="8577"/>
                  <a:pt x="15827" y="8612"/>
                </a:cubicBezTo>
                <a:cubicBezTo>
                  <a:pt x="15854" y="8629"/>
                  <a:pt x="15913" y="8661"/>
                  <a:pt x="15892" y="8701"/>
                </a:cubicBezTo>
                <a:cubicBezTo>
                  <a:pt x="15871" y="8742"/>
                  <a:pt x="15798" y="8757"/>
                  <a:pt x="15757" y="8759"/>
                </a:cubicBezTo>
                <a:cubicBezTo>
                  <a:pt x="15696" y="8761"/>
                  <a:pt x="15632" y="8746"/>
                  <a:pt x="15602" y="8688"/>
                </a:cubicBezTo>
                <a:cubicBezTo>
                  <a:pt x="15597" y="8672"/>
                  <a:pt x="15591" y="8656"/>
                  <a:pt x="15586" y="8640"/>
                </a:cubicBezTo>
              </a:path>
              <a:path w="3195" h="1027">
                <a:moveTo>
                  <a:pt x="15790" y="8163"/>
                </a:moveTo>
                <a:cubicBezTo>
                  <a:pt x="15796" y="8224"/>
                  <a:pt x="15778" y="8277"/>
                  <a:pt x="15767" y="8339"/>
                </a:cubicBezTo>
                <a:cubicBezTo>
                  <a:pt x="15750" y="8432"/>
                  <a:pt x="15744" y="8518"/>
                  <a:pt x="15761" y="8611"/>
                </a:cubicBezTo>
                <a:cubicBezTo>
                  <a:pt x="15776" y="8696"/>
                  <a:pt x="15809" y="8753"/>
                  <a:pt x="15862" y="8818"/>
                </a:cubicBezTo>
              </a:path>
              <a:path w="3195" h="1027">
                <a:moveTo>
                  <a:pt x="15960" y="9038"/>
                </a:moveTo>
                <a:cubicBezTo>
                  <a:pt x="16049" y="9029"/>
                  <a:pt x="16139" y="9029"/>
                  <a:pt x="16229" y="9023"/>
                </a:cubicBezTo>
                <a:cubicBezTo>
                  <a:pt x="16408" y="9011"/>
                  <a:pt x="16586" y="8999"/>
                  <a:pt x="16765" y="8989"/>
                </a:cubicBezTo>
                <a:cubicBezTo>
                  <a:pt x="17067" y="8972"/>
                  <a:pt x="17372" y="8950"/>
                  <a:pt x="17675" y="8965"/>
                </a:cubicBezTo>
                <a:cubicBezTo>
                  <a:pt x="17721" y="8967"/>
                  <a:pt x="17784" y="8961"/>
                  <a:pt x="17782" y="9000"/>
                </a:cubicBezTo>
                <a:cubicBezTo>
                  <a:pt x="17735" y="9012"/>
                  <a:pt x="17714" y="9016"/>
                  <a:pt x="17680" y="9022"/>
                </a:cubicBezTo>
              </a:path>
              <a:path w="3195" h="1027">
                <a:moveTo>
                  <a:pt x="16238" y="9151"/>
                </a:moveTo>
                <a:cubicBezTo>
                  <a:pt x="16208" y="9153"/>
                  <a:pt x="16203" y="9154"/>
                  <a:pt x="16186" y="9155"/>
                </a:cubicBezTo>
                <a:cubicBezTo>
                  <a:pt x="16259" y="9149"/>
                  <a:pt x="16333" y="9140"/>
                  <a:pt x="16406" y="9137"/>
                </a:cubicBezTo>
                <a:cubicBezTo>
                  <a:pt x="16581" y="9129"/>
                  <a:pt x="16759" y="9127"/>
                  <a:pt x="16934" y="9132"/>
                </a:cubicBezTo>
                <a:cubicBezTo>
                  <a:pt x="17054" y="9136"/>
                  <a:pt x="17175" y="9144"/>
                  <a:pt x="17294" y="9158"/>
                </a:cubicBezTo>
                <a:cubicBezTo>
                  <a:pt x="17358" y="9165"/>
                  <a:pt x="17421" y="9179"/>
                  <a:pt x="17485" y="9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29"/>
          <p:cNvSpPr/>
          <p:nvPr/>
        </p:nvSpPr>
        <p:spPr>
          <a:xfrm>
            <a:off x="6794640" y="3219480"/>
            <a:ext cx="1152360" cy="212760"/>
          </a:xfrm>
          <a:custGeom>
            <a:avLst/>
            <a:gdLst/>
            <a:ahLst/>
            <a:rect l="l" t="t" r="r" b="b"/>
            <a:pathLst>
              <a:path w="3199" h="590">
                <a:moveTo>
                  <a:pt x="19002" y="9193"/>
                </a:moveTo>
                <a:cubicBezTo>
                  <a:pt x="19019" y="9173"/>
                  <a:pt x="19038" y="9166"/>
                  <a:pt x="19060" y="9152"/>
                </a:cubicBezTo>
                <a:cubicBezTo>
                  <a:pt x="19074" y="9143"/>
                  <a:pt x="19087" y="9135"/>
                  <a:pt x="19100" y="9126"/>
                </a:cubicBezTo>
                <a:cubicBezTo>
                  <a:pt x="19064" y="9136"/>
                  <a:pt x="19031" y="9149"/>
                  <a:pt x="18998" y="9168"/>
                </a:cubicBezTo>
                <a:cubicBezTo>
                  <a:pt x="18968" y="9186"/>
                  <a:pt x="18929" y="9208"/>
                  <a:pt x="18925" y="9248"/>
                </a:cubicBezTo>
                <a:cubicBezTo>
                  <a:pt x="18921" y="9286"/>
                  <a:pt x="18956" y="9320"/>
                  <a:pt x="18980" y="9345"/>
                </a:cubicBezTo>
                <a:cubicBezTo>
                  <a:pt x="19015" y="9382"/>
                  <a:pt x="19067" y="9413"/>
                  <a:pt x="19075" y="9468"/>
                </a:cubicBezTo>
                <a:cubicBezTo>
                  <a:pt x="19079" y="9498"/>
                  <a:pt x="19050" y="9527"/>
                  <a:pt x="19021" y="9532"/>
                </a:cubicBezTo>
                <a:cubicBezTo>
                  <a:pt x="18979" y="9540"/>
                  <a:pt x="18932" y="9527"/>
                  <a:pt x="18900" y="9500"/>
                </a:cubicBezTo>
                <a:cubicBezTo>
                  <a:pt x="18892" y="9491"/>
                  <a:pt x="18883" y="9482"/>
                  <a:pt x="18875" y="9473"/>
                </a:cubicBezTo>
              </a:path>
              <a:path w="3199" h="590">
                <a:moveTo>
                  <a:pt x="18885" y="9198"/>
                </a:moveTo>
                <a:cubicBezTo>
                  <a:pt x="18920" y="9172"/>
                  <a:pt x="18944" y="9156"/>
                  <a:pt x="18987" y="9149"/>
                </a:cubicBezTo>
                <a:cubicBezTo>
                  <a:pt x="19019" y="9144"/>
                  <a:pt x="19058" y="9150"/>
                  <a:pt x="19088" y="9161"/>
                </a:cubicBezTo>
                <a:cubicBezTo>
                  <a:pt x="19122" y="9174"/>
                  <a:pt x="19152" y="9196"/>
                  <a:pt x="19186" y="9209"/>
                </a:cubicBezTo>
              </a:path>
              <a:path w="3199" h="590">
                <a:moveTo>
                  <a:pt x="19383" y="9141"/>
                </a:moveTo>
                <a:cubicBezTo>
                  <a:pt x="19382" y="9112"/>
                  <a:pt x="19396" y="9108"/>
                  <a:pt x="19428" y="9113"/>
                </a:cubicBezTo>
                <a:cubicBezTo>
                  <a:pt x="19459" y="9117"/>
                  <a:pt x="19487" y="9131"/>
                  <a:pt x="19499" y="9161"/>
                </a:cubicBezTo>
                <a:cubicBezTo>
                  <a:pt x="19513" y="9197"/>
                  <a:pt x="19502" y="9239"/>
                  <a:pt x="19484" y="9272"/>
                </a:cubicBezTo>
                <a:cubicBezTo>
                  <a:pt x="19463" y="9311"/>
                  <a:pt x="19432" y="9341"/>
                  <a:pt x="19401" y="9372"/>
                </a:cubicBezTo>
                <a:cubicBezTo>
                  <a:pt x="19384" y="9389"/>
                  <a:pt x="19378" y="9395"/>
                  <a:pt x="19370" y="9416"/>
                </a:cubicBezTo>
                <a:cubicBezTo>
                  <a:pt x="19404" y="9419"/>
                  <a:pt x="19434" y="9415"/>
                  <a:pt x="19468" y="9409"/>
                </a:cubicBezTo>
                <a:cubicBezTo>
                  <a:pt x="19508" y="9402"/>
                  <a:pt x="19545" y="9389"/>
                  <a:pt x="19583" y="9379"/>
                </a:cubicBezTo>
                <a:cubicBezTo>
                  <a:pt x="19609" y="9372"/>
                  <a:pt x="19631" y="9368"/>
                  <a:pt x="19655" y="9355"/>
                </a:cubicBezTo>
              </a:path>
              <a:path w="3199" h="590">
                <a:moveTo>
                  <a:pt x="19818" y="9238"/>
                </a:moveTo>
                <a:cubicBezTo>
                  <a:pt x="19846" y="9249"/>
                  <a:pt x="19876" y="9240"/>
                  <a:pt x="19908" y="9238"/>
                </a:cubicBezTo>
                <a:cubicBezTo>
                  <a:pt x="19954" y="9235"/>
                  <a:pt x="20000" y="9229"/>
                  <a:pt x="20046" y="9227"/>
                </a:cubicBezTo>
                <a:cubicBezTo>
                  <a:pt x="20083" y="9225"/>
                  <a:pt x="20123" y="9224"/>
                  <a:pt x="20158" y="9223"/>
                </a:cubicBezTo>
                <a:cubicBezTo>
                  <a:pt x="20172" y="9225"/>
                  <a:pt x="20177" y="9225"/>
                  <a:pt x="20186" y="9228"/>
                </a:cubicBezTo>
              </a:path>
              <a:path w="3199" h="590">
                <a:moveTo>
                  <a:pt x="20044" y="9018"/>
                </a:moveTo>
                <a:cubicBezTo>
                  <a:pt x="20033" y="9006"/>
                  <a:pt x="20022" y="8994"/>
                  <a:pt x="20010" y="8983"/>
                </a:cubicBezTo>
                <a:cubicBezTo>
                  <a:pt x="20011" y="9005"/>
                  <a:pt x="20012" y="9024"/>
                  <a:pt x="20011" y="9047"/>
                </a:cubicBezTo>
                <a:cubicBezTo>
                  <a:pt x="20009" y="9071"/>
                  <a:pt x="20008" y="9080"/>
                  <a:pt x="20009" y="9096"/>
                </a:cubicBezTo>
              </a:path>
              <a:path w="3199" h="590">
                <a:moveTo>
                  <a:pt x="19971" y="9324"/>
                </a:moveTo>
                <a:cubicBezTo>
                  <a:pt x="19972" y="9343"/>
                  <a:pt x="19988" y="9347"/>
                  <a:pt x="20009" y="9350"/>
                </a:cubicBezTo>
                <a:cubicBezTo>
                  <a:pt x="20024" y="9351"/>
                  <a:pt x="20029" y="9351"/>
                  <a:pt x="20039" y="9349"/>
                </a:cubicBezTo>
              </a:path>
              <a:path w="3199" h="590">
                <a:moveTo>
                  <a:pt x="20368" y="9113"/>
                </a:moveTo>
                <a:cubicBezTo>
                  <a:pt x="20348" y="9132"/>
                  <a:pt x="20331" y="9153"/>
                  <a:pt x="20318" y="9178"/>
                </a:cubicBezTo>
                <a:cubicBezTo>
                  <a:pt x="20301" y="9210"/>
                  <a:pt x="20289" y="9252"/>
                  <a:pt x="20298" y="9289"/>
                </a:cubicBezTo>
                <a:cubicBezTo>
                  <a:pt x="20307" y="9325"/>
                  <a:pt x="20341" y="9347"/>
                  <a:pt x="20376" y="9352"/>
                </a:cubicBezTo>
                <a:cubicBezTo>
                  <a:pt x="20419" y="9359"/>
                  <a:pt x="20469" y="9349"/>
                  <a:pt x="20507" y="9327"/>
                </a:cubicBezTo>
                <a:cubicBezTo>
                  <a:pt x="20541" y="9308"/>
                  <a:pt x="20570" y="9271"/>
                  <a:pt x="20573" y="9231"/>
                </a:cubicBezTo>
                <a:cubicBezTo>
                  <a:pt x="20576" y="9192"/>
                  <a:pt x="20558" y="9155"/>
                  <a:pt x="20527" y="9133"/>
                </a:cubicBezTo>
                <a:cubicBezTo>
                  <a:pt x="20498" y="9113"/>
                  <a:pt x="20462" y="9107"/>
                  <a:pt x="20429" y="9119"/>
                </a:cubicBezTo>
                <a:cubicBezTo>
                  <a:pt x="20409" y="9126"/>
                  <a:pt x="20410" y="9133"/>
                  <a:pt x="20410" y="9149"/>
                </a:cubicBezTo>
              </a:path>
              <a:path w="3199" h="590">
                <a:moveTo>
                  <a:pt x="20722" y="9201"/>
                </a:moveTo>
                <a:cubicBezTo>
                  <a:pt x="20719" y="9176"/>
                  <a:pt x="20710" y="9165"/>
                  <a:pt x="20737" y="9160"/>
                </a:cubicBezTo>
              </a:path>
              <a:path w="3199" h="590">
                <a:moveTo>
                  <a:pt x="20915" y="9045"/>
                </a:moveTo>
                <a:cubicBezTo>
                  <a:pt x="20936" y="9035"/>
                  <a:pt x="20955" y="9027"/>
                  <a:pt x="20978" y="9028"/>
                </a:cubicBezTo>
                <a:cubicBezTo>
                  <a:pt x="21010" y="9029"/>
                  <a:pt x="21034" y="9042"/>
                  <a:pt x="21047" y="9072"/>
                </a:cubicBezTo>
                <a:cubicBezTo>
                  <a:pt x="21063" y="9109"/>
                  <a:pt x="21046" y="9153"/>
                  <a:pt x="21031" y="9187"/>
                </a:cubicBezTo>
                <a:cubicBezTo>
                  <a:pt x="21015" y="9224"/>
                  <a:pt x="20987" y="9257"/>
                  <a:pt x="20963" y="9289"/>
                </a:cubicBezTo>
                <a:cubicBezTo>
                  <a:pt x="20948" y="9309"/>
                  <a:pt x="20944" y="9306"/>
                  <a:pt x="20944" y="9328"/>
                </a:cubicBezTo>
                <a:cubicBezTo>
                  <a:pt x="20974" y="9329"/>
                  <a:pt x="21001" y="9321"/>
                  <a:pt x="21030" y="9314"/>
                </a:cubicBezTo>
                <a:cubicBezTo>
                  <a:pt x="21076" y="9303"/>
                  <a:pt x="21121" y="9291"/>
                  <a:pt x="21165" y="9275"/>
                </a:cubicBezTo>
                <a:cubicBezTo>
                  <a:pt x="21197" y="9263"/>
                  <a:pt x="21221" y="9247"/>
                  <a:pt x="21250" y="9228"/>
                </a:cubicBezTo>
              </a:path>
              <a:path w="3199" h="590">
                <a:moveTo>
                  <a:pt x="21362" y="8943"/>
                </a:moveTo>
                <a:cubicBezTo>
                  <a:pt x="21336" y="8970"/>
                  <a:pt x="21318" y="8997"/>
                  <a:pt x="21301" y="9031"/>
                </a:cubicBezTo>
                <a:cubicBezTo>
                  <a:pt x="21274" y="9082"/>
                  <a:pt x="21253" y="9136"/>
                  <a:pt x="21254" y="9195"/>
                </a:cubicBezTo>
                <a:cubicBezTo>
                  <a:pt x="21255" y="9243"/>
                  <a:pt x="21273" y="9291"/>
                  <a:pt x="21317" y="9315"/>
                </a:cubicBezTo>
                <a:cubicBezTo>
                  <a:pt x="21355" y="9335"/>
                  <a:pt x="21406" y="9332"/>
                  <a:pt x="21443" y="9312"/>
                </a:cubicBezTo>
                <a:cubicBezTo>
                  <a:pt x="21469" y="9298"/>
                  <a:pt x="21498" y="9266"/>
                  <a:pt x="21481" y="9235"/>
                </a:cubicBezTo>
                <a:cubicBezTo>
                  <a:pt x="21465" y="9205"/>
                  <a:pt x="21416" y="9192"/>
                  <a:pt x="21384" y="9194"/>
                </a:cubicBezTo>
                <a:cubicBezTo>
                  <a:pt x="21375" y="9194"/>
                  <a:pt x="21314" y="9201"/>
                  <a:pt x="21327" y="9224"/>
                </a:cubicBezTo>
                <a:cubicBezTo>
                  <a:pt x="21331" y="9227"/>
                  <a:pt x="21335" y="9231"/>
                  <a:pt x="21339" y="9234"/>
                </a:cubicBezTo>
              </a:path>
              <a:path w="3199" h="590">
                <a:moveTo>
                  <a:pt x="21878" y="9074"/>
                </a:moveTo>
                <a:cubicBezTo>
                  <a:pt x="21904" y="9060"/>
                  <a:pt x="21917" y="9054"/>
                  <a:pt x="21946" y="9057"/>
                </a:cubicBezTo>
                <a:cubicBezTo>
                  <a:pt x="21973" y="9060"/>
                  <a:pt x="22010" y="9066"/>
                  <a:pt x="22033" y="9081"/>
                </a:cubicBezTo>
                <a:cubicBezTo>
                  <a:pt x="22048" y="9090"/>
                  <a:pt x="22077" y="9111"/>
                  <a:pt x="22070" y="9132"/>
                </a:cubicBezTo>
                <a:cubicBezTo>
                  <a:pt x="22068" y="9136"/>
                  <a:pt x="22065" y="9140"/>
                  <a:pt x="22063" y="9144"/>
                </a:cubicBezTo>
              </a:path>
              <a:path w="3199" h="590">
                <a:moveTo>
                  <a:pt x="21875" y="9219"/>
                </a:moveTo>
                <a:cubicBezTo>
                  <a:pt x="21888" y="9235"/>
                  <a:pt x="21918" y="9229"/>
                  <a:pt x="21941" y="9229"/>
                </a:cubicBezTo>
                <a:cubicBezTo>
                  <a:pt x="21984" y="9230"/>
                  <a:pt x="22025" y="9231"/>
                  <a:pt x="22068" y="9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30"/>
          <p:cNvSpPr/>
          <p:nvPr/>
        </p:nvSpPr>
        <p:spPr>
          <a:xfrm>
            <a:off x="8186760" y="3262320"/>
            <a:ext cx="477720" cy="270000"/>
          </a:xfrm>
          <a:custGeom>
            <a:avLst/>
            <a:gdLst/>
            <a:ahLst/>
            <a:rect l="l" t="t" r="r" b="b"/>
            <a:pathLst>
              <a:path w="1328" h="747">
                <a:moveTo>
                  <a:pt x="22740" y="9076"/>
                </a:moveTo>
                <a:cubicBezTo>
                  <a:pt x="22776" y="9069"/>
                  <a:pt x="22806" y="9065"/>
                  <a:pt x="22842" y="9065"/>
                </a:cubicBezTo>
                <a:cubicBezTo>
                  <a:pt x="22871" y="9065"/>
                  <a:pt x="22915" y="9066"/>
                  <a:pt x="22930" y="9098"/>
                </a:cubicBezTo>
                <a:cubicBezTo>
                  <a:pt x="22945" y="9130"/>
                  <a:pt x="22909" y="9173"/>
                  <a:pt x="22891" y="9196"/>
                </a:cubicBezTo>
                <a:cubicBezTo>
                  <a:pt x="22860" y="9236"/>
                  <a:pt x="22818" y="9267"/>
                  <a:pt x="22785" y="9306"/>
                </a:cubicBezTo>
                <a:cubicBezTo>
                  <a:pt x="22767" y="9327"/>
                  <a:pt x="22742" y="9358"/>
                  <a:pt x="22762" y="9384"/>
                </a:cubicBezTo>
                <a:cubicBezTo>
                  <a:pt x="22786" y="9415"/>
                  <a:pt x="22848" y="9413"/>
                  <a:pt x="22882" y="9413"/>
                </a:cubicBezTo>
                <a:cubicBezTo>
                  <a:pt x="22950" y="9413"/>
                  <a:pt x="23024" y="9402"/>
                  <a:pt x="23090" y="9386"/>
                </a:cubicBezTo>
                <a:cubicBezTo>
                  <a:pt x="23135" y="9375"/>
                  <a:pt x="23176" y="9358"/>
                  <a:pt x="23219" y="9341"/>
                </a:cubicBezTo>
              </a:path>
              <a:path w="1328" h="747">
                <a:moveTo>
                  <a:pt x="23281" y="9224"/>
                </a:moveTo>
                <a:cubicBezTo>
                  <a:pt x="23257" y="9216"/>
                  <a:pt x="23237" y="9211"/>
                  <a:pt x="23225" y="9241"/>
                </a:cubicBezTo>
                <a:cubicBezTo>
                  <a:pt x="23214" y="9268"/>
                  <a:pt x="23221" y="9305"/>
                  <a:pt x="23244" y="9323"/>
                </a:cubicBezTo>
                <a:cubicBezTo>
                  <a:pt x="23282" y="9354"/>
                  <a:pt x="23346" y="9353"/>
                  <a:pt x="23391" y="9348"/>
                </a:cubicBezTo>
                <a:cubicBezTo>
                  <a:pt x="23448" y="9342"/>
                  <a:pt x="23507" y="9323"/>
                  <a:pt x="23550" y="9283"/>
                </a:cubicBezTo>
                <a:cubicBezTo>
                  <a:pt x="23581" y="9255"/>
                  <a:pt x="23595" y="9216"/>
                  <a:pt x="23570" y="9179"/>
                </a:cubicBezTo>
                <a:cubicBezTo>
                  <a:pt x="23546" y="9143"/>
                  <a:pt x="23500" y="9128"/>
                  <a:pt x="23459" y="9124"/>
                </a:cubicBezTo>
                <a:cubicBezTo>
                  <a:pt x="23432" y="9122"/>
                  <a:pt x="23387" y="9131"/>
                  <a:pt x="23388" y="9167"/>
                </a:cubicBezTo>
                <a:cubicBezTo>
                  <a:pt x="23395" y="9188"/>
                  <a:pt x="23401" y="9196"/>
                  <a:pt x="23419" y="9202"/>
                </a:cubicBezTo>
              </a:path>
              <a:path w="1328" h="747">
                <a:moveTo>
                  <a:pt x="23842" y="9234"/>
                </a:moveTo>
                <a:cubicBezTo>
                  <a:pt x="23807" y="9248"/>
                  <a:pt x="23775" y="9258"/>
                  <a:pt x="23749" y="9286"/>
                </a:cubicBezTo>
                <a:cubicBezTo>
                  <a:pt x="23724" y="9312"/>
                  <a:pt x="23726" y="9341"/>
                  <a:pt x="23760" y="9358"/>
                </a:cubicBezTo>
                <a:cubicBezTo>
                  <a:pt x="23833" y="9394"/>
                  <a:pt x="23942" y="9376"/>
                  <a:pt x="24012" y="9341"/>
                </a:cubicBezTo>
                <a:cubicBezTo>
                  <a:pt x="24054" y="9320"/>
                  <a:pt x="24079" y="9288"/>
                  <a:pt x="24056" y="9243"/>
                </a:cubicBezTo>
                <a:cubicBezTo>
                  <a:pt x="24029" y="9190"/>
                  <a:pt x="23971" y="9170"/>
                  <a:pt x="23919" y="9152"/>
                </a:cubicBezTo>
                <a:cubicBezTo>
                  <a:pt x="23844" y="9126"/>
                  <a:pt x="23780" y="9133"/>
                  <a:pt x="23705" y="9158"/>
                </a:cubicBezTo>
                <a:cubicBezTo>
                  <a:pt x="23687" y="9165"/>
                  <a:pt x="23668" y="9172"/>
                  <a:pt x="23650" y="9179"/>
                </a:cubicBezTo>
              </a:path>
              <a:path w="1328" h="747">
                <a:moveTo>
                  <a:pt x="22797" y="9672"/>
                </a:moveTo>
                <a:cubicBezTo>
                  <a:pt x="22794" y="9652"/>
                  <a:pt x="22795" y="9643"/>
                  <a:pt x="22837" y="9630"/>
                </a:cubicBezTo>
                <a:cubicBezTo>
                  <a:pt x="22927" y="9601"/>
                  <a:pt x="23026" y="9589"/>
                  <a:pt x="23120" y="9582"/>
                </a:cubicBezTo>
                <a:cubicBezTo>
                  <a:pt x="23287" y="9570"/>
                  <a:pt x="23455" y="9570"/>
                  <a:pt x="23622" y="9579"/>
                </a:cubicBezTo>
                <a:cubicBezTo>
                  <a:pt x="23712" y="9584"/>
                  <a:pt x="23810" y="9583"/>
                  <a:pt x="23895" y="9613"/>
                </a:cubicBezTo>
                <a:cubicBezTo>
                  <a:pt x="23839" y="9645"/>
                  <a:pt x="23774" y="9650"/>
                  <a:pt x="23709" y="9660"/>
                </a:cubicBezTo>
              </a:path>
              <a:path w="1328" h="747">
                <a:moveTo>
                  <a:pt x="22850" y="9794"/>
                </a:moveTo>
                <a:cubicBezTo>
                  <a:pt x="22891" y="9779"/>
                  <a:pt x="22911" y="9779"/>
                  <a:pt x="22954" y="9773"/>
                </a:cubicBezTo>
                <a:cubicBezTo>
                  <a:pt x="23057" y="9758"/>
                  <a:pt x="23161" y="9752"/>
                  <a:pt x="23265" y="9751"/>
                </a:cubicBezTo>
                <a:cubicBezTo>
                  <a:pt x="23366" y="9750"/>
                  <a:pt x="23470" y="9748"/>
                  <a:pt x="23570" y="9765"/>
                </a:cubicBezTo>
                <a:cubicBezTo>
                  <a:pt x="23617" y="9773"/>
                  <a:pt x="23664" y="9784"/>
                  <a:pt x="23705" y="9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31"/>
          <p:cNvSpPr/>
          <p:nvPr/>
        </p:nvSpPr>
        <p:spPr>
          <a:xfrm>
            <a:off x="4282920" y="3298680"/>
            <a:ext cx="897120" cy="138240"/>
          </a:xfrm>
          <a:custGeom>
            <a:avLst/>
            <a:gdLst/>
            <a:ahLst/>
            <a:rect l="l" t="t" r="r" b="b"/>
            <a:pathLst>
              <a:path w="2489" h="384">
                <a:moveTo>
                  <a:pt x="12082" y="9259"/>
                </a:moveTo>
                <a:cubicBezTo>
                  <a:pt x="12066" y="9248"/>
                  <a:pt x="12054" y="9238"/>
                  <a:pt x="12034" y="9247"/>
                </a:cubicBezTo>
                <a:cubicBezTo>
                  <a:pt x="12014" y="9256"/>
                  <a:pt x="12003" y="9274"/>
                  <a:pt x="11987" y="9288"/>
                </a:cubicBezTo>
                <a:cubicBezTo>
                  <a:pt x="11969" y="9304"/>
                  <a:pt x="11952" y="9321"/>
                  <a:pt x="11937" y="9341"/>
                </a:cubicBezTo>
                <a:cubicBezTo>
                  <a:pt x="11920" y="9364"/>
                  <a:pt x="11908" y="9393"/>
                  <a:pt x="11902" y="9421"/>
                </a:cubicBezTo>
                <a:cubicBezTo>
                  <a:pt x="11894" y="9459"/>
                  <a:pt x="11900" y="9512"/>
                  <a:pt x="11939" y="9530"/>
                </a:cubicBezTo>
                <a:cubicBezTo>
                  <a:pt x="11979" y="9548"/>
                  <a:pt x="12023" y="9523"/>
                  <a:pt x="12056" y="9503"/>
                </a:cubicBezTo>
                <a:cubicBezTo>
                  <a:pt x="12091" y="9482"/>
                  <a:pt x="12127" y="9454"/>
                  <a:pt x="12151" y="9421"/>
                </a:cubicBezTo>
                <a:cubicBezTo>
                  <a:pt x="12169" y="9397"/>
                  <a:pt x="12184" y="9365"/>
                  <a:pt x="12177" y="9335"/>
                </a:cubicBezTo>
                <a:cubicBezTo>
                  <a:pt x="12171" y="9306"/>
                  <a:pt x="12147" y="9285"/>
                  <a:pt x="12123" y="9271"/>
                </a:cubicBezTo>
                <a:cubicBezTo>
                  <a:pt x="12098" y="9256"/>
                  <a:pt x="12071" y="9250"/>
                  <a:pt x="12043" y="9255"/>
                </a:cubicBezTo>
                <a:cubicBezTo>
                  <a:pt x="12016" y="9259"/>
                  <a:pt x="12010" y="9287"/>
                  <a:pt x="12013" y="9311"/>
                </a:cubicBezTo>
                <a:cubicBezTo>
                  <a:pt x="12018" y="9333"/>
                  <a:pt x="12021" y="9342"/>
                  <a:pt x="12033" y="9353"/>
                </a:cubicBezTo>
              </a:path>
              <a:path w="2489" h="384">
                <a:moveTo>
                  <a:pt x="12362" y="9387"/>
                </a:moveTo>
                <a:cubicBezTo>
                  <a:pt x="12376" y="9393"/>
                  <a:pt x="12372" y="9393"/>
                  <a:pt x="12365" y="9409"/>
                </a:cubicBezTo>
                <a:cubicBezTo>
                  <a:pt x="12363" y="9382"/>
                  <a:pt x="12368" y="9376"/>
                  <a:pt x="12387" y="9356"/>
                </a:cubicBezTo>
              </a:path>
              <a:path w="2489" h="384">
                <a:moveTo>
                  <a:pt x="12501" y="9252"/>
                </a:moveTo>
                <a:cubicBezTo>
                  <a:pt x="12513" y="9238"/>
                  <a:pt x="12523" y="9222"/>
                  <a:pt x="12542" y="9220"/>
                </a:cubicBezTo>
                <a:cubicBezTo>
                  <a:pt x="12564" y="9218"/>
                  <a:pt x="12583" y="9225"/>
                  <a:pt x="12600" y="9238"/>
                </a:cubicBezTo>
                <a:cubicBezTo>
                  <a:pt x="12628" y="9260"/>
                  <a:pt x="12631" y="9293"/>
                  <a:pt x="12624" y="9326"/>
                </a:cubicBezTo>
                <a:cubicBezTo>
                  <a:pt x="12617" y="9361"/>
                  <a:pt x="12600" y="9394"/>
                  <a:pt x="12581" y="9424"/>
                </a:cubicBezTo>
                <a:cubicBezTo>
                  <a:pt x="12564" y="9452"/>
                  <a:pt x="12546" y="9480"/>
                  <a:pt x="12526" y="9506"/>
                </a:cubicBezTo>
                <a:cubicBezTo>
                  <a:pt x="12515" y="9520"/>
                  <a:pt x="12511" y="9527"/>
                  <a:pt x="12505" y="9543"/>
                </a:cubicBezTo>
                <a:cubicBezTo>
                  <a:pt x="12529" y="9546"/>
                  <a:pt x="12550" y="9544"/>
                  <a:pt x="12574" y="9538"/>
                </a:cubicBezTo>
                <a:cubicBezTo>
                  <a:pt x="12604" y="9531"/>
                  <a:pt x="12633" y="9522"/>
                  <a:pt x="12663" y="9516"/>
                </a:cubicBezTo>
                <a:cubicBezTo>
                  <a:pt x="12689" y="9511"/>
                  <a:pt x="12712" y="9508"/>
                  <a:pt x="12737" y="9503"/>
                </a:cubicBezTo>
                <a:cubicBezTo>
                  <a:pt x="12750" y="9501"/>
                  <a:pt x="12760" y="9497"/>
                  <a:pt x="12772" y="9492"/>
                </a:cubicBezTo>
              </a:path>
              <a:path w="2489" h="384">
                <a:moveTo>
                  <a:pt x="13009" y="9180"/>
                </a:moveTo>
                <a:cubicBezTo>
                  <a:pt x="13011" y="9175"/>
                  <a:pt x="13014" y="9169"/>
                  <a:pt x="13016" y="9164"/>
                </a:cubicBezTo>
                <a:cubicBezTo>
                  <a:pt x="12992" y="9181"/>
                  <a:pt x="12977" y="9206"/>
                  <a:pt x="12963" y="9232"/>
                </a:cubicBezTo>
                <a:cubicBezTo>
                  <a:pt x="12937" y="9279"/>
                  <a:pt x="12914" y="9331"/>
                  <a:pt x="12899" y="9383"/>
                </a:cubicBezTo>
                <a:cubicBezTo>
                  <a:pt x="12888" y="9422"/>
                  <a:pt x="12876" y="9472"/>
                  <a:pt x="12896" y="9511"/>
                </a:cubicBezTo>
                <a:cubicBezTo>
                  <a:pt x="12911" y="9540"/>
                  <a:pt x="12944" y="9548"/>
                  <a:pt x="12974" y="9543"/>
                </a:cubicBezTo>
                <a:cubicBezTo>
                  <a:pt x="13024" y="9534"/>
                  <a:pt x="13071" y="9498"/>
                  <a:pt x="13091" y="9451"/>
                </a:cubicBezTo>
                <a:cubicBezTo>
                  <a:pt x="13100" y="9430"/>
                  <a:pt x="13094" y="9412"/>
                  <a:pt x="13071" y="9406"/>
                </a:cubicBezTo>
                <a:cubicBezTo>
                  <a:pt x="13046" y="9399"/>
                  <a:pt x="13025" y="9410"/>
                  <a:pt x="13004" y="9420"/>
                </a:cubicBezTo>
                <a:cubicBezTo>
                  <a:pt x="12989" y="9426"/>
                  <a:pt x="12985" y="9427"/>
                  <a:pt x="12982" y="9439"/>
                </a:cubicBezTo>
              </a:path>
              <a:path w="2489" h="384">
                <a:moveTo>
                  <a:pt x="13467" y="9312"/>
                </a:moveTo>
                <a:cubicBezTo>
                  <a:pt x="13448" y="9307"/>
                  <a:pt x="13442" y="9316"/>
                  <a:pt x="13427" y="9331"/>
                </a:cubicBezTo>
                <a:cubicBezTo>
                  <a:pt x="13407" y="9351"/>
                  <a:pt x="13388" y="9374"/>
                  <a:pt x="13369" y="9396"/>
                </a:cubicBezTo>
                <a:cubicBezTo>
                  <a:pt x="13348" y="9419"/>
                  <a:pt x="13329" y="9453"/>
                  <a:pt x="13306" y="9473"/>
                </a:cubicBezTo>
                <a:cubicBezTo>
                  <a:pt x="13297" y="9481"/>
                  <a:pt x="13284" y="9489"/>
                  <a:pt x="13274" y="9495"/>
                </a:cubicBezTo>
              </a:path>
              <a:path w="2489" h="384">
                <a:moveTo>
                  <a:pt x="13276" y="9361"/>
                </a:moveTo>
                <a:cubicBezTo>
                  <a:pt x="13295" y="9346"/>
                  <a:pt x="13309" y="9349"/>
                  <a:pt x="13334" y="9357"/>
                </a:cubicBezTo>
                <a:cubicBezTo>
                  <a:pt x="13363" y="9366"/>
                  <a:pt x="13388" y="9384"/>
                  <a:pt x="13413" y="9401"/>
                </a:cubicBezTo>
                <a:cubicBezTo>
                  <a:pt x="13440" y="9420"/>
                  <a:pt x="13465" y="9435"/>
                  <a:pt x="13495" y="9448"/>
                </a:cubicBezTo>
              </a:path>
              <a:path w="2489" h="384">
                <a:moveTo>
                  <a:pt x="13694" y="9300"/>
                </a:moveTo>
                <a:cubicBezTo>
                  <a:pt x="13690" y="9280"/>
                  <a:pt x="13705" y="9291"/>
                  <a:pt x="13724" y="9296"/>
                </a:cubicBezTo>
                <a:cubicBezTo>
                  <a:pt x="13759" y="9306"/>
                  <a:pt x="13800" y="9320"/>
                  <a:pt x="13817" y="9355"/>
                </a:cubicBezTo>
                <a:cubicBezTo>
                  <a:pt x="13831" y="9383"/>
                  <a:pt x="13820" y="9413"/>
                  <a:pt x="13805" y="9438"/>
                </a:cubicBezTo>
                <a:cubicBezTo>
                  <a:pt x="13784" y="9472"/>
                  <a:pt x="13753" y="9499"/>
                  <a:pt x="13719" y="9520"/>
                </a:cubicBezTo>
                <a:cubicBezTo>
                  <a:pt x="13707" y="9527"/>
                  <a:pt x="13657" y="9567"/>
                  <a:pt x="13646" y="9537"/>
                </a:cubicBezTo>
                <a:cubicBezTo>
                  <a:pt x="13648" y="9533"/>
                  <a:pt x="13649" y="9528"/>
                  <a:pt x="13651" y="9524"/>
                </a:cubicBezTo>
              </a:path>
              <a:path w="2489" h="384">
                <a:moveTo>
                  <a:pt x="13942" y="9242"/>
                </a:moveTo>
                <a:cubicBezTo>
                  <a:pt x="13914" y="9255"/>
                  <a:pt x="13898" y="9279"/>
                  <a:pt x="13879" y="9305"/>
                </a:cubicBezTo>
                <a:cubicBezTo>
                  <a:pt x="13857" y="9335"/>
                  <a:pt x="13843" y="9364"/>
                  <a:pt x="13837" y="9401"/>
                </a:cubicBezTo>
                <a:cubicBezTo>
                  <a:pt x="13834" y="9424"/>
                  <a:pt x="13837" y="9446"/>
                  <a:pt x="13860" y="9456"/>
                </a:cubicBezTo>
                <a:cubicBezTo>
                  <a:pt x="13888" y="9468"/>
                  <a:pt x="13918" y="9453"/>
                  <a:pt x="13946" y="9447"/>
                </a:cubicBezTo>
                <a:cubicBezTo>
                  <a:pt x="13976" y="9441"/>
                  <a:pt x="13986" y="9439"/>
                  <a:pt x="14003" y="9427"/>
                </a:cubicBezTo>
              </a:path>
              <a:path w="2489" h="384">
                <a:moveTo>
                  <a:pt x="14203" y="9261"/>
                </a:moveTo>
                <a:cubicBezTo>
                  <a:pt x="14198" y="9262"/>
                  <a:pt x="14194" y="9263"/>
                  <a:pt x="14189" y="9264"/>
                </a:cubicBezTo>
                <a:cubicBezTo>
                  <a:pt x="14214" y="9262"/>
                  <a:pt x="14240" y="9261"/>
                  <a:pt x="14266" y="9262"/>
                </a:cubicBezTo>
                <a:cubicBezTo>
                  <a:pt x="14279" y="9263"/>
                  <a:pt x="14324" y="9257"/>
                  <a:pt x="14334" y="9268"/>
                </a:cubicBezTo>
                <a:cubicBezTo>
                  <a:pt x="14335" y="9272"/>
                  <a:pt x="14336" y="9276"/>
                  <a:pt x="14337" y="9280"/>
                </a:cubicBezTo>
              </a:path>
              <a:path w="2489" h="384">
                <a:moveTo>
                  <a:pt x="14147" y="9401"/>
                </a:moveTo>
                <a:cubicBezTo>
                  <a:pt x="14155" y="9428"/>
                  <a:pt x="14172" y="9424"/>
                  <a:pt x="14201" y="9422"/>
                </a:cubicBezTo>
                <a:cubicBezTo>
                  <a:pt x="14242" y="9419"/>
                  <a:pt x="14285" y="9410"/>
                  <a:pt x="14324" y="9400"/>
                </a:cubicBezTo>
                <a:cubicBezTo>
                  <a:pt x="14355" y="9391"/>
                  <a:pt x="14366" y="9388"/>
                  <a:pt x="14387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32"/>
          <p:cNvSpPr/>
          <p:nvPr/>
        </p:nvSpPr>
        <p:spPr>
          <a:xfrm>
            <a:off x="5332320" y="3255840"/>
            <a:ext cx="263520" cy="177840"/>
          </a:xfrm>
          <a:custGeom>
            <a:avLst/>
            <a:gdLst/>
            <a:ahLst/>
            <a:rect l="l" t="t" r="r" b="b"/>
            <a:pathLst>
              <a:path w="732" h="495">
                <a:moveTo>
                  <a:pt x="14927" y="9104"/>
                </a:moveTo>
                <a:cubicBezTo>
                  <a:pt x="14944" y="9087"/>
                  <a:pt x="14962" y="9085"/>
                  <a:pt x="14986" y="9075"/>
                </a:cubicBezTo>
                <a:cubicBezTo>
                  <a:pt x="15012" y="9064"/>
                  <a:pt x="15040" y="9055"/>
                  <a:pt x="15067" y="9047"/>
                </a:cubicBezTo>
                <a:cubicBezTo>
                  <a:pt x="15071" y="9046"/>
                  <a:pt x="15075" y="9045"/>
                  <a:pt x="15079" y="9044"/>
                </a:cubicBezTo>
                <a:cubicBezTo>
                  <a:pt x="15030" y="9076"/>
                  <a:pt x="14975" y="9097"/>
                  <a:pt x="14926" y="9129"/>
                </a:cubicBezTo>
                <a:cubicBezTo>
                  <a:pt x="14894" y="9150"/>
                  <a:pt x="14843" y="9179"/>
                  <a:pt x="14835" y="9221"/>
                </a:cubicBezTo>
                <a:cubicBezTo>
                  <a:pt x="14828" y="9260"/>
                  <a:pt x="14873" y="9285"/>
                  <a:pt x="14901" y="9299"/>
                </a:cubicBezTo>
                <a:cubicBezTo>
                  <a:pt x="14944" y="9321"/>
                  <a:pt x="15014" y="9335"/>
                  <a:pt x="15045" y="9376"/>
                </a:cubicBezTo>
                <a:cubicBezTo>
                  <a:pt x="15067" y="9405"/>
                  <a:pt x="15039" y="9431"/>
                  <a:pt x="15017" y="9447"/>
                </a:cubicBezTo>
                <a:cubicBezTo>
                  <a:pt x="14981" y="9473"/>
                  <a:pt x="14930" y="9490"/>
                  <a:pt x="14886" y="9486"/>
                </a:cubicBezTo>
                <a:cubicBezTo>
                  <a:pt x="14848" y="9483"/>
                  <a:pt x="14834" y="9461"/>
                  <a:pt x="14811" y="9435"/>
                </a:cubicBezTo>
              </a:path>
              <a:path w="732" h="495">
                <a:moveTo>
                  <a:pt x="14916" y="9109"/>
                </a:moveTo>
                <a:cubicBezTo>
                  <a:pt x="14948" y="9088"/>
                  <a:pt x="14981" y="9066"/>
                  <a:pt x="15020" y="9062"/>
                </a:cubicBezTo>
                <a:cubicBezTo>
                  <a:pt x="15052" y="9059"/>
                  <a:pt x="15078" y="9070"/>
                  <a:pt x="15103" y="9088"/>
                </a:cubicBezTo>
                <a:cubicBezTo>
                  <a:pt x="15122" y="9103"/>
                  <a:pt x="15128" y="9108"/>
                  <a:pt x="15140" y="9119"/>
                </a:cubicBezTo>
              </a:path>
              <a:path w="732" h="495">
                <a:moveTo>
                  <a:pt x="15253" y="9172"/>
                </a:moveTo>
                <a:cubicBezTo>
                  <a:pt x="15274" y="9172"/>
                  <a:pt x="15293" y="9171"/>
                  <a:pt x="15314" y="9175"/>
                </a:cubicBezTo>
                <a:cubicBezTo>
                  <a:pt x="15343" y="9180"/>
                  <a:pt x="15376" y="9197"/>
                  <a:pt x="15389" y="9225"/>
                </a:cubicBezTo>
                <a:cubicBezTo>
                  <a:pt x="15407" y="9265"/>
                  <a:pt x="15381" y="9308"/>
                  <a:pt x="15363" y="9342"/>
                </a:cubicBezTo>
                <a:cubicBezTo>
                  <a:pt x="15338" y="9389"/>
                  <a:pt x="15302" y="9427"/>
                  <a:pt x="15267" y="9468"/>
                </a:cubicBezTo>
                <a:cubicBezTo>
                  <a:pt x="15251" y="9487"/>
                  <a:pt x="15241" y="9501"/>
                  <a:pt x="15231" y="9523"/>
                </a:cubicBezTo>
                <a:cubicBezTo>
                  <a:pt x="15250" y="9539"/>
                  <a:pt x="15251" y="9540"/>
                  <a:pt x="15283" y="9534"/>
                </a:cubicBezTo>
                <a:cubicBezTo>
                  <a:pt x="15326" y="9526"/>
                  <a:pt x="15368" y="9514"/>
                  <a:pt x="15411" y="9507"/>
                </a:cubicBezTo>
                <a:cubicBezTo>
                  <a:pt x="15446" y="9501"/>
                  <a:pt x="15480" y="9504"/>
                  <a:pt x="15514" y="9512"/>
                </a:cubicBezTo>
                <a:cubicBezTo>
                  <a:pt x="15529" y="9516"/>
                  <a:pt x="15533" y="9517"/>
                  <a:pt x="15542" y="9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33"/>
          <p:cNvSpPr/>
          <p:nvPr/>
        </p:nvSpPr>
        <p:spPr>
          <a:xfrm>
            <a:off x="2630520" y="4637160"/>
            <a:ext cx="1297080" cy="601560"/>
          </a:xfrm>
          <a:custGeom>
            <a:avLst/>
            <a:gdLst/>
            <a:ahLst/>
            <a:rect l="l" t="t" r="r" b="b"/>
            <a:pathLst>
              <a:path w="3601" h="1672">
                <a:moveTo>
                  <a:pt x="9293" y="12882"/>
                </a:moveTo>
                <a:cubicBezTo>
                  <a:pt x="9311" y="12910"/>
                  <a:pt x="9325" y="12933"/>
                  <a:pt x="9353" y="12957"/>
                </a:cubicBezTo>
                <a:cubicBezTo>
                  <a:pt x="9524" y="13102"/>
                  <a:pt x="9781" y="13131"/>
                  <a:pt x="9995" y="13142"/>
                </a:cubicBezTo>
                <a:cubicBezTo>
                  <a:pt x="10101" y="13147"/>
                  <a:pt x="10207" y="13145"/>
                  <a:pt x="10313" y="13139"/>
                </a:cubicBezTo>
                <a:cubicBezTo>
                  <a:pt x="10397" y="13134"/>
                  <a:pt x="10483" y="13125"/>
                  <a:pt x="10565" y="13104"/>
                </a:cubicBezTo>
                <a:cubicBezTo>
                  <a:pt x="10689" y="13073"/>
                  <a:pt x="10771" y="12979"/>
                  <a:pt x="10883" y="12938"/>
                </a:cubicBezTo>
                <a:cubicBezTo>
                  <a:pt x="10920" y="12924"/>
                  <a:pt x="10899" y="12945"/>
                  <a:pt x="10897" y="12970"/>
                </a:cubicBezTo>
              </a:path>
              <a:path w="3601" h="1672">
                <a:moveTo>
                  <a:pt x="7397" y="14016"/>
                </a:moveTo>
                <a:cubicBezTo>
                  <a:pt x="7366" y="14035"/>
                  <a:pt x="7348" y="14051"/>
                  <a:pt x="7335" y="14088"/>
                </a:cubicBezTo>
                <a:cubicBezTo>
                  <a:pt x="7318" y="14135"/>
                  <a:pt x="7307" y="14190"/>
                  <a:pt x="7307" y="14240"/>
                </a:cubicBezTo>
                <a:cubicBezTo>
                  <a:pt x="7307" y="14292"/>
                  <a:pt x="7316" y="14357"/>
                  <a:pt x="7342" y="14403"/>
                </a:cubicBezTo>
                <a:cubicBezTo>
                  <a:pt x="7365" y="14443"/>
                  <a:pt x="7401" y="14470"/>
                  <a:pt x="7448" y="14473"/>
                </a:cubicBezTo>
                <a:cubicBezTo>
                  <a:pt x="7526" y="14479"/>
                  <a:pt x="7591" y="14421"/>
                  <a:pt x="7634" y="14363"/>
                </a:cubicBezTo>
                <a:cubicBezTo>
                  <a:pt x="7666" y="14319"/>
                  <a:pt x="7679" y="14269"/>
                  <a:pt x="7679" y="14215"/>
                </a:cubicBezTo>
                <a:cubicBezTo>
                  <a:pt x="7678" y="14159"/>
                  <a:pt x="7658" y="14106"/>
                  <a:pt x="7609" y="14075"/>
                </a:cubicBezTo>
                <a:cubicBezTo>
                  <a:pt x="7571" y="14051"/>
                  <a:pt x="7513" y="14053"/>
                  <a:pt x="7474" y="14076"/>
                </a:cubicBezTo>
                <a:cubicBezTo>
                  <a:pt x="7441" y="14096"/>
                  <a:pt x="7423" y="14127"/>
                  <a:pt x="7420" y="14164"/>
                </a:cubicBezTo>
                <a:cubicBezTo>
                  <a:pt x="7416" y="14208"/>
                  <a:pt x="7445" y="14249"/>
                  <a:pt x="7476" y="14277"/>
                </a:cubicBezTo>
                <a:cubicBezTo>
                  <a:pt x="7486" y="14285"/>
                  <a:pt x="7497" y="14292"/>
                  <a:pt x="7507" y="14300"/>
                </a:cubicBezTo>
              </a:path>
              <a:path w="3601" h="1672">
                <a:moveTo>
                  <a:pt x="7980" y="14211"/>
                </a:moveTo>
                <a:cubicBezTo>
                  <a:pt x="7982" y="14229"/>
                  <a:pt x="7981" y="14240"/>
                  <a:pt x="7977" y="14258"/>
                </a:cubicBezTo>
                <a:cubicBezTo>
                  <a:pt x="7995" y="14236"/>
                  <a:pt x="7999" y="14223"/>
                  <a:pt x="8008" y="14196"/>
                </a:cubicBezTo>
                <a:cubicBezTo>
                  <a:pt x="8015" y="14175"/>
                  <a:pt x="8017" y="14178"/>
                  <a:pt x="8000" y="14166"/>
                </a:cubicBezTo>
                <a:cubicBezTo>
                  <a:pt x="7991" y="14189"/>
                  <a:pt x="7981" y="14212"/>
                  <a:pt x="7985" y="14237"/>
                </a:cubicBezTo>
                <a:cubicBezTo>
                  <a:pt x="7989" y="14251"/>
                  <a:pt x="7991" y="14256"/>
                  <a:pt x="7998" y="14263"/>
                </a:cubicBezTo>
              </a:path>
              <a:path w="3601" h="1672">
                <a:moveTo>
                  <a:pt x="8335" y="14193"/>
                </a:moveTo>
                <a:cubicBezTo>
                  <a:pt x="8335" y="14222"/>
                  <a:pt x="8308" y="14238"/>
                  <a:pt x="8294" y="14266"/>
                </a:cubicBezTo>
                <a:cubicBezTo>
                  <a:pt x="8273" y="14308"/>
                  <a:pt x="8253" y="14367"/>
                  <a:pt x="8252" y="14414"/>
                </a:cubicBezTo>
                <a:cubicBezTo>
                  <a:pt x="8251" y="14451"/>
                  <a:pt x="8263" y="14499"/>
                  <a:pt x="8302" y="14511"/>
                </a:cubicBezTo>
                <a:cubicBezTo>
                  <a:pt x="8347" y="14525"/>
                  <a:pt x="8400" y="14486"/>
                  <a:pt x="8430" y="14458"/>
                </a:cubicBezTo>
                <a:cubicBezTo>
                  <a:pt x="8481" y="14411"/>
                  <a:pt x="8523" y="14346"/>
                  <a:pt x="8550" y="14282"/>
                </a:cubicBezTo>
                <a:cubicBezTo>
                  <a:pt x="8571" y="14234"/>
                  <a:pt x="8588" y="14168"/>
                  <a:pt x="8557" y="14119"/>
                </a:cubicBezTo>
                <a:cubicBezTo>
                  <a:pt x="8531" y="14078"/>
                  <a:pt x="8472" y="14091"/>
                  <a:pt x="8436" y="14104"/>
                </a:cubicBezTo>
                <a:cubicBezTo>
                  <a:pt x="8388" y="14121"/>
                  <a:pt x="8347" y="14160"/>
                  <a:pt x="8322" y="14204"/>
                </a:cubicBezTo>
                <a:cubicBezTo>
                  <a:pt x="8314" y="14225"/>
                  <a:pt x="8310" y="14230"/>
                  <a:pt x="8316" y="14245"/>
                </a:cubicBezTo>
              </a:path>
              <a:path w="3601" h="1672">
                <a:moveTo>
                  <a:pt x="8737" y="14063"/>
                </a:moveTo>
                <a:cubicBezTo>
                  <a:pt x="8762" y="14056"/>
                  <a:pt x="8777" y="14064"/>
                  <a:pt x="8802" y="14070"/>
                </a:cubicBezTo>
                <a:cubicBezTo>
                  <a:pt x="8838" y="14079"/>
                  <a:pt x="8874" y="14090"/>
                  <a:pt x="8910" y="14101"/>
                </a:cubicBezTo>
                <a:cubicBezTo>
                  <a:pt x="8943" y="14111"/>
                  <a:pt x="8986" y="14121"/>
                  <a:pt x="8989" y="14162"/>
                </a:cubicBezTo>
                <a:cubicBezTo>
                  <a:pt x="8992" y="14202"/>
                  <a:pt x="8967" y="14245"/>
                  <a:pt x="8948" y="14279"/>
                </a:cubicBezTo>
                <a:cubicBezTo>
                  <a:pt x="8920" y="14330"/>
                  <a:pt x="8886" y="14378"/>
                  <a:pt x="8854" y="14426"/>
                </a:cubicBezTo>
                <a:cubicBezTo>
                  <a:pt x="8837" y="14453"/>
                  <a:pt x="8771" y="14513"/>
                  <a:pt x="8802" y="14505"/>
                </a:cubicBezTo>
                <a:cubicBezTo>
                  <a:pt x="8815" y="14504"/>
                  <a:pt x="8821" y="14501"/>
                  <a:pt x="8827" y="14490"/>
                </a:cubicBezTo>
              </a:path>
              <a:path w="3601" h="1672">
                <a:moveTo>
                  <a:pt x="9187" y="14081"/>
                </a:moveTo>
                <a:cubicBezTo>
                  <a:pt x="9191" y="14059"/>
                  <a:pt x="9199" y="14042"/>
                  <a:pt x="9224" y="14034"/>
                </a:cubicBezTo>
                <a:cubicBezTo>
                  <a:pt x="9261" y="14023"/>
                  <a:pt x="9312" y="14032"/>
                  <a:pt x="9344" y="14052"/>
                </a:cubicBezTo>
                <a:cubicBezTo>
                  <a:pt x="9385" y="14077"/>
                  <a:pt x="9396" y="14118"/>
                  <a:pt x="9395" y="14163"/>
                </a:cubicBezTo>
                <a:cubicBezTo>
                  <a:pt x="9394" y="14225"/>
                  <a:pt x="9366" y="14284"/>
                  <a:pt x="9337" y="14337"/>
                </a:cubicBezTo>
                <a:cubicBezTo>
                  <a:pt x="9303" y="14399"/>
                  <a:pt x="9248" y="14458"/>
                  <a:pt x="9224" y="14524"/>
                </a:cubicBezTo>
                <a:cubicBezTo>
                  <a:pt x="9221" y="14536"/>
                  <a:pt x="9220" y="14540"/>
                  <a:pt x="9224" y="14547"/>
                </a:cubicBezTo>
                <a:cubicBezTo>
                  <a:pt x="9261" y="14553"/>
                  <a:pt x="9291" y="14550"/>
                  <a:pt x="9328" y="14543"/>
                </a:cubicBezTo>
                <a:cubicBezTo>
                  <a:pt x="9369" y="14535"/>
                  <a:pt x="9407" y="14531"/>
                  <a:pt x="9449" y="14528"/>
                </a:cubicBezTo>
                <a:cubicBezTo>
                  <a:pt x="9476" y="14526"/>
                  <a:pt x="9497" y="14532"/>
                  <a:pt x="9521" y="14544"/>
                </a:cubicBezTo>
                <a:cubicBezTo>
                  <a:pt x="9525" y="14546"/>
                  <a:pt x="9528" y="14548"/>
                  <a:pt x="9532" y="14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34"/>
          <p:cNvSpPr/>
          <p:nvPr/>
        </p:nvSpPr>
        <p:spPr>
          <a:xfrm>
            <a:off x="4844880" y="3498840"/>
            <a:ext cx="790920" cy="723960"/>
          </a:xfrm>
          <a:custGeom>
            <a:avLst/>
            <a:gdLst/>
            <a:ahLst/>
            <a:rect l="l" t="t" r="r" b="b"/>
            <a:pathLst>
              <a:path w="2194" h="2012">
                <a:moveTo>
                  <a:pt x="13462" y="11412"/>
                </a:moveTo>
                <a:cubicBezTo>
                  <a:pt x="13468" y="11411"/>
                  <a:pt x="13527" y="11403"/>
                  <a:pt x="13553" y="11403"/>
                </a:cubicBezTo>
                <a:cubicBezTo>
                  <a:pt x="13660" y="11403"/>
                  <a:pt x="13767" y="11404"/>
                  <a:pt x="13874" y="11406"/>
                </a:cubicBezTo>
                <a:cubicBezTo>
                  <a:pt x="14322" y="11413"/>
                  <a:pt x="14771" y="11426"/>
                  <a:pt x="15219" y="11432"/>
                </a:cubicBezTo>
                <a:cubicBezTo>
                  <a:pt x="15364" y="11434"/>
                  <a:pt x="15508" y="11435"/>
                  <a:pt x="15653" y="11426"/>
                </a:cubicBezTo>
                <a:cubicBezTo>
                  <a:pt x="15616" y="11433"/>
                  <a:pt x="15581" y="11439"/>
                  <a:pt x="15544" y="11450"/>
                </a:cubicBezTo>
                <a:cubicBezTo>
                  <a:pt x="15530" y="11454"/>
                  <a:pt x="15517" y="11458"/>
                  <a:pt x="15503" y="11462"/>
                </a:cubicBezTo>
              </a:path>
              <a:path w="2194" h="2012">
                <a:moveTo>
                  <a:pt x="13660" y="11616"/>
                </a:moveTo>
                <a:cubicBezTo>
                  <a:pt x="13703" y="11631"/>
                  <a:pt x="13741" y="11635"/>
                  <a:pt x="13790" y="11640"/>
                </a:cubicBezTo>
                <a:cubicBezTo>
                  <a:pt x="13907" y="11651"/>
                  <a:pt x="14024" y="11654"/>
                  <a:pt x="14141" y="11659"/>
                </a:cubicBezTo>
                <a:cubicBezTo>
                  <a:pt x="14293" y="11665"/>
                  <a:pt x="14446" y="11666"/>
                  <a:pt x="14598" y="11667"/>
                </a:cubicBezTo>
                <a:cubicBezTo>
                  <a:pt x="14752" y="11668"/>
                  <a:pt x="14906" y="11666"/>
                  <a:pt x="15060" y="11675"/>
                </a:cubicBezTo>
                <a:cubicBezTo>
                  <a:pt x="15101" y="11677"/>
                  <a:pt x="15178" y="11671"/>
                  <a:pt x="15217" y="11692"/>
                </a:cubicBezTo>
                <a:cubicBezTo>
                  <a:pt x="15257" y="11714"/>
                  <a:pt x="15220" y="11716"/>
                  <a:pt x="15206" y="11729"/>
                </a:cubicBezTo>
              </a:path>
              <a:path w="2194" h="2012">
                <a:moveTo>
                  <a:pt x="14772" y="9815"/>
                </a:moveTo>
                <a:cubicBezTo>
                  <a:pt x="14809" y="9816"/>
                  <a:pt x="14840" y="9806"/>
                  <a:pt x="14877" y="9799"/>
                </a:cubicBezTo>
                <a:cubicBezTo>
                  <a:pt x="14937" y="9788"/>
                  <a:pt x="14996" y="9773"/>
                  <a:pt x="15055" y="9759"/>
                </a:cubicBezTo>
                <a:cubicBezTo>
                  <a:pt x="15113" y="9746"/>
                  <a:pt x="15171" y="9733"/>
                  <a:pt x="15230" y="9725"/>
                </a:cubicBezTo>
                <a:cubicBezTo>
                  <a:pt x="15270" y="9719"/>
                  <a:pt x="15311" y="9716"/>
                  <a:pt x="15351" y="9720"/>
                </a:cubicBezTo>
                <a:cubicBezTo>
                  <a:pt x="15375" y="9722"/>
                  <a:pt x="15398" y="9727"/>
                  <a:pt x="15418" y="9742"/>
                </a:cubicBezTo>
                <a:cubicBezTo>
                  <a:pt x="15444" y="9761"/>
                  <a:pt x="15454" y="9781"/>
                  <a:pt x="15467" y="9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35"/>
          <p:cNvSpPr/>
          <p:nvPr/>
        </p:nvSpPr>
        <p:spPr>
          <a:xfrm>
            <a:off x="4765680" y="3828960"/>
            <a:ext cx="893880" cy="231840"/>
          </a:xfrm>
          <a:custGeom>
            <a:avLst/>
            <a:gdLst/>
            <a:ahLst/>
            <a:rect l="l" t="t" r="r" b="b"/>
            <a:pathLst>
              <a:path w="2481" h="642">
                <a:moveTo>
                  <a:pt x="14081" y="10665"/>
                </a:moveTo>
                <a:cubicBezTo>
                  <a:pt x="14069" y="10667"/>
                  <a:pt x="14064" y="10668"/>
                  <a:pt x="14056" y="10670"/>
                </a:cubicBezTo>
                <a:cubicBezTo>
                  <a:pt x="14065" y="10693"/>
                  <a:pt x="14076" y="10699"/>
                  <a:pt x="14101" y="10705"/>
                </a:cubicBezTo>
                <a:cubicBezTo>
                  <a:pt x="14136" y="10714"/>
                  <a:pt x="14176" y="10713"/>
                  <a:pt x="14212" y="10713"/>
                </a:cubicBezTo>
                <a:cubicBezTo>
                  <a:pt x="14264" y="10714"/>
                  <a:pt x="14332" y="10701"/>
                  <a:pt x="14381" y="10723"/>
                </a:cubicBezTo>
                <a:cubicBezTo>
                  <a:pt x="14406" y="10734"/>
                  <a:pt x="14415" y="10756"/>
                  <a:pt x="14413" y="10782"/>
                </a:cubicBezTo>
                <a:cubicBezTo>
                  <a:pt x="14410" y="10826"/>
                  <a:pt x="14386" y="10872"/>
                  <a:pt x="14365" y="10910"/>
                </a:cubicBezTo>
                <a:cubicBezTo>
                  <a:pt x="14320" y="10991"/>
                  <a:pt x="14263" y="11062"/>
                  <a:pt x="14206" y="11134"/>
                </a:cubicBezTo>
                <a:cubicBezTo>
                  <a:pt x="14186" y="11159"/>
                  <a:pt x="14154" y="11189"/>
                  <a:pt x="14142" y="11219"/>
                </a:cubicBezTo>
                <a:cubicBezTo>
                  <a:pt x="14136" y="11231"/>
                  <a:pt x="14134" y="11235"/>
                  <a:pt x="14136" y="11244"/>
                </a:cubicBezTo>
                <a:cubicBezTo>
                  <a:pt x="14154" y="11236"/>
                  <a:pt x="14172" y="11227"/>
                  <a:pt x="14191" y="11215"/>
                </a:cubicBezTo>
              </a:path>
              <a:path w="2481" h="642">
                <a:moveTo>
                  <a:pt x="13600" y="10641"/>
                </a:moveTo>
                <a:cubicBezTo>
                  <a:pt x="13572" y="10642"/>
                  <a:pt x="13558" y="10641"/>
                  <a:pt x="13534" y="10662"/>
                </a:cubicBezTo>
                <a:cubicBezTo>
                  <a:pt x="13494" y="10698"/>
                  <a:pt x="13453" y="10738"/>
                  <a:pt x="13418" y="10779"/>
                </a:cubicBezTo>
                <a:cubicBezTo>
                  <a:pt x="13365" y="10841"/>
                  <a:pt x="13312" y="10907"/>
                  <a:pt x="13270" y="10977"/>
                </a:cubicBezTo>
                <a:cubicBezTo>
                  <a:pt x="13255" y="11002"/>
                  <a:pt x="13234" y="11034"/>
                  <a:pt x="13245" y="11063"/>
                </a:cubicBezTo>
                <a:cubicBezTo>
                  <a:pt x="13252" y="11082"/>
                  <a:pt x="13320" y="11070"/>
                  <a:pt x="13332" y="11069"/>
                </a:cubicBezTo>
                <a:cubicBezTo>
                  <a:pt x="13387" y="11062"/>
                  <a:pt x="13443" y="11048"/>
                  <a:pt x="13497" y="11036"/>
                </a:cubicBezTo>
                <a:cubicBezTo>
                  <a:pt x="13548" y="11025"/>
                  <a:pt x="13599" y="11014"/>
                  <a:pt x="13650" y="11006"/>
                </a:cubicBezTo>
                <a:cubicBezTo>
                  <a:pt x="13676" y="11002"/>
                  <a:pt x="13705" y="11000"/>
                  <a:pt x="13728" y="10990"/>
                </a:cubicBezTo>
                <a:cubicBezTo>
                  <a:pt x="13740" y="10992"/>
                  <a:pt x="13744" y="10993"/>
                  <a:pt x="13741" y="10980"/>
                </a:cubicBezTo>
              </a:path>
              <a:path w="2481" h="642">
                <a:moveTo>
                  <a:pt x="13644" y="10757"/>
                </a:moveTo>
                <a:cubicBezTo>
                  <a:pt x="13623" y="10756"/>
                  <a:pt x="13620" y="10796"/>
                  <a:pt x="13617" y="10820"/>
                </a:cubicBezTo>
                <a:cubicBezTo>
                  <a:pt x="13611" y="10868"/>
                  <a:pt x="13609" y="10917"/>
                  <a:pt x="13607" y="10965"/>
                </a:cubicBezTo>
                <a:cubicBezTo>
                  <a:pt x="13605" y="11007"/>
                  <a:pt x="13605" y="11050"/>
                  <a:pt x="13613" y="11092"/>
                </a:cubicBezTo>
                <a:cubicBezTo>
                  <a:pt x="13619" y="11121"/>
                  <a:pt x="13640" y="11145"/>
                  <a:pt x="13664" y="11161"/>
                </a:cubicBezTo>
                <a:cubicBezTo>
                  <a:pt x="13670" y="11164"/>
                  <a:pt x="13675" y="11167"/>
                  <a:pt x="13681" y="11170"/>
                </a:cubicBezTo>
              </a:path>
              <a:path w="2481" h="642">
                <a:moveTo>
                  <a:pt x="14818" y="10679"/>
                </a:moveTo>
                <a:cubicBezTo>
                  <a:pt x="14797" y="10688"/>
                  <a:pt x="14793" y="10693"/>
                  <a:pt x="14783" y="10718"/>
                </a:cubicBezTo>
                <a:cubicBezTo>
                  <a:pt x="14764" y="10764"/>
                  <a:pt x="14751" y="10811"/>
                  <a:pt x="14737" y="10859"/>
                </a:cubicBezTo>
                <a:cubicBezTo>
                  <a:pt x="14718" y="10925"/>
                  <a:pt x="14701" y="10991"/>
                  <a:pt x="14681" y="11057"/>
                </a:cubicBezTo>
                <a:cubicBezTo>
                  <a:pt x="14663" y="11115"/>
                  <a:pt x="14647" y="11174"/>
                  <a:pt x="14632" y="11233"/>
                </a:cubicBezTo>
                <a:cubicBezTo>
                  <a:pt x="14626" y="11258"/>
                  <a:pt x="14625" y="11258"/>
                  <a:pt x="14636" y="11279"/>
                </a:cubicBezTo>
                <a:cubicBezTo>
                  <a:pt x="14655" y="11258"/>
                  <a:pt x="14673" y="11238"/>
                  <a:pt x="14691" y="11215"/>
                </a:cubicBezTo>
              </a:path>
              <a:path w="2481" h="642">
                <a:moveTo>
                  <a:pt x="14918" y="10972"/>
                </a:moveTo>
                <a:cubicBezTo>
                  <a:pt x="14928" y="10996"/>
                  <a:pt x="14919" y="11000"/>
                  <a:pt x="14912" y="11023"/>
                </a:cubicBezTo>
                <a:cubicBezTo>
                  <a:pt x="14905" y="11045"/>
                  <a:pt x="14904" y="11061"/>
                  <a:pt x="14911" y="11082"/>
                </a:cubicBezTo>
                <a:cubicBezTo>
                  <a:pt x="14938" y="11075"/>
                  <a:pt x="14945" y="11066"/>
                  <a:pt x="14957" y="11041"/>
                </a:cubicBezTo>
                <a:cubicBezTo>
                  <a:pt x="14964" y="11026"/>
                  <a:pt x="14971" y="11006"/>
                  <a:pt x="14963" y="10990"/>
                </a:cubicBezTo>
                <a:cubicBezTo>
                  <a:pt x="14953" y="10978"/>
                  <a:pt x="14950" y="10974"/>
                  <a:pt x="14967" y="10972"/>
                </a:cubicBezTo>
              </a:path>
              <a:path w="2481" h="642">
                <a:moveTo>
                  <a:pt x="15299" y="10764"/>
                </a:moveTo>
                <a:cubicBezTo>
                  <a:pt x="15309" y="10755"/>
                  <a:pt x="15312" y="10752"/>
                  <a:pt x="15317" y="10745"/>
                </a:cubicBezTo>
                <a:cubicBezTo>
                  <a:pt x="15330" y="10781"/>
                  <a:pt x="15319" y="10807"/>
                  <a:pt x="15307" y="10846"/>
                </a:cubicBezTo>
                <a:cubicBezTo>
                  <a:pt x="15288" y="10907"/>
                  <a:pt x="15265" y="10966"/>
                  <a:pt x="15245" y="11026"/>
                </a:cubicBezTo>
                <a:cubicBezTo>
                  <a:pt x="15229" y="11072"/>
                  <a:pt x="15210" y="11119"/>
                  <a:pt x="15204" y="11168"/>
                </a:cubicBezTo>
                <a:cubicBezTo>
                  <a:pt x="15201" y="11195"/>
                  <a:pt x="15207" y="11213"/>
                  <a:pt x="15236" y="11214"/>
                </a:cubicBezTo>
                <a:cubicBezTo>
                  <a:pt x="15297" y="11216"/>
                  <a:pt x="15359" y="11184"/>
                  <a:pt x="15414" y="11164"/>
                </a:cubicBezTo>
                <a:cubicBezTo>
                  <a:pt x="15476" y="11141"/>
                  <a:pt x="15540" y="11119"/>
                  <a:pt x="15603" y="11099"/>
                </a:cubicBezTo>
                <a:cubicBezTo>
                  <a:pt x="15640" y="11088"/>
                  <a:pt x="15674" y="11075"/>
                  <a:pt x="15710" y="11060"/>
                </a:cubicBezTo>
                <a:cubicBezTo>
                  <a:pt x="15713" y="11059"/>
                  <a:pt x="15717" y="11057"/>
                  <a:pt x="15720" y="11056"/>
                </a:cubicBezTo>
              </a:path>
              <a:path w="2481" h="642">
                <a:moveTo>
                  <a:pt x="15593" y="10868"/>
                </a:moveTo>
                <a:cubicBezTo>
                  <a:pt x="15575" y="10898"/>
                  <a:pt x="15553" y="10931"/>
                  <a:pt x="15542" y="10964"/>
                </a:cubicBezTo>
                <a:cubicBezTo>
                  <a:pt x="15524" y="11019"/>
                  <a:pt x="15505" y="11090"/>
                  <a:pt x="15513" y="11149"/>
                </a:cubicBezTo>
                <a:cubicBezTo>
                  <a:pt x="15519" y="11192"/>
                  <a:pt x="15541" y="11226"/>
                  <a:pt x="15581" y="11243"/>
                </a:cubicBezTo>
                <a:cubicBezTo>
                  <a:pt x="15591" y="11246"/>
                  <a:pt x="15602" y="11249"/>
                  <a:pt x="15612" y="11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36"/>
          <p:cNvSpPr/>
          <p:nvPr/>
        </p:nvSpPr>
        <p:spPr>
          <a:xfrm>
            <a:off x="5807160" y="3879720"/>
            <a:ext cx="390600" cy="254160"/>
          </a:xfrm>
          <a:custGeom>
            <a:avLst/>
            <a:gdLst/>
            <a:ahLst/>
            <a:rect l="l" t="t" r="r" b="b"/>
            <a:pathLst>
              <a:path w="1085" h="707">
                <a:moveTo>
                  <a:pt x="16241" y="10789"/>
                </a:moveTo>
                <a:cubicBezTo>
                  <a:pt x="16238" y="10785"/>
                  <a:pt x="16234" y="10781"/>
                  <a:pt x="16231" y="10777"/>
                </a:cubicBezTo>
                <a:cubicBezTo>
                  <a:pt x="16199" y="10801"/>
                  <a:pt x="16197" y="10831"/>
                  <a:pt x="16184" y="10871"/>
                </a:cubicBezTo>
                <a:cubicBezTo>
                  <a:pt x="16165" y="10930"/>
                  <a:pt x="16150" y="10989"/>
                  <a:pt x="16140" y="11051"/>
                </a:cubicBezTo>
                <a:cubicBezTo>
                  <a:pt x="16133" y="11093"/>
                  <a:pt x="16120" y="11155"/>
                  <a:pt x="16137" y="11196"/>
                </a:cubicBezTo>
                <a:cubicBezTo>
                  <a:pt x="16153" y="11235"/>
                  <a:pt x="16186" y="11242"/>
                  <a:pt x="16222" y="11245"/>
                </a:cubicBezTo>
              </a:path>
              <a:path w="1085" h="707">
                <a:moveTo>
                  <a:pt x="16521" y="11086"/>
                </a:moveTo>
                <a:cubicBezTo>
                  <a:pt x="16505" y="11068"/>
                  <a:pt x="16490" y="11059"/>
                  <a:pt x="16464" y="11061"/>
                </a:cubicBezTo>
                <a:cubicBezTo>
                  <a:pt x="16434" y="11063"/>
                  <a:pt x="16402" y="11078"/>
                  <a:pt x="16381" y="11100"/>
                </a:cubicBezTo>
                <a:cubicBezTo>
                  <a:pt x="16358" y="11124"/>
                  <a:pt x="16353" y="11143"/>
                  <a:pt x="16363" y="11172"/>
                </a:cubicBezTo>
                <a:cubicBezTo>
                  <a:pt x="16409" y="11186"/>
                  <a:pt x="16441" y="11179"/>
                  <a:pt x="16487" y="11162"/>
                </a:cubicBezTo>
                <a:cubicBezTo>
                  <a:pt x="16551" y="11138"/>
                  <a:pt x="16610" y="11099"/>
                  <a:pt x="16659" y="11050"/>
                </a:cubicBezTo>
                <a:cubicBezTo>
                  <a:pt x="16695" y="11014"/>
                  <a:pt x="16726" y="10968"/>
                  <a:pt x="16738" y="10918"/>
                </a:cubicBezTo>
                <a:cubicBezTo>
                  <a:pt x="16741" y="10896"/>
                  <a:pt x="16743" y="10890"/>
                  <a:pt x="16732" y="10880"/>
                </a:cubicBezTo>
                <a:cubicBezTo>
                  <a:pt x="16704" y="10892"/>
                  <a:pt x="16689" y="10901"/>
                  <a:pt x="16671" y="10935"/>
                </a:cubicBezTo>
                <a:cubicBezTo>
                  <a:pt x="16642" y="10989"/>
                  <a:pt x="16634" y="11043"/>
                  <a:pt x="16632" y="11103"/>
                </a:cubicBezTo>
                <a:cubicBezTo>
                  <a:pt x="16630" y="11164"/>
                  <a:pt x="16656" y="11198"/>
                  <a:pt x="16692" y="11244"/>
                </a:cubicBezTo>
              </a:path>
              <a:path w="1085" h="707">
                <a:moveTo>
                  <a:pt x="16842" y="11347"/>
                </a:moveTo>
                <a:cubicBezTo>
                  <a:pt x="16847" y="11374"/>
                  <a:pt x="16848" y="11412"/>
                  <a:pt x="16836" y="11438"/>
                </a:cubicBezTo>
                <a:cubicBezTo>
                  <a:pt x="16828" y="11455"/>
                  <a:pt x="16816" y="11471"/>
                  <a:pt x="16804" y="11483"/>
                </a:cubicBezTo>
                <a:cubicBezTo>
                  <a:pt x="16807" y="11443"/>
                  <a:pt x="16827" y="11408"/>
                  <a:pt x="16845" y="11371"/>
                </a:cubicBezTo>
                <a:cubicBezTo>
                  <a:pt x="16879" y="11300"/>
                  <a:pt x="16921" y="11234"/>
                  <a:pt x="16972" y="11174"/>
                </a:cubicBezTo>
                <a:cubicBezTo>
                  <a:pt x="17015" y="11123"/>
                  <a:pt x="17072" y="11063"/>
                  <a:pt x="17136" y="11038"/>
                </a:cubicBezTo>
                <a:cubicBezTo>
                  <a:pt x="17166" y="11026"/>
                  <a:pt x="17214" y="11024"/>
                  <a:pt x="17214" y="11068"/>
                </a:cubicBezTo>
                <a:cubicBezTo>
                  <a:pt x="17214" y="11118"/>
                  <a:pt x="17161" y="11168"/>
                  <a:pt x="17125" y="11195"/>
                </a:cubicBezTo>
                <a:cubicBezTo>
                  <a:pt x="17077" y="11231"/>
                  <a:pt x="17009" y="11264"/>
                  <a:pt x="16948" y="11269"/>
                </a:cubicBezTo>
                <a:cubicBezTo>
                  <a:pt x="16900" y="11273"/>
                  <a:pt x="16843" y="11267"/>
                  <a:pt x="16796" y="11257"/>
                </a:cubicBezTo>
                <a:cubicBezTo>
                  <a:pt x="16785" y="11254"/>
                  <a:pt x="16774" y="11251"/>
                  <a:pt x="16763" y="112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37"/>
          <p:cNvSpPr/>
          <p:nvPr/>
        </p:nvSpPr>
        <p:spPr>
          <a:xfrm>
            <a:off x="4446720" y="4689360"/>
            <a:ext cx="787320" cy="411120"/>
          </a:xfrm>
          <a:custGeom>
            <a:avLst/>
            <a:gdLst/>
            <a:ahLst/>
            <a:rect l="l" t="t" r="r" b="b"/>
            <a:pathLst>
              <a:path w="2187" h="1139">
                <a:moveTo>
                  <a:pt x="12589" y="13105"/>
                </a:moveTo>
                <a:cubicBezTo>
                  <a:pt x="12590" y="13102"/>
                  <a:pt x="12590" y="13098"/>
                  <a:pt x="12591" y="13095"/>
                </a:cubicBezTo>
                <a:cubicBezTo>
                  <a:pt x="12575" y="13097"/>
                  <a:pt x="12581" y="13109"/>
                  <a:pt x="12578" y="13127"/>
                </a:cubicBezTo>
                <a:cubicBezTo>
                  <a:pt x="12573" y="13156"/>
                  <a:pt x="12571" y="13185"/>
                  <a:pt x="12571" y="13214"/>
                </a:cubicBezTo>
                <a:cubicBezTo>
                  <a:pt x="12571" y="13232"/>
                  <a:pt x="12569" y="13263"/>
                  <a:pt x="12581" y="13279"/>
                </a:cubicBezTo>
                <a:cubicBezTo>
                  <a:pt x="12595" y="13297"/>
                  <a:pt x="12619" y="13285"/>
                  <a:pt x="12635" y="13279"/>
                </a:cubicBezTo>
              </a:path>
              <a:path w="2187" h="1139">
                <a:moveTo>
                  <a:pt x="12907" y="13057"/>
                </a:moveTo>
                <a:cubicBezTo>
                  <a:pt x="12902" y="13032"/>
                  <a:pt x="12884" y="13050"/>
                  <a:pt x="12865" y="13062"/>
                </a:cubicBezTo>
                <a:cubicBezTo>
                  <a:pt x="12844" y="13076"/>
                  <a:pt x="12823" y="13094"/>
                  <a:pt x="12816" y="13120"/>
                </a:cubicBezTo>
                <a:cubicBezTo>
                  <a:pt x="12808" y="13148"/>
                  <a:pt x="12829" y="13169"/>
                  <a:pt x="12851" y="13183"/>
                </a:cubicBezTo>
                <a:cubicBezTo>
                  <a:pt x="12885" y="13205"/>
                  <a:pt x="12923" y="13220"/>
                  <a:pt x="12956" y="13244"/>
                </a:cubicBezTo>
                <a:cubicBezTo>
                  <a:pt x="12982" y="13263"/>
                  <a:pt x="13010" y="13294"/>
                  <a:pt x="13008" y="13329"/>
                </a:cubicBezTo>
                <a:cubicBezTo>
                  <a:pt x="13006" y="13366"/>
                  <a:pt x="12973" y="13393"/>
                  <a:pt x="12943" y="13409"/>
                </a:cubicBezTo>
                <a:cubicBezTo>
                  <a:pt x="12913" y="13425"/>
                  <a:pt x="12873" y="13435"/>
                  <a:pt x="12842" y="13419"/>
                </a:cubicBezTo>
                <a:cubicBezTo>
                  <a:pt x="12808" y="13402"/>
                  <a:pt x="12818" y="13358"/>
                  <a:pt x="12830" y="13330"/>
                </a:cubicBezTo>
                <a:cubicBezTo>
                  <a:pt x="12851" y="13279"/>
                  <a:pt x="12890" y="13233"/>
                  <a:pt x="12924" y="13191"/>
                </a:cubicBezTo>
                <a:cubicBezTo>
                  <a:pt x="12956" y="13151"/>
                  <a:pt x="12994" y="13113"/>
                  <a:pt x="13021" y="13070"/>
                </a:cubicBezTo>
                <a:cubicBezTo>
                  <a:pt x="13029" y="13053"/>
                  <a:pt x="13032" y="13048"/>
                  <a:pt x="13032" y="13036"/>
                </a:cubicBezTo>
                <a:cubicBezTo>
                  <a:pt x="12997" y="13026"/>
                  <a:pt x="12977" y="13033"/>
                  <a:pt x="12943" y="13049"/>
                </a:cubicBezTo>
                <a:cubicBezTo>
                  <a:pt x="12912" y="13064"/>
                  <a:pt x="12888" y="13082"/>
                  <a:pt x="12861" y="13103"/>
                </a:cubicBezTo>
              </a:path>
              <a:path w="2187" h="1139">
                <a:moveTo>
                  <a:pt x="12350" y="13559"/>
                </a:moveTo>
                <a:cubicBezTo>
                  <a:pt x="12369" y="13540"/>
                  <a:pt x="12402" y="13534"/>
                  <a:pt x="12432" y="13525"/>
                </a:cubicBezTo>
                <a:cubicBezTo>
                  <a:pt x="12498" y="13505"/>
                  <a:pt x="12567" y="13495"/>
                  <a:pt x="12635" y="13487"/>
                </a:cubicBezTo>
                <a:cubicBezTo>
                  <a:pt x="12760" y="13473"/>
                  <a:pt x="12886" y="13469"/>
                  <a:pt x="13011" y="13479"/>
                </a:cubicBezTo>
                <a:cubicBezTo>
                  <a:pt x="13041" y="13481"/>
                  <a:pt x="13073" y="13488"/>
                  <a:pt x="13102" y="13486"/>
                </a:cubicBezTo>
                <a:cubicBezTo>
                  <a:pt x="13113" y="13483"/>
                  <a:pt x="13115" y="13482"/>
                  <a:pt x="13100" y="13484"/>
                </a:cubicBezTo>
              </a:path>
              <a:path w="2187" h="1139">
                <a:moveTo>
                  <a:pt x="12535" y="13740"/>
                </a:moveTo>
                <a:cubicBezTo>
                  <a:pt x="12522" y="13744"/>
                  <a:pt x="12496" y="13747"/>
                  <a:pt x="12486" y="13756"/>
                </a:cubicBezTo>
                <a:cubicBezTo>
                  <a:pt x="12470" y="13770"/>
                  <a:pt x="12463" y="13789"/>
                  <a:pt x="12465" y="13810"/>
                </a:cubicBezTo>
                <a:cubicBezTo>
                  <a:pt x="12468" y="13841"/>
                  <a:pt x="12490" y="13866"/>
                  <a:pt x="12513" y="13886"/>
                </a:cubicBezTo>
                <a:cubicBezTo>
                  <a:pt x="12543" y="13912"/>
                  <a:pt x="12579" y="13927"/>
                  <a:pt x="12610" y="13950"/>
                </a:cubicBezTo>
                <a:cubicBezTo>
                  <a:pt x="12635" y="13968"/>
                  <a:pt x="12655" y="13988"/>
                  <a:pt x="12642" y="14020"/>
                </a:cubicBezTo>
                <a:cubicBezTo>
                  <a:pt x="12625" y="14061"/>
                  <a:pt x="12585" y="14082"/>
                  <a:pt x="12547" y="14098"/>
                </a:cubicBezTo>
                <a:cubicBezTo>
                  <a:pt x="12516" y="14111"/>
                  <a:pt x="12465" y="14125"/>
                  <a:pt x="12435" y="14100"/>
                </a:cubicBezTo>
                <a:cubicBezTo>
                  <a:pt x="12401" y="14071"/>
                  <a:pt x="12436" y="14018"/>
                  <a:pt x="12454" y="13991"/>
                </a:cubicBezTo>
                <a:cubicBezTo>
                  <a:pt x="12491" y="13934"/>
                  <a:pt x="12540" y="13885"/>
                  <a:pt x="12587" y="13837"/>
                </a:cubicBezTo>
                <a:cubicBezTo>
                  <a:pt x="12618" y="13806"/>
                  <a:pt x="12660" y="13769"/>
                  <a:pt x="12673" y="13725"/>
                </a:cubicBezTo>
                <a:cubicBezTo>
                  <a:pt x="12673" y="13720"/>
                  <a:pt x="12673" y="13716"/>
                  <a:pt x="12673" y="13711"/>
                </a:cubicBezTo>
                <a:cubicBezTo>
                  <a:pt x="12651" y="13695"/>
                  <a:pt x="12629" y="13698"/>
                  <a:pt x="12602" y="13706"/>
                </a:cubicBezTo>
                <a:cubicBezTo>
                  <a:pt x="12571" y="13715"/>
                  <a:pt x="12534" y="13727"/>
                  <a:pt x="12514" y="13754"/>
                </a:cubicBezTo>
                <a:cubicBezTo>
                  <a:pt x="12507" y="13769"/>
                  <a:pt x="12504" y="13773"/>
                  <a:pt x="12504" y="13784"/>
                </a:cubicBezTo>
              </a:path>
              <a:path w="2187" h="1139">
                <a:moveTo>
                  <a:pt x="12893" y="13711"/>
                </a:moveTo>
                <a:cubicBezTo>
                  <a:pt x="12912" y="13744"/>
                  <a:pt x="12900" y="13759"/>
                  <a:pt x="12893" y="13796"/>
                </a:cubicBezTo>
                <a:cubicBezTo>
                  <a:pt x="12884" y="13845"/>
                  <a:pt x="12872" y="13894"/>
                  <a:pt x="12865" y="13943"/>
                </a:cubicBezTo>
                <a:cubicBezTo>
                  <a:pt x="12862" y="13968"/>
                  <a:pt x="12852" y="14020"/>
                  <a:pt x="12877" y="14039"/>
                </a:cubicBezTo>
                <a:cubicBezTo>
                  <a:pt x="12902" y="14057"/>
                  <a:pt x="12947" y="14031"/>
                  <a:pt x="12969" y="14021"/>
                </a:cubicBezTo>
                <a:cubicBezTo>
                  <a:pt x="13016" y="13998"/>
                  <a:pt x="13058" y="13972"/>
                  <a:pt x="13100" y="13941"/>
                </a:cubicBezTo>
                <a:cubicBezTo>
                  <a:pt x="13124" y="13923"/>
                  <a:pt x="13145" y="13906"/>
                  <a:pt x="13166" y="13885"/>
                </a:cubicBezTo>
              </a:path>
              <a:path w="2187" h="1139">
                <a:moveTo>
                  <a:pt x="13069" y="13786"/>
                </a:moveTo>
                <a:cubicBezTo>
                  <a:pt x="13058" y="13823"/>
                  <a:pt x="13040" y="13862"/>
                  <a:pt x="13036" y="13901"/>
                </a:cubicBezTo>
                <a:cubicBezTo>
                  <a:pt x="13030" y="13953"/>
                  <a:pt x="13033" y="14002"/>
                  <a:pt x="13040" y="14053"/>
                </a:cubicBezTo>
                <a:cubicBezTo>
                  <a:pt x="13046" y="14099"/>
                  <a:pt x="13064" y="14129"/>
                  <a:pt x="13090" y="14166"/>
                </a:cubicBezTo>
              </a:path>
              <a:path w="2187" h="1139">
                <a:moveTo>
                  <a:pt x="13509" y="13468"/>
                </a:moveTo>
                <a:cubicBezTo>
                  <a:pt x="13495" y="13480"/>
                  <a:pt x="13486" y="13491"/>
                  <a:pt x="13472" y="13503"/>
                </a:cubicBezTo>
                <a:cubicBezTo>
                  <a:pt x="13446" y="13525"/>
                  <a:pt x="13423" y="13549"/>
                  <a:pt x="13400" y="13575"/>
                </a:cubicBezTo>
                <a:cubicBezTo>
                  <a:pt x="13374" y="13604"/>
                  <a:pt x="13350" y="13633"/>
                  <a:pt x="13323" y="13660"/>
                </a:cubicBezTo>
                <a:cubicBezTo>
                  <a:pt x="13307" y="13676"/>
                  <a:pt x="13307" y="13679"/>
                  <a:pt x="13287" y="13683"/>
                </a:cubicBezTo>
              </a:path>
              <a:path w="2187" h="1139">
                <a:moveTo>
                  <a:pt x="13321" y="13507"/>
                </a:moveTo>
                <a:cubicBezTo>
                  <a:pt x="13345" y="13500"/>
                  <a:pt x="13348" y="13503"/>
                  <a:pt x="13369" y="13517"/>
                </a:cubicBezTo>
                <a:cubicBezTo>
                  <a:pt x="13404" y="13540"/>
                  <a:pt x="13436" y="13568"/>
                  <a:pt x="13468" y="13594"/>
                </a:cubicBezTo>
                <a:cubicBezTo>
                  <a:pt x="13503" y="13623"/>
                  <a:pt x="13538" y="13655"/>
                  <a:pt x="13576" y="13681"/>
                </a:cubicBezTo>
                <a:cubicBezTo>
                  <a:pt x="13584" y="13686"/>
                  <a:pt x="13593" y="13690"/>
                  <a:pt x="13601" y="13695"/>
                </a:cubicBezTo>
              </a:path>
              <a:path w="2187" h="1139">
                <a:moveTo>
                  <a:pt x="13850" y="13357"/>
                </a:moveTo>
                <a:cubicBezTo>
                  <a:pt x="13851" y="13352"/>
                  <a:pt x="13852" y="13347"/>
                  <a:pt x="13853" y="13342"/>
                </a:cubicBezTo>
                <a:cubicBezTo>
                  <a:pt x="13859" y="13387"/>
                  <a:pt x="13850" y="13432"/>
                  <a:pt x="13847" y="13478"/>
                </a:cubicBezTo>
                <a:cubicBezTo>
                  <a:pt x="13843" y="13534"/>
                  <a:pt x="13840" y="13589"/>
                  <a:pt x="13839" y="13645"/>
                </a:cubicBezTo>
                <a:cubicBezTo>
                  <a:pt x="13839" y="13662"/>
                  <a:pt x="13833" y="13710"/>
                  <a:pt x="13856" y="13718"/>
                </a:cubicBezTo>
                <a:cubicBezTo>
                  <a:pt x="13859" y="13718"/>
                  <a:pt x="13863" y="13717"/>
                  <a:pt x="13866" y="13717"/>
                </a:cubicBezTo>
              </a:path>
              <a:path w="2187" h="1139">
                <a:moveTo>
                  <a:pt x="14000" y="13466"/>
                </a:moveTo>
                <a:cubicBezTo>
                  <a:pt x="13977" y="13487"/>
                  <a:pt x="13969" y="13514"/>
                  <a:pt x="13961" y="13545"/>
                </a:cubicBezTo>
                <a:cubicBezTo>
                  <a:pt x="13953" y="13577"/>
                  <a:pt x="13944" y="13622"/>
                  <a:pt x="13964" y="13652"/>
                </a:cubicBezTo>
                <a:cubicBezTo>
                  <a:pt x="13984" y="13681"/>
                  <a:pt x="14030" y="13654"/>
                  <a:pt x="14050" y="13641"/>
                </a:cubicBezTo>
                <a:cubicBezTo>
                  <a:pt x="14090" y="13616"/>
                  <a:pt x="14127" y="13578"/>
                  <a:pt x="14151" y="13537"/>
                </a:cubicBezTo>
                <a:cubicBezTo>
                  <a:pt x="14168" y="13508"/>
                  <a:pt x="14183" y="13472"/>
                  <a:pt x="14168" y="13439"/>
                </a:cubicBezTo>
                <a:cubicBezTo>
                  <a:pt x="14157" y="13415"/>
                  <a:pt x="14128" y="13404"/>
                  <a:pt x="14103" y="13406"/>
                </a:cubicBezTo>
                <a:cubicBezTo>
                  <a:pt x="14084" y="13407"/>
                  <a:pt x="14058" y="13416"/>
                  <a:pt x="14056" y="13439"/>
                </a:cubicBezTo>
                <a:cubicBezTo>
                  <a:pt x="14054" y="13461"/>
                  <a:pt x="14076" y="13464"/>
                  <a:pt x="14090" y="13471"/>
                </a:cubicBezTo>
              </a:path>
              <a:path w="2187" h="1139">
                <a:moveTo>
                  <a:pt x="14307" y="13408"/>
                </a:moveTo>
                <a:cubicBezTo>
                  <a:pt x="14324" y="13401"/>
                  <a:pt x="14328" y="13399"/>
                  <a:pt x="14339" y="13400"/>
                </a:cubicBezTo>
                <a:cubicBezTo>
                  <a:pt x="14344" y="13439"/>
                  <a:pt x="14333" y="13470"/>
                  <a:pt x="14330" y="13511"/>
                </a:cubicBezTo>
                <a:cubicBezTo>
                  <a:pt x="14328" y="13541"/>
                  <a:pt x="14326" y="13591"/>
                  <a:pt x="14361" y="13604"/>
                </a:cubicBezTo>
                <a:cubicBezTo>
                  <a:pt x="14397" y="13618"/>
                  <a:pt x="14441" y="13583"/>
                  <a:pt x="14467" y="13564"/>
                </a:cubicBezTo>
                <a:cubicBezTo>
                  <a:pt x="14500" y="13539"/>
                  <a:pt x="14529" y="13506"/>
                  <a:pt x="14536" y="13465"/>
                </a:cubicBezTo>
                <a:cubicBezTo>
                  <a:pt x="14541" y="13434"/>
                  <a:pt x="14517" y="13421"/>
                  <a:pt x="14491" y="13414"/>
                </a:cubicBezTo>
                <a:cubicBezTo>
                  <a:pt x="14485" y="13412"/>
                  <a:pt x="14428" y="13412"/>
                  <a:pt x="14431" y="13430"/>
                </a:cubicBezTo>
                <a:cubicBezTo>
                  <a:pt x="14435" y="13434"/>
                  <a:pt x="14438" y="13439"/>
                  <a:pt x="14442" y="13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38"/>
          <p:cNvSpPr/>
          <p:nvPr/>
        </p:nvSpPr>
        <p:spPr>
          <a:xfrm>
            <a:off x="5416560" y="4832280"/>
            <a:ext cx="139680" cy="69840"/>
          </a:xfrm>
          <a:custGeom>
            <a:avLst/>
            <a:gdLst/>
            <a:ahLst/>
            <a:rect l="l" t="t" r="r" b="b"/>
            <a:pathLst>
              <a:path w="389" h="195">
                <a:moveTo>
                  <a:pt x="15047" y="13430"/>
                </a:moveTo>
                <a:cubicBezTo>
                  <a:pt x="15069" y="13428"/>
                  <a:pt x="15091" y="13428"/>
                  <a:pt x="15114" y="13426"/>
                </a:cubicBezTo>
                <a:cubicBezTo>
                  <a:pt x="15150" y="13423"/>
                  <a:pt x="15192" y="13415"/>
                  <a:pt x="15227" y="13421"/>
                </a:cubicBezTo>
                <a:cubicBezTo>
                  <a:pt x="15252" y="13425"/>
                  <a:pt x="15293" y="13436"/>
                  <a:pt x="15304" y="13463"/>
                </a:cubicBezTo>
                <a:cubicBezTo>
                  <a:pt x="15305" y="13468"/>
                  <a:pt x="15305" y="13473"/>
                  <a:pt x="15306" y="13478"/>
                </a:cubicBezTo>
              </a:path>
              <a:path w="389" h="195">
                <a:moveTo>
                  <a:pt x="15063" y="13615"/>
                </a:moveTo>
                <a:cubicBezTo>
                  <a:pt x="15099" y="13591"/>
                  <a:pt x="15139" y="13573"/>
                  <a:pt x="15182" y="13563"/>
                </a:cubicBezTo>
                <a:cubicBezTo>
                  <a:pt x="15238" y="13550"/>
                  <a:pt x="15296" y="13533"/>
                  <a:pt x="15355" y="13538"/>
                </a:cubicBezTo>
                <a:cubicBezTo>
                  <a:pt x="15396" y="13545"/>
                  <a:pt x="15408" y="13547"/>
                  <a:pt x="15435" y="13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39"/>
          <p:cNvSpPr/>
          <p:nvPr/>
        </p:nvSpPr>
        <p:spPr>
          <a:xfrm>
            <a:off x="5857920" y="4711680"/>
            <a:ext cx="814320" cy="217440"/>
          </a:xfrm>
          <a:custGeom>
            <a:avLst/>
            <a:gdLst/>
            <a:ahLst/>
            <a:rect l="l" t="t" r="r" b="b"/>
            <a:pathLst>
              <a:path w="2263" h="603">
                <a:moveTo>
                  <a:pt x="16273" y="13324"/>
                </a:moveTo>
                <a:cubicBezTo>
                  <a:pt x="16283" y="13300"/>
                  <a:pt x="16294" y="13282"/>
                  <a:pt x="16319" y="13270"/>
                </a:cubicBezTo>
                <a:cubicBezTo>
                  <a:pt x="16345" y="13257"/>
                  <a:pt x="16384" y="13247"/>
                  <a:pt x="16414" y="13251"/>
                </a:cubicBezTo>
                <a:cubicBezTo>
                  <a:pt x="16445" y="13255"/>
                  <a:pt x="16470" y="13276"/>
                  <a:pt x="16474" y="13308"/>
                </a:cubicBezTo>
                <a:cubicBezTo>
                  <a:pt x="16480" y="13354"/>
                  <a:pt x="16452" y="13403"/>
                  <a:pt x="16430" y="13441"/>
                </a:cubicBezTo>
                <a:cubicBezTo>
                  <a:pt x="16401" y="13491"/>
                  <a:pt x="16367" y="13538"/>
                  <a:pt x="16330" y="13582"/>
                </a:cubicBezTo>
                <a:cubicBezTo>
                  <a:pt x="16310" y="13605"/>
                  <a:pt x="16288" y="13625"/>
                  <a:pt x="16276" y="13652"/>
                </a:cubicBezTo>
                <a:cubicBezTo>
                  <a:pt x="16349" y="13627"/>
                  <a:pt x="16420" y="13598"/>
                  <a:pt x="16497" y="13586"/>
                </a:cubicBezTo>
                <a:cubicBezTo>
                  <a:pt x="16531" y="13580"/>
                  <a:pt x="16569" y="13580"/>
                  <a:pt x="16603" y="13586"/>
                </a:cubicBezTo>
                <a:cubicBezTo>
                  <a:pt x="16622" y="13589"/>
                  <a:pt x="16636" y="13588"/>
                  <a:pt x="16655" y="13585"/>
                </a:cubicBezTo>
              </a:path>
              <a:path w="2263" h="603">
                <a:moveTo>
                  <a:pt x="16886" y="13210"/>
                </a:moveTo>
                <a:cubicBezTo>
                  <a:pt x="16893" y="13209"/>
                  <a:pt x="16877" y="13246"/>
                  <a:pt x="16872" y="13270"/>
                </a:cubicBezTo>
                <a:cubicBezTo>
                  <a:pt x="16861" y="13318"/>
                  <a:pt x="16850" y="13365"/>
                  <a:pt x="16842" y="13413"/>
                </a:cubicBezTo>
                <a:cubicBezTo>
                  <a:pt x="16834" y="13460"/>
                  <a:pt x="16830" y="13507"/>
                  <a:pt x="16828" y="13554"/>
                </a:cubicBezTo>
                <a:cubicBezTo>
                  <a:pt x="16826" y="13594"/>
                  <a:pt x="16824" y="13635"/>
                  <a:pt x="16848" y="13668"/>
                </a:cubicBezTo>
                <a:cubicBezTo>
                  <a:pt x="16859" y="13650"/>
                  <a:pt x="16864" y="13641"/>
                  <a:pt x="16870" y="13621"/>
                </a:cubicBezTo>
              </a:path>
              <a:path w="2263" h="603">
                <a:moveTo>
                  <a:pt x="17078" y="13382"/>
                </a:moveTo>
                <a:cubicBezTo>
                  <a:pt x="17077" y="13402"/>
                  <a:pt x="17072" y="13414"/>
                  <a:pt x="17069" y="13432"/>
                </a:cubicBezTo>
                <a:cubicBezTo>
                  <a:pt x="17068" y="13438"/>
                  <a:pt x="17067" y="13443"/>
                  <a:pt x="17066" y="13449"/>
                </a:cubicBezTo>
                <a:cubicBezTo>
                  <a:pt x="17092" y="13430"/>
                  <a:pt x="17069" y="13430"/>
                  <a:pt x="17070" y="13405"/>
                </a:cubicBezTo>
                <a:cubicBezTo>
                  <a:pt x="17072" y="13401"/>
                  <a:pt x="17073" y="13397"/>
                  <a:pt x="17075" y="13393"/>
                </a:cubicBezTo>
              </a:path>
              <a:path w="2263" h="603">
                <a:moveTo>
                  <a:pt x="17470" y="13219"/>
                </a:moveTo>
                <a:cubicBezTo>
                  <a:pt x="17493" y="13180"/>
                  <a:pt x="17473" y="13219"/>
                  <a:pt x="17463" y="13237"/>
                </a:cubicBezTo>
                <a:cubicBezTo>
                  <a:pt x="17437" y="13286"/>
                  <a:pt x="17409" y="13333"/>
                  <a:pt x="17382" y="13382"/>
                </a:cubicBezTo>
                <a:cubicBezTo>
                  <a:pt x="17355" y="13431"/>
                  <a:pt x="17330" y="13480"/>
                  <a:pt x="17310" y="13532"/>
                </a:cubicBezTo>
                <a:cubicBezTo>
                  <a:pt x="17301" y="13557"/>
                  <a:pt x="17291" y="13584"/>
                  <a:pt x="17320" y="13597"/>
                </a:cubicBezTo>
                <a:cubicBezTo>
                  <a:pt x="17351" y="13611"/>
                  <a:pt x="17393" y="13589"/>
                  <a:pt x="17422" y="13580"/>
                </a:cubicBezTo>
                <a:cubicBezTo>
                  <a:pt x="17478" y="13562"/>
                  <a:pt x="17533" y="13542"/>
                  <a:pt x="17589" y="13524"/>
                </a:cubicBezTo>
                <a:cubicBezTo>
                  <a:pt x="17637" y="13508"/>
                  <a:pt x="17686" y="13495"/>
                  <a:pt x="17735" y="13483"/>
                </a:cubicBezTo>
                <a:cubicBezTo>
                  <a:pt x="17747" y="13480"/>
                  <a:pt x="17806" y="13477"/>
                  <a:pt x="17770" y="13471"/>
                </a:cubicBezTo>
                <a:cubicBezTo>
                  <a:pt x="17765" y="13470"/>
                  <a:pt x="17759" y="13469"/>
                  <a:pt x="17754" y="13468"/>
                </a:cubicBezTo>
              </a:path>
              <a:path w="2263" h="603">
                <a:moveTo>
                  <a:pt x="17572" y="13350"/>
                </a:moveTo>
                <a:cubicBezTo>
                  <a:pt x="17548" y="13357"/>
                  <a:pt x="17552" y="13375"/>
                  <a:pt x="17550" y="13401"/>
                </a:cubicBezTo>
                <a:cubicBezTo>
                  <a:pt x="17547" y="13444"/>
                  <a:pt x="17547" y="13490"/>
                  <a:pt x="17554" y="13533"/>
                </a:cubicBezTo>
                <a:cubicBezTo>
                  <a:pt x="17560" y="13569"/>
                  <a:pt x="17568" y="13614"/>
                  <a:pt x="17607" y="13629"/>
                </a:cubicBezTo>
                <a:cubicBezTo>
                  <a:pt x="17639" y="13642"/>
                  <a:pt x="17670" y="13622"/>
                  <a:pt x="17698" y="13611"/>
                </a:cubicBezTo>
              </a:path>
              <a:path w="2263" h="603">
                <a:moveTo>
                  <a:pt x="18089" y="13089"/>
                </a:moveTo>
                <a:cubicBezTo>
                  <a:pt x="18070" y="13112"/>
                  <a:pt x="18051" y="13134"/>
                  <a:pt x="18048" y="13165"/>
                </a:cubicBezTo>
                <a:cubicBezTo>
                  <a:pt x="18044" y="13199"/>
                  <a:pt x="18068" y="13216"/>
                  <a:pt x="18099" y="13220"/>
                </a:cubicBezTo>
                <a:cubicBezTo>
                  <a:pt x="18138" y="13225"/>
                  <a:pt x="18178" y="13207"/>
                  <a:pt x="18208" y="13184"/>
                </a:cubicBezTo>
                <a:cubicBezTo>
                  <a:pt x="18232" y="13165"/>
                  <a:pt x="18255" y="13141"/>
                  <a:pt x="18244" y="13109"/>
                </a:cubicBezTo>
                <a:cubicBezTo>
                  <a:pt x="18234" y="13078"/>
                  <a:pt x="18193" y="13087"/>
                  <a:pt x="18170" y="13092"/>
                </a:cubicBezTo>
                <a:cubicBezTo>
                  <a:pt x="18137" y="13099"/>
                  <a:pt x="18096" y="13121"/>
                  <a:pt x="18080" y="13152"/>
                </a:cubicBezTo>
                <a:cubicBezTo>
                  <a:pt x="18067" y="13178"/>
                  <a:pt x="18088" y="13183"/>
                  <a:pt x="18105" y="13193"/>
                </a:cubicBezTo>
              </a:path>
              <a:path w="2263" h="603">
                <a:moveTo>
                  <a:pt x="18493" y="13142"/>
                </a:moveTo>
                <a:cubicBezTo>
                  <a:pt x="18465" y="13198"/>
                  <a:pt x="18425" y="13238"/>
                  <a:pt x="18381" y="13283"/>
                </a:cubicBezTo>
                <a:cubicBezTo>
                  <a:pt x="18309" y="13356"/>
                  <a:pt x="18234" y="13429"/>
                  <a:pt x="18171" y="13510"/>
                </a:cubicBezTo>
                <a:cubicBezTo>
                  <a:pt x="18141" y="13548"/>
                  <a:pt x="18077" y="13618"/>
                  <a:pt x="18102" y="13674"/>
                </a:cubicBezTo>
                <a:cubicBezTo>
                  <a:pt x="18116" y="13706"/>
                  <a:pt x="18165" y="13684"/>
                  <a:pt x="18185" y="13680"/>
                </a:cubicBezTo>
              </a:path>
              <a:path w="2263" h="603">
                <a:moveTo>
                  <a:pt x="18394" y="13522"/>
                </a:moveTo>
                <a:cubicBezTo>
                  <a:pt x="18372" y="13552"/>
                  <a:pt x="18351" y="13580"/>
                  <a:pt x="18343" y="13617"/>
                </a:cubicBezTo>
                <a:cubicBezTo>
                  <a:pt x="18334" y="13656"/>
                  <a:pt x="18374" y="13653"/>
                  <a:pt x="18401" y="13646"/>
                </a:cubicBezTo>
                <a:cubicBezTo>
                  <a:pt x="18444" y="13634"/>
                  <a:pt x="18489" y="13608"/>
                  <a:pt x="18518" y="13574"/>
                </a:cubicBezTo>
                <a:cubicBezTo>
                  <a:pt x="18538" y="13551"/>
                  <a:pt x="18544" y="13519"/>
                  <a:pt x="18509" y="13508"/>
                </a:cubicBezTo>
                <a:cubicBezTo>
                  <a:pt x="18473" y="13496"/>
                  <a:pt x="18430" y="13507"/>
                  <a:pt x="18394" y="13515"/>
                </a:cubicBezTo>
                <a:cubicBezTo>
                  <a:pt x="18377" y="13520"/>
                  <a:pt x="18373" y="13522"/>
                  <a:pt x="18362" y="13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40"/>
          <p:cNvSpPr/>
          <p:nvPr/>
        </p:nvSpPr>
        <p:spPr>
          <a:xfrm>
            <a:off x="6873840" y="4734000"/>
            <a:ext cx="966960" cy="162000"/>
          </a:xfrm>
          <a:custGeom>
            <a:avLst/>
            <a:gdLst/>
            <a:ahLst/>
            <a:rect l="l" t="t" r="r" b="b"/>
            <a:pathLst>
              <a:path w="2687" h="450">
                <a:moveTo>
                  <a:pt x="19330" y="13411"/>
                </a:moveTo>
                <a:cubicBezTo>
                  <a:pt x="19323" y="13380"/>
                  <a:pt x="19342" y="13383"/>
                  <a:pt x="19302" y="13357"/>
                </a:cubicBezTo>
                <a:cubicBezTo>
                  <a:pt x="19278" y="13341"/>
                  <a:pt x="19235" y="13355"/>
                  <a:pt x="19213" y="13367"/>
                </a:cubicBezTo>
                <a:cubicBezTo>
                  <a:pt x="19173" y="13389"/>
                  <a:pt x="19143" y="13427"/>
                  <a:pt x="19120" y="13465"/>
                </a:cubicBezTo>
                <a:cubicBezTo>
                  <a:pt x="19104" y="13493"/>
                  <a:pt x="19082" y="13537"/>
                  <a:pt x="19097" y="13570"/>
                </a:cubicBezTo>
                <a:cubicBezTo>
                  <a:pt x="19113" y="13605"/>
                  <a:pt x="19161" y="13579"/>
                  <a:pt x="19182" y="13568"/>
                </a:cubicBezTo>
                <a:cubicBezTo>
                  <a:pt x="19254" y="13530"/>
                  <a:pt x="19320" y="13465"/>
                  <a:pt x="19373" y="13404"/>
                </a:cubicBezTo>
                <a:cubicBezTo>
                  <a:pt x="19420" y="13350"/>
                  <a:pt x="19501" y="13244"/>
                  <a:pt x="19481" y="13164"/>
                </a:cubicBezTo>
                <a:cubicBezTo>
                  <a:pt x="19479" y="13160"/>
                  <a:pt x="19476" y="13156"/>
                  <a:pt x="19474" y="13152"/>
                </a:cubicBezTo>
                <a:cubicBezTo>
                  <a:pt x="19449" y="13165"/>
                  <a:pt x="19443" y="13172"/>
                  <a:pt x="19428" y="13202"/>
                </a:cubicBezTo>
                <a:cubicBezTo>
                  <a:pt x="19401" y="13254"/>
                  <a:pt x="19390" y="13309"/>
                  <a:pt x="19384" y="13367"/>
                </a:cubicBezTo>
                <a:cubicBezTo>
                  <a:pt x="19376" y="13436"/>
                  <a:pt x="19380" y="13500"/>
                  <a:pt x="19415" y="13560"/>
                </a:cubicBezTo>
                <a:cubicBezTo>
                  <a:pt x="19429" y="13584"/>
                  <a:pt x="19438" y="13590"/>
                  <a:pt x="19461" y="13600"/>
                </a:cubicBezTo>
              </a:path>
              <a:path w="2687" h="450">
                <a:moveTo>
                  <a:pt x="19564" y="13499"/>
                </a:moveTo>
                <a:cubicBezTo>
                  <a:pt x="19582" y="13507"/>
                  <a:pt x="19599" y="13510"/>
                  <a:pt x="19619" y="13503"/>
                </a:cubicBezTo>
                <a:cubicBezTo>
                  <a:pt x="19653" y="13490"/>
                  <a:pt x="19690" y="13468"/>
                  <a:pt x="19718" y="13445"/>
                </a:cubicBezTo>
                <a:cubicBezTo>
                  <a:pt x="19744" y="13423"/>
                  <a:pt x="19760" y="13406"/>
                  <a:pt x="19766" y="13373"/>
                </a:cubicBezTo>
                <a:cubicBezTo>
                  <a:pt x="19741" y="13349"/>
                  <a:pt x="19721" y="13351"/>
                  <a:pt x="19687" y="13359"/>
                </a:cubicBezTo>
                <a:cubicBezTo>
                  <a:pt x="19638" y="13371"/>
                  <a:pt x="19593" y="13398"/>
                  <a:pt x="19561" y="13437"/>
                </a:cubicBezTo>
                <a:cubicBezTo>
                  <a:pt x="19538" y="13465"/>
                  <a:pt x="19519" y="13508"/>
                  <a:pt x="19538" y="13543"/>
                </a:cubicBezTo>
                <a:cubicBezTo>
                  <a:pt x="19559" y="13582"/>
                  <a:pt x="19611" y="13579"/>
                  <a:pt x="19647" y="13579"/>
                </a:cubicBezTo>
                <a:cubicBezTo>
                  <a:pt x="19704" y="13579"/>
                  <a:pt x="19757" y="13571"/>
                  <a:pt x="19813" y="13559"/>
                </a:cubicBezTo>
              </a:path>
              <a:path w="2687" h="450">
                <a:moveTo>
                  <a:pt x="20051" y="13396"/>
                </a:moveTo>
                <a:cubicBezTo>
                  <a:pt x="20048" y="13375"/>
                  <a:pt x="20043" y="13355"/>
                  <a:pt x="20014" y="13359"/>
                </a:cubicBezTo>
                <a:cubicBezTo>
                  <a:pt x="19984" y="13363"/>
                  <a:pt x="19957" y="13391"/>
                  <a:pt x="19941" y="13415"/>
                </a:cubicBezTo>
                <a:cubicBezTo>
                  <a:pt x="19923" y="13442"/>
                  <a:pt x="19912" y="13481"/>
                  <a:pt x="19934" y="13509"/>
                </a:cubicBezTo>
                <a:cubicBezTo>
                  <a:pt x="19957" y="13539"/>
                  <a:pt x="20026" y="13544"/>
                  <a:pt x="20060" y="13543"/>
                </a:cubicBezTo>
                <a:cubicBezTo>
                  <a:pt x="20118" y="13540"/>
                  <a:pt x="20174" y="13520"/>
                  <a:pt x="20227" y="13500"/>
                </a:cubicBezTo>
              </a:path>
              <a:path w="2687" h="450">
                <a:moveTo>
                  <a:pt x="20283" y="13351"/>
                </a:moveTo>
                <a:cubicBezTo>
                  <a:pt x="20275" y="13376"/>
                  <a:pt x="20273" y="13390"/>
                  <a:pt x="20271" y="13415"/>
                </a:cubicBezTo>
                <a:cubicBezTo>
                  <a:pt x="20268" y="13445"/>
                  <a:pt x="20271" y="13473"/>
                  <a:pt x="20275" y="13503"/>
                </a:cubicBezTo>
                <a:cubicBezTo>
                  <a:pt x="20277" y="13519"/>
                  <a:pt x="20281" y="13532"/>
                  <a:pt x="20286" y="13547"/>
                </a:cubicBezTo>
                <a:cubicBezTo>
                  <a:pt x="20310" y="13533"/>
                  <a:pt x="20315" y="13528"/>
                  <a:pt x="20331" y="13495"/>
                </a:cubicBezTo>
                <a:cubicBezTo>
                  <a:pt x="20353" y="13450"/>
                  <a:pt x="20371" y="13404"/>
                  <a:pt x="20393" y="13359"/>
                </a:cubicBezTo>
                <a:cubicBezTo>
                  <a:pt x="20406" y="13332"/>
                  <a:pt x="20421" y="13291"/>
                  <a:pt x="20444" y="13271"/>
                </a:cubicBezTo>
                <a:cubicBezTo>
                  <a:pt x="20448" y="13269"/>
                  <a:pt x="20451" y="13268"/>
                  <a:pt x="20455" y="13266"/>
                </a:cubicBezTo>
                <a:cubicBezTo>
                  <a:pt x="20476" y="13289"/>
                  <a:pt x="20485" y="13322"/>
                  <a:pt x="20507" y="13344"/>
                </a:cubicBezTo>
                <a:cubicBezTo>
                  <a:pt x="20521" y="13359"/>
                  <a:pt x="20546" y="13374"/>
                  <a:pt x="20567" y="13376"/>
                </a:cubicBezTo>
                <a:cubicBezTo>
                  <a:pt x="20590" y="13378"/>
                  <a:pt x="20622" y="13369"/>
                  <a:pt x="20643" y="13361"/>
                </a:cubicBezTo>
                <a:cubicBezTo>
                  <a:pt x="20671" y="13350"/>
                  <a:pt x="20706" y="13338"/>
                  <a:pt x="20730" y="13320"/>
                </a:cubicBezTo>
                <a:cubicBezTo>
                  <a:pt x="20745" y="13309"/>
                  <a:pt x="20750" y="13295"/>
                  <a:pt x="20758" y="13283"/>
                </a:cubicBezTo>
                <a:cubicBezTo>
                  <a:pt x="20724" y="13266"/>
                  <a:pt x="20699" y="13273"/>
                  <a:pt x="20661" y="13286"/>
                </a:cubicBezTo>
                <a:cubicBezTo>
                  <a:pt x="20616" y="13301"/>
                  <a:pt x="20577" y="13327"/>
                  <a:pt x="20549" y="13365"/>
                </a:cubicBezTo>
                <a:cubicBezTo>
                  <a:pt x="20529" y="13391"/>
                  <a:pt x="20525" y="13421"/>
                  <a:pt x="20555" y="13441"/>
                </a:cubicBezTo>
                <a:cubicBezTo>
                  <a:pt x="20595" y="13467"/>
                  <a:pt x="20646" y="13462"/>
                  <a:pt x="20690" y="13461"/>
                </a:cubicBezTo>
                <a:cubicBezTo>
                  <a:pt x="20750" y="13459"/>
                  <a:pt x="20806" y="13450"/>
                  <a:pt x="20865" y="13437"/>
                </a:cubicBezTo>
              </a:path>
              <a:path w="2687" h="450">
                <a:moveTo>
                  <a:pt x="21050" y="13321"/>
                </a:moveTo>
                <a:cubicBezTo>
                  <a:pt x="21041" y="13291"/>
                  <a:pt x="21030" y="13280"/>
                  <a:pt x="20997" y="13281"/>
                </a:cubicBezTo>
                <a:cubicBezTo>
                  <a:pt x="20960" y="13282"/>
                  <a:pt x="20928" y="13302"/>
                  <a:pt x="20900" y="13325"/>
                </a:cubicBezTo>
                <a:cubicBezTo>
                  <a:pt x="20877" y="13344"/>
                  <a:pt x="20846" y="13377"/>
                  <a:pt x="20845" y="13410"/>
                </a:cubicBezTo>
                <a:cubicBezTo>
                  <a:pt x="20844" y="13438"/>
                  <a:pt x="20879" y="13445"/>
                  <a:pt x="20900" y="13443"/>
                </a:cubicBezTo>
                <a:cubicBezTo>
                  <a:pt x="20943" y="13438"/>
                  <a:pt x="20981" y="13416"/>
                  <a:pt x="21016" y="13393"/>
                </a:cubicBezTo>
                <a:cubicBezTo>
                  <a:pt x="21041" y="13377"/>
                  <a:pt x="21061" y="13359"/>
                  <a:pt x="21080" y="13335"/>
                </a:cubicBezTo>
                <a:cubicBezTo>
                  <a:pt x="21050" y="13361"/>
                  <a:pt x="21035" y="13384"/>
                  <a:pt x="21022" y="13422"/>
                </a:cubicBezTo>
                <a:cubicBezTo>
                  <a:pt x="21013" y="13448"/>
                  <a:pt x="21031" y="13466"/>
                  <a:pt x="21057" y="13470"/>
                </a:cubicBezTo>
                <a:cubicBezTo>
                  <a:pt x="21063" y="13470"/>
                  <a:pt x="21070" y="13469"/>
                  <a:pt x="21076" y="13469"/>
                </a:cubicBezTo>
              </a:path>
              <a:path w="2687" h="450">
                <a:moveTo>
                  <a:pt x="21289" y="13257"/>
                </a:moveTo>
                <a:cubicBezTo>
                  <a:pt x="21255" y="13249"/>
                  <a:pt x="21229" y="13255"/>
                  <a:pt x="21198" y="13279"/>
                </a:cubicBezTo>
                <a:cubicBezTo>
                  <a:pt x="21175" y="13297"/>
                  <a:pt x="21149" y="13330"/>
                  <a:pt x="21158" y="13362"/>
                </a:cubicBezTo>
                <a:cubicBezTo>
                  <a:pt x="21168" y="13397"/>
                  <a:pt x="21202" y="13427"/>
                  <a:pt x="21225" y="13453"/>
                </a:cubicBezTo>
                <a:cubicBezTo>
                  <a:pt x="21245" y="13475"/>
                  <a:pt x="21275" y="13503"/>
                  <a:pt x="21270" y="13536"/>
                </a:cubicBezTo>
                <a:cubicBezTo>
                  <a:pt x="21266" y="13564"/>
                  <a:pt x="21236" y="13574"/>
                  <a:pt x="21212" y="13575"/>
                </a:cubicBezTo>
                <a:cubicBezTo>
                  <a:pt x="21178" y="13576"/>
                  <a:pt x="21162" y="13568"/>
                  <a:pt x="21142" y="13544"/>
                </a:cubicBezTo>
                <a:cubicBezTo>
                  <a:pt x="21158" y="13518"/>
                  <a:pt x="21169" y="13506"/>
                  <a:pt x="21196" y="13488"/>
                </a:cubicBezTo>
                <a:cubicBezTo>
                  <a:pt x="21235" y="13461"/>
                  <a:pt x="21277" y="13441"/>
                  <a:pt x="21318" y="13418"/>
                </a:cubicBezTo>
                <a:cubicBezTo>
                  <a:pt x="21366" y="13391"/>
                  <a:pt x="21415" y="13366"/>
                  <a:pt x="21462" y="13338"/>
                </a:cubicBezTo>
                <a:cubicBezTo>
                  <a:pt x="21495" y="13318"/>
                  <a:pt x="21527" y="13298"/>
                  <a:pt x="21557" y="13274"/>
                </a:cubicBezTo>
                <a:cubicBezTo>
                  <a:pt x="21511" y="13275"/>
                  <a:pt x="21484" y="13291"/>
                  <a:pt x="21448" y="13322"/>
                </a:cubicBezTo>
                <a:cubicBezTo>
                  <a:pt x="21423" y="13344"/>
                  <a:pt x="21385" y="13387"/>
                  <a:pt x="21402" y="13424"/>
                </a:cubicBezTo>
                <a:cubicBezTo>
                  <a:pt x="21422" y="13467"/>
                  <a:pt x="21488" y="13469"/>
                  <a:pt x="21526" y="13477"/>
                </a:cubicBezTo>
                <a:cubicBezTo>
                  <a:pt x="21595" y="13491"/>
                  <a:pt x="21662" y="13493"/>
                  <a:pt x="21732" y="13486"/>
                </a:cubicBezTo>
                <a:cubicBezTo>
                  <a:pt x="21748" y="13484"/>
                  <a:pt x="21763" y="13481"/>
                  <a:pt x="21779" y="13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41"/>
          <p:cNvSpPr/>
          <p:nvPr/>
        </p:nvSpPr>
        <p:spPr>
          <a:xfrm>
            <a:off x="8016840" y="4659480"/>
            <a:ext cx="571680" cy="295200"/>
          </a:xfrm>
          <a:custGeom>
            <a:avLst/>
            <a:gdLst/>
            <a:ahLst/>
            <a:rect l="l" t="t" r="r" b="b"/>
            <a:pathLst>
              <a:path w="1587" h="817">
                <a:moveTo>
                  <a:pt x="22897" y="13118"/>
                </a:moveTo>
                <a:cubicBezTo>
                  <a:pt x="22872" y="13146"/>
                  <a:pt x="22868" y="13179"/>
                  <a:pt x="22859" y="13219"/>
                </a:cubicBezTo>
                <a:cubicBezTo>
                  <a:pt x="22846" y="13275"/>
                  <a:pt x="22833" y="13332"/>
                  <a:pt x="22827" y="13389"/>
                </a:cubicBezTo>
                <a:cubicBezTo>
                  <a:pt x="22823" y="13425"/>
                  <a:pt x="22812" y="13469"/>
                  <a:pt x="22824" y="13505"/>
                </a:cubicBezTo>
                <a:cubicBezTo>
                  <a:pt x="22833" y="13520"/>
                  <a:pt x="22834" y="13525"/>
                  <a:pt x="22846" y="13526"/>
                </a:cubicBezTo>
              </a:path>
              <a:path w="1587" h="817">
                <a:moveTo>
                  <a:pt x="23098" y="13408"/>
                </a:moveTo>
                <a:cubicBezTo>
                  <a:pt x="23082" y="13392"/>
                  <a:pt x="23079" y="13392"/>
                  <a:pt x="23054" y="13392"/>
                </a:cubicBezTo>
                <a:cubicBezTo>
                  <a:pt x="23024" y="13393"/>
                  <a:pt x="23001" y="13402"/>
                  <a:pt x="22978" y="13422"/>
                </a:cubicBezTo>
                <a:cubicBezTo>
                  <a:pt x="22957" y="13440"/>
                  <a:pt x="22935" y="13471"/>
                  <a:pt x="22943" y="13501"/>
                </a:cubicBezTo>
                <a:cubicBezTo>
                  <a:pt x="22946" y="13506"/>
                  <a:pt x="22949" y="13510"/>
                  <a:pt x="22952" y="13515"/>
                </a:cubicBezTo>
                <a:cubicBezTo>
                  <a:pt x="22996" y="13523"/>
                  <a:pt x="23020" y="13515"/>
                  <a:pt x="23059" y="13490"/>
                </a:cubicBezTo>
                <a:cubicBezTo>
                  <a:pt x="23118" y="13453"/>
                  <a:pt x="23168" y="13404"/>
                  <a:pt x="23212" y="13351"/>
                </a:cubicBezTo>
                <a:cubicBezTo>
                  <a:pt x="23245" y="13311"/>
                  <a:pt x="23272" y="13266"/>
                  <a:pt x="23279" y="13214"/>
                </a:cubicBezTo>
                <a:cubicBezTo>
                  <a:pt x="23279" y="13199"/>
                  <a:pt x="23280" y="13195"/>
                  <a:pt x="23271" y="13188"/>
                </a:cubicBezTo>
                <a:cubicBezTo>
                  <a:pt x="23234" y="13198"/>
                  <a:pt x="23214" y="13216"/>
                  <a:pt x="23195" y="13250"/>
                </a:cubicBezTo>
                <a:cubicBezTo>
                  <a:pt x="23164" y="13304"/>
                  <a:pt x="23152" y="13362"/>
                  <a:pt x="23146" y="13423"/>
                </a:cubicBezTo>
                <a:cubicBezTo>
                  <a:pt x="23141" y="13471"/>
                  <a:pt x="23145" y="13521"/>
                  <a:pt x="23172" y="13563"/>
                </a:cubicBezTo>
                <a:cubicBezTo>
                  <a:pt x="23178" y="13569"/>
                  <a:pt x="23183" y="13576"/>
                  <a:pt x="23189" y="13582"/>
                </a:cubicBezTo>
              </a:path>
              <a:path w="1587" h="817">
                <a:moveTo>
                  <a:pt x="23282" y="13626"/>
                </a:moveTo>
                <a:cubicBezTo>
                  <a:pt x="23274" y="13658"/>
                  <a:pt x="23258" y="13681"/>
                  <a:pt x="23244" y="13709"/>
                </a:cubicBezTo>
                <a:cubicBezTo>
                  <a:pt x="23236" y="13731"/>
                  <a:pt x="23235" y="13738"/>
                  <a:pt x="23222" y="13747"/>
                </a:cubicBezTo>
                <a:cubicBezTo>
                  <a:pt x="23199" y="13782"/>
                  <a:pt x="23241" y="13700"/>
                  <a:pt x="23242" y="13698"/>
                </a:cubicBezTo>
                <a:cubicBezTo>
                  <a:pt x="23278" y="13639"/>
                  <a:pt x="23315" y="13577"/>
                  <a:pt x="23356" y="13521"/>
                </a:cubicBezTo>
                <a:cubicBezTo>
                  <a:pt x="23408" y="13451"/>
                  <a:pt x="23469" y="13372"/>
                  <a:pt x="23551" y="13339"/>
                </a:cubicBezTo>
                <a:cubicBezTo>
                  <a:pt x="23573" y="13363"/>
                  <a:pt x="23571" y="13378"/>
                  <a:pt x="23553" y="13408"/>
                </a:cubicBezTo>
                <a:cubicBezTo>
                  <a:pt x="23530" y="13447"/>
                  <a:pt x="23491" y="13486"/>
                  <a:pt x="23447" y="13501"/>
                </a:cubicBezTo>
                <a:cubicBezTo>
                  <a:pt x="23423" y="13509"/>
                  <a:pt x="23402" y="13507"/>
                  <a:pt x="23379" y="13503"/>
                </a:cubicBezTo>
                <a:cubicBezTo>
                  <a:pt x="23373" y="13470"/>
                  <a:pt x="23378" y="13463"/>
                  <a:pt x="23392" y="13430"/>
                </a:cubicBezTo>
              </a:path>
              <a:path w="1587" h="817">
                <a:moveTo>
                  <a:pt x="23853" y="13104"/>
                </a:moveTo>
                <a:cubicBezTo>
                  <a:pt x="23855" y="13239"/>
                  <a:pt x="23817" y="13374"/>
                  <a:pt x="23760" y="13496"/>
                </a:cubicBezTo>
                <a:cubicBezTo>
                  <a:pt x="23723" y="13575"/>
                  <a:pt x="23678" y="13652"/>
                  <a:pt x="23605" y="13704"/>
                </a:cubicBezTo>
                <a:cubicBezTo>
                  <a:pt x="23554" y="13733"/>
                  <a:pt x="23537" y="13742"/>
                  <a:pt x="23499" y="13750"/>
                </a:cubicBezTo>
              </a:path>
              <a:path w="1587" h="817">
                <a:moveTo>
                  <a:pt x="22449" y="12944"/>
                </a:moveTo>
                <a:cubicBezTo>
                  <a:pt x="22403" y="13003"/>
                  <a:pt x="22355" y="13065"/>
                  <a:pt x="22324" y="13134"/>
                </a:cubicBezTo>
                <a:cubicBezTo>
                  <a:pt x="22286" y="13217"/>
                  <a:pt x="22264" y="13306"/>
                  <a:pt x="22278" y="13396"/>
                </a:cubicBezTo>
                <a:cubicBezTo>
                  <a:pt x="22289" y="13465"/>
                  <a:pt x="22320" y="13504"/>
                  <a:pt x="22360" y="13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42"/>
          <p:cNvSpPr/>
          <p:nvPr/>
        </p:nvSpPr>
        <p:spPr>
          <a:xfrm>
            <a:off x="6361200" y="5775480"/>
            <a:ext cx="637920" cy="83880"/>
          </a:xfrm>
          <a:custGeom>
            <a:avLst/>
            <a:gdLst/>
            <a:ahLst/>
            <a:rect l="l" t="t" r="r" b="b"/>
            <a:pathLst>
              <a:path w="1770" h="231">
                <a:moveTo>
                  <a:pt x="17692" y="16063"/>
                </a:moveTo>
                <a:cubicBezTo>
                  <a:pt x="17682" y="16052"/>
                  <a:pt x="17680" y="16049"/>
                  <a:pt x="17671" y="16046"/>
                </a:cubicBezTo>
                <a:cubicBezTo>
                  <a:pt x="17694" y="16048"/>
                  <a:pt x="17716" y="16048"/>
                  <a:pt x="17740" y="16052"/>
                </a:cubicBezTo>
                <a:cubicBezTo>
                  <a:pt x="17799" y="16061"/>
                  <a:pt x="17858" y="16072"/>
                  <a:pt x="17917" y="16081"/>
                </a:cubicBezTo>
                <a:cubicBezTo>
                  <a:pt x="18011" y="16096"/>
                  <a:pt x="18106" y="16106"/>
                  <a:pt x="18200" y="16118"/>
                </a:cubicBezTo>
                <a:cubicBezTo>
                  <a:pt x="18310" y="16131"/>
                  <a:pt x="18421" y="16140"/>
                  <a:pt x="18531" y="16149"/>
                </a:cubicBezTo>
                <a:cubicBezTo>
                  <a:pt x="18661" y="16160"/>
                  <a:pt x="18791" y="16169"/>
                  <a:pt x="18921" y="16178"/>
                </a:cubicBezTo>
                <a:cubicBezTo>
                  <a:pt x="19053" y="16187"/>
                  <a:pt x="19186" y="16193"/>
                  <a:pt x="19318" y="16184"/>
                </a:cubicBezTo>
                <a:cubicBezTo>
                  <a:pt x="19359" y="16181"/>
                  <a:pt x="19399" y="16179"/>
                  <a:pt x="19440" y="16179"/>
                </a:cubicBezTo>
                <a:cubicBezTo>
                  <a:pt x="19404" y="16186"/>
                  <a:pt x="19369" y="16192"/>
                  <a:pt x="19333" y="16196"/>
                </a:cubicBezTo>
              </a:path>
              <a:path w="1770" h="231">
                <a:moveTo>
                  <a:pt x="17880" y="16262"/>
                </a:moveTo>
                <a:cubicBezTo>
                  <a:pt x="17890" y="16237"/>
                  <a:pt x="17874" y="16230"/>
                  <a:pt x="17917" y="16219"/>
                </a:cubicBezTo>
                <a:cubicBezTo>
                  <a:pt x="17965" y="16207"/>
                  <a:pt x="18027" y="16207"/>
                  <a:pt x="18076" y="16205"/>
                </a:cubicBezTo>
                <a:cubicBezTo>
                  <a:pt x="18158" y="16202"/>
                  <a:pt x="18240" y="16203"/>
                  <a:pt x="18322" y="16204"/>
                </a:cubicBezTo>
                <a:cubicBezTo>
                  <a:pt x="18567" y="16206"/>
                  <a:pt x="18809" y="16237"/>
                  <a:pt x="19052" y="16263"/>
                </a:cubicBezTo>
                <a:cubicBezTo>
                  <a:pt x="19102" y="16268"/>
                  <a:pt x="19152" y="16274"/>
                  <a:pt x="19202" y="16273"/>
                </a:cubicBezTo>
                <a:cubicBezTo>
                  <a:pt x="19218" y="16273"/>
                  <a:pt x="19234" y="16274"/>
                  <a:pt x="19250" y="16274"/>
                </a:cubicBezTo>
                <a:cubicBezTo>
                  <a:pt x="19254" y="16274"/>
                  <a:pt x="19258" y="16273"/>
                  <a:pt x="19262" y="162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43"/>
          <p:cNvSpPr/>
          <p:nvPr/>
        </p:nvSpPr>
        <p:spPr>
          <a:xfrm>
            <a:off x="5783400" y="4992840"/>
            <a:ext cx="684000" cy="82440"/>
          </a:xfrm>
          <a:custGeom>
            <a:avLst/>
            <a:gdLst/>
            <a:ahLst/>
            <a:rect l="l" t="t" r="r" b="b"/>
            <a:pathLst>
              <a:path w="1902" h="231">
                <a:moveTo>
                  <a:pt x="16097" y="13903"/>
                </a:moveTo>
                <a:cubicBezTo>
                  <a:pt x="16080" y="13903"/>
                  <a:pt x="16075" y="13902"/>
                  <a:pt x="16065" y="13906"/>
                </a:cubicBezTo>
                <a:cubicBezTo>
                  <a:pt x="16083" y="13912"/>
                  <a:pt x="16106" y="13922"/>
                  <a:pt x="16138" y="13924"/>
                </a:cubicBezTo>
                <a:cubicBezTo>
                  <a:pt x="16219" y="13928"/>
                  <a:pt x="16299" y="13925"/>
                  <a:pt x="16380" y="13924"/>
                </a:cubicBezTo>
                <a:cubicBezTo>
                  <a:pt x="16821" y="13919"/>
                  <a:pt x="17263" y="13921"/>
                  <a:pt x="17704" y="13898"/>
                </a:cubicBezTo>
                <a:cubicBezTo>
                  <a:pt x="17778" y="13894"/>
                  <a:pt x="17865" y="13898"/>
                  <a:pt x="17937" y="13877"/>
                </a:cubicBezTo>
                <a:cubicBezTo>
                  <a:pt x="18011" y="13855"/>
                  <a:pt x="17881" y="13870"/>
                  <a:pt x="17865" y="13871"/>
                </a:cubicBezTo>
              </a:path>
              <a:path w="1902" h="231">
                <a:moveTo>
                  <a:pt x="16202" y="14085"/>
                </a:moveTo>
                <a:cubicBezTo>
                  <a:pt x="16221" y="14053"/>
                  <a:pt x="16233" y="14069"/>
                  <a:pt x="16269" y="14066"/>
                </a:cubicBezTo>
                <a:cubicBezTo>
                  <a:pt x="16351" y="14059"/>
                  <a:pt x="16434" y="14053"/>
                  <a:pt x="16516" y="14051"/>
                </a:cubicBezTo>
                <a:cubicBezTo>
                  <a:pt x="16633" y="14048"/>
                  <a:pt x="16749" y="14045"/>
                  <a:pt x="16866" y="14040"/>
                </a:cubicBezTo>
                <a:cubicBezTo>
                  <a:pt x="16996" y="14035"/>
                  <a:pt x="17125" y="14027"/>
                  <a:pt x="17255" y="14022"/>
                </a:cubicBezTo>
                <a:cubicBezTo>
                  <a:pt x="17438" y="14015"/>
                  <a:pt x="17625" y="14010"/>
                  <a:pt x="17807" y="14034"/>
                </a:cubicBezTo>
                <a:cubicBezTo>
                  <a:pt x="17855" y="14040"/>
                  <a:pt x="17893" y="14055"/>
                  <a:pt x="17930" y="14085"/>
                </a:cubicBezTo>
                <a:cubicBezTo>
                  <a:pt x="17933" y="14089"/>
                  <a:pt x="17935" y="14094"/>
                  <a:pt x="17938" y="14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44"/>
          <p:cNvSpPr/>
          <p:nvPr/>
        </p:nvSpPr>
        <p:spPr>
          <a:xfrm>
            <a:off x="1521000" y="4684680"/>
            <a:ext cx="2065320" cy="851040"/>
          </a:xfrm>
          <a:custGeom>
            <a:avLst/>
            <a:gdLst/>
            <a:ahLst/>
            <a:rect l="l" t="t" r="r" b="b"/>
            <a:pathLst>
              <a:path w="5734" h="2362">
                <a:moveTo>
                  <a:pt x="4226" y="13043"/>
                </a:moveTo>
                <a:cubicBezTo>
                  <a:pt x="4279" y="13035"/>
                  <a:pt x="4333" y="13030"/>
                  <a:pt x="4386" y="13028"/>
                </a:cubicBezTo>
                <a:cubicBezTo>
                  <a:pt x="4458" y="13025"/>
                  <a:pt x="4532" y="13019"/>
                  <a:pt x="4604" y="13020"/>
                </a:cubicBezTo>
                <a:cubicBezTo>
                  <a:pt x="4743" y="13021"/>
                  <a:pt x="4881" y="13028"/>
                  <a:pt x="5020" y="13027"/>
                </a:cubicBezTo>
                <a:cubicBezTo>
                  <a:pt x="5380" y="13025"/>
                  <a:pt x="5738" y="12994"/>
                  <a:pt x="6096" y="13048"/>
                </a:cubicBezTo>
                <a:cubicBezTo>
                  <a:pt x="6129" y="13053"/>
                  <a:pt x="6315" y="13098"/>
                  <a:pt x="6316" y="13088"/>
                </a:cubicBezTo>
                <a:cubicBezTo>
                  <a:pt x="6317" y="13067"/>
                  <a:pt x="6294" y="13060"/>
                  <a:pt x="6284" y="13058"/>
                </a:cubicBezTo>
                <a:cubicBezTo>
                  <a:pt x="6278" y="13060"/>
                  <a:pt x="6271" y="13062"/>
                  <a:pt x="6265" y="13064"/>
                </a:cubicBezTo>
              </a:path>
              <a:path w="5734" h="2362">
                <a:moveTo>
                  <a:pt x="7082" y="13977"/>
                </a:moveTo>
                <a:cubicBezTo>
                  <a:pt x="7041" y="13979"/>
                  <a:pt x="7009" y="13986"/>
                  <a:pt x="6971" y="14002"/>
                </a:cubicBezTo>
                <a:cubicBezTo>
                  <a:pt x="6911" y="14027"/>
                  <a:pt x="6859" y="14063"/>
                  <a:pt x="6811" y="14105"/>
                </a:cubicBezTo>
                <a:cubicBezTo>
                  <a:pt x="6771" y="14140"/>
                  <a:pt x="6730" y="14181"/>
                  <a:pt x="6722" y="14236"/>
                </a:cubicBezTo>
                <a:cubicBezTo>
                  <a:pt x="6716" y="14280"/>
                  <a:pt x="6755" y="14295"/>
                  <a:pt x="6790" y="14305"/>
                </a:cubicBezTo>
                <a:cubicBezTo>
                  <a:pt x="6863" y="14325"/>
                  <a:pt x="6999" y="14304"/>
                  <a:pt x="7046" y="14377"/>
                </a:cubicBezTo>
                <a:cubicBezTo>
                  <a:pt x="7070" y="14415"/>
                  <a:pt x="7030" y="14459"/>
                  <a:pt x="7003" y="14481"/>
                </a:cubicBezTo>
                <a:cubicBezTo>
                  <a:pt x="6958" y="14518"/>
                  <a:pt x="6905" y="14541"/>
                  <a:pt x="6846" y="14532"/>
                </a:cubicBezTo>
                <a:cubicBezTo>
                  <a:pt x="6798" y="14525"/>
                  <a:pt x="6788" y="14498"/>
                  <a:pt x="6765" y="14462"/>
                </a:cubicBezTo>
              </a:path>
              <a:path w="5734" h="2362">
                <a:moveTo>
                  <a:pt x="7030" y="13860"/>
                </a:moveTo>
                <a:cubicBezTo>
                  <a:pt x="7023" y="13918"/>
                  <a:pt x="6996" y="13968"/>
                  <a:pt x="6980" y="14024"/>
                </a:cubicBezTo>
                <a:cubicBezTo>
                  <a:pt x="6954" y="14115"/>
                  <a:pt x="6930" y="14207"/>
                  <a:pt x="6912" y="14300"/>
                </a:cubicBezTo>
                <a:cubicBezTo>
                  <a:pt x="6898" y="14369"/>
                  <a:pt x="6886" y="14447"/>
                  <a:pt x="6898" y="14517"/>
                </a:cubicBezTo>
                <a:cubicBezTo>
                  <a:pt x="6908" y="14550"/>
                  <a:pt x="6911" y="14560"/>
                  <a:pt x="6922" y="14580"/>
                </a:cubicBezTo>
              </a:path>
              <a:path w="5734" h="2362">
                <a:moveTo>
                  <a:pt x="7265" y="14990"/>
                </a:moveTo>
                <a:cubicBezTo>
                  <a:pt x="7284" y="14991"/>
                  <a:pt x="7297" y="14996"/>
                  <a:pt x="7315" y="14999"/>
                </a:cubicBezTo>
                <a:cubicBezTo>
                  <a:pt x="7341" y="15004"/>
                  <a:pt x="7368" y="15008"/>
                  <a:pt x="7394" y="15010"/>
                </a:cubicBezTo>
                <a:cubicBezTo>
                  <a:pt x="7463" y="15016"/>
                  <a:pt x="7557" y="14996"/>
                  <a:pt x="7620" y="15032"/>
                </a:cubicBezTo>
                <a:cubicBezTo>
                  <a:pt x="7649" y="15049"/>
                  <a:pt x="7657" y="15081"/>
                  <a:pt x="7650" y="15113"/>
                </a:cubicBezTo>
                <a:cubicBezTo>
                  <a:pt x="7638" y="15164"/>
                  <a:pt x="7608" y="15211"/>
                  <a:pt x="7578" y="15253"/>
                </a:cubicBezTo>
                <a:cubicBezTo>
                  <a:pt x="7548" y="15296"/>
                  <a:pt x="7513" y="15329"/>
                  <a:pt x="7476" y="15365"/>
                </a:cubicBezTo>
                <a:cubicBezTo>
                  <a:pt x="7467" y="15376"/>
                  <a:pt x="7464" y="15380"/>
                  <a:pt x="7476" y="15367"/>
                </a:cubicBezTo>
              </a:path>
              <a:path w="5734" h="2362">
                <a:moveTo>
                  <a:pt x="7793" y="15107"/>
                </a:moveTo>
                <a:cubicBezTo>
                  <a:pt x="7796" y="15107"/>
                  <a:pt x="7800" y="15107"/>
                  <a:pt x="7803" y="15107"/>
                </a:cubicBezTo>
                <a:cubicBezTo>
                  <a:pt x="7798" y="15127"/>
                  <a:pt x="7790" y="15143"/>
                  <a:pt x="7816" y="15148"/>
                </a:cubicBezTo>
                <a:cubicBezTo>
                  <a:pt x="7827" y="15147"/>
                  <a:pt x="7831" y="15146"/>
                  <a:pt x="7838" y="15143"/>
                </a:cubicBezTo>
              </a:path>
              <a:path w="5734" h="2362">
                <a:moveTo>
                  <a:pt x="8056" y="14937"/>
                </a:moveTo>
                <a:cubicBezTo>
                  <a:pt x="8066" y="14919"/>
                  <a:pt x="8079" y="14885"/>
                  <a:pt x="8100" y="14878"/>
                </a:cubicBezTo>
                <a:cubicBezTo>
                  <a:pt x="8125" y="14870"/>
                  <a:pt x="8142" y="14901"/>
                  <a:pt x="8147" y="14919"/>
                </a:cubicBezTo>
                <a:cubicBezTo>
                  <a:pt x="8159" y="14961"/>
                  <a:pt x="8152" y="15016"/>
                  <a:pt x="8142" y="15058"/>
                </a:cubicBezTo>
                <a:cubicBezTo>
                  <a:pt x="8129" y="15112"/>
                  <a:pt x="8106" y="15162"/>
                  <a:pt x="8084" y="15213"/>
                </a:cubicBezTo>
                <a:cubicBezTo>
                  <a:pt x="8074" y="15236"/>
                  <a:pt x="8065" y="15256"/>
                  <a:pt x="8059" y="15280"/>
                </a:cubicBezTo>
                <a:cubicBezTo>
                  <a:pt x="8078" y="15292"/>
                  <a:pt x="8080" y="15293"/>
                  <a:pt x="8110" y="15282"/>
                </a:cubicBezTo>
                <a:cubicBezTo>
                  <a:pt x="8154" y="15266"/>
                  <a:pt x="8194" y="15240"/>
                  <a:pt x="8237" y="15223"/>
                </a:cubicBezTo>
                <a:cubicBezTo>
                  <a:pt x="8274" y="15208"/>
                  <a:pt x="8315" y="15193"/>
                  <a:pt x="8354" y="15186"/>
                </a:cubicBezTo>
                <a:cubicBezTo>
                  <a:pt x="8361" y="15185"/>
                  <a:pt x="8369" y="15185"/>
                  <a:pt x="8376" y="15184"/>
                </a:cubicBezTo>
              </a:path>
              <a:path w="5734" h="2362">
                <a:moveTo>
                  <a:pt x="8754" y="15056"/>
                </a:moveTo>
                <a:cubicBezTo>
                  <a:pt x="8734" y="15049"/>
                  <a:pt x="8709" y="15042"/>
                  <a:pt x="8688" y="15051"/>
                </a:cubicBezTo>
                <a:cubicBezTo>
                  <a:pt x="8657" y="15065"/>
                  <a:pt x="8628" y="15096"/>
                  <a:pt x="8612" y="15125"/>
                </a:cubicBezTo>
                <a:cubicBezTo>
                  <a:pt x="8594" y="15156"/>
                  <a:pt x="8579" y="15200"/>
                  <a:pt x="8591" y="15236"/>
                </a:cubicBezTo>
                <a:cubicBezTo>
                  <a:pt x="8602" y="15270"/>
                  <a:pt x="8645" y="15277"/>
                  <a:pt x="8676" y="15273"/>
                </a:cubicBezTo>
                <a:cubicBezTo>
                  <a:pt x="8728" y="15266"/>
                  <a:pt x="8786" y="15250"/>
                  <a:pt x="8835" y="15229"/>
                </a:cubicBezTo>
                <a:cubicBezTo>
                  <a:pt x="8869" y="15211"/>
                  <a:pt x="8880" y="15205"/>
                  <a:pt x="8904" y="15198"/>
                </a:cubicBezTo>
              </a:path>
              <a:path w="5734" h="2362">
                <a:moveTo>
                  <a:pt x="9107" y="15190"/>
                </a:moveTo>
                <a:cubicBezTo>
                  <a:pt x="9102" y="15166"/>
                  <a:pt x="9121" y="15162"/>
                  <a:pt x="9145" y="15149"/>
                </a:cubicBezTo>
                <a:cubicBezTo>
                  <a:pt x="9172" y="15134"/>
                  <a:pt x="9196" y="15116"/>
                  <a:pt x="9215" y="15091"/>
                </a:cubicBezTo>
                <a:cubicBezTo>
                  <a:pt x="9229" y="15073"/>
                  <a:pt x="9223" y="15070"/>
                  <a:pt x="9225" y="15052"/>
                </a:cubicBezTo>
                <a:cubicBezTo>
                  <a:pt x="9197" y="15051"/>
                  <a:pt x="9180" y="15050"/>
                  <a:pt x="9153" y="15066"/>
                </a:cubicBezTo>
                <a:cubicBezTo>
                  <a:pt x="9115" y="15089"/>
                  <a:pt x="9078" y="15127"/>
                  <a:pt x="9057" y="15166"/>
                </a:cubicBezTo>
                <a:cubicBezTo>
                  <a:pt x="9041" y="15195"/>
                  <a:pt x="9028" y="15240"/>
                  <a:pt x="9045" y="15271"/>
                </a:cubicBezTo>
                <a:cubicBezTo>
                  <a:pt x="9061" y="15300"/>
                  <a:pt x="9108" y="15296"/>
                  <a:pt x="9135" y="15293"/>
                </a:cubicBezTo>
                <a:cubicBezTo>
                  <a:pt x="9179" y="15288"/>
                  <a:pt x="9219" y="15268"/>
                  <a:pt x="9260" y="15253"/>
                </a:cubicBezTo>
                <a:cubicBezTo>
                  <a:pt x="9273" y="15248"/>
                  <a:pt x="9317" y="15225"/>
                  <a:pt x="9330" y="15244"/>
                </a:cubicBezTo>
                <a:cubicBezTo>
                  <a:pt x="9335" y="15252"/>
                  <a:pt x="9323" y="15274"/>
                  <a:pt x="9321" y="15281"/>
                </a:cubicBezTo>
                <a:cubicBezTo>
                  <a:pt x="9338" y="15254"/>
                  <a:pt x="9358" y="15229"/>
                  <a:pt x="9382" y="15208"/>
                </a:cubicBezTo>
                <a:cubicBezTo>
                  <a:pt x="9411" y="15183"/>
                  <a:pt x="9447" y="15160"/>
                  <a:pt x="9485" y="15156"/>
                </a:cubicBezTo>
                <a:cubicBezTo>
                  <a:pt x="9519" y="15152"/>
                  <a:pt x="9544" y="15173"/>
                  <a:pt x="9563" y="15199"/>
                </a:cubicBezTo>
                <a:cubicBezTo>
                  <a:pt x="9580" y="15222"/>
                  <a:pt x="9585" y="15250"/>
                  <a:pt x="9598" y="15273"/>
                </a:cubicBezTo>
                <a:cubicBezTo>
                  <a:pt x="9607" y="15284"/>
                  <a:pt x="9610" y="15288"/>
                  <a:pt x="9621" y="15285"/>
                </a:cubicBezTo>
              </a:path>
              <a:path w="5734" h="2362">
                <a:moveTo>
                  <a:pt x="9726" y="14738"/>
                </a:moveTo>
                <a:cubicBezTo>
                  <a:pt x="9721" y="14683"/>
                  <a:pt x="9709" y="14823"/>
                  <a:pt x="9707" y="14836"/>
                </a:cubicBezTo>
                <a:cubicBezTo>
                  <a:pt x="9697" y="14917"/>
                  <a:pt x="9690" y="14998"/>
                  <a:pt x="9685" y="15079"/>
                </a:cubicBezTo>
                <a:cubicBezTo>
                  <a:pt x="9681" y="15137"/>
                  <a:pt x="9676" y="15195"/>
                  <a:pt x="9695" y="15249"/>
                </a:cubicBezTo>
                <a:cubicBezTo>
                  <a:pt x="9702" y="15265"/>
                  <a:pt x="9703" y="15270"/>
                  <a:pt x="9713" y="15276"/>
                </a:cubicBezTo>
              </a:path>
              <a:path w="5734" h="2362">
                <a:moveTo>
                  <a:pt x="9729" y="15089"/>
                </a:moveTo>
                <a:cubicBezTo>
                  <a:pt x="9723" y="15072"/>
                  <a:pt x="9715" y="15055"/>
                  <a:pt x="9741" y="15051"/>
                </a:cubicBezTo>
                <a:cubicBezTo>
                  <a:pt x="9772" y="15046"/>
                  <a:pt x="9802" y="15041"/>
                  <a:pt x="9833" y="15034"/>
                </a:cubicBezTo>
                <a:cubicBezTo>
                  <a:pt x="9856" y="15029"/>
                  <a:pt x="9905" y="15006"/>
                  <a:pt x="9928" y="15013"/>
                </a:cubicBezTo>
                <a:cubicBezTo>
                  <a:pt x="9931" y="15016"/>
                  <a:pt x="9934" y="15019"/>
                  <a:pt x="9937" y="15022"/>
                </a:cubicBezTo>
                <a:cubicBezTo>
                  <a:pt x="9923" y="15045"/>
                  <a:pt x="9910" y="15068"/>
                  <a:pt x="9897" y="15093"/>
                </a:cubicBezTo>
                <a:cubicBezTo>
                  <a:pt x="9883" y="15119"/>
                  <a:pt x="9873" y="15147"/>
                  <a:pt x="9892" y="15174"/>
                </a:cubicBezTo>
                <a:cubicBezTo>
                  <a:pt x="9908" y="15198"/>
                  <a:pt x="9938" y="15205"/>
                  <a:pt x="9953" y="15230"/>
                </a:cubicBezTo>
                <a:cubicBezTo>
                  <a:pt x="9971" y="15259"/>
                  <a:pt x="9952" y="15282"/>
                  <a:pt x="9931" y="15302"/>
                </a:cubicBezTo>
                <a:cubicBezTo>
                  <a:pt x="9903" y="15329"/>
                  <a:pt x="9861" y="15344"/>
                  <a:pt x="9822" y="15346"/>
                </a:cubicBezTo>
                <a:cubicBezTo>
                  <a:pt x="9798" y="15344"/>
                  <a:pt x="9790" y="15343"/>
                  <a:pt x="9776" y="15336"/>
                </a:cubicBezTo>
              </a:path>
              <a:path w="5734" h="2362">
                <a:moveTo>
                  <a:pt x="6268" y="15114"/>
                </a:moveTo>
                <a:cubicBezTo>
                  <a:pt x="6257" y="15108"/>
                  <a:pt x="6252" y="15105"/>
                  <a:pt x="6245" y="15100"/>
                </a:cubicBezTo>
                <a:cubicBezTo>
                  <a:pt x="6269" y="15105"/>
                  <a:pt x="6293" y="15109"/>
                  <a:pt x="6317" y="15110"/>
                </a:cubicBezTo>
                <a:cubicBezTo>
                  <a:pt x="6354" y="15111"/>
                  <a:pt x="6390" y="15111"/>
                  <a:pt x="6427" y="15115"/>
                </a:cubicBezTo>
                <a:cubicBezTo>
                  <a:pt x="6455" y="15118"/>
                  <a:pt x="6448" y="15134"/>
                  <a:pt x="6439" y="15154"/>
                </a:cubicBezTo>
              </a:path>
              <a:path w="5734" h="2362">
                <a:moveTo>
                  <a:pt x="6291" y="15254"/>
                </a:moveTo>
                <a:cubicBezTo>
                  <a:pt x="6287" y="15253"/>
                  <a:pt x="6284" y="15252"/>
                  <a:pt x="6280" y="15251"/>
                </a:cubicBezTo>
                <a:cubicBezTo>
                  <a:pt x="6292" y="15235"/>
                  <a:pt x="6315" y="15222"/>
                  <a:pt x="6335" y="15213"/>
                </a:cubicBezTo>
                <a:cubicBezTo>
                  <a:pt x="6371" y="15196"/>
                  <a:pt x="6407" y="15192"/>
                  <a:pt x="6446" y="15190"/>
                </a:cubicBezTo>
                <a:cubicBezTo>
                  <a:pt x="6475" y="15188"/>
                  <a:pt x="6501" y="15192"/>
                  <a:pt x="6529" y="15197"/>
                </a:cubicBezTo>
              </a:path>
              <a:path w="5734" h="2362">
                <a:moveTo>
                  <a:pt x="7905" y="15022"/>
                </a:moveTo>
                <a:cubicBezTo>
                  <a:pt x="7899" y="15005"/>
                  <a:pt x="7898" y="14989"/>
                  <a:pt x="7906" y="14971"/>
                </a:cubicBezTo>
                <a:cubicBezTo>
                  <a:pt x="7914" y="14954"/>
                  <a:pt x="7929" y="14940"/>
                  <a:pt x="7946" y="14932"/>
                </a:cubicBezTo>
                <a:cubicBezTo>
                  <a:pt x="7962" y="14924"/>
                  <a:pt x="7979" y="14916"/>
                  <a:pt x="7996" y="14911"/>
                </a:cubicBezTo>
                <a:cubicBezTo>
                  <a:pt x="8011" y="14906"/>
                  <a:pt x="8036" y="14903"/>
                  <a:pt x="8052" y="14906"/>
                </a:cubicBezTo>
                <a:cubicBezTo>
                  <a:pt x="8066" y="14909"/>
                  <a:pt x="8073" y="14922"/>
                  <a:pt x="808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45"/>
          <p:cNvSpPr/>
          <p:nvPr/>
        </p:nvSpPr>
        <p:spPr>
          <a:xfrm>
            <a:off x="4038480" y="5541840"/>
            <a:ext cx="1724040" cy="260640"/>
          </a:xfrm>
          <a:custGeom>
            <a:avLst/>
            <a:gdLst/>
            <a:ahLst/>
            <a:rect l="l" t="t" r="r" b="b"/>
            <a:pathLst>
              <a:path w="4790" h="722">
                <a:moveTo>
                  <a:pt x="11283" y="15595"/>
                </a:moveTo>
                <a:cubicBezTo>
                  <a:pt x="11268" y="15631"/>
                  <a:pt x="11262" y="15664"/>
                  <a:pt x="11255" y="15702"/>
                </a:cubicBezTo>
                <a:cubicBezTo>
                  <a:pt x="11247" y="15751"/>
                  <a:pt x="11241" y="15800"/>
                  <a:pt x="11236" y="15849"/>
                </a:cubicBezTo>
                <a:cubicBezTo>
                  <a:pt x="11230" y="15907"/>
                  <a:pt x="11226" y="15964"/>
                  <a:pt x="11220" y="16022"/>
                </a:cubicBezTo>
                <a:cubicBezTo>
                  <a:pt x="11217" y="16050"/>
                  <a:pt x="11213" y="16079"/>
                  <a:pt x="11241" y="16057"/>
                </a:cubicBezTo>
              </a:path>
              <a:path w="4790" h="722">
                <a:moveTo>
                  <a:pt x="11564" y="15604"/>
                </a:moveTo>
                <a:cubicBezTo>
                  <a:pt x="11567" y="15603"/>
                  <a:pt x="11571" y="15601"/>
                  <a:pt x="11574" y="15600"/>
                </a:cubicBezTo>
                <a:cubicBezTo>
                  <a:pt x="11574" y="15629"/>
                  <a:pt x="11570" y="15653"/>
                  <a:pt x="11562" y="15684"/>
                </a:cubicBezTo>
                <a:cubicBezTo>
                  <a:pt x="11548" y="15735"/>
                  <a:pt x="11535" y="15786"/>
                  <a:pt x="11525" y="15838"/>
                </a:cubicBezTo>
                <a:cubicBezTo>
                  <a:pt x="11517" y="15880"/>
                  <a:pt x="11502" y="15944"/>
                  <a:pt x="11525" y="15984"/>
                </a:cubicBezTo>
                <a:cubicBezTo>
                  <a:pt x="11541" y="16011"/>
                  <a:pt x="11568" y="16007"/>
                  <a:pt x="11594" y="16002"/>
                </a:cubicBezTo>
                <a:cubicBezTo>
                  <a:pt x="11634" y="15995"/>
                  <a:pt x="11674" y="15970"/>
                  <a:pt x="11709" y="15950"/>
                </a:cubicBezTo>
                <a:cubicBezTo>
                  <a:pt x="11744" y="15930"/>
                  <a:pt x="11781" y="15909"/>
                  <a:pt x="11815" y="15889"/>
                </a:cubicBezTo>
                <a:cubicBezTo>
                  <a:pt x="11830" y="15880"/>
                  <a:pt x="11844" y="15869"/>
                  <a:pt x="11857" y="15858"/>
                </a:cubicBezTo>
              </a:path>
              <a:path w="4790" h="722">
                <a:moveTo>
                  <a:pt x="11698" y="15772"/>
                </a:moveTo>
                <a:cubicBezTo>
                  <a:pt x="11692" y="15812"/>
                  <a:pt x="11686" y="15852"/>
                  <a:pt x="11687" y="15893"/>
                </a:cubicBezTo>
                <a:cubicBezTo>
                  <a:pt x="11688" y="15945"/>
                  <a:pt x="11696" y="16016"/>
                  <a:pt x="11727" y="16060"/>
                </a:cubicBezTo>
                <a:cubicBezTo>
                  <a:pt x="11747" y="16087"/>
                  <a:pt x="11781" y="16089"/>
                  <a:pt x="11809" y="16077"/>
                </a:cubicBezTo>
                <a:cubicBezTo>
                  <a:pt x="11818" y="16072"/>
                  <a:pt x="11826" y="16068"/>
                  <a:pt x="11835" y="16063"/>
                </a:cubicBezTo>
              </a:path>
              <a:path w="4790" h="722">
                <a:moveTo>
                  <a:pt x="12130" y="15633"/>
                </a:moveTo>
                <a:cubicBezTo>
                  <a:pt x="12115" y="15624"/>
                  <a:pt x="12117" y="15619"/>
                  <a:pt x="12092" y="15637"/>
                </a:cubicBezTo>
                <a:cubicBezTo>
                  <a:pt x="12069" y="15654"/>
                  <a:pt x="12048" y="15674"/>
                  <a:pt x="12027" y="15694"/>
                </a:cubicBezTo>
                <a:cubicBezTo>
                  <a:pt x="11995" y="15723"/>
                  <a:pt x="11964" y="15750"/>
                  <a:pt x="11943" y="15788"/>
                </a:cubicBezTo>
                <a:cubicBezTo>
                  <a:pt x="11924" y="15822"/>
                  <a:pt x="11935" y="15849"/>
                  <a:pt x="11970" y="15867"/>
                </a:cubicBezTo>
                <a:cubicBezTo>
                  <a:pt x="12020" y="15893"/>
                  <a:pt x="12083" y="15900"/>
                  <a:pt x="12138" y="15911"/>
                </a:cubicBezTo>
                <a:cubicBezTo>
                  <a:pt x="12183" y="15920"/>
                  <a:pt x="12250" y="15928"/>
                  <a:pt x="12276" y="15973"/>
                </a:cubicBezTo>
                <a:cubicBezTo>
                  <a:pt x="12302" y="16017"/>
                  <a:pt x="12256" y="16054"/>
                  <a:pt x="12227" y="16077"/>
                </a:cubicBezTo>
                <a:cubicBezTo>
                  <a:pt x="12184" y="16111"/>
                  <a:pt x="12157" y="16111"/>
                  <a:pt x="12105" y="16115"/>
                </a:cubicBezTo>
              </a:path>
              <a:path w="4790" h="722">
                <a:moveTo>
                  <a:pt x="12029" y="15708"/>
                </a:moveTo>
                <a:cubicBezTo>
                  <a:pt x="12079" y="15677"/>
                  <a:pt x="12132" y="15640"/>
                  <a:pt x="12193" y="15631"/>
                </a:cubicBezTo>
                <a:cubicBezTo>
                  <a:pt x="12239" y="15624"/>
                  <a:pt x="12280" y="15638"/>
                  <a:pt x="12321" y="15658"/>
                </a:cubicBezTo>
                <a:cubicBezTo>
                  <a:pt x="12330" y="15663"/>
                  <a:pt x="12340" y="15668"/>
                  <a:pt x="12349" y="15673"/>
                </a:cubicBezTo>
              </a:path>
              <a:path w="4790" h="722">
                <a:moveTo>
                  <a:pt x="12479" y="15805"/>
                </a:moveTo>
                <a:cubicBezTo>
                  <a:pt x="12459" y="15850"/>
                  <a:pt x="12442" y="15893"/>
                  <a:pt x="12437" y="15942"/>
                </a:cubicBezTo>
                <a:cubicBezTo>
                  <a:pt x="12433" y="15978"/>
                  <a:pt x="12444" y="16018"/>
                  <a:pt x="12488" y="16017"/>
                </a:cubicBezTo>
                <a:cubicBezTo>
                  <a:pt x="12543" y="16016"/>
                  <a:pt x="12597" y="15977"/>
                  <a:pt x="12635" y="15941"/>
                </a:cubicBezTo>
                <a:cubicBezTo>
                  <a:pt x="12673" y="15905"/>
                  <a:pt x="12721" y="15848"/>
                  <a:pt x="12727" y="15793"/>
                </a:cubicBezTo>
                <a:cubicBezTo>
                  <a:pt x="12732" y="15749"/>
                  <a:pt x="12703" y="15716"/>
                  <a:pt x="12661" y="15709"/>
                </a:cubicBezTo>
                <a:cubicBezTo>
                  <a:pt x="12616" y="15702"/>
                  <a:pt x="12573" y="15721"/>
                  <a:pt x="12540" y="15751"/>
                </a:cubicBezTo>
                <a:cubicBezTo>
                  <a:pt x="12520" y="15769"/>
                  <a:pt x="12520" y="15778"/>
                  <a:pt x="12522" y="15800"/>
                </a:cubicBezTo>
              </a:path>
              <a:path w="4790" h="722">
                <a:moveTo>
                  <a:pt x="13373" y="15732"/>
                </a:moveTo>
                <a:cubicBezTo>
                  <a:pt x="13377" y="15728"/>
                  <a:pt x="13382" y="15723"/>
                  <a:pt x="13386" y="15719"/>
                </a:cubicBezTo>
                <a:cubicBezTo>
                  <a:pt x="13379" y="15742"/>
                  <a:pt x="13359" y="15768"/>
                  <a:pt x="13344" y="15791"/>
                </a:cubicBezTo>
                <a:cubicBezTo>
                  <a:pt x="13311" y="15842"/>
                  <a:pt x="13278" y="15894"/>
                  <a:pt x="13241" y="15942"/>
                </a:cubicBezTo>
                <a:cubicBezTo>
                  <a:pt x="13217" y="15973"/>
                  <a:pt x="13195" y="16001"/>
                  <a:pt x="13159" y="16016"/>
                </a:cubicBezTo>
              </a:path>
              <a:path w="4790" h="722">
                <a:moveTo>
                  <a:pt x="13201" y="15768"/>
                </a:moveTo>
                <a:cubicBezTo>
                  <a:pt x="13230" y="15762"/>
                  <a:pt x="13246" y="15764"/>
                  <a:pt x="13275" y="15770"/>
                </a:cubicBezTo>
                <a:cubicBezTo>
                  <a:pt x="13321" y="15780"/>
                  <a:pt x="13363" y="15795"/>
                  <a:pt x="13407" y="15812"/>
                </a:cubicBezTo>
                <a:cubicBezTo>
                  <a:pt x="13446" y="15827"/>
                  <a:pt x="13486" y="15838"/>
                  <a:pt x="13526" y="15849"/>
                </a:cubicBezTo>
              </a:path>
              <a:path w="4790" h="722">
                <a:moveTo>
                  <a:pt x="14165" y="15506"/>
                </a:moveTo>
                <a:cubicBezTo>
                  <a:pt x="14136" y="15517"/>
                  <a:pt x="14135" y="15547"/>
                  <a:pt x="14128" y="15579"/>
                </a:cubicBezTo>
                <a:cubicBezTo>
                  <a:pt x="14115" y="15642"/>
                  <a:pt x="14103" y="15705"/>
                  <a:pt x="14092" y="15768"/>
                </a:cubicBezTo>
                <a:cubicBezTo>
                  <a:pt x="14081" y="15828"/>
                  <a:pt x="14072" y="15887"/>
                  <a:pt x="14065" y="15947"/>
                </a:cubicBezTo>
                <a:cubicBezTo>
                  <a:pt x="14061" y="15981"/>
                  <a:pt x="14059" y="15998"/>
                  <a:pt x="14095" y="16000"/>
                </a:cubicBezTo>
              </a:path>
              <a:path w="4790" h="722">
                <a:moveTo>
                  <a:pt x="14324" y="15623"/>
                </a:moveTo>
                <a:cubicBezTo>
                  <a:pt x="14307" y="15636"/>
                  <a:pt x="14309" y="15649"/>
                  <a:pt x="14333" y="15657"/>
                </a:cubicBezTo>
                <a:cubicBezTo>
                  <a:pt x="14344" y="15658"/>
                  <a:pt x="14348" y="15658"/>
                  <a:pt x="14356" y="15656"/>
                </a:cubicBezTo>
              </a:path>
              <a:path w="4790" h="722">
                <a:moveTo>
                  <a:pt x="14569" y="15451"/>
                </a:moveTo>
                <a:cubicBezTo>
                  <a:pt x="14569" y="15447"/>
                  <a:pt x="14569" y="15443"/>
                  <a:pt x="14569" y="15439"/>
                </a:cubicBezTo>
                <a:cubicBezTo>
                  <a:pt x="14600" y="15440"/>
                  <a:pt x="14616" y="15458"/>
                  <a:pt x="14632" y="15487"/>
                </a:cubicBezTo>
                <a:cubicBezTo>
                  <a:pt x="14656" y="15531"/>
                  <a:pt x="14667" y="15579"/>
                  <a:pt x="14666" y="15628"/>
                </a:cubicBezTo>
                <a:cubicBezTo>
                  <a:pt x="14664" y="15706"/>
                  <a:pt x="14621" y="15765"/>
                  <a:pt x="14578" y="15827"/>
                </a:cubicBezTo>
                <a:cubicBezTo>
                  <a:pt x="14563" y="15848"/>
                  <a:pt x="14555" y="15862"/>
                  <a:pt x="14549" y="15885"/>
                </a:cubicBezTo>
                <a:cubicBezTo>
                  <a:pt x="14576" y="15896"/>
                  <a:pt x="14597" y="15888"/>
                  <a:pt x="14626" y="15886"/>
                </a:cubicBezTo>
                <a:cubicBezTo>
                  <a:pt x="14673" y="15883"/>
                  <a:pt x="14718" y="15871"/>
                  <a:pt x="14764" y="15861"/>
                </a:cubicBezTo>
                <a:cubicBezTo>
                  <a:pt x="14798" y="15853"/>
                  <a:pt x="14808" y="15851"/>
                  <a:pt x="14829" y="15841"/>
                </a:cubicBezTo>
              </a:path>
              <a:path w="4790" h="722">
                <a:moveTo>
                  <a:pt x="14950" y="15433"/>
                </a:moveTo>
                <a:cubicBezTo>
                  <a:pt x="14972" y="15414"/>
                  <a:pt x="14994" y="15400"/>
                  <a:pt x="15024" y="15395"/>
                </a:cubicBezTo>
                <a:cubicBezTo>
                  <a:pt x="15057" y="15390"/>
                  <a:pt x="15090" y="15408"/>
                  <a:pt x="15108" y="15436"/>
                </a:cubicBezTo>
                <a:cubicBezTo>
                  <a:pt x="15132" y="15472"/>
                  <a:pt x="15132" y="15515"/>
                  <a:pt x="15121" y="15556"/>
                </a:cubicBezTo>
                <a:cubicBezTo>
                  <a:pt x="15107" y="15611"/>
                  <a:pt x="15064" y="15652"/>
                  <a:pt x="15048" y="15704"/>
                </a:cubicBezTo>
                <a:cubicBezTo>
                  <a:pt x="15048" y="15707"/>
                  <a:pt x="15048" y="15711"/>
                  <a:pt x="15048" y="15714"/>
                </a:cubicBezTo>
                <a:cubicBezTo>
                  <a:pt x="15079" y="15727"/>
                  <a:pt x="15111" y="15731"/>
                  <a:pt x="15143" y="15743"/>
                </a:cubicBezTo>
                <a:cubicBezTo>
                  <a:pt x="15181" y="15757"/>
                  <a:pt x="15230" y="15787"/>
                  <a:pt x="15233" y="15832"/>
                </a:cubicBezTo>
                <a:cubicBezTo>
                  <a:pt x="15237" y="15884"/>
                  <a:pt x="15197" y="15930"/>
                  <a:pt x="15157" y="15957"/>
                </a:cubicBezTo>
                <a:cubicBezTo>
                  <a:pt x="15120" y="15982"/>
                  <a:pt x="15083" y="15992"/>
                  <a:pt x="15040" y="15998"/>
                </a:cubicBezTo>
                <a:cubicBezTo>
                  <a:pt x="15023" y="16001"/>
                  <a:pt x="15017" y="16002"/>
                  <a:pt x="15007" y="15995"/>
                </a:cubicBezTo>
                <a:cubicBezTo>
                  <a:pt x="15011" y="15968"/>
                  <a:pt x="15001" y="15979"/>
                  <a:pt x="15023" y="15951"/>
                </a:cubicBezTo>
              </a:path>
              <a:path w="4790" h="722">
                <a:moveTo>
                  <a:pt x="15700" y="15703"/>
                </a:moveTo>
                <a:cubicBezTo>
                  <a:pt x="15717" y="15685"/>
                  <a:pt x="15735" y="15684"/>
                  <a:pt x="15761" y="15682"/>
                </a:cubicBezTo>
                <a:cubicBezTo>
                  <a:pt x="15802" y="15678"/>
                  <a:pt x="15851" y="15680"/>
                  <a:pt x="15885" y="15705"/>
                </a:cubicBezTo>
                <a:cubicBezTo>
                  <a:pt x="15912" y="15725"/>
                  <a:pt x="15902" y="15741"/>
                  <a:pt x="15888" y="15764"/>
                </a:cubicBezTo>
              </a:path>
              <a:path w="4790" h="722">
                <a:moveTo>
                  <a:pt x="15683" y="15828"/>
                </a:moveTo>
                <a:cubicBezTo>
                  <a:pt x="15722" y="15819"/>
                  <a:pt x="15763" y="15812"/>
                  <a:pt x="15804" y="15813"/>
                </a:cubicBezTo>
                <a:cubicBezTo>
                  <a:pt x="15858" y="15815"/>
                  <a:pt x="15914" y="15829"/>
                  <a:pt x="15966" y="15844"/>
                </a:cubicBezTo>
                <a:cubicBezTo>
                  <a:pt x="15979" y="15848"/>
                  <a:pt x="15993" y="15853"/>
                  <a:pt x="16006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46"/>
          <p:cNvSpPr/>
          <p:nvPr/>
        </p:nvSpPr>
        <p:spPr>
          <a:xfrm>
            <a:off x="6251400" y="5492880"/>
            <a:ext cx="2435400" cy="635040"/>
          </a:xfrm>
          <a:custGeom>
            <a:avLst/>
            <a:gdLst/>
            <a:ahLst/>
            <a:rect l="l" t="t" r="r" b="b"/>
            <a:pathLst>
              <a:path w="6762" h="1764">
                <a:moveTo>
                  <a:pt x="17666" y="15378"/>
                </a:moveTo>
                <a:cubicBezTo>
                  <a:pt x="17645" y="15359"/>
                  <a:pt x="17625" y="15351"/>
                  <a:pt x="17594" y="15357"/>
                </a:cubicBezTo>
                <a:cubicBezTo>
                  <a:pt x="17547" y="15366"/>
                  <a:pt x="17500" y="15395"/>
                  <a:pt x="17462" y="15423"/>
                </a:cubicBezTo>
                <a:cubicBezTo>
                  <a:pt x="17425" y="15450"/>
                  <a:pt x="17381" y="15490"/>
                  <a:pt x="17368" y="15536"/>
                </a:cubicBezTo>
                <a:cubicBezTo>
                  <a:pt x="17356" y="15577"/>
                  <a:pt x="17402" y="15602"/>
                  <a:pt x="17430" y="15620"/>
                </a:cubicBezTo>
                <a:cubicBezTo>
                  <a:pt x="17478" y="15651"/>
                  <a:pt x="17533" y="15676"/>
                  <a:pt x="17576" y="15715"/>
                </a:cubicBezTo>
                <a:cubicBezTo>
                  <a:pt x="17612" y="15748"/>
                  <a:pt x="17636" y="15789"/>
                  <a:pt x="17622" y="15838"/>
                </a:cubicBezTo>
                <a:cubicBezTo>
                  <a:pt x="17610" y="15881"/>
                  <a:pt x="17561" y="15910"/>
                  <a:pt x="17519" y="15917"/>
                </a:cubicBezTo>
                <a:cubicBezTo>
                  <a:pt x="17477" y="15924"/>
                  <a:pt x="17430" y="15916"/>
                  <a:pt x="17410" y="15874"/>
                </a:cubicBezTo>
                <a:cubicBezTo>
                  <a:pt x="17401" y="15839"/>
                  <a:pt x="17398" y="15826"/>
                  <a:pt x="17404" y="15801"/>
                </a:cubicBezTo>
              </a:path>
              <a:path w="6762" h="1764">
                <a:moveTo>
                  <a:pt x="17574" y="15276"/>
                </a:moveTo>
                <a:cubicBezTo>
                  <a:pt x="17572" y="15265"/>
                  <a:pt x="17570" y="15260"/>
                  <a:pt x="17559" y="15259"/>
                </a:cubicBezTo>
                <a:cubicBezTo>
                  <a:pt x="17538" y="15285"/>
                  <a:pt x="17536" y="15318"/>
                  <a:pt x="17530" y="15352"/>
                </a:cubicBezTo>
                <a:cubicBezTo>
                  <a:pt x="17518" y="15422"/>
                  <a:pt x="17517" y="15493"/>
                  <a:pt x="17512" y="15564"/>
                </a:cubicBezTo>
                <a:cubicBezTo>
                  <a:pt x="17507" y="15633"/>
                  <a:pt x="17500" y="15704"/>
                  <a:pt x="17504" y="15773"/>
                </a:cubicBezTo>
                <a:cubicBezTo>
                  <a:pt x="17506" y="15802"/>
                  <a:pt x="17507" y="15848"/>
                  <a:pt x="17524" y="15874"/>
                </a:cubicBezTo>
                <a:cubicBezTo>
                  <a:pt x="17527" y="15875"/>
                  <a:pt x="17531" y="15876"/>
                  <a:pt x="17534" y="15877"/>
                </a:cubicBezTo>
              </a:path>
              <a:path w="6762" h="1764">
                <a:moveTo>
                  <a:pt x="17981" y="15445"/>
                </a:moveTo>
                <a:cubicBezTo>
                  <a:pt x="17952" y="15456"/>
                  <a:pt x="17958" y="15477"/>
                  <a:pt x="17955" y="15508"/>
                </a:cubicBezTo>
                <a:cubicBezTo>
                  <a:pt x="17950" y="15561"/>
                  <a:pt x="17944" y="15613"/>
                  <a:pt x="17937" y="15666"/>
                </a:cubicBezTo>
                <a:cubicBezTo>
                  <a:pt x="17930" y="15724"/>
                  <a:pt x="17920" y="15782"/>
                  <a:pt x="17924" y="15841"/>
                </a:cubicBezTo>
                <a:cubicBezTo>
                  <a:pt x="17926" y="15873"/>
                  <a:pt x="17932" y="15881"/>
                  <a:pt x="17952" y="15902"/>
                </a:cubicBezTo>
              </a:path>
              <a:path w="6762" h="1764">
                <a:moveTo>
                  <a:pt x="18438" y="15446"/>
                </a:moveTo>
                <a:cubicBezTo>
                  <a:pt x="18434" y="15444"/>
                  <a:pt x="18430" y="15443"/>
                  <a:pt x="18426" y="15441"/>
                </a:cubicBezTo>
                <a:cubicBezTo>
                  <a:pt x="18448" y="15436"/>
                  <a:pt x="18461" y="15435"/>
                  <a:pt x="18485" y="15437"/>
                </a:cubicBezTo>
                <a:cubicBezTo>
                  <a:pt x="18520" y="15441"/>
                  <a:pt x="18558" y="15447"/>
                  <a:pt x="18592" y="15456"/>
                </a:cubicBezTo>
                <a:cubicBezTo>
                  <a:pt x="18621" y="15464"/>
                  <a:pt x="18657" y="15474"/>
                  <a:pt x="18665" y="15507"/>
                </a:cubicBezTo>
                <a:cubicBezTo>
                  <a:pt x="18674" y="15546"/>
                  <a:pt x="18646" y="15599"/>
                  <a:pt x="18630" y="15632"/>
                </a:cubicBezTo>
                <a:cubicBezTo>
                  <a:pt x="18603" y="15688"/>
                  <a:pt x="18573" y="15745"/>
                  <a:pt x="18541" y="15798"/>
                </a:cubicBezTo>
                <a:cubicBezTo>
                  <a:pt x="18537" y="15805"/>
                  <a:pt x="18478" y="15894"/>
                  <a:pt x="18487" y="15901"/>
                </a:cubicBezTo>
                <a:cubicBezTo>
                  <a:pt x="18487" y="15915"/>
                  <a:pt x="18491" y="15916"/>
                  <a:pt x="18508" y="15899"/>
                </a:cubicBezTo>
              </a:path>
              <a:path w="6762" h="1764">
                <a:moveTo>
                  <a:pt x="19093" y="15482"/>
                </a:moveTo>
                <a:cubicBezTo>
                  <a:pt x="19061" y="15496"/>
                  <a:pt x="19028" y="15509"/>
                  <a:pt x="19002" y="15533"/>
                </a:cubicBezTo>
                <a:cubicBezTo>
                  <a:pt x="18971" y="15561"/>
                  <a:pt x="18944" y="15602"/>
                  <a:pt x="18943" y="15644"/>
                </a:cubicBezTo>
                <a:cubicBezTo>
                  <a:pt x="18942" y="15689"/>
                  <a:pt x="18983" y="15717"/>
                  <a:pt x="19012" y="15743"/>
                </a:cubicBezTo>
                <a:cubicBezTo>
                  <a:pt x="19045" y="15772"/>
                  <a:pt x="19089" y="15806"/>
                  <a:pt x="19103" y="15850"/>
                </a:cubicBezTo>
                <a:cubicBezTo>
                  <a:pt x="19116" y="15892"/>
                  <a:pt x="19093" y="15937"/>
                  <a:pt x="19061" y="15963"/>
                </a:cubicBezTo>
                <a:cubicBezTo>
                  <a:pt x="19032" y="15987"/>
                  <a:pt x="18989" y="16003"/>
                  <a:pt x="18954" y="15982"/>
                </a:cubicBezTo>
                <a:cubicBezTo>
                  <a:pt x="18916" y="15959"/>
                  <a:pt x="18925" y="15899"/>
                  <a:pt x="18935" y="15864"/>
                </a:cubicBezTo>
                <a:cubicBezTo>
                  <a:pt x="18955" y="15796"/>
                  <a:pt x="18994" y="15732"/>
                  <a:pt x="19024" y="15668"/>
                </a:cubicBezTo>
                <a:cubicBezTo>
                  <a:pt x="19048" y="15617"/>
                  <a:pt x="19080" y="15564"/>
                  <a:pt x="19092" y="15509"/>
                </a:cubicBezTo>
                <a:cubicBezTo>
                  <a:pt x="19097" y="15485"/>
                  <a:pt x="19094" y="15482"/>
                  <a:pt x="19078" y="15471"/>
                </a:cubicBezTo>
                <a:cubicBezTo>
                  <a:pt x="19051" y="15481"/>
                  <a:pt x="19041" y="15493"/>
                  <a:pt x="19029" y="15519"/>
                </a:cubicBezTo>
                <a:cubicBezTo>
                  <a:pt x="19018" y="15543"/>
                  <a:pt x="19022" y="15548"/>
                  <a:pt x="19035" y="15567"/>
                </a:cubicBezTo>
              </a:path>
              <a:path w="6762" h="1764">
                <a:moveTo>
                  <a:pt x="19321" y="15467"/>
                </a:moveTo>
                <a:cubicBezTo>
                  <a:pt x="19327" y="15438"/>
                  <a:pt x="19344" y="15435"/>
                  <a:pt x="19373" y="15427"/>
                </a:cubicBezTo>
                <a:cubicBezTo>
                  <a:pt x="19412" y="15417"/>
                  <a:pt x="19459" y="15415"/>
                  <a:pt x="19496" y="15434"/>
                </a:cubicBezTo>
                <a:cubicBezTo>
                  <a:pt x="19535" y="15453"/>
                  <a:pt x="19547" y="15489"/>
                  <a:pt x="19534" y="15529"/>
                </a:cubicBezTo>
                <a:cubicBezTo>
                  <a:pt x="19519" y="15575"/>
                  <a:pt x="19479" y="15616"/>
                  <a:pt x="19445" y="15649"/>
                </a:cubicBezTo>
                <a:cubicBezTo>
                  <a:pt x="19421" y="15673"/>
                  <a:pt x="19401" y="15688"/>
                  <a:pt x="19383" y="15715"/>
                </a:cubicBezTo>
                <a:cubicBezTo>
                  <a:pt x="19405" y="15735"/>
                  <a:pt x="19430" y="15741"/>
                  <a:pt x="19457" y="15754"/>
                </a:cubicBezTo>
                <a:cubicBezTo>
                  <a:pt x="19491" y="15770"/>
                  <a:pt x="19524" y="15790"/>
                  <a:pt x="19539" y="15826"/>
                </a:cubicBezTo>
                <a:cubicBezTo>
                  <a:pt x="19554" y="15862"/>
                  <a:pt x="19527" y="15897"/>
                  <a:pt x="19502" y="15920"/>
                </a:cubicBezTo>
                <a:cubicBezTo>
                  <a:pt x="19467" y="15952"/>
                  <a:pt x="19417" y="15976"/>
                  <a:pt x="19370" y="15979"/>
                </a:cubicBezTo>
                <a:cubicBezTo>
                  <a:pt x="19327" y="15982"/>
                  <a:pt x="19353" y="15954"/>
                  <a:pt x="19364" y="15936"/>
                </a:cubicBezTo>
              </a:path>
              <a:path w="6762" h="1764">
                <a:moveTo>
                  <a:pt x="19763" y="15682"/>
                </a:moveTo>
                <a:cubicBezTo>
                  <a:pt x="19778" y="15687"/>
                  <a:pt x="19776" y="15688"/>
                  <a:pt x="19789" y="15700"/>
                </a:cubicBezTo>
                <a:cubicBezTo>
                  <a:pt x="19782" y="15690"/>
                  <a:pt x="19748" y="15665"/>
                  <a:pt x="19760" y="15651"/>
                </a:cubicBezTo>
                <a:cubicBezTo>
                  <a:pt x="19770" y="15640"/>
                  <a:pt x="19815" y="15639"/>
                  <a:pt x="19828" y="15636"/>
                </a:cubicBezTo>
              </a:path>
              <a:path w="6762" h="1764">
                <a:moveTo>
                  <a:pt x="20118" y="15470"/>
                </a:moveTo>
                <a:cubicBezTo>
                  <a:pt x="20143" y="15477"/>
                  <a:pt x="20165" y="15473"/>
                  <a:pt x="20191" y="15472"/>
                </a:cubicBezTo>
                <a:cubicBezTo>
                  <a:pt x="20232" y="15470"/>
                  <a:pt x="20274" y="15465"/>
                  <a:pt x="20314" y="15465"/>
                </a:cubicBezTo>
                <a:cubicBezTo>
                  <a:pt x="20330" y="15467"/>
                  <a:pt x="20334" y="15467"/>
                  <a:pt x="20344" y="15467"/>
                </a:cubicBezTo>
              </a:path>
              <a:path w="6762" h="1764">
                <a:moveTo>
                  <a:pt x="20213" y="15490"/>
                </a:moveTo>
                <a:cubicBezTo>
                  <a:pt x="20179" y="15512"/>
                  <a:pt x="20146" y="15535"/>
                  <a:pt x="20126" y="15571"/>
                </a:cubicBezTo>
                <a:cubicBezTo>
                  <a:pt x="20106" y="15607"/>
                  <a:pt x="20115" y="15637"/>
                  <a:pt x="20143" y="15666"/>
                </a:cubicBezTo>
                <a:cubicBezTo>
                  <a:pt x="20177" y="15701"/>
                  <a:pt x="20224" y="15721"/>
                  <a:pt x="20260" y="15755"/>
                </a:cubicBezTo>
                <a:cubicBezTo>
                  <a:pt x="20288" y="15782"/>
                  <a:pt x="20308" y="15819"/>
                  <a:pt x="20282" y="15856"/>
                </a:cubicBezTo>
                <a:cubicBezTo>
                  <a:pt x="20256" y="15893"/>
                  <a:pt x="20189" y="15916"/>
                  <a:pt x="20146" y="15916"/>
                </a:cubicBezTo>
                <a:cubicBezTo>
                  <a:pt x="20097" y="15917"/>
                  <a:pt x="20075" y="15889"/>
                  <a:pt x="20042" y="15860"/>
                </a:cubicBezTo>
              </a:path>
              <a:path w="6762" h="1764">
                <a:moveTo>
                  <a:pt x="20159" y="15429"/>
                </a:moveTo>
                <a:cubicBezTo>
                  <a:pt x="20200" y="15424"/>
                  <a:pt x="20229" y="15422"/>
                  <a:pt x="20268" y="15439"/>
                </a:cubicBezTo>
                <a:cubicBezTo>
                  <a:pt x="20319" y="15461"/>
                  <a:pt x="20356" y="15500"/>
                  <a:pt x="20395" y="15539"/>
                </a:cubicBezTo>
                <a:cubicBezTo>
                  <a:pt x="20420" y="15564"/>
                  <a:pt x="20428" y="15572"/>
                  <a:pt x="20445" y="15589"/>
                </a:cubicBezTo>
              </a:path>
              <a:path w="6762" h="1764">
                <a:moveTo>
                  <a:pt x="19841" y="16531"/>
                </a:moveTo>
                <a:cubicBezTo>
                  <a:pt x="19836" y="16533"/>
                  <a:pt x="19832" y="16536"/>
                  <a:pt x="19827" y="16538"/>
                </a:cubicBezTo>
                <a:cubicBezTo>
                  <a:pt x="19849" y="16539"/>
                  <a:pt x="19871" y="16536"/>
                  <a:pt x="19896" y="16532"/>
                </a:cubicBezTo>
                <a:cubicBezTo>
                  <a:pt x="19940" y="16525"/>
                  <a:pt x="19985" y="16516"/>
                  <a:pt x="20029" y="16509"/>
                </a:cubicBezTo>
                <a:cubicBezTo>
                  <a:pt x="20064" y="16504"/>
                  <a:pt x="20104" y="16498"/>
                  <a:pt x="20140" y="16504"/>
                </a:cubicBezTo>
                <a:cubicBezTo>
                  <a:pt x="20165" y="16508"/>
                  <a:pt x="20174" y="16527"/>
                  <a:pt x="20171" y="16550"/>
                </a:cubicBezTo>
                <a:cubicBezTo>
                  <a:pt x="20166" y="16590"/>
                  <a:pt x="20143" y="16627"/>
                  <a:pt x="20123" y="16661"/>
                </a:cubicBezTo>
                <a:cubicBezTo>
                  <a:pt x="20095" y="16709"/>
                  <a:pt x="20063" y="16754"/>
                  <a:pt x="20035" y="16802"/>
                </a:cubicBezTo>
                <a:cubicBezTo>
                  <a:pt x="20014" y="16838"/>
                  <a:pt x="19994" y="16875"/>
                  <a:pt x="19978" y="16914"/>
                </a:cubicBezTo>
                <a:cubicBezTo>
                  <a:pt x="19976" y="16919"/>
                  <a:pt x="19957" y="16958"/>
                  <a:pt x="19962" y="16964"/>
                </a:cubicBezTo>
                <a:cubicBezTo>
                  <a:pt x="19965" y="16961"/>
                  <a:pt x="19968" y="16959"/>
                  <a:pt x="19971" y="16956"/>
                </a:cubicBezTo>
              </a:path>
              <a:path w="6762" h="1764">
                <a:moveTo>
                  <a:pt x="20415" y="16574"/>
                </a:moveTo>
                <a:cubicBezTo>
                  <a:pt x="20416" y="16596"/>
                  <a:pt x="20410" y="16618"/>
                  <a:pt x="20411" y="16640"/>
                </a:cubicBezTo>
                <a:cubicBezTo>
                  <a:pt x="20412" y="16645"/>
                  <a:pt x="20413" y="16649"/>
                  <a:pt x="20414" y="16654"/>
                </a:cubicBezTo>
                <a:cubicBezTo>
                  <a:pt x="20435" y="16644"/>
                  <a:pt x="20445" y="16631"/>
                  <a:pt x="20455" y="16608"/>
                </a:cubicBezTo>
                <a:cubicBezTo>
                  <a:pt x="20462" y="16593"/>
                  <a:pt x="20471" y="16576"/>
                  <a:pt x="20476" y="16560"/>
                </a:cubicBezTo>
                <a:cubicBezTo>
                  <a:pt x="20477" y="16556"/>
                  <a:pt x="20477" y="16553"/>
                  <a:pt x="20478" y="16549"/>
                </a:cubicBezTo>
                <a:cubicBezTo>
                  <a:pt x="20459" y="16561"/>
                  <a:pt x="20454" y="16571"/>
                  <a:pt x="20434" y="16586"/>
                </a:cubicBezTo>
              </a:path>
              <a:path w="6762" h="1764">
                <a:moveTo>
                  <a:pt x="20669" y="16361"/>
                </a:moveTo>
                <a:cubicBezTo>
                  <a:pt x="20679" y="16387"/>
                  <a:pt x="20673" y="16413"/>
                  <a:pt x="20669" y="16443"/>
                </a:cubicBezTo>
                <a:cubicBezTo>
                  <a:pt x="20663" y="16485"/>
                  <a:pt x="20656" y="16526"/>
                  <a:pt x="20650" y="16568"/>
                </a:cubicBezTo>
                <a:cubicBezTo>
                  <a:pt x="20645" y="16605"/>
                  <a:pt x="20642" y="16643"/>
                  <a:pt x="20646" y="16680"/>
                </a:cubicBezTo>
                <a:cubicBezTo>
                  <a:pt x="20649" y="16705"/>
                  <a:pt x="20661" y="16724"/>
                  <a:pt x="20688" y="16726"/>
                </a:cubicBezTo>
                <a:cubicBezTo>
                  <a:pt x="20735" y="16729"/>
                  <a:pt x="20793" y="16699"/>
                  <a:pt x="20833" y="16679"/>
                </a:cubicBezTo>
                <a:cubicBezTo>
                  <a:pt x="20880" y="16655"/>
                  <a:pt x="20929" y="16633"/>
                  <a:pt x="20974" y="16607"/>
                </a:cubicBezTo>
                <a:cubicBezTo>
                  <a:pt x="20990" y="16598"/>
                  <a:pt x="21046" y="16574"/>
                  <a:pt x="21054" y="16556"/>
                </a:cubicBezTo>
                <a:cubicBezTo>
                  <a:pt x="21050" y="16545"/>
                  <a:pt x="21048" y="16541"/>
                  <a:pt x="21038" y="16540"/>
                </a:cubicBezTo>
              </a:path>
              <a:path w="6762" h="1764">
                <a:moveTo>
                  <a:pt x="20835" y="16421"/>
                </a:moveTo>
                <a:cubicBezTo>
                  <a:pt x="20828" y="16451"/>
                  <a:pt x="20827" y="16477"/>
                  <a:pt x="20828" y="16508"/>
                </a:cubicBezTo>
                <a:cubicBezTo>
                  <a:pt x="20830" y="16552"/>
                  <a:pt x="20834" y="16596"/>
                  <a:pt x="20836" y="16640"/>
                </a:cubicBezTo>
                <a:cubicBezTo>
                  <a:pt x="20838" y="16673"/>
                  <a:pt x="20838" y="16700"/>
                  <a:pt x="20856" y="16727"/>
                </a:cubicBezTo>
                <a:cubicBezTo>
                  <a:pt x="20866" y="16743"/>
                  <a:pt x="20869" y="16739"/>
                  <a:pt x="20885" y="16734"/>
                </a:cubicBezTo>
              </a:path>
              <a:path w="6762" h="1764">
                <a:moveTo>
                  <a:pt x="21275" y="16239"/>
                </a:moveTo>
                <a:cubicBezTo>
                  <a:pt x="21266" y="16238"/>
                  <a:pt x="21258" y="16237"/>
                  <a:pt x="21232" y="16260"/>
                </a:cubicBezTo>
                <a:cubicBezTo>
                  <a:pt x="21202" y="16287"/>
                  <a:pt x="21162" y="16316"/>
                  <a:pt x="21146" y="16354"/>
                </a:cubicBezTo>
                <a:cubicBezTo>
                  <a:pt x="21133" y="16386"/>
                  <a:pt x="21163" y="16402"/>
                  <a:pt x="21186" y="16415"/>
                </a:cubicBezTo>
                <a:cubicBezTo>
                  <a:pt x="21240" y="16445"/>
                  <a:pt x="21305" y="16463"/>
                  <a:pt x="21350" y="16508"/>
                </a:cubicBezTo>
                <a:cubicBezTo>
                  <a:pt x="21376" y="16534"/>
                  <a:pt x="21384" y="16567"/>
                  <a:pt x="21369" y="16601"/>
                </a:cubicBezTo>
                <a:cubicBezTo>
                  <a:pt x="21351" y="16641"/>
                  <a:pt x="21313" y="16667"/>
                  <a:pt x="21275" y="16686"/>
                </a:cubicBezTo>
                <a:cubicBezTo>
                  <a:pt x="21247" y="16700"/>
                  <a:pt x="21188" y="16719"/>
                  <a:pt x="21165" y="16685"/>
                </a:cubicBezTo>
                <a:cubicBezTo>
                  <a:pt x="21143" y="16652"/>
                  <a:pt x="21173" y="16610"/>
                  <a:pt x="21190" y="16583"/>
                </a:cubicBezTo>
                <a:cubicBezTo>
                  <a:pt x="21227" y="16527"/>
                  <a:pt x="21278" y="16478"/>
                  <a:pt x="21328" y="16434"/>
                </a:cubicBezTo>
                <a:cubicBezTo>
                  <a:pt x="21372" y="16395"/>
                  <a:pt x="21418" y="16357"/>
                  <a:pt x="21461" y="16318"/>
                </a:cubicBezTo>
                <a:cubicBezTo>
                  <a:pt x="21482" y="16299"/>
                  <a:pt x="21477" y="16296"/>
                  <a:pt x="21485" y="16276"/>
                </a:cubicBezTo>
                <a:cubicBezTo>
                  <a:pt x="21456" y="16269"/>
                  <a:pt x="21423" y="16264"/>
                  <a:pt x="21393" y="16271"/>
                </a:cubicBezTo>
                <a:cubicBezTo>
                  <a:pt x="21365" y="16278"/>
                  <a:pt x="21338" y="16286"/>
                  <a:pt x="21309" y="16289"/>
                </a:cubicBezTo>
                <a:cubicBezTo>
                  <a:pt x="21305" y="16289"/>
                  <a:pt x="21302" y="16290"/>
                  <a:pt x="21298" y="16290"/>
                </a:cubicBezTo>
              </a:path>
              <a:path w="6762" h="1764">
                <a:moveTo>
                  <a:pt x="21634" y="16186"/>
                </a:moveTo>
                <a:cubicBezTo>
                  <a:pt x="21648" y="16174"/>
                  <a:pt x="21649" y="16168"/>
                  <a:pt x="21667" y="16157"/>
                </a:cubicBezTo>
                <a:cubicBezTo>
                  <a:pt x="21683" y="16147"/>
                  <a:pt x="21703" y="16146"/>
                  <a:pt x="21721" y="16146"/>
                </a:cubicBezTo>
                <a:cubicBezTo>
                  <a:pt x="21739" y="16146"/>
                  <a:pt x="21762" y="16146"/>
                  <a:pt x="21779" y="16153"/>
                </a:cubicBezTo>
                <a:cubicBezTo>
                  <a:pt x="21796" y="16160"/>
                  <a:pt x="21809" y="16170"/>
                  <a:pt x="21808" y="16191"/>
                </a:cubicBezTo>
                <a:cubicBezTo>
                  <a:pt x="21807" y="16213"/>
                  <a:pt x="21791" y="16238"/>
                  <a:pt x="21778" y="16254"/>
                </a:cubicBezTo>
                <a:cubicBezTo>
                  <a:pt x="21760" y="16276"/>
                  <a:pt x="21738" y="16294"/>
                  <a:pt x="21718" y="16315"/>
                </a:cubicBezTo>
                <a:cubicBezTo>
                  <a:pt x="21708" y="16326"/>
                  <a:pt x="21701" y="16338"/>
                  <a:pt x="21693" y="16349"/>
                </a:cubicBezTo>
                <a:cubicBezTo>
                  <a:pt x="21725" y="16364"/>
                  <a:pt x="21764" y="16370"/>
                  <a:pt x="21793" y="16392"/>
                </a:cubicBezTo>
                <a:cubicBezTo>
                  <a:pt x="21815" y="16408"/>
                  <a:pt x="21831" y="16429"/>
                  <a:pt x="21835" y="16457"/>
                </a:cubicBezTo>
                <a:cubicBezTo>
                  <a:pt x="21839" y="16484"/>
                  <a:pt x="21825" y="16516"/>
                  <a:pt x="21809" y="16537"/>
                </a:cubicBezTo>
                <a:cubicBezTo>
                  <a:pt x="21791" y="16560"/>
                  <a:pt x="21764" y="16579"/>
                  <a:pt x="21737" y="16589"/>
                </a:cubicBezTo>
                <a:cubicBezTo>
                  <a:pt x="21708" y="16600"/>
                  <a:pt x="21669" y="16602"/>
                  <a:pt x="21639" y="16594"/>
                </a:cubicBezTo>
                <a:cubicBezTo>
                  <a:pt x="21620" y="16589"/>
                  <a:pt x="21611" y="16581"/>
                  <a:pt x="21601" y="16564"/>
                </a:cubicBezTo>
              </a:path>
              <a:path w="6762" h="1764">
                <a:moveTo>
                  <a:pt x="22301" y="15999"/>
                </a:moveTo>
                <a:cubicBezTo>
                  <a:pt x="22296" y="15999"/>
                  <a:pt x="22286" y="15991"/>
                  <a:pt x="22271" y="16015"/>
                </a:cubicBezTo>
                <a:cubicBezTo>
                  <a:pt x="22249" y="16051"/>
                  <a:pt x="22232" y="16096"/>
                  <a:pt x="22217" y="16135"/>
                </a:cubicBezTo>
                <a:cubicBezTo>
                  <a:pt x="22192" y="16200"/>
                  <a:pt x="22168" y="16265"/>
                  <a:pt x="22151" y="16333"/>
                </a:cubicBezTo>
                <a:cubicBezTo>
                  <a:pt x="22138" y="16387"/>
                  <a:pt x="22114" y="16469"/>
                  <a:pt x="22152" y="16518"/>
                </a:cubicBezTo>
                <a:cubicBezTo>
                  <a:pt x="22177" y="16550"/>
                  <a:pt x="22213" y="16537"/>
                  <a:pt x="22243" y="16522"/>
                </a:cubicBezTo>
                <a:cubicBezTo>
                  <a:pt x="22282" y="16503"/>
                  <a:pt x="22313" y="16472"/>
                  <a:pt x="22328" y="16431"/>
                </a:cubicBezTo>
                <a:cubicBezTo>
                  <a:pt x="22341" y="16395"/>
                  <a:pt x="22336" y="16363"/>
                  <a:pt x="22305" y="16338"/>
                </a:cubicBezTo>
                <a:cubicBezTo>
                  <a:pt x="22273" y="16313"/>
                  <a:pt x="22222" y="16311"/>
                  <a:pt x="22183" y="16314"/>
                </a:cubicBezTo>
                <a:cubicBezTo>
                  <a:pt x="22164" y="16316"/>
                  <a:pt x="22120" y="16330"/>
                  <a:pt x="22103" y="16324"/>
                </a:cubicBezTo>
                <a:cubicBezTo>
                  <a:pt x="22107" y="16322"/>
                  <a:pt x="22110" y="16319"/>
                  <a:pt x="22114" y="16317"/>
                </a:cubicBezTo>
              </a:path>
              <a:path w="6762" h="1764">
                <a:moveTo>
                  <a:pt x="22650" y="16040"/>
                </a:moveTo>
                <a:cubicBezTo>
                  <a:pt x="22659" y="16013"/>
                  <a:pt x="22660" y="16001"/>
                  <a:pt x="22656" y="15974"/>
                </a:cubicBezTo>
                <a:cubicBezTo>
                  <a:pt x="22651" y="15944"/>
                  <a:pt x="22641" y="15925"/>
                  <a:pt x="22606" y="15937"/>
                </a:cubicBezTo>
                <a:cubicBezTo>
                  <a:pt x="22568" y="15950"/>
                  <a:pt x="22534" y="15973"/>
                  <a:pt x="22506" y="16001"/>
                </a:cubicBezTo>
                <a:cubicBezTo>
                  <a:pt x="22480" y="16026"/>
                  <a:pt x="22431" y="16072"/>
                  <a:pt x="22442" y="16114"/>
                </a:cubicBezTo>
                <a:cubicBezTo>
                  <a:pt x="22449" y="16142"/>
                  <a:pt x="22496" y="16133"/>
                  <a:pt x="22514" y="16128"/>
                </a:cubicBezTo>
                <a:cubicBezTo>
                  <a:pt x="22563" y="16115"/>
                  <a:pt x="22610" y="16089"/>
                  <a:pt x="22656" y="16071"/>
                </a:cubicBezTo>
                <a:cubicBezTo>
                  <a:pt x="22638" y="16113"/>
                  <a:pt x="22610" y="16151"/>
                  <a:pt x="22584" y="16190"/>
                </a:cubicBezTo>
                <a:cubicBezTo>
                  <a:pt x="22542" y="16253"/>
                  <a:pt x="22492" y="16319"/>
                  <a:pt x="22486" y="16394"/>
                </a:cubicBezTo>
                <a:cubicBezTo>
                  <a:pt x="22483" y="16426"/>
                  <a:pt x="22500" y="16418"/>
                  <a:pt x="22524" y="16410"/>
                </a:cubicBezTo>
              </a:path>
              <a:path w="6762" h="1764">
                <a:moveTo>
                  <a:pt x="22841" y="15907"/>
                </a:moveTo>
                <a:cubicBezTo>
                  <a:pt x="22848" y="15944"/>
                  <a:pt x="22833" y="15980"/>
                  <a:pt x="22823" y="16018"/>
                </a:cubicBezTo>
                <a:cubicBezTo>
                  <a:pt x="22804" y="16092"/>
                  <a:pt x="22783" y="16165"/>
                  <a:pt x="22771" y="16241"/>
                </a:cubicBezTo>
                <a:cubicBezTo>
                  <a:pt x="22764" y="16288"/>
                  <a:pt x="22753" y="16351"/>
                  <a:pt x="22785" y="16393"/>
                </a:cubicBezTo>
                <a:cubicBezTo>
                  <a:pt x="22806" y="16421"/>
                  <a:pt x="22846" y="16414"/>
                  <a:pt x="22872" y="16399"/>
                </a:cubicBezTo>
                <a:cubicBezTo>
                  <a:pt x="22904" y="16381"/>
                  <a:pt x="22926" y="16344"/>
                  <a:pt x="22929" y="16308"/>
                </a:cubicBezTo>
                <a:cubicBezTo>
                  <a:pt x="22932" y="16274"/>
                  <a:pt x="22914" y="16246"/>
                  <a:pt x="22884" y="16231"/>
                </a:cubicBezTo>
                <a:cubicBezTo>
                  <a:pt x="22873" y="16225"/>
                  <a:pt x="22804" y="16227"/>
                  <a:pt x="22808" y="16230"/>
                </a:cubicBezTo>
                <a:cubicBezTo>
                  <a:pt x="22816" y="16232"/>
                  <a:pt x="22825" y="16234"/>
                  <a:pt x="22833" y="16236"/>
                </a:cubicBezTo>
              </a:path>
              <a:path w="6762" h="1764">
                <a:moveTo>
                  <a:pt x="23366" y="15990"/>
                </a:moveTo>
                <a:cubicBezTo>
                  <a:pt x="23396" y="15968"/>
                  <a:pt x="23343" y="16041"/>
                  <a:pt x="23337" y="16050"/>
                </a:cubicBezTo>
                <a:cubicBezTo>
                  <a:pt x="23302" y="16099"/>
                  <a:pt x="23261" y="16145"/>
                  <a:pt x="23223" y="16192"/>
                </a:cubicBezTo>
                <a:cubicBezTo>
                  <a:pt x="23192" y="16231"/>
                  <a:pt x="23160" y="16262"/>
                  <a:pt x="23124" y="16294"/>
                </a:cubicBezTo>
                <a:cubicBezTo>
                  <a:pt x="23113" y="16307"/>
                  <a:pt x="23110" y="16308"/>
                  <a:pt x="23111" y="16284"/>
                </a:cubicBezTo>
              </a:path>
              <a:path w="6762" h="1764">
                <a:moveTo>
                  <a:pt x="23140" y="16051"/>
                </a:moveTo>
                <a:cubicBezTo>
                  <a:pt x="23171" y="16055"/>
                  <a:pt x="23191" y="16074"/>
                  <a:pt x="23216" y="16094"/>
                </a:cubicBezTo>
                <a:cubicBezTo>
                  <a:pt x="23274" y="16140"/>
                  <a:pt x="23334" y="16188"/>
                  <a:pt x="23397" y="16226"/>
                </a:cubicBezTo>
                <a:cubicBezTo>
                  <a:pt x="23423" y="16242"/>
                  <a:pt x="23441" y="16247"/>
                  <a:pt x="23470" y="16252"/>
                </a:cubicBezTo>
              </a:path>
              <a:path w="6762" h="1764">
                <a:moveTo>
                  <a:pt x="23692" y="15941"/>
                </a:moveTo>
                <a:cubicBezTo>
                  <a:pt x="23681" y="15991"/>
                  <a:pt x="23665" y="16039"/>
                  <a:pt x="23647" y="16087"/>
                </a:cubicBezTo>
                <a:cubicBezTo>
                  <a:pt x="23630" y="16133"/>
                  <a:pt x="23611" y="16180"/>
                  <a:pt x="23602" y="16228"/>
                </a:cubicBezTo>
                <a:cubicBezTo>
                  <a:pt x="23598" y="16251"/>
                  <a:pt x="23597" y="16255"/>
                  <a:pt x="23613" y="16267"/>
                </a:cubicBezTo>
              </a:path>
              <a:path w="6762" h="1764">
                <a:moveTo>
                  <a:pt x="23926" y="16001"/>
                </a:moveTo>
                <a:cubicBezTo>
                  <a:pt x="23912" y="16046"/>
                  <a:pt x="23887" y="16087"/>
                  <a:pt x="23872" y="16132"/>
                </a:cubicBezTo>
                <a:cubicBezTo>
                  <a:pt x="23859" y="16169"/>
                  <a:pt x="23850" y="16216"/>
                  <a:pt x="23880" y="16248"/>
                </a:cubicBezTo>
                <a:cubicBezTo>
                  <a:pt x="23911" y="16281"/>
                  <a:pt x="23969" y="16264"/>
                  <a:pt x="24004" y="16249"/>
                </a:cubicBezTo>
                <a:cubicBezTo>
                  <a:pt x="24060" y="16226"/>
                  <a:pt x="24093" y="16180"/>
                  <a:pt x="24115" y="16125"/>
                </a:cubicBezTo>
                <a:cubicBezTo>
                  <a:pt x="24136" y="16072"/>
                  <a:pt x="24135" y="16020"/>
                  <a:pt x="24096" y="15976"/>
                </a:cubicBezTo>
                <a:cubicBezTo>
                  <a:pt x="24056" y="15931"/>
                  <a:pt x="24000" y="15928"/>
                  <a:pt x="23945" y="15922"/>
                </a:cubicBezTo>
                <a:cubicBezTo>
                  <a:pt x="23907" y="15918"/>
                  <a:pt x="23873" y="15920"/>
                  <a:pt x="23835" y="15920"/>
                </a:cubicBezTo>
              </a:path>
              <a:path w="6762" h="1764">
                <a:moveTo>
                  <a:pt x="20483" y="17022"/>
                </a:moveTo>
                <a:cubicBezTo>
                  <a:pt x="20536" y="17011"/>
                  <a:pt x="20588" y="17002"/>
                  <a:pt x="20641" y="16992"/>
                </a:cubicBezTo>
                <a:cubicBezTo>
                  <a:pt x="20748" y="16972"/>
                  <a:pt x="20855" y="16961"/>
                  <a:pt x="20964" y="16948"/>
                </a:cubicBezTo>
                <a:cubicBezTo>
                  <a:pt x="21189" y="16922"/>
                  <a:pt x="21412" y="16891"/>
                  <a:pt x="21635" y="16854"/>
                </a:cubicBezTo>
                <a:cubicBezTo>
                  <a:pt x="22222" y="16755"/>
                  <a:pt x="22808" y="16642"/>
                  <a:pt x="23392" y="16531"/>
                </a:cubicBezTo>
                <a:cubicBezTo>
                  <a:pt x="23528" y="16505"/>
                  <a:pt x="23665" y="16479"/>
                  <a:pt x="23802" y="16461"/>
                </a:cubicBezTo>
                <a:cubicBezTo>
                  <a:pt x="23762" y="16477"/>
                  <a:pt x="23716" y="16497"/>
                  <a:pt x="23668" y="16508"/>
                </a:cubicBezTo>
                <a:cubicBezTo>
                  <a:pt x="23588" y="16526"/>
                  <a:pt x="23558" y="16533"/>
                  <a:pt x="23502" y="16540"/>
                </a:cubicBezTo>
              </a:path>
              <a:path w="6762" h="1764">
                <a:moveTo>
                  <a:pt x="20902" y="17006"/>
                </a:moveTo>
                <a:cubicBezTo>
                  <a:pt x="20905" y="17003"/>
                  <a:pt x="20897" y="16984"/>
                  <a:pt x="20925" y="16966"/>
                </a:cubicBezTo>
                <a:cubicBezTo>
                  <a:pt x="20985" y="16927"/>
                  <a:pt x="21059" y="16916"/>
                  <a:pt x="21127" y="16899"/>
                </a:cubicBezTo>
                <a:cubicBezTo>
                  <a:pt x="21272" y="16863"/>
                  <a:pt x="21420" y="16839"/>
                  <a:pt x="21568" y="16817"/>
                </a:cubicBezTo>
                <a:cubicBezTo>
                  <a:pt x="22110" y="16735"/>
                  <a:pt x="22657" y="16743"/>
                  <a:pt x="23199" y="16676"/>
                </a:cubicBezTo>
                <a:cubicBezTo>
                  <a:pt x="23412" y="16650"/>
                  <a:pt x="23635" y="16612"/>
                  <a:pt x="23845" y="16567"/>
                </a:cubicBezTo>
                <a:cubicBezTo>
                  <a:pt x="23880" y="16560"/>
                  <a:pt x="23860" y="16568"/>
                  <a:pt x="23840" y="16563"/>
                </a:cubicBezTo>
                <a:cubicBezTo>
                  <a:pt x="23824" y="16559"/>
                  <a:pt x="23805" y="16559"/>
                  <a:pt x="23789" y="16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47"/>
          <p:cNvSpPr/>
          <p:nvPr/>
        </p:nvSpPr>
        <p:spPr>
          <a:xfrm>
            <a:off x="5735520" y="6332400"/>
            <a:ext cx="588960" cy="162000"/>
          </a:xfrm>
          <a:custGeom>
            <a:avLst/>
            <a:gdLst/>
            <a:ahLst/>
            <a:rect l="l" t="t" r="r" b="b"/>
            <a:pathLst>
              <a:path w="1637" h="451">
                <a:moveTo>
                  <a:pt x="16057" y="17613"/>
                </a:moveTo>
                <a:cubicBezTo>
                  <a:pt x="16034" y="17614"/>
                  <a:pt x="16022" y="17618"/>
                  <a:pt x="16004" y="17634"/>
                </a:cubicBezTo>
                <a:cubicBezTo>
                  <a:pt x="15982" y="17654"/>
                  <a:pt x="15955" y="17685"/>
                  <a:pt x="15945" y="17713"/>
                </a:cubicBezTo>
                <a:cubicBezTo>
                  <a:pt x="15910" y="17815"/>
                  <a:pt x="15995" y="17823"/>
                  <a:pt x="16046" y="17891"/>
                </a:cubicBezTo>
                <a:cubicBezTo>
                  <a:pt x="16094" y="17955"/>
                  <a:pt x="16081" y="17977"/>
                  <a:pt x="16057" y="18041"/>
                </a:cubicBezTo>
                <a:cubicBezTo>
                  <a:pt x="15989" y="18009"/>
                  <a:pt x="15990" y="17996"/>
                  <a:pt x="16003" y="17921"/>
                </a:cubicBezTo>
                <a:cubicBezTo>
                  <a:pt x="16014" y="17854"/>
                  <a:pt x="16049" y="17805"/>
                  <a:pt x="16075" y="17744"/>
                </a:cubicBezTo>
                <a:cubicBezTo>
                  <a:pt x="16080" y="17732"/>
                  <a:pt x="16094" y="17694"/>
                  <a:pt x="16084" y="17679"/>
                </a:cubicBezTo>
                <a:cubicBezTo>
                  <a:pt x="16078" y="17669"/>
                  <a:pt x="16054" y="17652"/>
                  <a:pt x="16040" y="17659"/>
                </a:cubicBezTo>
                <a:cubicBezTo>
                  <a:pt x="16028" y="17671"/>
                  <a:pt x="16024" y="17675"/>
                  <a:pt x="16017" y="17684"/>
                </a:cubicBezTo>
              </a:path>
              <a:path w="1637" h="451">
                <a:moveTo>
                  <a:pt x="16337" y="17679"/>
                </a:moveTo>
                <a:cubicBezTo>
                  <a:pt x="16314" y="17681"/>
                  <a:pt x="16307" y="17682"/>
                  <a:pt x="16291" y="17697"/>
                </a:cubicBezTo>
                <a:cubicBezTo>
                  <a:pt x="16282" y="17706"/>
                  <a:pt x="16263" y="17729"/>
                  <a:pt x="16269" y="17743"/>
                </a:cubicBezTo>
                <a:cubicBezTo>
                  <a:pt x="16298" y="17816"/>
                  <a:pt x="16386" y="17818"/>
                  <a:pt x="16410" y="17899"/>
                </a:cubicBezTo>
                <a:cubicBezTo>
                  <a:pt x="16432" y="17973"/>
                  <a:pt x="16386" y="17998"/>
                  <a:pt x="16340" y="18038"/>
                </a:cubicBezTo>
                <a:cubicBezTo>
                  <a:pt x="16318" y="17967"/>
                  <a:pt x="16330" y="17916"/>
                  <a:pt x="16359" y="17844"/>
                </a:cubicBezTo>
                <a:cubicBezTo>
                  <a:pt x="16385" y="17779"/>
                  <a:pt x="16421" y="17718"/>
                  <a:pt x="16458" y="17658"/>
                </a:cubicBezTo>
                <a:cubicBezTo>
                  <a:pt x="16469" y="17640"/>
                  <a:pt x="16470" y="17635"/>
                  <a:pt x="16468" y="17616"/>
                </a:cubicBezTo>
                <a:cubicBezTo>
                  <a:pt x="16441" y="17616"/>
                  <a:pt x="16416" y="17619"/>
                  <a:pt x="16391" y="17633"/>
                </a:cubicBezTo>
                <a:cubicBezTo>
                  <a:pt x="16368" y="17646"/>
                  <a:pt x="16347" y="17666"/>
                  <a:pt x="16331" y="17687"/>
                </a:cubicBezTo>
                <a:cubicBezTo>
                  <a:pt x="16329" y="17690"/>
                  <a:pt x="16327" y="17694"/>
                  <a:pt x="16325" y="17697"/>
                </a:cubicBezTo>
              </a:path>
              <a:path w="1637" h="451">
                <a:moveTo>
                  <a:pt x="16197" y="17763"/>
                </a:moveTo>
                <a:cubicBezTo>
                  <a:pt x="16218" y="17762"/>
                  <a:pt x="16223" y="17761"/>
                  <a:pt x="16231" y="17742"/>
                </a:cubicBezTo>
                <a:cubicBezTo>
                  <a:pt x="16213" y="17768"/>
                  <a:pt x="16223" y="17765"/>
                  <a:pt x="16232" y="17808"/>
                </a:cubicBezTo>
              </a:path>
              <a:path w="1637" h="451">
                <a:moveTo>
                  <a:pt x="16757" y="17664"/>
                </a:moveTo>
                <a:cubicBezTo>
                  <a:pt x="16731" y="17662"/>
                  <a:pt x="16718" y="17662"/>
                  <a:pt x="16696" y="17678"/>
                </a:cubicBezTo>
                <a:cubicBezTo>
                  <a:pt x="16678" y="17691"/>
                  <a:pt x="16657" y="17714"/>
                  <a:pt x="16646" y="17733"/>
                </a:cubicBezTo>
                <a:cubicBezTo>
                  <a:pt x="16636" y="17751"/>
                  <a:pt x="16631" y="17771"/>
                  <a:pt x="16649" y="17785"/>
                </a:cubicBezTo>
                <a:cubicBezTo>
                  <a:pt x="16679" y="17807"/>
                  <a:pt x="16723" y="17793"/>
                  <a:pt x="16752" y="17812"/>
                </a:cubicBezTo>
                <a:cubicBezTo>
                  <a:pt x="16827" y="17859"/>
                  <a:pt x="16781" y="17957"/>
                  <a:pt x="16697" y="17951"/>
                </a:cubicBezTo>
                <a:cubicBezTo>
                  <a:pt x="16692" y="17945"/>
                  <a:pt x="16688" y="17938"/>
                  <a:pt x="16683" y="17932"/>
                </a:cubicBezTo>
                <a:cubicBezTo>
                  <a:pt x="16683" y="17875"/>
                  <a:pt x="16702" y="17836"/>
                  <a:pt x="16728" y="17785"/>
                </a:cubicBezTo>
                <a:cubicBezTo>
                  <a:pt x="16748" y="17746"/>
                  <a:pt x="16778" y="17709"/>
                  <a:pt x="16796" y="17669"/>
                </a:cubicBezTo>
                <a:cubicBezTo>
                  <a:pt x="16802" y="17656"/>
                  <a:pt x="16803" y="17645"/>
                  <a:pt x="16802" y="17632"/>
                </a:cubicBezTo>
                <a:cubicBezTo>
                  <a:pt x="16778" y="17633"/>
                  <a:pt x="16751" y="17636"/>
                  <a:pt x="16731" y="17652"/>
                </a:cubicBezTo>
                <a:cubicBezTo>
                  <a:pt x="16711" y="17669"/>
                  <a:pt x="16688" y="17691"/>
                  <a:pt x="16679" y="17717"/>
                </a:cubicBezTo>
                <a:cubicBezTo>
                  <a:pt x="16679" y="17720"/>
                  <a:pt x="16678" y="17723"/>
                  <a:pt x="16678" y="17726"/>
                </a:cubicBezTo>
              </a:path>
              <a:path w="1637" h="451">
                <a:moveTo>
                  <a:pt x="17065" y="17609"/>
                </a:moveTo>
                <a:cubicBezTo>
                  <a:pt x="17038" y="17619"/>
                  <a:pt x="17028" y="17633"/>
                  <a:pt x="17019" y="17662"/>
                </a:cubicBezTo>
                <a:cubicBezTo>
                  <a:pt x="17010" y="17690"/>
                  <a:pt x="17013" y="17710"/>
                  <a:pt x="17030" y="17734"/>
                </a:cubicBezTo>
                <a:cubicBezTo>
                  <a:pt x="17061" y="17777"/>
                  <a:pt x="17113" y="17780"/>
                  <a:pt x="17125" y="17843"/>
                </a:cubicBezTo>
                <a:cubicBezTo>
                  <a:pt x="17118" y="17891"/>
                  <a:pt x="17113" y="17908"/>
                  <a:pt x="17074" y="17920"/>
                </a:cubicBezTo>
                <a:cubicBezTo>
                  <a:pt x="17056" y="17869"/>
                  <a:pt x="17065" y="17833"/>
                  <a:pt x="17080" y="17781"/>
                </a:cubicBezTo>
                <a:cubicBezTo>
                  <a:pt x="17096" y="17727"/>
                  <a:pt x="17130" y="17678"/>
                  <a:pt x="17142" y="17624"/>
                </a:cubicBezTo>
                <a:cubicBezTo>
                  <a:pt x="17143" y="17608"/>
                  <a:pt x="17144" y="17604"/>
                  <a:pt x="17138" y="17595"/>
                </a:cubicBezTo>
                <a:cubicBezTo>
                  <a:pt x="17114" y="17590"/>
                  <a:pt x="17098" y="17601"/>
                  <a:pt x="17079" y="17618"/>
                </a:cubicBezTo>
                <a:cubicBezTo>
                  <a:pt x="17063" y="17633"/>
                  <a:pt x="17055" y="17647"/>
                  <a:pt x="17046" y="17666"/>
                </a:cubicBezTo>
              </a:path>
              <a:path w="1637" h="451">
                <a:moveTo>
                  <a:pt x="17485" y="17670"/>
                </a:moveTo>
                <a:cubicBezTo>
                  <a:pt x="17506" y="17669"/>
                  <a:pt x="17418" y="17758"/>
                  <a:pt x="17397" y="17782"/>
                </a:cubicBezTo>
              </a:path>
              <a:path w="1637" h="451">
                <a:moveTo>
                  <a:pt x="17375" y="17709"/>
                </a:moveTo>
                <a:cubicBezTo>
                  <a:pt x="17404" y="17695"/>
                  <a:pt x="17426" y="17683"/>
                  <a:pt x="17459" y="17688"/>
                </a:cubicBezTo>
                <a:cubicBezTo>
                  <a:pt x="17506" y="17695"/>
                  <a:pt x="17534" y="17734"/>
                  <a:pt x="17567" y="17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48"/>
          <p:cNvSpPr/>
          <p:nvPr/>
        </p:nvSpPr>
        <p:spPr>
          <a:xfrm>
            <a:off x="6432480" y="6261120"/>
            <a:ext cx="557280" cy="166680"/>
          </a:xfrm>
          <a:custGeom>
            <a:avLst/>
            <a:gdLst/>
            <a:ahLst/>
            <a:rect l="l" t="t" r="r" b="b"/>
            <a:pathLst>
              <a:path w="1550" h="467">
                <a:moveTo>
                  <a:pt x="17926" y="17655"/>
                </a:moveTo>
                <a:cubicBezTo>
                  <a:pt x="17887" y="17702"/>
                  <a:pt x="17878" y="17745"/>
                  <a:pt x="17866" y="17804"/>
                </a:cubicBezTo>
              </a:path>
              <a:path w="1550" h="467">
                <a:moveTo>
                  <a:pt x="18069" y="17737"/>
                </a:moveTo>
                <a:cubicBezTo>
                  <a:pt x="18079" y="17784"/>
                  <a:pt x="18073" y="17856"/>
                  <a:pt x="18135" y="17856"/>
                </a:cubicBezTo>
                <a:cubicBezTo>
                  <a:pt x="18175" y="17856"/>
                  <a:pt x="18200" y="17810"/>
                  <a:pt x="18209" y="17777"/>
                </a:cubicBezTo>
                <a:cubicBezTo>
                  <a:pt x="18222" y="17732"/>
                  <a:pt x="18211" y="17702"/>
                  <a:pt x="18164" y="17697"/>
                </a:cubicBezTo>
                <a:cubicBezTo>
                  <a:pt x="18133" y="17694"/>
                  <a:pt x="18103" y="17700"/>
                  <a:pt x="18078" y="17719"/>
                </a:cubicBezTo>
                <a:cubicBezTo>
                  <a:pt x="18075" y="17723"/>
                  <a:pt x="18071" y="17726"/>
                  <a:pt x="18068" y="17730"/>
                </a:cubicBezTo>
              </a:path>
              <a:path w="1550" h="467">
                <a:moveTo>
                  <a:pt x="18369" y="17494"/>
                </a:moveTo>
                <a:cubicBezTo>
                  <a:pt x="18350" y="17499"/>
                  <a:pt x="18331" y="17501"/>
                  <a:pt x="18321" y="17520"/>
                </a:cubicBezTo>
                <a:cubicBezTo>
                  <a:pt x="18313" y="17536"/>
                  <a:pt x="18329" y="17549"/>
                  <a:pt x="18339" y="17557"/>
                </a:cubicBezTo>
                <a:cubicBezTo>
                  <a:pt x="18359" y="17572"/>
                  <a:pt x="18380" y="17582"/>
                  <a:pt x="18401" y="17594"/>
                </a:cubicBezTo>
                <a:cubicBezTo>
                  <a:pt x="18423" y="17607"/>
                  <a:pt x="18438" y="17621"/>
                  <a:pt x="18436" y="17649"/>
                </a:cubicBezTo>
                <a:cubicBezTo>
                  <a:pt x="18434" y="17672"/>
                  <a:pt x="18422" y="17691"/>
                  <a:pt x="18402" y="17703"/>
                </a:cubicBezTo>
                <a:cubicBezTo>
                  <a:pt x="18384" y="17713"/>
                  <a:pt x="18362" y="17713"/>
                  <a:pt x="18356" y="17691"/>
                </a:cubicBezTo>
                <a:cubicBezTo>
                  <a:pt x="18348" y="17662"/>
                  <a:pt x="18367" y="17633"/>
                  <a:pt x="18380" y="17610"/>
                </a:cubicBezTo>
                <a:cubicBezTo>
                  <a:pt x="18398" y="17579"/>
                  <a:pt x="18420" y="17552"/>
                  <a:pt x="18439" y="17522"/>
                </a:cubicBezTo>
                <a:cubicBezTo>
                  <a:pt x="18451" y="17503"/>
                  <a:pt x="18458" y="17488"/>
                  <a:pt x="18451" y="17468"/>
                </a:cubicBezTo>
                <a:cubicBezTo>
                  <a:pt x="18437" y="17480"/>
                  <a:pt x="18428" y="17486"/>
                  <a:pt x="18424" y="17505"/>
                </a:cubicBezTo>
                <a:cubicBezTo>
                  <a:pt x="18424" y="17508"/>
                  <a:pt x="18423" y="17511"/>
                  <a:pt x="18423" y="17514"/>
                </a:cubicBezTo>
              </a:path>
              <a:path w="1550" h="467">
                <a:moveTo>
                  <a:pt x="18598" y="17397"/>
                </a:moveTo>
                <a:cubicBezTo>
                  <a:pt x="18615" y="17391"/>
                  <a:pt x="18604" y="17411"/>
                  <a:pt x="18605" y="17433"/>
                </a:cubicBezTo>
                <a:cubicBezTo>
                  <a:pt x="18607" y="17458"/>
                  <a:pt x="18608" y="17485"/>
                  <a:pt x="18618" y="17508"/>
                </a:cubicBezTo>
                <a:cubicBezTo>
                  <a:pt x="18627" y="17529"/>
                  <a:pt x="18639" y="17542"/>
                  <a:pt x="18663" y="17544"/>
                </a:cubicBezTo>
                <a:cubicBezTo>
                  <a:pt x="18688" y="17546"/>
                  <a:pt x="18716" y="17531"/>
                  <a:pt x="18737" y="17520"/>
                </a:cubicBezTo>
                <a:cubicBezTo>
                  <a:pt x="18762" y="17507"/>
                  <a:pt x="18789" y="17498"/>
                  <a:pt x="18809" y="17476"/>
                </a:cubicBezTo>
                <a:cubicBezTo>
                  <a:pt x="18817" y="17466"/>
                  <a:pt x="18819" y="17462"/>
                  <a:pt x="18821" y="17454"/>
                </a:cubicBezTo>
              </a:path>
              <a:path w="1550" h="467">
                <a:moveTo>
                  <a:pt x="18726" y="17407"/>
                </a:moveTo>
                <a:cubicBezTo>
                  <a:pt x="18714" y="17437"/>
                  <a:pt x="18694" y="17477"/>
                  <a:pt x="18690" y="17508"/>
                </a:cubicBezTo>
                <a:cubicBezTo>
                  <a:pt x="18685" y="17543"/>
                  <a:pt x="18711" y="17593"/>
                  <a:pt x="18736" y="17616"/>
                </a:cubicBezTo>
                <a:cubicBezTo>
                  <a:pt x="18765" y="17636"/>
                  <a:pt x="18776" y="17642"/>
                  <a:pt x="18800" y="17646"/>
                </a:cubicBezTo>
              </a:path>
              <a:path w="1550" h="467">
                <a:moveTo>
                  <a:pt x="19310" y="17500"/>
                </a:moveTo>
                <a:cubicBezTo>
                  <a:pt x="19291" y="17489"/>
                  <a:pt x="19271" y="17497"/>
                  <a:pt x="19252" y="17516"/>
                </a:cubicBezTo>
                <a:cubicBezTo>
                  <a:pt x="19215" y="17552"/>
                  <a:pt x="19185" y="17597"/>
                  <a:pt x="19151" y="17636"/>
                </a:cubicBezTo>
                <a:cubicBezTo>
                  <a:pt x="19114" y="17678"/>
                  <a:pt x="19080" y="17723"/>
                  <a:pt x="19039" y="17761"/>
                </a:cubicBezTo>
              </a:path>
              <a:path w="1550" h="467">
                <a:moveTo>
                  <a:pt x="19119" y="17600"/>
                </a:moveTo>
                <a:cubicBezTo>
                  <a:pt x="19150" y="17600"/>
                  <a:pt x="19159" y="17612"/>
                  <a:pt x="19186" y="17623"/>
                </a:cubicBezTo>
                <a:cubicBezTo>
                  <a:pt x="19224" y="17638"/>
                  <a:pt x="19264" y="17651"/>
                  <a:pt x="19303" y="17666"/>
                </a:cubicBezTo>
                <a:cubicBezTo>
                  <a:pt x="19343" y="17681"/>
                  <a:pt x="19372" y="17686"/>
                  <a:pt x="19415" y="17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49"/>
          <p:cNvSpPr/>
          <p:nvPr/>
        </p:nvSpPr>
        <p:spPr>
          <a:xfrm>
            <a:off x="7083360" y="6189840"/>
            <a:ext cx="635040" cy="195120"/>
          </a:xfrm>
          <a:custGeom>
            <a:avLst/>
            <a:gdLst/>
            <a:ahLst/>
            <a:rect l="l" t="t" r="r" b="b"/>
            <a:pathLst>
              <a:path w="1767" h="542">
                <a:moveTo>
                  <a:pt x="19782" y="17403"/>
                </a:moveTo>
                <a:cubicBezTo>
                  <a:pt x="19747" y="17422"/>
                  <a:pt x="19727" y="17442"/>
                  <a:pt x="19707" y="17478"/>
                </a:cubicBezTo>
                <a:cubicBezTo>
                  <a:pt x="19681" y="17524"/>
                  <a:pt x="19673" y="17574"/>
                  <a:pt x="19678" y="17626"/>
                </a:cubicBezTo>
                <a:cubicBezTo>
                  <a:pt x="19682" y="17669"/>
                  <a:pt x="19702" y="17715"/>
                  <a:pt x="19746" y="17730"/>
                </a:cubicBezTo>
                <a:cubicBezTo>
                  <a:pt x="19793" y="17747"/>
                  <a:pt x="19842" y="17721"/>
                  <a:pt x="19878" y="17693"/>
                </a:cubicBezTo>
                <a:cubicBezTo>
                  <a:pt x="19922" y="17659"/>
                  <a:pt x="19954" y="17612"/>
                  <a:pt x="19962" y="17556"/>
                </a:cubicBezTo>
                <a:cubicBezTo>
                  <a:pt x="19968" y="17512"/>
                  <a:pt x="19955" y="17456"/>
                  <a:pt x="19921" y="17425"/>
                </a:cubicBezTo>
                <a:cubicBezTo>
                  <a:pt x="19894" y="17399"/>
                  <a:pt x="19851" y="17395"/>
                  <a:pt x="19817" y="17409"/>
                </a:cubicBezTo>
                <a:cubicBezTo>
                  <a:pt x="19793" y="17419"/>
                  <a:pt x="19784" y="17436"/>
                  <a:pt x="19783" y="17459"/>
                </a:cubicBezTo>
              </a:path>
              <a:path w="1767" h="542">
                <a:moveTo>
                  <a:pt x="20169" y="17412"/>
                </a:moveTo>
                <a:cubicBezTo>
                  <a:pt x="20154" y="17406"/>
                  <a:pt x="20151" y="17403"/>
                  <a:pt x="20141" y="17408"/>
                </a:cubicBezTo>
                <a:cubicBezTo>
                  <a:pt x="20158" y="17427"/>
                  <a:pt x="20156" y="17428"/>
                  <a:pt x="20181" y="17428"/>
                </a:cubicBezTo>
              </a:path>
              <a:path w="1767" h="542">
                <a:moveTo>
                  <a:pt x="20332" y="17276"/>
                </a:moveTo>
                <a:cubicBezTo>
                  <a:pt x="20301" y="17294"/>
                  <a:pt x="20275" y="17315"/>
                  <a:pt x="20256" y="17348"/>
                </a:cubicBezTo>
                <a:cubicBezTo>
                  <a:pt x="20237" y="17381"/>
                  <a:pt x="20229" y="17420"/>
                  <a:pt x="20251" y="17454"/>
                </a:cubicBezTo>
                <a:cubicBezTo>
                  <a:pt x="20276" y="17494"/>
                  <a:pt x="20327" y="17514"/>
                  <a:pt x="20366" y="17537"/>
                </a:cubicBezTo>
                <a:cubicBezTo>
                  <a:pt x="20402" y="17558"/>
                  <a:pt x="20445" y="17583"/>
                  <a:pt x="20452" y="17628"/>
                </a:cubicBezTo>
                <a:cubicBezTo>
                  <a:pt x="20458" y="17664"/>
                  <a:pt x="20432" y="17694"/>
                  <a:pt x="20397" y="17701"/>
                </a:cubicBezTo>
                <a:cubicBezTo>
                  <a:pt x="20358" y="17708"/>
                  <a:pt x="20312" y="17695"/>
                  <a:pt x="20288" y="17663"/>
                </a:cubicBezTo>
                <a:cubicBezTo>
                  <a:pt x="20257" y="17620"/>
                  <a:pt x="20262" y="17564"/>
                  <a:pt x="20275" y="17516"/>
                </a:cubicBezTo>
                <a:cubicBezTo>
                  <a:pt x="20290" y="17458"/>
                  <a:pt x="20316" y="17400"/>
                  <a:pt x="20340" y="17345"/>
                </a:cubicBezTo>
                <a:cubicBezTo>
                  <a:pt x="20353" y="17315"/>
                  <a:pt x="20350" y="17236"/>
                  <a:pt x="20376" y="17255"/>
                </a:cubicBezTo>
                <a:cubicBezTo>
                  <a:pt x="20380" y="17258"/>
                  <a:pt x="20375" y="17298"/>
                  <a:pt x="20377" y="17305"/>
                </a:cubicBezTo>
                <a:cubicBezTo>
                  <a:pt x="20379" y="17310"/>
                  <a:pt x="20380" y="17314"/>
                  <a:pt x="20382" y="17319"/>
                </a:cubicBezTo>
              </a:path>
              <a:path w="1767" h="542">
                <a:moveTo>
                  <a:pt x="20585" y="17216"/>
                </a:moveTo>
                <a:cubicBezTo>
                  <a:pt x="20577" y="17242"/>
                  <a:pt x="20585" y="17270"/>
                  <a:pt x="20585" y="17301"/>
                </a:cubicBezTo>
                <a:cubicBezTo>
                  <a:pt x="20584" y="17350"/>
                  <a:pt x="20578" y="17398"/>
                  <a:pt x="20581" y="17447"/>
                </a:cubicBezTo>
                <a:cubicBezTo>
                  <a:pt x="20583" y="17480"/>
                  <a:pt x="20587" y="17527"/>
                  <a:pt x="20620" y="17545"/>
                </a:cubicBezTo>
                <a:cubicBezTo>
                  <a:pt x="20654" y="17563"/>
                  <a:pt x="20706" y="17548"/>
                  <a:pt x="20740" y="17537"/>
                </a:cubicBezTo>
                <a:cubicBezTo>
                  <a:pt x="20795" y="17520"/>
                  <a:pt x="20848" y="17488"/>
                  <a:pt x="20893" y="17454"/>
                </a:cubicBezTo>
                <a:cubicBezTo>
                  <a:pt x="20916" y="17437"/>
                  <a:pt x="20927" y="17429"/>
                  <a:pt x="20925" y="17402"/>
                </a:cubicBezTo>
              </a:path>
              <a:path w="1767" h="542">
                <a:moveTo>
                  <a:pt x="20754" y="17312"/>
                </a:moveTo>
                <a:cubicBezTo>
                  <a:pt x="20742" y="17352"/>
                  <a:pt x="20727" y="17393"/>
                  <a:pt x="20726" y="17435"/>
                </a:cubicBezTo>
                <a:cubicBezTo>
                  <a:pt x="20725" y="17475"/>
                  <a:pt x="20735" y="17517"/>
                  <a:pt x="20755" y="17551"/>
                </a:cubicBezTo>
                <a:cubicBezTo>
                  <a:pt x="20773" y="17582"/>
                  <a:pt x="20801" y="17601"/>
                  <a:pt x="20837" y="17602"/>
                </a:cubicBezTo>
                <a:cubicBezTo>
                  <a:pt x="20860" y="17599"/>
                  <a:pt x="20869" y="17597"/>
                  <a:pt x="20882" y="17586"/>
                </a:cubicBezTo>
              </a:path>
              <a:path w="1767" h="542">
                <a:moveTo>
                  <a:pt x="20950" y="17221"/>
                </a:moveTo>
                <a:cubicBezTo>
                  <a:pt x="20978" y="17201"/>
                  <a:pt x="20999" y="17192"/>
                  <a:pt x="21035" y="17193"/>
                </a:cubicBezTo>
                <a:cubicBezTo>
                  <a:pt x="21093" y="17194"/>
                  <a:pt x="21145" y="17225"/>
                  <a:pt x="21166" y="17280"/>
                </a:cubicBezTo>
                <a:cubicBezTo>
                  <a:pt x="21186" y="17331"/>
                  <a:pt x="21177" y="17392"/>
                  <a:pt x="21161" y="17443"/>
                </a:cubicBezTo>
                <a:cubicBezTo>
                  <a:pt x="21147" y="17486"/>
                  <a:pt x="21123" y="17525"/>
                  <a:pt x="21106" y="17567"/>
                </a:cubicBezTo>
                <a:cubicBezTo>
                  <a:pt x="21104" y="17572"/>
                  <a:pt x="21103" y="17578"/>
                  <a:pt x="21101" y="17583"/>
                </a:cubicBezTo>
                <a:cubicBezTo>
                  <a:pt x="21130" y="17593"/>
                  <a:pt x="21155" y="17577"/>
                  <a:pt x="21185" y="17564"/>
                </a:cubicBezTo>
                <a:cubicBezTo>
                  <a:pt x="21234" y="17542"/>
                  <a:pt x="21282" y="17517"/>
                  <a:pt x="21333" y="17501"/>
                </a:cubicBezTo>
                <a:cubicBezTo>
                  <a:pt x="21368" y="17490"/>
                  <a:pt x="21405" y="17482"/>
                  <a:pt x="21441" y="174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50"/>
          <p:cNvSpPr/>
          <p:nvPr/>
        </p:nvSpPr>
        <p:spPr>
          <a:xfrm>
            <a:off x="7835760" y="6137280"/>
            <a:ext cx="136800" cy="95400"/>
          </a:xfrm>
          <a:custGeom>
            <a:avLst/>
            <a:gdLst/>
            <a:ahLst/>
            <a:rect l="l" t="t" r="r" b="b"/>
            <a:pathLst>
              <a:path w="381" h="266">
                <a:moveTo>
                  <a:pt x="21797" y="17100"/>
                </a:moveTo>
                <a:cubicBezTo>
                  <a:pt x="21783" y="17102"/>
                  <a:pt x="21778" y="17103"/>
                  <a:pt x="21768" y="17106"/>
                </a:cubicBezTo>
                <a:cubicBezTo>
                  <a:pt x="21804" y="17087"/>
                  <a:pt x="21838" y="17078"/>
                  <a:pt x="21878" y="17068"/>
                </a:cubicBezTo>
                <a:cubicBezTo>
                  <a:pt x="21915" y="17059"/>
                  <a:pt x="21964" y="17040"/>
                  <a:pt x="22003" y="17047"/>
                </a:cubicBezTo>
                <a:cubicBezTo>
                  <a:pt x="22046" y="17055"/>
                  <a:pt x="21996" y="17091"/>
                  <a:pt x="21986" y="17102"/>
                </a:cubicBezTo>
              </a:path>
              <a:path w="381" h="266">
                <a:moveTo>
                  <a:pt x="21765" y="17298"/>
                </a:moveTo>
                <a:cubicBezTo>
                  <a:pt x="21796" y="17322"/>
                  <a:pt x="21819" y="17306"/>
                  <a:pt x="21858" y="17298"/>
                </a:cubicBezTo>
                <a:cubicBezTo>
                  <a:pt x="21915" y="17286"/>
                  <a:pt x="21970" y="17276"/>
                  <a:pt x="22027" y="17270"/>
                </a:cubicBezTo>
                <a:cubicBezTo>
                  <a:pt x="22066" y="17266"/>
                  <a:pt x="22106" y="17262"/>
                  <a:pt x="22145" y="17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51"/>
          <p:cNvSpPr/>
          <p:nvPr/>
        </p:nvSpPr>
        <p:spPr>
          <a:xfrm>
            <a:off x="4683240" y="6004080"/>
            <a:ext cx="1893600" cy="311040"/>
          </a:xfrm>
          <a:custGeom>
            <a:avLst/>
            <a:gdLst/>
            <a:ahLst/>
            <a:rect l="l" t="t" r="r" b="b"/>
            <a:pathLst>
              <a:path w="5259" h="863">
                <a:moveTo>
                  <a:pt x="13071" y="17089"/>
                </a:moveTo>
                <a:cubicBezTo>
                  <a:pt x="13057" y="17085"/>
                  <a:pt x="13038" y="17088"/>
                  <a:pt x="13033" y="17109"/>
                </a:cubicBezTo>
                <a:cubicBezTo>
                  <a:pt x="13026" y="17142"/>
                  <a:pt x="13025" y="17182"/>
                  <a:pt x="13024" y="17216"/>
                </a:cubicBezTo>
                <a:cubicBezTo>
                  <a:pt x="13021" y="17277"/>
                  <a:pt x="13019" y="17339"/>
                  <a:pt x="13014" y="17400"/>
                </a:cubicBezTo>
                <a:cubicBezTo>
                  <a:pt x="13012" y="17423"/>
                  <a:pt x="12998" y="17519"/>
                  <a:pt x="13020" y="17538"/>
                </a:cubicBezTo>
                <a:cubicBezTo>
                  <a:pt x="13027" y="17539"/>
                  <a:pt x="13034" y="17539"/>
                  <a:pt x="13041" y="17540"/>
                </a:cubicBezTo>
              </a:path>
              <a:path w="5259" h="863">
                <a:moveTo>
                  <a:pt x="13259" y="17157"/>
                </a:moveTo>
                <a:cubicBezTo>
                  <a:pt x="13236" y="17189"/>
                  <a:pt x="13226" y="17213"/>
                  <a:pt x="13228" y="17254"/>
                </a:cubicBezTo>
                <a:cubicBezTo>
                  <a:pt x="13230" y="17299"/>
                  <a:pt x="13247" y="17339"/>
                  <a:pt x="13282" y="17369"/>
                </a:cubicBezTo>
                <a:cubicBezTo>
                  <a:pt x="13315" y="17397"/>
                  <a:pt x="13362" y="17398"/>
                  <a:pt x="13402" y="17385"/>
                </a:cubicBezTo>
                <a:cubicBezTo>
                  <a:pt x="13447" y="17370"/>
                  <a:pt x="13476" y="17338"/>
                  <a:pt x="13496" y="17297"/>
                </a:cubicBezTo>
                <a:cubicBezTo>
                  <a:pt x="13516" y="17255"/>
                  <a:pt x="13508" y="17221"/>
                  <a:pt x="13485" y="17183"/>
                </a:cubicBezTo>
                <a:cubicBezTo>
                  <a:pt x="13466" y="17151"/>
                  <a:pt x="13434" y="17127"/>
                  <a:pt x="13398" y="17118"/>
                </a:cubicBezTo>
                <a:cubicBezTo>
                  <a:pt x="13362" y="17109"/>
                  <a:pt x="13343" y="17126"/>
                  <a:pt x="13334" y="17156"/>
                </a:cubicBezTo>
                <a:cubicBezTo>
                  <a:pt x="13324" y="17190"/>
                  <a:pt x="13343" y="17207"/>
                  <a:pt x="13366" y="17228"/>
                </a:cubicBezTo>
              </a:path>
              <a:path w="5259" h="863">
                <a:moveTo>
                  <a:pt x="13666" y="17177"/>
                </a:moveTo>
                <a:cubicBezTo>
                  <a:pt x="13681" y="17210"/>
                  <a:pt x="13673" y="17237"/>
                  <a:pt x="13675" y="17273"/>
                </a:cubicBezTo>
                <a:cubicBezTo>
                  <a:pt x="13677" y="17316"/>
                  <a:pt x="13681" y="17372"/>
                  <a:pt x="13713" y="17405"/>
                </a:cubicBezTo>
                <a:cubicBezTo>
                  <a:pt x="13745" y="17438"/>
                  <a:pt x="13792" y="17408"/>
                  <a:pt x="13819" y="17384"/>
                </a:cubicBezTo>
                <a:cubicBezTo>
                  <a:pt x="13863" y="17345"/>
                  <a:pt x="13890" y="17289"/>
                  <a:pt x="13897" y="17231"/>
                </a:cubicBezTo>
                <a:cubicBezTo>
                  <a:pt x="13903" y="17184"/>
                  <a:pt x="13891" y="17141"/>
                  <a:pt x="13847" y="17117"/>
                </a:cubicBezTo>
                <a:cubicBezTo>
                  <a:pt x="13816" y="17100"/>
                  <a:pt x="13770" y="17102"/>
                  <a:pt x="13737" y="17112"/>
                </a:cubicBezTo>
                <a:cubicBezTo>
                  <a:pt x="13731" y="17114"/>
                  <a:pt x="13726" y="17117"/>
                  <a:pt x="13720" y="17119"/>
                </a:cubicBezTo>
              </a:path>
              <a:path w="5259" h="863">
                <a:moveTo>
                  <a:pt x="14197" y="17191"/>
                </a:moveTo>
                <a:cubicBezTo>
                  <a:pt x="14223" y="17179"/>
                  <a:pt x="14246" y="17174"/>
                  <a:pt x="14275" y="17170"/>
                </a:cubicBezTo>
                <a:cubicBezTo>
                  <a:pt x="14324" y="17163"/>
                  <a:pt x="14367" y="17177"/>
                  <a:pt x="14415" y="17184"/>
                </a:cubicBezTo>
                <a:cubicBezTo>
                  <a:pt x="14450" y="17188"/>
                  <a:pt x="14462" y="17190"/>
                  <a:pt x="14486" y="17193"/>
                </a:cubicBezTo>
              </a:path>
              <a:path w="5259" h="863">
                <a:moveTo>
                  <a:pt x="14800" y="16984"/>
                </a:moveTo>
                <a:cubicBezTo>
                  <a:pt x="14787" y="17011"/>
                  <a:pt x="14782" y="17039"/>
                  <a:pt x="14780" y="17069"/>
                </a:cubicBezTo>
                <a:cubicBezTo>
                  <a:pt x="14776" y="17118"/>
                  <a:pt x="14773" y="17166"/>
                  <a:pt x="14775" y="17215"/>
                </a:cubicBezTo>
                <a:cubicBezTo>
                  <a:pt x="14776" y="17239"/>
                  <a:pt x="14777" y="17289"/>
                  <a:pt x="14807" y="17298"/>
                </a:cubicBezTo>
                <a:cubicBezTo>
                  <a:pt x="14812" y="17298"/>
                  <a:pt x="14818" y="17297"/>
                  <a:pt x="14823" y="17297"/>
                </a:cubicBezTo>
              </a:path>
              <a:path w="5259" h="863">
                <a:moveTo>
                  <a:pt x="14963" y="16996"/>
                </a:moveTo>
                <a:cubicBezTo>
                  <a:pt x="14949" y="16996"/>
                  <a:pt x="14937" y="17007"/>
                  <a:pt x="14938" y="17027"/>
                </a:cubicBezTo>
                <a:cubicBezTo>
                  <a:pt x="14939" y="17053"/>
                  <a:pt x="14962" y="17078"/>
                  <a:pt x="14979" y="17095"/>
                </a:cubicBezTo>
                <a:cubicBezTo>
                  <a:pt x="15020" y="17137"/>
                  <a:pt x="15075" y="17161"/>
                  <a:pt x="15117" y="17201"/>
                </a:cubicBezTo>
                <a:cubicBezTo>
                  <a:pt x="15148" y="17231"/>
                  <a:pt x="15174" y="17268"/>
                  <a:pt x="15168" y="17312"/>
                </a:cubicBezTo>
                <a:cubicBezTo>
                  <a:pt x="15162" y="17354"/>
                  <a:pt x="15123" y="17392"/>
                  <a:pt x="15081" y="17400"/>
                </a:cubicBezTo>
                <a:cubicBezTo>
                  <a:pt x="15070" y="17400"/>
                  <a:pt x="15060" y="17399"/>
                  <a:pt x="15049" y="17399"/>
                </a:cubicBezTo>
              </a:path>
              <a:path w="5259" h="863">
                <a:moveTo>
                  <a:pt x="15011" y="16921"/>
                </a:moveTo>
                <a:cubicBezTo>
                  <a:pt x="15045" y="16908"/>
                  <a:pt x="15060" y="16903"/>
                  <a:pt x="15095" y="16916"/>
                </a:cubicBezTo>
                <a:cubicBezTo>
                  <a:pt x="15140" y="16933"/>
                  <a:pt x="15175" y="16967"/>
                  <a:pt x="15212" y="16996"/>
                </a:cubicBezTo>
              </a:path>
              <a:path w="5259" h="863">
                <a:moveTo>
                  <a:pt x="15396" y="17110"/>
                </a:moveTo>
                <a:cubicBezTo>
                  <a:pt x="15380" y="17112"/>
                  <a:pt x="15366" y="17110"/>
                  <a:pt x="15349" y="17109"/>
                </a:cubicBezTo>
                <a:cubicBezTo>
                  <a:pt x="15368" y="17116"/>
                  <a:pt x="15373" y="17114"/>
                  <a:pt x="15394" y="17110"/>
                </a:cubicBezTo>
              </a:path>
              <a:path w="5259" h="863">
                <a:moveTo>
                  <a:pt x="15703" y="16866"/>
                </a:moveTo>
                <a:cubicBezTo>
                  <a:pt x="15664" y="16884"/>
                  <a:pt x="15621" y="16899"/>
                  <a:pt x="15589" y="16928"/>
                </a:cubicBezTo>
                <a:cubicBezTo>
                  <a:pt x="15562" y="16952"/>
                  <a:pt x="15532" y="16991"/>
                  <a:pt x="15539" y="17030"/>
                </a:cubicBezTo>
                <a:cubicBezTo>
                  <a:pt x="15547" y="17074"/>
                  <a:pt x="15606" y="17090"/>
                  <a:pt x="15640" y="17104"/>
                </a:cubicBezTo>
                <a:cubicBezTo>
                  <a:pt x="15691" y="17125"/>
                  <a:pt x="15749" y="17144"/>
                  <a:pt x="15789" y="17184"/>
                </a:cubicBezTo>
                <a:cubicBezTo>
                  <a:pt x="15824" y="17219"/>
                  <a:pt x="15833" y="17267"/>
                  <a:pt x="15810" y="17312"/>
                </a:cubicBezTo>
                <a:cubicBezTo>
                  <a:pt x="15789" y="17352"/>
                  <a:pt x="15741" y="17378"/>
                  <a:pt x="15697" y="17380"/>
                </a:cubicBezTo>
                <a:cubicBezTo>
                  <a:pt x="15652" y="17382"/>
                  <a:pt x="15621" y="17351"/>
                  <a:pt x="15614" y="17308"/>
                </a:cubicBezTo>
                <a:cubicBezTo>
                  <a:pt x="15604" y="17249"/>
                  <a:pt x="15632" y="17182"/>
                  <a:pt x="15656" y="17130"/>
                </a:cubicBezTo>
                <a:cubicBezTo>
                  <a:pt x="15684" y="17069"/>
                  <a:pt x="15717" y="17008"/>
                  <a:pt x="15749" y="16949"/>
                </a:cubicBezTo>
                <a:cubicBezTo>
                  <a:pt x="15762" y="16925"/>
                  <a:pt x="15775" y="16902"/>
                  <a:pt x="15786" y="16876"/>
                </a:cubicBezTo>
                <a:cubicBezTo>
                  <a:pt x="15761" y="16892"/>
                  <a:pt x="15742" y="16912"/>
                  <a:pt x="15729" y="16940"/>
                </a:cubicBezTo>
                <a:cubicBezTo>
                  <a:pt x="15726" y="16949"/>
                  <a:pt x="15723" y="16957"/>
                  <a:pt x="15720" y="16966"/>
                </a:cubicBezTo>
              </a:path>
              <a:path w="5259" h="863">
                <a:moveTo>
                  <a:pt x="16034" y="16977"/>
                </a:moveTo>
                <a:cubicBezTo>
                  <a:pt x="16059" y="16966"/>
                  <a:pt x="16084" y="16968"/>
                  <a:pt x="16112" y="16968"/>
                </a:cubicBezTo>
                <a:cubicBezTo>
                  <a:pt x="16155" y="16968"/>
                  <a:pt x="16203" y="16964"/>
                  <a:pt x="16246" y="16972"/>
                </a:cubicBezTo>
                <a:cubicBezTo>
                  <a:pt x="16271" y="16976"/>
                  <a:pt x="16312" y="16986"/>
                  <a:pt x="16325" y="17011"/>
                </a:cubicBezTo>
                <a:cubicBezTo>
                  <a:pt x="16329" y="17027"/>
                  <a:pt x="16330" y="17032"/>
                  <a:pt x="16319" y="17040"/>
                </a:cubicBezTo>
              </a:path>
              <a:path w="5259" h="863">
                <a:moveTo>
                  <a:pt x="16146" y="17104"/>
                </a:moveTo>
                <a:cubicBezTo>
                  <a:pt x="16174" y="17097"/>
                  <a:pt x="16203" y="17089"/>
                  <a:pt x="16232" y="17087"/>
                </a:cubicBezTo>
                <a:cubicBezTo>
                  <a:pt x="16280" y="17083"/>
                  <a:pt x="16327" y="17087"/>
                  <a:pt x="16374" y="17092"/>
                </a:cubicBezTo>
                <a:cubicBezTo>
                  <a:pt x="16407" y="17096"/>
                  <a:pt x="16417" y="17097"/>
                  <a:pt x="16439" y="17100"/>
                </a:cubicBezTo>
              </a:path>
              <a:path w="5259" h="863">
                <a:moveTo>
                  <a:pt x="17045" y="16730"/>
                </a:moveTo>
                <a:cubicBezTo>
                  <a:pt x="17024" y="16707"/>
                  <a:pt x="17030" y="16702"/>
                  <a:pt x="16997" y="16725"/>
                </a:cubicBezTo>
                <a:cubicBezTo>
                  <a:pt x="16964" y="16748"/>
                  <a:pt x="16943" y="16781"/>
                  <a:pt x="16925" y="16817"/>
                </a:cubicBezTo>
                <a:cubicBezTo>
                  <a:pt x="16903" y="16861"/>
                  <a:pt x="16894" y="16912"/>
                  <a:pt x="16937" y="16948"/>
                </a:cubicBezTo>
                <a:cubicBezTo>
                  <a:pt x="16976" y="16981"/>
                  <a:pt x="17030" y="16992"/>
                  <a:pt x="17075" y="17015"/>
                </a:cubicBezTo>
                <a:cubicBezTo>
                  <a:pt x="17117" y="17037"/>
                  <a:pt x="17159" y="17072"/>
                  <a:pt x="17157" y="17124"/>
                </a:cubicBezTo>
                <a:cubicBezTo>
                  <a:pt x="17155" y="17181"/>
                  <a:pt x="17103" y="17225"/>
                  <a:pt x="17060" y="17254"/>
                </a:cubicBezTo>
                <a:cubicBezTo>
                  <a:pt x="17022" y="17279"/>
                  <a:pt x="16930" y="17315"/>
                  <a:pt x="16900" y="17259"/>
                </a:cubicBezTo>
                <a:cubicBezTo>
                  <a:pt x="16872" y="17207"/>
                  <a:pt x="16924" y="17128"/>
                  <a:pt x="16948" y="17086"/>
                </a:cubicBezTo>
                <a:cubicBezTo>
                  <a:pt x="17000" y="16996"/>
                  <a:pt x="17065" y="16914"/>
                  <a:pt x="17126" y="16831"/>
                </a:cubicBezTo>
                <a:cubicBezTo>
                  <a:pt x="17163" y="16781"/>
                  <a:pt x="17200" y="16732"/>
                  <a:pt x="17231" y="16678"/>
                </a:cubicBezTo>
                <a:cubicBezTo>
                  <a:pt x="17184" y="16687"/>
                  <a:pt x="17155" y="16713"/>
                  <a:pt x="17117" y="16743"/>
                </a:cubicBezTo>
                <a:cubicBezTo>
                  <a:pt x="17074" y="16777"/>
                  <a:pt x="17028" y="16821"/>
                  <a:pt x="17005" y="16871"/>
                </a:cubicBezTo>
                <a:cubicBezTo>
                  <a:pt x="16996" y="16898"/>
                  <a:pt x="16993" y="16906"/>
                  <a:pt x="16998" y="16924"/>
                </a:cubicBezTo>
              </a:path>
              <a:path w="5259" h="863">
                <a:moveTo>
                  <a:pt x="17453" y="16731"/>
                </a:moveTo>
                <a:cubicBezTo>
                  <a:pt x="17458" y="16717"/>
                  <a:pt x="17460" y="16710"/>
                  <a:pt x="17464" y="16700"/>
                </a:cubicBezTo>
                <a:cubicBezTo>
                  <a:pt x="17479" y="16729"/>
                  <a:pt x="17471" y="16750"/>
                  <a:pt x="17464" y="16785"/>
                </a:cubicBezTo>
                <a:cubicBezTo>
                  <a:pt x="17450" y="16856"/>
                  <a:pt x="17431" y="16924"/>
                  <a:pt x="17413" y="16994"/>
                </a:cubicBezTo>
                <a:cubicBezTo>
                  <a:pt x="17404" y="17028"/>
                  <a:pt x="17375" y="17103"/>
                  <a:pt x="17401" y="17136"/>
                </a:cubicBezTo>
                <a:cubicBezTo>
                  <a:pt x="17415" y="17154"/>
                  <a:pt x="17458" y="17142"/>
                  <a:pt x="17474" y="17136"/>
                </a:cubicBezTo>
                <a:cubicBezTo>
                  <a:pt x="17538" y="17112"/>
                  <a:pt x="17600" y="17071"/>
                  <a:pt x="17659" y="17037"/>
                </a:cubicBezTo>
                <a:cubicBezTo>
                  <a:pt x="17688" y="17020"/>
                  <a:pt x="17715" y="17001"/>
                  <a:pt x="17745" y="16988"/>
                </a:cubicBezTo>
                <a:cubicBezTo>
                  <a:pt x="17749" y="16986"/>
                  <a:pt x="17752" y="16985"/>
                  <a:pt x="17756" y="16983"/>
                </a:cubicBezTo>
              </a:path>
              <a:path w="5259" h="863">
                <a:moveTo>
                  <a:pt x="17600" y="16880"/>
                </a:moveTo>
                <a:cubicBezTo>
                  <a:pt x="17583" y="16905"/>
                  <a:pt x="17585" y="16920"/>
                  <a:pt x="17586" y="16950"/>
                </a:cubicBezTo>
                <a:cubicBezTo>
                  <a:pt x="17587" y="16993"/>
                  <a:pt x="17592" y="17036"/>
                  <a:pt x="17600" y="17078"/>
                </a:cubicBezTo>
                <a:cubicBezTo>
                  <a:pt x="17607" y="17116"/>
                  <a:pt x="17616" y="17148"/>
                  <a:pt x="17640" y="17179"/>
                </a:cubicBezTo>
                <a:cubicBezTo>
                  <a:pt x="17651" y="17190"/>
                  <a:pt x="17654" y="17194"/>
                  <a:pt x="17664" y="17195"/>
                </a:cubicBezTo>
              </a:path>
              <a:path w="5259" h="863">
                <a:moveTo>
                  <a:pt x="17835" y="16855"/>
                </a:moveTo>
                <a:cubicBezTo>
                  <a:pt x="17837" y="16837"/>
                  <a:pt x="17838" y="16830"/>
                  <a:pt x="17834" y="16818"/>
                </a:cubicBezTo>
                <a:cubicBezTo>
                  <a:pt x="17837" y="16840"/>
                  <a:pt x="17842" y="16857"/>
                  <a:pt x="17849" y="16878"/>
                </a:cubicBezTo>
              </a:path>
              <a:path w="5259" h="863">
                <a:moveTo>
                  <a:pt x="17968" y="16734"/>
                </a:moveTo>
                <a:cubicBezTo>
                  <a:pt x="17984" y="16720"/>
                  <a:pt x="17999" y="16707"/>
                  <a:pt x="18021" y="16708"/>
                </a:cubicBezTo>
                <a:cubicBezTo>
                  <a:pt x="18060" y="16709"/>
                  <a:pt x="18083" y="16738"/>
                  <a:pt x="18098" y="16771"/>
                </a:cubicBezTo>
                <a:cubicBezTo>
                  <a:pt x="18123" y="16825"/>
                  <a:pt x="18121" y="16888"/>
                  <a:pt x="18111" y="16945"/>
                </a:cubicBezTo>
                <a:cubicBezTo>
                  <a:pt x="18100" y="17006"/>
                  <a:pt x="18074" y="17062"/>
                  <a:pt x="18044" y="17115"/>
                </a:cubicBezTo>
                <a:cubicBezTo>
                  <a:pt x="18033" y="17134"/>
                  <a:pt x="18022" y="17152"/>
                  <a:pt x="18010" y="17170"/>
                </a:cubicBezTo>
                <a:cubicBezTo>
                  <a:pt x="18037" y="17159"/>
                  <a:pt x="18062" y="17144"/>
                  <a:pt x="18089" y="17131"/>
                </a:cubicBezTo>
                <a:cubicBezTo>
                  <a:pt x="18124" y="17114"/>
                  <a:pt x="18173" y="17093"/>
                  <a:pt x="18213" y="17097"/>
                </a:cubicBezTo>
                <a:cubicBezTo>
                  <a:pt x="18238" y="17100"/>
                  <a:pt x="18251" y="17117"/>
                  <a:pt x="18261" y="17138"/>
                </a:cubicBezTo>
                <a:cubicBezTo>
                  <a:pt x="18269" y="17155"/>
                  <a:pt x="18268" y="17165"/>
                  <a:pt x="18268" y="17183"/>
                </a:cubicBezTo>
              </a:path>
              <a:path w="5259" h="863">
                <a:moveTo>
                  <a:pt x="16877" y="17438"/>
                </a:moveTo>
                <a:cubicBezTo>
                  <a:pt x="16935" y="17422"/>
                  <a:pt x="16993" y="17402"/>
                  <a:pt x="17053" y="17390"/>
                </a:cubicBezTo>
                <a:cubicBezTo>
                  <a:pt x="17166" y="17368"/>
                  <a:pt x="17281" y="17353"/>
                  <a:pt x="17395" y="17337"/>
                </a:cubicBezTo>
                <a:cubicBezTo>
                  <a:pt x="17582" y="17311"/>
                  <a:pt x="17778" y="17267"/>
                  <a:pt x="17968" y="17280"/>
                </a:cubicBezTo>
                <a:cubicBezTo>
                  <a:pt x="18026" y="17284"/>
                  <a:pt x="18062" y="17294"/>
                  <a:pt x="18107" y="1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52"/>
          <p:cNvSpPr/>
          <p:nvPr/>
        </p:nvSpPr>
        <p:spPr>
          <a:xfrm>
            <a:off x="8640720" y="5551560"/>
            <a:ext cx="206280" cy="158760"/>
          </a:xfrm>
          <a:custGeom>
            <a:avLst/>
            <a:gdLst/>
            <a:ahLst/>
            <a:rect l="l" t="t" r="r" b="b"/>
            <a:pathLst>
              <a:path w="571" h="441">
                <a:moveTo>
                  <a:pt x="24220" y="15466"/>
                </a:moveTo>
                <a:cubicBezTo>
                  <a:pt x="24212" y="15450"/>
                  <a:pt x="24196" y="15432"/>
                  <a:pt x="24173" y="15440"/>
                </a:cubicBezTo>
                <a:cubicBezTo>
                  <a:pt x="24151" y="15448"/>
                  <a:pt x="24135" y="15475"/>
                  <a:pt x="24126" y="15495"/>
                </a:cubicBezTo>
                <a:cubicBezTo>
                  <a:pt x="24116" y="15516"/>
                  <a:pt x="24108" y="15538"/>
                  <a:pt x="24103" y="15561"/>
                </a:cubicBezTo>
                <a:cubicBezTo>
                  <a:pt x="24098" y="15582"/>
                  <a:pt x="24100" y="15601"/>
                  <a:pt x="24123" y="15610"/>
                </a:cubicBezTo>
                <a:cubicBezTo>
                  <a:pt x="24146" y="15619"/>
                  <a:pt x="24182" y="15599"/>
                  <a:pt x="24200" y="15588"/>
                </a:cubicBezTo>
                <a:cubicBezTo>
                  <a:pt x="24227" y="15571"/>
                  <a:pt x="24252" y="15548"/>
                  <a:pt x="24265" y="15518"/>
                </a:cubicBezTo>
                <a:cubicBezTo>
                  <a:pt x="24273" y="15499"/>
                  <a:pt x="24271" y="15481"/>
                  <a:pt x="24262" y="15463"/>
                </a:cubicBezTo>
                <a:cubicBezTo>
                  <a:pt x="24254" y="15448"/>
                  <a:pt x="24240" y="15434"/>
                  <a:pt x="24224" y="15428"/>
                </a:cubicBezTo>
                <a:cubicBezTo>
                  <a:pt x="24210" y="15422"/>
                  <a:pt x="24187" y="15420"/>
                  <a:pt x="24173" y="15427"/>
                </a:cubicBezTo>
                <a:cubicBezTo>
                  <a:pt x="24155" y="15435"/>
                  <a:pt x="24140" y="15453"/>
                  <a:pt x="24125" y="15466"/>
                </a:cubicBezTo>
              </a:path>
              <a:path w="571" h="441">
                <a:moveTo>
                  <a:pt x="24079" y="15622"/>
                </a:moveTo>
                <a:cubicBezTo>
                  <a:pt x="24077" y="15639"/>
                  <a:pt x="24065" y="15645"/>
                  <a:pt x="24050" y="15657"/>
                </a:cubicBezTo>
                <a:cubicBezTo>
                  <a:pt x="24036" y="15669"/>
                  <a:pt x="24023" y="15684"/>
                  <a:pt x="24014" y="15700"/>
                </a:cubicBezTo>
                <a:cubicBezTo>
                  <a:pt x="24007" y="15712"/>
                  <a:pt x="24002" y="15730"/>
                  <a:pt x="24006" y="15743"/>
                </a:cubicBezTo>
                <a:cubicBezTo>
                  <a:pt x="24011" y="15761"/>
                  <a:pt x="24025" y="15771"/>
                  <a:pt x="24042" y="15775"/>
                </a:cubicBezTo>
                <a:cubicBezTo>
                  <a:pt x="24059" y="15779"/>
                  <a:pt x="24079" y="15778"/>
                  <a:pt x="24096" y="15775"/>
                </a:cubicBezTo>
                <a:cubicBezTo>
                  <a:pt x="24114" y="15772"/>
                  <a:pt x="24132" y="15765"/>
                  <a:pt x="24147" y="15755"/>
                </a:cubicBezTo>
                <a:cubicBezTo>
                  <a:pt x="24162" y="15745"/>
                  <a:pt x="24176" y="15727"/>
                  <a:pt x="24179" y="15708"/>
                </a:cubicBezTo>
                <a:cubicBezTo>
                  <a:pt x="24182" y="15690"/>
                  <a:pt x="24177" y="15669"/>
                  <a:pt x="24170" y="15653"/>
                </a:cubicBezTo>
                <a:cubicBezTo>
                  <a:pt x="24163" y="15637"/>
                  <a:pt x="24149" y="15617"/>
                  <a:pt x="24130" y="15613"/>
                </a:cubicBezTo>
                <a:cubicBezTo>
                  <a:pt x="24116" y="15610"/>
                  <a:pt x="24097" y="15622"/>
                  <a:pt x="24086" y="15629"/>
                </a:cubicBezTo>
              </a:path>
              <a:path w="571" h="441">
                <a:moveTo>
                  <a:pt x="24367" y="15530"/>
                </a:moveTo>
                <a:cubicBezTo>
                  <a:pt x="24378" y="15516"/>
                  <a:pt x="24390" y="15501"/>
                  <a:pt x="24401" y="15487"/>
                </a:cubicBezTo>
                <a:cubicBezTo>
                  <a:pt x="24367" y="15521"/>
                  <a:pt x="24350" y="15557"/>
                  <a:pt x="24329" y="15601"/>
                </a:cubicBezTo>
                <a:cubicBezTo>
                  <a:pt x="24296" y="15672"/>
                  <a:pt x="24279" y="15730"/>
                  <a:pt x="24371" y="15746"/>
                </a:cubicBezTo>
                <a:cubicBezTo>
                  <a:pt x="24437" y="15757"/>
                  <a:pt x="24509" y="15733"/>
                  <a:pt x="24570" y="15713"/>
                </a:cubicBezTo>
              </a:path>
              <a:path w="571" h="441">
                <a:moveTo>
                  <a:pt x="24574" y="15627"/>
                </a:moveTo>
                <a:cubicBezTo>
                  <a:pt x="24488" y="15615"/>
                  <a:pt x="24465" y="15663"/>
                  <a:pt x="24438" y="15758"/>
                </a:cubicBezTo>
                <a:cubicBezTo>
                  <a:pt x="24427" y="15810"/>
                  <a:pt x="24424" y="15827"/>
                  <a:pt x="24424" y="15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53"/>
          <p:cNvSpPr/>
          <p:nvPr/>
        </p:nvSpPr>
        <p:spPr>
          <a:xfrm>
            <a:off x="6934320" y="4618080"/>
            <a:ext cx="677880" cy="33120"/>
          </a:xfrm>
          <a:custGeom>
            <a:avLst/>
            <a:gdLst/>
            <a:ahLst/>
            <a:rect l="l" t="t" r="r" b="b"/>
            <a:pathLst>
              <a:path w="1884" h="94">
                <a:moveTo>
                  <a:pt x="19278" y="12916"/>
                </a:moveTo>
                <a:cubicBezTo>
                  <a:pt x="19312" y="12917"/>
                  <a:pt x="19314" y="12916"/>
                  <a:pt x="19348" y="12913"/>
                </a:cubicBezTo>
                <a:cubicBezTo>
                  <a:pt x="19421" y="12906"/>
                  <a:pt x="19493" y="12900"/>
                  <a:pt x="19566" y="12896"/>
                </a:cubicBezTo>
                <a:cubicBezTo>
                  <a:pt x="19668" y="12890"/>
                  <a:pt x="19771" y="12886"/>
                  <a:pt x="19873" y="12881"/>
                </a:cubicBezTo>
                <a:cubicBezTo>
                  <a:pt x="19991" y="12875"/>
                  <a:pt x="20108" y="12870"/>
                  <a:pt x="20226" y="12860"/>
                </a:cubicBezTo>
                <a:cubicBezTo>
                  <a:pt x="20420" y="12844"/>
                  <a:pt x="20616" y="12820"/>
                  <a:pt x="20811" y="12827"/>
                </a:cubicBezTo>
                <a:cubicBezTo>
                  <a:pt x="20883" y="12829"/>
                  <a:pt x="20955" y="12836"/>
                  <a:pt x="21024" y="12858"/>
                </a:cubicBezTo>
                <a:cubicBezTo>
                  <a:pt x="21059" y="12869"/>
                  <a:pt x="21090" y="12890"/>
                  <a:pt x="21123" y="12905"/>
                </a:cubicBezTo>
                <a:cubicBezTo>
                  <a:pt x="21135" y="12909"/>
                  <a:pt x="21138" y="12909"/>
                  <a:pt x="21145" y="12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-4 + -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(-3)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5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-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12 – 14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-20 + 5 –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20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g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5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3p + 3m + 2p + 8m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1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ger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-4 + -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(-3)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5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-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12 – 14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-20 + 5 –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20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g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5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3p + 3m + 2p + 8m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4"/>
          <p:cNvSpPr/>
          <p:nvPr/>
        </p:nvSpPr>
        <p:spPr>
          <a:xfrm>
            <a:off x="2228760" y="919080"/>
            <a:ext cx="533520" cy="173160"/>
          </a:xfrm>
          <a:custGeom>
            <a:avLst/>
            <a:gdLst/>
            <a:ahLst/>
            <a:rect l="l" t="t" r="r" b="b"/>
            <a:pathLst>
              <a:path w="1480" h="483">
                <a:moveTo>
                  <a:pt x="6201" y="2773"/>
                </a:moveTo>
                <a:cubicBezTo>
                  <a:pt x="6198" y="2771"/>
                  <a:pt x="6194" y="2769"/>
                  <a:pt x="6191" y="2767"/>
                </a:cubicBezTo>
                <a:cubicBezTo>
                  <a:pt x="6205" y="2752"/>
                  <a:pt x="6223" y="2754"/>
                  <a:pt x="6246" y="2754"/>
                </a:cubicBezTo>
                <a:cubicBezTo>
                  <a:pt x="6289" y="2753"/>
                  <a:pt x="6333" y="2756"/>
                  <a:pt x="6376" y="2753"/>
                </a:cubicBezTo>
                <a:cubicBezTo>
                  <a:pt x="6432" y="2750"/>
                  <a:pt x="6485" y="2742"/>
                  <a:pt x="6540" y="2735"/>
                </a:cubicBezTo>
                <a:cubicBezTo>
                  <a:pt x="6583" y="2730"/>
                  <a:pt x="6625" y="2718"/>
                  <a:pt x="6668" y="2720"/>
                </a:cubicBezTo>
                <a:cubicBezTo>
                  <a:pt x="6688" y="2723"/>
                  <a:pt x="6693" y="2724"/>
                  <a:pt x="6705" y="2724"/>
                </a:cubicBezTo>
              </a:path>
              <a:path w="1480" h="483">
                <a:moveTo>
                  <a:pt x="7166" y="2587"/>
                </a:moveTo>
                <a:cubicBezTo>
                  <a:pt x="7152" y="2610"/>
                  <a:pt x="7154" y="2617"/>
                  <a:pt x="7150" y="2643"/>
                </a:cubicBezTo>
                <a:cubicBezTo>
                  <a:pt x="7145" y="2680"/>
                  <a:pt x="7143" y="2717"/>
                  <a:pt x="7141" y="2755"/>
                </a:cubicBezTo>
                <a:cubicBezTo>
                  <a:pt x="7139" y="2792"/>
                  <a:pt x="7133" y="2830"/>
                  <a:pt x="7134" y="2867"/>
                </a:cubicBezTo>
                <a:cubicBezTo>
                  <a:pt x="7135" y="2894"/>
                  <a:pt x="7136" y="2910"/>
                  <a:pt x="7155" y="2927"/>
                </a:cubicBezTo>
              </a:path>
              <a:path w="1480" h="483">
                <a:moveTo>
                  <a:pt x="7336" y="2614"/>
                </a:moveTo>
                <a:cubicBezTo>
                  <a:pt x="7352" y="2595"/>
                  <a:pt x="7366" y="2584"/>
                  <a:pt x="7387" y="2572"/>
                </a:cubicBezTo>
                <a:cubicBezTo>
                  <a:pt x="7416" y="2556"/>
                  <a:pt x="7447" y="2551"/>
                  <a:pt x="7480" y="2553"/>
                </a:cubicBezTo>
                <a:cubicBezTo>
                  <a:pt x="7506" y="2555"/>
                  <a:pt x="7533" y="2566"/>
                  <a:pt x="7543" y="2592"/>
                </a:cubicBezTo>
                <a:cubicBezTo>
                  <a:pt x="7552" y="2615"/>
                  <a:pt x="7537" y="2643"/>
                  <a:pt x="7525" y="2662"/>
                </a:cubicBezTo>
                <a:cubicBezTo>
                  <a:pt x="7516" y="2677"/>
                  <a:pt x="7488" y="2703"/>
                  <a:pt x="7491" y="2722"/>
                </a:cubicBezTo>
                <a:cubicBezTo>
                  <a:pt x="7495" y="2749"/>
                  <a:pt x="7511" y="2753"/>
                  <a:pt x="7535" y="2764"/>
                </a:cubicBezTo>
                <a:cubicBezTo>
                  <a:pt x="7569" y="2779"/>
                  <a:pt x="7605" y="2797"/>
                  <a:pt x="7634" y="2820"/>
                </a:cubicBezTo>
                <a:cubicBezTo>
                  <a:pt x="7679" y="2856"/>
                  <a:pt x="7678" y="2912"/>
                  <a:pt x="7643" y="2955"/>
                </a:cubicBezTo>
                <a:cubicBezTo>
                  <a:pt x="7618" y="2986"/>
                  <a:pt x="7579" y="3008"/>
                  <a:pt x="7543" y="3022"/>
                </a:cubicBezTo>
                <a:cubicBezTo>
                  <a:pt x="7513" y="3034"/>
                  <a:pt x="7476" y="3036"/>
                  <a:pt x="7445" y="3029"/>
                </a:cubicBezTo>
                <a:cubicBezTo>
                  <a:pt x="7428" y="3024"/>
                  <a:pt x="7423" y="3023"/>
                  <a:pt x="7416" y="3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5"/>
          <p:cNvSpPr/>
          <p:nvPr/>
        </p:nvSpPr>
        <p:spPr>
          <a:xfrm>
            <a:off x="2295360" y="1500120"/>
            <a:ext cx="123840" cy="198360"/>
          </a:xfrm>
          <a:custGeom>
            <a:avLst/>
            <a:gdLst/>
            <a:ahLst/>
            <a:rect l="l" t="t" r="r" b="b"/>
            <a:pathLst>
              <a:path w="343" h="551">
                <a:moveTo>
                  <a:pt x="6720" y="4239"/>
                </a:moveTo>
                <a:cubicBezTo>
                  <a:pt x="6712" y="4223"/>
                  <a:pt x="6705" y="4213"/>
                  <a:pt x="6692" y="4201"/>
                </a:cubicBezTo>
                <a:cubicBezTo>
                  <a:pt x="6672" y="4181"/>
                  <a:pt x="6645" y="4173"/>
                  <a:pt x="6618" y="4169"/>
                </a:cubicBezTo>
                <a:cubicBezTo>
                  <a:pt x="6571" y="4161"/>
                  <a:pt x="6521" y="4168"/>
                  <a:pt x="6478" y="4191"/>
                </a:cubicBezTo>
                <a:cubicBezTo>
                  <a:pt x="6432" y="4215"/>
                  <a:pt x="6393" y="4260"/>
                  <a:pt x="6381" y="4311"/>
                </a:cubicBezTo>
                <a:cubicBezTo>
                  <a:pt x="6374" y="4340"/>
                  <a:pt x="6378" y="4376"/>
                  <a:pt x="6408" y="4392"/>
                </a:cubicBezTo>
                <a:cubicBezTo>
                  <a:pt x="6439" y="4408"/>
                  <a:pt x="6486" y="4395"/>
                  <a:pt x="6516" y="4383"/>
                </a:cubicBezTo>
                <a:cubicBezTo>
                  <a:pt x="6556" y="4366"/>
                  <a:pt x="6595" y="4339"/>
                  <a:pt x="6627" y="4310"/>
                </a:cubicBezTo>
                <a:cubicBezTo>
                  <a:pt x="6648" y="4292"/>
                  <a:pt x="6665" y="4270"/>
                  <a:pt x="6682" y="4249"/>
                </a:cubicBezTo>
                <a:cubicBezTo>
                  <a:pt x="6694" y="4285"/>
                  <a:pt x="6686" y="4320"/>
                  <a:pt x="6682" y="4359"/>
                </a:cubicBezTo>
                <a:cubicBezTo>
                  <a:pt x="6676" y="4417"/>
                  <a:pt x="6670" y="4474"/>
                  <a:pt x="6665" y="4532"/>
                </a:cubicBezTo>
                <a:cubicBezTo>
                  <a:pt x="6661" y="4580"/>
                  <a:pt x="6650" y="4638"/>
                  <a:pt x="6655" y="4686"/>
                </a:cubicBezTo>
                <a:cubicBezTo>
                  <a:pt x="6660" y="4702"/>
                  <a:pt x="6662" y="4706"/>
                  <a:pt x="6666" y="4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6"/>
          <p:cNvSpPr/>
          <p:nvPr/>
        </p:nvSpPr>
        <p:spPr>
          <a:xfrm>
            <a:off x="2419200" y="2087640"/>
            <a:ext cx="595440" cy="155520"/>
          </a:xfrm>
          <a:custGeom>
            <a:avLst/>
            <a:gdLst/>
            <a:ahLst/>
            <a:rect l="l" t="t" r="r" b="b"/>
            <a:pathLst>
              <a:path w="1657" h="430">
                <a:moveTo>
                  <a:pt x="6734" y="6038"/>
                </a:moveTo>
                <a:cubicBezTo>
                  <a:pt x="6730" y="6038"/>
                  <a:pt x="6727" y="6039"/>
                  <a:pt x="6723" y="6039"/>
                </a:cubicBezTo>
                <a:cubicBezTo>
                  <a:pt x="6723" y="6016"/>
                  <a:pt x="6738" y="6024"/>
                  <a:pt x="6763" y="6019"/>
                </a:cubicBezTo>
                <a:cubicBezTo>
                  <a:pt x="6800" y="6012"/>
                  <a:pt x="6837" y="6006"/>
                  <a:pt x="6875" y="6005"/>
                </a:cubicBezTo>
                <a:cubicBezTo>
                  <a:pt x="6917" y="6004"/>
                  <a:pt x="6958" y="6006"/>
                  <a:pt x="6999" y="6007"/>
                </a:cubicBezTo>
                <a:cubicBezTo>
                  <a:pt x="7031" y="6008"/>
                  <a:pt x="7062" y="6011"/>
                  <a:pt x="7094" y="6009"/>
                </a:cubicBezTo>
              </a:path>
              <a:path w="1657" h="430">
                <a:moveTo>
                  <a:pt x="7280" y="5882"/>
                </a:moveTo>
                <a:cubicBezTo>
                  <a:pt x="7299" y="5857"/>
                  <a:pt x="7311" y="5855"/>
                  <a:pt x="7343" y="5852"/>
                </a:cubicBezTo>
                <a:cubicBezTo>
                  <a:pt x="7382" y="5848"/>
                  <a:pt x="7418" y="5853"/>
                  <a:pt x="7453" y="5871"/>
                </a:cubicBezTo>
                <a:cubicBezTo>
                  <a:pt x="7484" y="5887"/>
                  <a:pt x="7506" y="5911"/>
                  <a:pt x="7505" y="5948"/>
                </a:cubicBezTo>
                <a:cubicBezTo>
                  <a:pt x="7503" y="5989"/>
                  <a:pt x="7474" y="6030"/>
                  <a:pt x="7451" y="6061"/>
                </a:cubicBezTo>
                <a:cubicBezTo>
                  <a:pt x="7423" y="6098"/>
                  <a:pt x="7391" y="6132"/>
                  <a:pt x="7361" y="6167"/>
                </a:cubicBezTo>
                <a:cubicBezTo>
                  <a:pt x="7343" y="6189"/>
                  <a:pt x="7340" y="6199"/>
                  <a:pt x="7337" y="6223"/>
                </a:cubicBezTo>
                <a:cubicBezTo>
                  <a:pt x="7373" y="6229"/>
                  <a:pt x="7401" y="6226"/>
                  <a:pt x="7437" y="6220"/>
                </a:cubicBezTo>
                <a:cubicBezTo>
                  <a:pt x="7490" y="6211"/>
                  <a:pt x="7542" y="6200"/>
                  <a:pt x="7594" y="6189"/>
                </a:cubicBezTo>
                <a:cubicBezTo>
                  <a:pt x="7619" y="6184"/>
                  <a:pt x="7642" y="6176"/>
                  <a:pt x="7667" y="6169"/>
                </a:cubicBezTo>
              </a:path>
              <a:path w="1657" h="430">
                <a:moveTo>
                  <a:pt x="7794" y="6018"/>
                </a:moveTo>
                <a:cubicBezTo>
                  <a:pt x="7788" y="6002"/>
                  <a:pt x="7823" y="6006"/>
                  <a:pt x="7840" y="6001"/>
                </a:cubicBezTo>
              </a:path>
              <a:path w="1657" h="430">
                <a:moveTo>
                  <a:pt x="8093" y="5810"/>
                </a:moveTo>
                <a:cubicBezTo>
                  <a:pt x="8064" y="5799"/>
                  <a:pt x="8053" y="5796"/>
                  <a:pt x="8026" y="5812"/>
                </a:cubicBezTo>
                <a:cubicBezTo>
                  <a:pt x="8002" y="5826"/>
                  <a:pt x="7987" y="5854"/>
                  <a:pt x="7992" y="5883"/>
                </a:cubicBezTo>
                <a:cubicBezTo>
                  <a:pt x="7999" y="5922"/>
                  <a:pt x="8040" y="5953"/>
                  <a:pt x="8068" y="5977"/>
                </a:cubicBezTo>
                <a:cubicBezTo>
                  <a:pt x="8107" y="6010"/>
                  <a:pt x="8151" y="6037"/>
                  <a:pt x="8183" y="6077"/>
                </a:cubicBezTo>
                <a:cubicBezTo>
                  <a:pt x="8209" y="6110"/>
                  <a:pt x="8210" y="6138"/>
                  <a:pt x="8184" y="6170"/>
                </a:cubicBezTo>
                <a:cubicBezTo>
                  <a:pt x="8158" y="6203"/>
                  <a:pt x="8113" y="6221"/>
                  <a:pt x="8071" y="6214"/>
                </a:cubicBezTo>
                <a:cubicBezTo>
                  <a:pt x="8062" y="6211"/>
                  <a:pt x="8052" y="6207"/>
                  <a:pt x="8043" y="6204"/>
                </a:cubicBezTo>
              </a:path>
              <a:path w="1657" h="430">
                <a:moveTo>
                  <a:pt x="8042" y="5846"/>
                </a:moveTo>
                <a:cubicBezTo>
                  <a:pt x="8082" y="5826"/>
                  <a:pt x="8113" y="5810"/>
                  <a:pt x="8159" y="5812"/>
                </a:cubicBezTo>
                <a:cubicBezTo>
                  <a:pt x="8208" y="5814"/>
                  <a:pt x="8259" y="5831"/>
                  <a:pt x="8297" y="5861"/>
                </a:cubicBezTo>
                <a:cubicBezTo>
                  <a:pt x="8328" y="5886"/>
                  <a:pt x="8351" y="5920"/>
                  <a:pt x="8375" y="5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7"/>
          <p:cNvSpPr/>
          <p:nvPr/>
        </p:nvSpPr>
        <p:spPr>
          <a:xfrm>
            <a:off x="2739960" y="2658960"/>
            <a:ext cx="311040" cy="158760"/>
          </a:xfrm>
          <a:custGeom>
            <a:avLst/>
            <a:gdLst/>
            <a:ahLst/>
            <a:rect l="l" t="t" r="r" b="b"/>
            <a:pathLst>
              <a:path w="864" h="444">
                <a:moveTo>
                  <a:pt x="7637" y="7680"/>
                </a:moveTo>
                <a:cubicBezTo>
                  <a:pt x="7624" y="7682"/>
                  <a:pt x="7620" y="7682"/>
                  <a:pt x="7613" y="7686"/>
                </a:cubicBezTo>
                <a:cubicBezTo>
                  <a:pt x="7615" y="7665"/>
                  <a:pt x="7623" y="7669"/>
                  <a:pt x="7643" y="7662"/>
                </a:cubicBezTo>
                <a:cubicBezTo>
                  <a:pt x="7658" y="7657"/>
                  <a:pt x="7670" y="7654"/>
                  <a:pt x="7685" y="7653"/>
                </a:cubicBezTo>
                <a:cubicBezTo>
                  <a:pt x="7712" y="7651"/>
                  <a:pt x="7739" y="7649"/>
                  <a:pt x="7766" y="7647"/>
                </a:cubicBezTo>
                <a:cubicBezTo>
                  <a:pt x="7784" y="7646"/>
                  <a:pt x="7803" y="7640"/>
                  <a:pt x="7821" y="7637"/>
                </a:cubicBezTo>
                <a:cubicBezTo>
                  <a:pt x="7838" y="7634"/>
                  <a:pt x="7854" y="7629"/>
                  <a:pt x="7871" y="7629"/>
                </a:cubicBezTo>
                <a:cubicBezTo>
                  <a:pt x="7893" y="7628"/>
                  <a:pt x="7901" y="7630"/>
                  <a:pt x="7916" y="7616"/>
                </a:cubicBezTo>
              </a:path>
              <a:path w="864" h="444">
                <a:moveTo>
                  <a:pt x="7750" y="7492"/>
                </a:moveTo>
                <a:cubicBezTo>
                  <a:pt x="7722" y="7511"/>
                  <a:pt x="7719" y="7525"/>
                  <a:pt x="7721" y="7559"/>
                </a:cubicBezTo>
                <a:cubicBezTo>
                  <a:pt x="7724" y="7599"/>
                  <a:pt x="7731" y="7640"/>
                  <a:pt x="7737" y="7680"/>
                </a:cubicBezTo>
                <a:cubicBezTo>
                  <a:pt x="7743" y="7718"/>
                  <a:pt x="7748" y="7755"/>
                  <a:pt x="7759" y="7791"/>
                </a:cubicBezTo>
                <a:cubicBezTo>
                  <a:pt x="7764" y="7807"/>
                  <a:pt x="7765" y="7811"/>
                  <a:pt x="7772" y="7820"/>
                </a:cubicBezTo>
              </a:path>
              <a:path w="864" h="444">
                <a:moveTo>
                  <a:pt x="8102" y="7413"/>
                </a:moveTo>
                <a:cubicBezTo>
                  <a:pt x="8117" y="7391"/>
                  <a:pt x="8130" y="7385"/>
                  <a:pt x="8157" y="7386"/>
                </a:cubicBezTo>
                <a:cubicBezTo>
                  <a:pt x="8186" y="7387"/>
                  <a:pt x="8219" y="7394"/>
                  <a:pt x="8240" y="7415"/>
                </a:cubicBezTo>
                <a:cubicBezTo>
                  <a:pt x="8266" y="7441"/>
                  <a:pt x="8262" y="7480"/>
                  <a:pt x="8248" y="7511"/>
                </a:cubicBezTo>
                <a:cubicBezTo>
                  <a:pt x="8226" y="7562"/>
                  <a:pt x="8186" y="7606"/>
                  <a:pt x="8153" y="7650"/>
                </a:cubicBezTo>
                <a:cubicBezTo>
                  <a:pt x="8128" y="7682"/>
                  <a:pt x="8085" y="7722"/>
                  <a:pt x="8079" y="7765"/>
                </a:cubicBezTo>
                <a:cubicBezTo>
                  <a:pt x="8073" y="7803"/>
                  <a:pt x="8116" y="7814"/>
                  <a:pt x="8144" y="7820"/>
                </a:cubicBezTo>
                <a:cubicBezTo>
                  <a:pt x="8196" y="7831"/>
                  <a:pt x="8254" y="7830"/>
                  <a:pt x="8307" y="7827"/>
                </a:cubicBezTo>
                <a:cubicBezTo>
                  <a:pt x="8349" y="7825"/>
                  <a:pt x="8394" y="7816"/>
                  <a:pt x="8435" y="7815"/>
                </a:cubicBezTo>
                <a:cubicBezTo>
                  <a:pt x="8447" y="7815"/>
                  <a:pt x="8462" y="7818"/>
                  <a:pt x="8474" y="7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8"/>
          <p:cNvSpPr/>
          <p:nvPr/>
        </p:nvSpPr>
        <p:spPr>
          <a:xfrm>
            <a:off x="3414600" y="2703600"/>
            <a:ext cx="211320" cy="82440"/>
          </a:xfrm>
          <a:custGeom>
            <a:avLst/>
            <a:gdLst/>
            <a:ahLst/>
            <a:rect l="l" t="t" r="r" b="b"/>
            <a:pathLst>
              <a:path w="586" h="228">
                <a:moveTo>
                  <a:pt x="9561" y="7536"/>
                </a:moveTo>
                <a:cubicBezTo>
                  <a:pt x="9537" y="7529"/>
                  <a:pt x="9534" y="7528"/>
                  <a:pt x="9516" y="7544"/>
                </a:cubicBezTo>
                <a:cubicBezTo>
                  <a:pt x="9494" y="7564"/>
                  <a:pt x="9490" y="7591"/>
                  <a:pt x="9488" y="7620"/>
                </a:cubicBezTo>
                <a:cubicBezTo>
                  <a:pt x="9485" y="7654"/>
                  <a:pt x="9493" y="7690"/>
                  <a:pt x="9521" y="7713"/>
                </a:cubicBezTo>
                <a:cubicBezTo>
                  <a:pt x="9548" y="7735"/>
                  <a:pt x="9586" y="7742"/>
                  <a:pt x="9619" y="7732"/>
                </a:cubicBezTo>
                <a:cubicBezTo>
                  <a:pt x="9647" y="7723"/>
                  <a:pt x="9683" y="7701"/>
                  <a:pt x="9693" y="7672"/>
                </a:cubicBezTo>
                <a:cubicBezTo>
                  <a:pt x="9703" y="7644"/>
                  <a:pt x="9693" y="7612"/>
                  <a:pt x="9673" y="7591"/>
                </a:cubicBezTo>
                <a:cubicBezTo>
                  <a:pt x="9655" y="7572"/>
                  <a:pt x="9616" y="7557"/>
                  <a:pt x="9590" y="7565"/>
                </a:cubicBezTo>
                <a:cubicBezTo>
                  <a:pt x="9568" y="7572"/>
                  <a:pt x="9542" y="7591"/>
                  <a:pt x="9548" y="7618"/>
                </a:cubicBezTo>
                <a:cubicBezTo>
                  <a:pt x="9558" y="7638"/>
                  <a:pt x="9560" y="7645"/>
                  <a:pt x="9572" y="7654"/>
                </a:cubicBezTo>
              </a:path>
              <a:path w="586" h="228">
                <a:moveTo>
                  <a:pt x="9801" y="7730"/>
                </a:moveTo>
                <a:cubicBezTo>
                  <a:pt x="9824" y="7738"/>
                  <a:pt x="9829" y="7743"/>
                  <a:pt x="9842" y="7726"/>
                </a:cubicBezTo>
                <a:cubicBezTo>
                  <a:pt x="9860" y="7704"/>
                  <a:pt x="9868" y="7677"/>
                  <a:pt x="9881" y="7651"/>
                </a:cubicBezTo>
                <a:cubicBezTo>
                  <a:pt x="9899" y="7616"/>
                  <a:pt x="9919" y="7591"/>
                  <a:pt x="9945" y="7563"/>
                </a:cubicBezTo>
                <a:cubicBezTo>
                  <a:pt x="9973" y="7533"/>
                  <a:pt x="10004" y="7527"/>
                  <a:pt x="10043" y="7518"/>
                </a:cubicBezTo>
                <a:cubicBezTo>
                  <a:pt x="10053" y="7516"/>
                  <a:pt x="10062" y="7513"/>
                  <a:pt x="10072" y="7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9"/>
          <p:cNvSpPr/>
          <p:nvPr/>
        </p:nvSpPr>
        <p:spPr>
          <a:xfrm>
            <a:off x="3855960" y="2635200"/>
            <a:ext cx="174600" cy="158760"/>
          </a:xfrm>
          <a:custGeom>
            <a:avLst/>
            <a:gdLst/>
            <a:ahLst/>
            <a:rect l="l" t="t" r="r" b="b"/>
            <a:pathLst>
              <a:path w="488" h="441">
                <a:moveTo>
                  <a:pt x="10724" y="7378"/>
                </a:moveTo>
                <a:cubicBezTo>
                  <a:pt x="10709" y="7351"/>
                  <a:pt x="10709" y="7343"/>
                  <a:pt x="10741" y="7329"/>
                </a:cubicBezTo>
                <a:cubicBezTo>
                  <a:pt x="10798" y="7305"/>
                  <a:pt x="10904" y="7326"/>
                  <a:pt x="10933" y="7386"/>
                </a:cubicBezTo>
                <a:cubicBezTo>
                  <a:pt x="10962" y="7446"/>
                  <a:pt x="10919" y="7514"/>
                  <a:pt x="10887" y="7562"/>
                </a:cubicBezTo>
                <a:cubicBezTo>
                  <a:pt x="10858" y="7606"/>
                  <a:pt x="10817" y="7643"/>
                  <a:pt x="10793" y="7690"/>
                </a:cubicBezTo>
                <a:cubicBezTo>
                  <a:pt x="10777" y="7721"/>
                  <a:pt x="10780" y="7744"/>
                  <a:pt x="10815" y="7753"/>
                </a:cubicBezTo>
                <a:cubicBezTo>
                  <a:pt x="10896" y="7774"/>
                  <a:pt x="10992" y="7759"/>
                  <a:pt x="11074" y="7754"/>
                </a:cubicBezTo>
                <a:cubicBezTo>
                  <a:pt x="11115" y="7751"/>
                  <a:pt x="11156" y="7750"/>
                  <a:pt x="11197" y="7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0"/>
          <p:cNvSpPr/>
          <p:nvPr/>
        </p:nvSpPr>
        <p:spPr>
          <a:xfrm>
            <a:off x="2625840" y="3238560"/>
            <a:ext cx="574560" cy="195120"/>
          </a:xfrm>
          <a:custGeom>
            <a:avLst/>
            <a:gdLst/>
            <a:ahLst/>
            <a:rect l="l" t="t" r="r" b="b"/>
            <a:pathLst>
              <a:path w="1596" h="546">
                <a:moveTo>
                  <a:pt x="7306" y="9257"/>
                </a:moveTo>
                <a:cubicBezTo>
                  <a:pt x="7280" y="9248"/>
                  <a:pt x="7305" y="9234"/>
                  <a:pt x="7325" y="9225"/>
                </a:cubicBezTo>
                <a:cubicBezTo>
                  <a:pt x="7364" y="9207"/>
                  <a:pt x="7408" y="9192"/>
                  <a:pt x="7449" y="9181"/>
                </a:cubicBezTo>
                <a:cubicBezTo>
                  <a:pt x="7496" y="9169"/>
                  <a:pt x="7542" y="9162"/>
                  <a:pt x="7590" y="9163"/>
                </a:cubicBezTo>
                <a:cubicBezTo>
                  <a:pt x="7618" y="9164"/>
                  <a:pt x="7646" y="9169"/>
                  <a:pt x="7673" y="9173"/>
                </a:cubicBezTo>
              </a:path>
              <a:path w="1596" h="546">
                <a:moveTo>
                  <a:pt x="7915" y="9047"/>
                </a:moveTo>
                <a:cubicBezTo>
                  <a:pt x="7919" y="9036"/>
                  <a:pt x="7926" y="9008"/>
                  <a:pt x="7938" y="9002"/>
                </a:cubicBezTo>
                <a:cubicBezTo>
                  <a:pt x="7960" y="8991"/>
                  <a:pt x="7997" y="9004"/>
                  <a:pt x="8017" y="9013"/>
                </a:cubicBezTo>
                <a:cubicBezTo>
                  <a:pt x="8084" y="9043"/>
                  <a:pt x="8107" y="9110"/>
                  <a:pt x="8077" y="9175"/>
                </a:cubicBezTo>
                <a:cubicBezTo>
                  <a:pt x="8050" y="9235"/>
                  <a:pt x="8004" y="9282"/>
                  <a:pt x="7961" y="9330"/>
                </a:cubicBezTo>
                <a:cubicBezTo>
                  <a:pt x="7939" y="9354"/>
                  <a:pt x="7926" y="9369"/>
                  <a:pt x="7923" y="9401"/>
                </a:cubicBezTo>
                <a:cubicBezTo>
                  <a:pt x="7955" y="9410"/>
                  <a:pt x="7978" y="9412"/>
                  <a:pt x="8014" y="9408"/>
                </a:cubicBezTo>
                <a:cubicBezTo>
                  <a:pt x="8092" y="9400"/>
                  <a:pt x="8165" y="9379"/>
                  <a:pt x="8238" y="9352"/>
                </a:cubicBezTo>
                <a:cubicBezTo>
                  <a:pt x="8293" y="9332"/>
                  <a:pt x="8341" y="9310"/>
                  <a:pt x="8390" y="9278"/>
                </a:cubicBezTo>
              </a:path>
              <a:path w="1596" h="546">
                <a:moveTo>
                  <a:pt x="8564" y="8997"/>
                </a:moveTo>
                <a:cubicBezTo>
                  <a:pt x="8592" y="9008"/>
                  <a:pt x="8578" y="9038"/>
                  <a:pt x="8564" y="9073"/>
                </a:cubicBezTo>
                <a:cubicBezTo>
                  <a:pt x="8541" y="9131"/>
                  <a:pt x="8514" y="9186"/>
                  <a:pt x="8497" y="9246"/>
                </a:cubicBezTo>
                <a:cubicBezTo>
                  <a:pt x="8489" y="9272"/>
                  <a:pt x="8475" y="9312"/>
                  <a:pt x="8494" y="9337"/>
                </a:cubicBezTo>
                <a:cubicBezTo>
                  <a:pt x="8514" y="9364"/>
                  <a:pt x="8553" y="9356"/>
                  <a:pt x="8581" y="9352"/>
                </a:cubicBezTo>
                <a:cubicBezTo>
                  <a:pt x="8648" y="9342"/>
                  <a:pt x="8710" y="9319"/>
                  <a:pt x="8774" y="9299"/>
                </a:cubicBezTo>
                <a:cubicBezTo>
                  <a:pt x="8816" y="9286"/>
                  <a:pt x="8853" y="9274"/>
                  <a:pt x="8889" y="9250"/>
                </a:cubicBezTo>
              </a:path>
              <a:path w="1596" h="546">
                <a:moveTo>
                  <a:pt x="8815" y="9087"/>
                </a:moveTo>
                <a:cubicBezTo>
                  <a:pt x="8782" y="9112"/>
                  <a:pt x="8771" y="9134"/>
                  <a:pt x="8753" y="9172"/>
                </a:cubicBezTo>
                <a:cubicBezTo>
                  <a:pt x="8728" y="9225"/>
                  <a:pt x="8706" y="9279"/>
                  <a:pt x="8693" y="9337"/>
                </a:cubicBezTo>
                <a:cubicBezTo>
                  <a:pt x="8682" y="9385"/>
                  <a:pt x="8675" y="9433"/>
                  <a:pt x="8689" y="9481"/>
                </a:cubicBezTo>
                <a:cubicBezTo>
                  <a:pt x="8697" y="9507"/>
                  <a:pt x="8711" y="9520"/>
                  <a:pt x="8729" y="9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1"/>
          <p:cNvSpPr/>
          <p:nvPr/>
        </p:nvSpPr>
        <p:spPr>
          <a:xfrm>
            <a:off x="3492360" y="3800520"/>
            <a:ext cx="447840" cy="160200"/>
          </a:xfrm>
          <a:custGeom>
            <a:avLst/>
            <a:gdLst/>
            <a:ahLst/>
            <a:rect l="l" t="t" r="r" b="b"/>
            <a:pathLst>
              <a:path w="1244" h="446">
                <a:moveTo>
                  <a:pt x="9838" y="10707"/>
                </a:moveTo>
                <a:cubicBezTo>
                  <a:pt x="9829" y="10701"/>
                  <a:pt x="9793" y="10671"/>
                  <a:pt x="9781" y="10677"/>
                </a:cubicBezTo>
                <a:cubicBezTo>
                  <a:pt x="9761" y="10687"/>
                  <a:pt x="9743" y="10725"/>
                  <a:pt x="9734" y="10744"/>
                </a:cubicBezTo>
                <a:cubicBezTo>
                  <a:pt x="9714" y="10787"/>
                  <a:pt x="9702" y="10835"/>
                  <a:pt x="9702" y="10883"/>
                </a:cubicBezTo>
                <a:cubicBezTo>
                  <a:pt x="9702" y="10924"/>
                  <a:pt x="9712" y="10964"/>
                  <a:pt x="9745" y="10990"/>
                </a:cubicBezTo>
                <a:cubicBezTo>
                  <a:pt x="9778" y="11016"/>
                  <a:pt x="9825" y="11002"/>
                  <a:pt x="9859" y="10985"/>
                </a:cubicBezTo>
                <a:cubicBezTo>
                  <a:pt x="9909" y="10961"/>
                  <a:pt x="9953" y="10915"/>
                  <a:pt x="9987" y="10872"/>
                </a:cubicBezTo>
                <a:cubicBezTo>
                  <a:pt x="10017" y="10834"/>
                  <a:pt x="10039" y="10786"/>
                  <a:pt x="10034" y="10737"/>
                </a:cubicBezTo>
                <a:cubicBezTo>
                  <a:pt x="10030" y="10699"/>
                  <a:pt x="10003" y="10669"/>
                  <a:pt x="9969" y="10654"/>
                </a:cubicBezTo>
                <a:cubicBezTo>
                  <a:pt x="9935" y="10639"/>
                  <a:pt x="9903" y="10641"/>
                  <a:pt x="9870" y="10654"/>
                </a:cubicBezTo>
                <a:cubicBezTo>
                  <a:pt x="9838" y="10666"/>
                  <a:pt x="9833" y="10694"/>
                  <a:pt x="9852" y="10722"/>
                </a:cubicBezTo>
                <a:cubicBezTo>
                  <a:pt x="9871" y="10742"/>
                  <a:pt x="9879" y="10749"/>
                  <a:pt x="9897" y="10758"/>
                </a:cubicBezTo>
              </a:path>
              <a:path w="1244" h="446">
                <a:moveTo>
                  <a:pt x="10320" y="10805"/>
                </a:moveTo>
                <a:cubicBezTo>
                  <a:pt x="10306" y="10812"/>
                  <a:pt x="10298" y="10832"/>
                  <a:pt x="10316" y="10846"/>
                </a:cubicBezTo>
                <a:cubicBezTo>
                  <a:pt x="10320" y="10847"/>
                  <a:pt x="10325" y="10849"/>
                  <a:pt x="10329" y="10850"/>
                </a:cubicBezTo>
                <a:cubicBezTo>
                  <a:pt x="10347" y="10835"/>
                  <a:pt x="10351" y="10818"/>
                  <a:pt x="10326" y="10803"/>
                </a:cubicBezTo>
                <a:cubicBezTo>
                  <a:pt x="10309" y="10792"/>
                  <a:pt x="10304" y="10802"/>
                  <a:pt x="10332" y="10808"/>
                </a:cubicBezTo>
              </a:path>
              <a:path w="1244" h="446">
                <a:moveTo>
                  <a:pt x="10557" y="10623"/>
                </a:moveTo>
                <a:cubicBezTo>
                  <a:pt x="10547" y="10600"/>
                  <a:pt x="10540" y="10589"/>
                  <a:pt x="10561" y="10574"/>
                </a:cubicBezTo>
                <a:cubicBezTo>
                  <a:pt x="10586" y="10557"/>
                  <a:pt x="10627" y="10559"/>
                  <a:pt x="10656" y="10558"/>
                </a:cubicBezTo>
                <a:cubicBezTo>
                  <a:pt x="10697" y="10557"/>
                  <a:pt x="10743" y="10560"/>
                  <a:pt x="10781" y="10575"/>
                </a:cubicBezTo>
                <a:cubicBezTo>
                  <a:pt x="10819" y="10590"/>
                  <a:pt x="10822" y="10622"/>
                  <a:pt x="10807" y="10656"/>
                </a:cubicBezTo>
                <a:cubicBezTo>
                  <a:pt x="10780" y="10715"/>
                  <a:pt x="10724" y="10762"/>
                  <a:pt x="10680" y="10808"/>
                </a:cubicBezTo>
                <a:cubicBezTo>
                  <a:pt x="10652" y="10836"/>
                  <a:pt x="10605" y="10877"/>
                  <a:pt x="10603" y="10921"/>
                </a:cubicBezTo>
                <a:cubicBezTo>
                  <a:pt x="10602" y="10948"/>
                  <a:pt x="10629" y="10954"/>
                  <a:pt x="10650" y="10957"/>
                </a:cubicBezTo>
                <a:cubicBezTo>
                  <a:pt x="10690" y="10963"/>
                  <a:pt x="10732" y="10960"/>
                  <a:pt x="10772" y="10956"/>
                </a:cubicBezTo>
                <a:cubicBezTo>
                  <a:pt x="10814" y="10951"/>
                  <a:pt x="10856" y="10943"/>
                  <a:pt x="10898" y="10938"/>
                </a:cubicBezTo>
                <a:cubicBezTo>
                  <a:pt x="10917" y="10936"/>
                  <a:pt x="10928" y="10931"/>
                  <a:pt x="10945" y="10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2"/>
          <p:cNvSpPr/>
          <p:nvPr/>
        </p:nvSpPr>
        <p:spPr>
          <a:xfrm>
            <a:off x="1933560" y="4194000"/>
            <a:ext cx="635040" cy="193680"/>
          </a:xfrm>
          <a:custGeom>
            <a:avLst/>
            <a:gdLst/>
            <a:ahLst/>
            <a:rect l="l" t="t" r="r" b="b"/>
            <a:pathLst>
              <a:path w="1767" h="538">
                <a:moveTo>
                  <a:pt x="5410" y="12043"/>
                </a:moveTo>
                <a:cubicBezTo>
                  <a:pt x="5424" y="12023"/>
                  <a:pt x="5439" y="12005"/>
                  <a:pt x="5453" y="11985"/>
                </a:cubicBezTo>
                <a:cubicBezTo>
                  <a:pt x="5472" y="11959"/>
                  <a:pt x="5496" y="11942"/>
                  <a:pt x="5521" y="11922"/>
                </a:cubicBezTo>
                <a:cubicBezTo>
                  <a:pt x="5557" y="11894"/>
                  <a:pt x="5594" y="11880"/>
                  <a:pt x="5639" y="11872"/>
                </a:cubicBezTo>
                <a:cubicBezTo>
                  <a:pt x="5684" y="11865"/>
                  <a:pt x="5734" y="11868"/>
                  <a:pt x="5776" y="11885"/>
                </a:cubicBezTo>
                <a:cubicBezTo>
                  <a:pt x="5844" y="11912"/>
                  <a:pt x="5891" y="11969"/>
                  <a:pt x="5918" y="12035"/>
                </a:cubicBezTo>
                <a:cubicBezTo>
                  <a:pt x="5929" y="12060"/>
                  <a:pt x="5939" y="12082"/>
                  <a:pt x="5953" y="12106"/>
                </a:cubicBezTo>
              </a:path>
              <a:path w="1767" h="538">
                <a:moveTo>
                  <a:pt x="5378" y="11964"/>
                </a:moveTo>
                <a:cubicBezTo>
                  <a:pt x="5395" y="11947"/>
                  <a:pt x="5392" y="11938"/>
                  <a:pt x="5413" y="11927"/>
                </a:cubicBezTo>
                <a:cubicBezTo>
                  <a:pt x="5479" y="11891"/>
                  <a:pt x="5546" y="11856"/>
                  <a:pt x="5614" y="11825"/>
                </a:cubicBezTo>
                <a:cubicBezTo>
                  <a:pt x="5723" y="11776"/>
                  <a:pt x="5834" y="11729"/>
                  <a:pt x="5950" y="11698"/>
                </a:cubicBezTo>
                <a:cubicBezTo>
                  <a:pt x="6233" y="11622"/>
                  <a:pt x="6562" y="11627"/>
                  <a:pt x="6815" y="11791"/>
                </a:cubicBezTo>
                <a:cubicBezTo>
                  <a:pt x="6944" y="11875"/>
                  <a:pt x="6993" y="11982"/>
                  <a:pt x="7066" y="12108"/>
                </a:cubicBezTo>
                <a:cubicBezTo>
                  <a:pt x="7086" y="12143"/>
                  <a:pt x="7107" y="12161"/>
                  <a:pt x="7135" y="12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3"/>
          <p:cNvSpPr/>
          <p:nvPr/>
        </p:nvSpPr>
        <p:spPr>
          <a:xfrm>
            <a:off x="3282840" y="4354560"/>
            <a:ext cx="738360" cy="341280"/>
          </a:xfrm>
          <a:custGeom>
            <a:avLst/>
            <a:gdLst/>
            <a:ahLst/>
            <a:rect l="l" t="t" r="r" b="b"/>
            <a:pathLst>
              <a:path w="2049" h="944">
                <a:moveTo>
                  <a:pt x="9283" y="12117"/>
                </a:moveTo>
                <a:cubicBezTo>
                  <a:pt x="9304" y="12077"/>
                  <a:pt x="9280" y="12132"/>
                  <a:pt x="9276" y="12144"/>
                </a:cubicBezTo>
                <a:cubicBezTo>
                  <a:pt x="9254" y="12206"/>
                  <a:pt x="9229" y="12268"/>
                  <a:pt x="9204" y="12329"/>
                </a:cubicBezTo>
                <a:cubicBezTo>
                  <a:pt x="9177" y="12395"/>
                  <a:pt x="9145" y="12460"/>
                  <a:pt x="9128" y="12529"/>
                </a:cubicBezTo>
                <a:cubicBezTo>
                  <a:pt x="9120" y="12561"/>
                  <a:pt x="9108" y="12604"/>
                  <a:pt x="9152" y="12610"/>
                </a:cubicBezTo>
                <a:cubicBezTo>
                  <a:pt x="9204" y="12618"/>
                  <a:pt x="9265" y="12588"/>
                  <a:pt x="9312" y="12571"/>
                </a:cubicBezTo>
                <a:cubicBezTo>
                  <a:pt x="9387" y="12544"/>
                  <a:pt x="9462" y="12517"/>
                  <a:pt x="9537" y="12489"/>
                </a:cubicBezTo>
                <a:cubicBezTo>
                  <a:pt x="9574" y="12475"/>
                  <a:pt x="9646" y="12468"/>
                  <a:pt x="9677" y="12443"/>
                </a:cubicBezTo>
                <a:cubicBezTo>
                  <a:pt x="9678" y="12439"/>
                  <a:pt x="9679" y="12436"/>
                  <a:pt x="9680" y="12432"/>
                </a:cubicBezTo>
              </a:path>
              <a:path w="2049" h="944">
                <a:moveTo>
                  <a:pt x="9382" y="12354"/>
                </a:moveTo>
                <a:cubicBezTo>
                  <a:pt x="9388" y="12383"/>
                  <a:pt x="9401" y="12407"/>
                  <a:pt x="9413" y="12435"/>
                </a:cubicBezTo>
                <a:cubicBezTo>
                  <a:pt x="9436" y="12485"/>
                  <a:pt x="9460" y="12530"/>
                  <a:pt x="9500" y="12569"/>
                </a:cubicBezTo>
                <a:cubicBezTo>
                  <a:pt x="9524" y="12590"/>
                  <a:pt x="9532" y="12597"/>
                  <a:pt x="9554" y="12601"/>
                </a:cubicBezTo>
              </a:path>
              <a:path w="2049" h="944">
                <a:moveTo>
                  <a:pt x="10020" y="12404"/>
                </a:moveTo>
                <a:cubicBezTo>
                  <a:pt x="9982" y="12392"/>
                  <a:pt x="9955" y="12399"/>
                  <a:pt x="9919" y="12424"/>
                </a:cubicBezTo>
                <a:cubicBezTo>
                  <a:pt x="9889" y="12445"/>
                  <a:pt x="9850" y="12481"/>
                  <a:pt x="9840" y="12518"/>
                </a:cubicBezTo>
                <a:cubicBezTo>
                  <a:pt x="9840" y="12534"/>
                  <a:pt x="9839" y="12539"/>
                  <a:pt x="9851" y="12545"/>
                </a:cubicBezTo>
                <a:cubicBezTo>
                  <a:pt x="9893" y="12542"/>
                  <a:pt x="9926" y="12529"/>
                  <a:pt x="9963" y="12509"/>
                </a:cubicBezTo>
                <a:cubicBezTo>
                  <a:pt x="10003" y="12487"/>
                  <a:pt x="10042" y="12460"/>
                  <a:pt x="10081" y="12436"/>
                </a:cubicBezTo>
                <a:cubicBezTo>
                  <a:pt x="10088" y="12485"/>
                  <a:pt x="10075" y="12530"/>
                  <a:pt x="10065" y="12579"/>
                </a:cubicBezTo>
                <a:cubicBezTo>
                  <a:pt x="10048" y="12662"/>
                  <a:pt x="10029" y="12743"/>
                  <a:pt x="10004" y="12824"/>
                </a:cubicBezTo>
                <a:cubicBezTo>
                  <a:pt x="9986" y="12883"/>
                  <a:pt x="9966" y="12951"/>
                  <a:pt x="9928" y="13001"/>
                </a:cubicBezTo>
                <a:cubicBezTo>
                  <a:pt x="9909" y="13026"/>
                  <a:pt x="9876" y="13051"/>
                  <a:pt x="9844" y="13034"/>
                </a:cubicBezTo>
                <a:cubicBezTo>
                  <a:pt x="9820" y="13015"/>
                  <a:pt x="9811" y="13008"/>
                  <a:pt x="9798" y="12991"/>
                </a:cubicBezTo>
              </a:path>
              <a:path w="2049" h="944">
                <a:moveTo>
                  <a:pt x="10650" y="12446"/>
                </a:moveTo>
                <a:cubicBezTo>
                  <a:pt x="10651" y="12466"/>
                  <a:pt x="10675" y="12463"/>
                  <a:pt x="10700" y="12462"/>
                </a:cubicBezTo>
                <a:cubicBezTo>
                  <a:pt x="10747" y="12460"/>
                  <a:pt x="10794" y="12459"/>
                  <a:pt x="10840" y="12452"/>
                </a:cubicBezTo>
                <a:cubicBezTo>
                  <a:pt x="10899" y="12443"/>
                  <a:pt x="10957" y="12437"/>
                  <a:pt x="11016" y="12432"/>
                </a:cubicBezTo>
                <a:cubicBezTo>
                  <a:pt x="11058" y="12428"/>
                  <a:pt x="11098" y="12426"/>
                  <a:pt x="11140" y="12427"/>
                </a:cubicBezTo>
                <a:cubicBezTo>
                  <a:pt x="11156" y="12428"/>
                  <a:pt x="11160" y="12428"/>
                  <a:pt x="11169" y="12432"/>
                </a:cubicBezTo>
              </a:path>
              <a:path w="2049" h="944">
                <a:moveTo>
                  <a:pt x="11062" y="12207"/>
                </a:moveTo>
                <a:cubicBezTo>
                  <a:pt x="11050" y="12239"/>
                  <a:pt x="11051" y="12274"/>
                  <a:pt x="11050" y="12310"/>
                </a:cubicBezTo>
                <a:cubicBezTo>
                  <a:pt x="11047" y="12379"/>
                  <a:pt x="11052" y="12445"/>
                  <a:pt x="11055" y="12513"/>
                </a:cubicBezTo>
                <a:cubicBezTo>
                  <a:pt x="11056" y="12542"/>
                  <a:pt x="11070" y="12579"/>
                  <a:pt x="11064" y="12608"/>
                </a:cubicBezTo>
                <a:cubicBezTo>
                  <a:pt x="11062" y="12612"/>
                  <a:pt x="11060" y="12617"/>
                  <a:pt x="11058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4"/>
          <p:cNvSpPr/>
          <p:nvPr/>
        </p:nvSpPr>
        <p:spPr>
          <a:xfrm>
            <a:off x="4265640" y="4352760"/>
            <a:ext cx="206280" cy="274680"/>
          </a:xfrm>
          <a:custGeom>
            <a:avLst/>
            <a:gdLst/>
            <a:ahLst/>
            <a:rect l="l" t="t" r="r" b="b"/>
            <a:pathLst>
              <a:path w="574" h="761">
                <a:moveTo>
                  <a:pt x="11930" y="12118"/>
                </a:moveTo>
                <a:cubicBezTo>
                  <a:pt x="11940" y="12105"/>
                  <a:pt x="11943" y="12101"/>
                  <a:pt x="11951" y="12093"/>
                </a:cubicBezTo>
                <a:cubicBezTo>
                  <a:pt x="11960" y="12120"/>
                  <a:pt x="11964" y="12139"/>
                  <a:pt x="11955" y="12180"/>
                </a:cubicBezTo>
                <a:cubicBezTo>
                  <a:pt x="11942" y="12240"/>
                  <a:pt x="11925" y="12300"/>
                  <a:pt x="11904" y="12358"/>
                </a:cubicBezTo>
                <a:cubicBezTo>
                  <a:pt x="11885" y="12412"/>
                  <a:pt x="11852" y="12475"/>
                  <a:pt x="11848" y="12533"/>
                </a:cubicBezTo>
                <a:cubicBezTo>
                  <a:pt x="11845" y="12576"/>
                  <a:pt x="11886" y="12576"/>
                  <a:pt x="11918" y="12574"/>
                </a:cubicBezTo>
                <a:cubicBezTo>
                  <a:pt x="11971" y="12571"/>
                  <a:pt x="12022" y="12559"/>
                  <a:pt x="12074" y="12550"/>
                </a:cubicBezTo>
                <a:cubicBezTo>
                  <a:pt x="12137" y="12540"/>
                  <a:pt x="12200" y="12528"/>
                  <a:pt x="12264" y="12520"/>
                </a:cubicBezTo>
                <a:cubicBezTo>
                  <a:pt x="12308" y="12514"/>
                  <a:pt x="12353" y="12511"/>
                  <a:pt x="12395" y="12500"/>
                </a:cubicBezTo>
                <a:cubicBezTo>
                  <a:pt x="12410" y="12496"/>
                  <a:pt x="12413" y="12495"/>
                  <a:pt x="12421" y="12490"/>
                </a:cubicBezTo>
              </a:path>
              <a:path w="574" h="761">
                <a:moveTo>
                  <a:pt x="12219" y="12271"/>
                </a:moveTo>
                <a:cubicBezTo>
                  <a:pt x="12180" y="12272"/>
                  <a:pt x="12176" y="12293"/>
                  <a:pt x="12161" y="12328"/>
                </a:cubicBezTo>
                <a:cubicBezTo>
                  <a:pt x="12134" y="12389"/>
                  <a:pt x="12129" y="12453"/>
                  <a:pt x="12119" y="12518"/>
                </a:cubicBezTo>
                <a:cubicBezTo>
                  <a:pt x="12108" y="12589"/>
                  <a:pt x="12098" y="12661"/>
                  <a:pt x="12096" y="12733"/>
                </a:cubicBezTo>
                <a:cubicBezTo>
                  <a:pt x="12095" y="12773"/>
                  <a:pt x="12097" y="12813"/>
                  <a:pt x="12100" y="1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5"/>
          <p:cNvSpPr/>
          <p:nvPr/>
        </p:nvSpPr>
        <p:spPr>
          <a:xfrm>
            <a:off x="3343320" y="4913280"/>
            <a:ext cx="461880" cy="293760"/>
          </a:xfrm>
          <a:custGeom>
            <a:avLst/>
            <a:gdLst/>
            <a:ahLst/>
            <a:rect l="l" t="t" r="r" b="b"/>
            <a:pathLst>
              <a:path w="1286" h="812">
                <a:moveTo>
                  <a:pt x="9352" y="14115"/>
                </a:moveTo>
                <a:cubicBezTo>
                  <a:pt x="9344" y="14133"/>
                  <a:pt x="9337" y="14149"/>
                  <a:pt x="9333" y="14168"/>
                </a:cubicBezTo>
                <a:cubicBezTo>
                  <a:pt x="9327" y="14197"/>
                  <a:pt x="9316" y="14223"/>
                  <a:pt x="9308" y="14251"/>
                </a:cubicBezTo>
                <a:cubicBezTo>
                  <a:pt x="9301" y="14276"/>
                  <a:pt x="9292" y="14301"/>
                  <a:pt x="9286" y="14326"/>
                </a:cubicBezTo>
                <a:cubicBezTo>
                  <a:pt x="9286" y="14330"/>
                  <a:pt x="9285" y="14333"/>
                  <a:pt x="9285" y="14337"/>
                </a:cubicBezTo>
                <a:cubicBezTo>
                  <a:pt x="9309" y="14320"/>
                  <a:pt x="9326" y="14302"/>
                  <a:pt x="9347" y="14279"/>
                </a:cubicBezTo>
                <a:cubicBezTo>
                  <a:pt x="9386" y="14235"/>
                  <a:pt x="9426" y="14188"/>
                  <a:pt x="9473" y="14152"/>
                </a:cubicBezTo>
                <a:cubicBezTo>
                  <a:pt x="9506" y="14126"/>
                  <a:pt x="9550" y="14095"/>
                  <a:pt x="9594" y="14097"/>
                </a:cubicBezTo>
                <a:cubicBezTo>
                  <a:pt x="9623" y="14099"/>
                  <a:pt x="9637" y="14123"/>
                  <a:pt x="9650" y="14146"/>
                </a:cubicBezTo>
                <a:cubicBezTo>
                  <a:pt x="9658" y="14160"/>
                  <a:pt x="9666" y="14189"/>
                  <a:pt x="9685" y="14194"/>
                </a:cubicBezTo>
                <a:cubicBezTo>
                  <a:pt x="9711" y="14201"/>
                  <a:pt x="9740" y="14177"/>
                  <a:pt x="9761" y="14167"/>
                </a:cubicBezTo>
                <a:cubicBezTo>
                  <a:pt x="9795" y="14150"/>
                  <a:pt x="9840" y="14127"/>
                  <a:pt x="9880" y="14128"/>
                </a:cubicBezTo>
                <a:cubicBezTo>
                  <a:pt x="9924" y="14130"/>
                  <a:pt x="9961" y="14158"/>
                  <a:pt x="9983" y="14195"/>
                </a:cubicBezTo>
                <a:cubicBezTo>
                  <a:pt x="10008" y="14237"/>
                  <a:pt x="10022" y="14292"/>
                  <a:pt x="10030" y="14340"/>
                </a:cubicBezTo>
                <a:cubicBezTo>
                  <a:pt x="10037" y="14382"/>
                  <a:pt x="10036" y="14419"/>
                  <a:pt x="10031" y="14461"/>
                </a:cubicBezTo>
              </a:path>
              <a:path w="1286" h="812">
                <a:moveTo>
                  <a:pt x="10399" y="13650"/>
                </a:moveTo>
                <a:cubicBezTo>
                  <a:pt x="10381" y="13655"/>
                  <a:pt x="10357" y="13659"/>
                  <a:pt x="10341" y="13669"/>
                </a:cubicBezTo>
                <a:cubicBezTo>
                  <a:pt x="10325" y="13679"/>
                  <a:pt x="10301" y="13691"/>
                  <a:pt x="10288" y="13704"/>
                </a:cubicBezTo>
                <a:cubicBezTo>
                  <a:pt x="10274" y="13718"/>
                  <a:pt x="10256" y="13738"/>
                  <a:pt x="10252" y="13758"/>
                </a:cubicBezTo>
                <a:cubicBezTo>
                  <a:pt x="10247" y="13781"/>
                  <a:pt x="10259" y="13799"/>
                  <a:pt x="10277" y="13813"/>
                </a:cubicBezTo>
                <a:cubicBezTo>
                  <a:pt x="10318" y="13844"/>
                  <a:pt x="10380" y="13847"/>
                  <a:pt x="10428" y="13861"/>
                </a:cubicBezTo>
                <a:cubicBezTo>
                  <a:pt x="10464" y="13872"/>
                  <a:pt x="10503" y="13881"/>
                  <a:pt x="10531" y="13907"/>
                </a:cubicBezTo>
                <a:cubicBezTo>
                  <a:pt x="10556" y="13930"/>
                  <a:pt x="10556" y="13959"/>
                  <a:pt x="10541" y="13987"/>
                </a:cubicBezTo>
                <a:cubicBezTo>
                  <a:pt x="10521" y="14024"/>
                  <a:pt x="10482" y="14050"/>
                  <a:pt x="10444" y="14067"/>
                </a:cubicBezTo>
                <a:cubicBezTo>
                  <a:pt x="10406" y="14084"/>
                  <a:pt x="10366" y="14096"/>
                  <a:pt x="10330" y="14074"/>
                </a:cubicBezTo>
                <a:cubicBezTo>
                  <a:pt x="10328" y="14040"/>
                  <a:pt x="10346" y="14012"/>
                  <a:pt x="10368" y="13984"/>
                </a:cubicBezTo>
                <a:cubicBezTo>
                  <a:pt x="10405" y="13937"/>
                  <a:pt x="10452" y="13896"/>
                  <a:pt x="10493" y="13852"/>
                </a:cubicBezTo>
                <a:cubicBezTo>
                  <a:pt x="10521" y="13822"/>
                  <a:pt x="10560" y="13788"/>
                  <a:pt x="10570" y="13746"/>
                </a:cubicBezTo>
                <a:cubicBezTo>
                  <a:pt x="10577" y="13719"/>
                  <a:pt x="10557" y="13699"/>
                  <a:pt x="10530" y="13701"/>
                </a:cubicBezTo>
                <a:cubicBezTo>
                  <a:pt x="10492" y="13704"/>
                  <a:pt x="10447" y="13730"/>
                  <a:pt x="10419" y="13754"/>
                </a:cubicBezTo>
                <a:cubicBezTo>
                  <a:pt x="10410" y="13763"/>
                  <a:pt x="10402" y="13771"/>
                  <a:pt x="10393" y="13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6"/>
          <p:cNvSpPr/>
          <p:nvPr/>
        </p:nvSpPr>
        <p:spPr>
          <a:xfrm>
            <a:off x="3065400" y="5614920"/>
            <a:ext cx="434880" cy="108000"/>
          </a:xfrm>
          <a:custGeom>
            <a:avLst/>
            <a:gdLst/>
            <a:ahLst/>
            <a:rect l="l" t="t" r="r" b="b"/>
            <a:pathLst>
              <a:path w="1206" h="303">
                <a:moveTo>
                  <a:pt x="9227" y="15705"/>
                </a:moveTo>
                <a:cubicBezTo>
                  <a:pt x="9254" y="15714"/>
                  <a:pt x="9279" y="15716"/>
                  <a:pt x="9308" y="15713"/>
                </a:cubicBezTo>
                <a:cubicBezTo>
                  <a:pt x="9352" y="15708"/>
                  <a:pt x="9395" y="15700"/>
                  <a:pt x="9439" y="15694"/>
                </a:cubicBezTo>
                <a:cubicBezTo>
                  <a:pt x="9483" y="15688"/>
                  <a:pt x="9525" y="15683"/>
                  <a:pt x="9570" y="15688"/>
                </a:cubicBezTo>
                <a:cubicBezTo>
                  <a:pt x="9593" y="15691"/>
                  <a:pt x="9599" y="15696"/>
                  <a:pt x="9613" y="15712"/>
                </a:cubicBezTo>
              </a:path>
              <a:path w="1206" h="303">
                <a:moveTo>
                  <a:pt x="9311" y="15897"/>
                </a:moveTo>
                <a:cubicBezTo>
                  <a:pt x="9342" y="15881"/>
                  <a:pt x="9373" y="15867"/>
                  <a:pt x="9406" y="15855"/>
                </a:cubicBezTo>
                <a:cubicBezTo>
                  <a:pt x="9460" y="15836"/>
                  <a:pt x="9516" y="15824"/>
                  <a:pt x="9573" y="15815"/>
                </a:cubicBezTo>
                <a:cubicBezTo>
                  <a:pt x="9623" y="15807"/>
                  <a:pt x="9672" y="15801"/>
                  <a:pt x="9722" y="15796"/>
                </a:cubicBezTo>
              </a:path>
              <a:path w="1206" h="303">
                <a:moveTo>
                  <a:pt x="8572" y="15633"/>
                </a:moveTo>
                <a:cubicBezTo>
                  <a:pt x="8551" y="15639"/>
                  <a:pt x="8540" y="15639"/>
                  <a:pt x="8527" y="15661"/>
                </a:cubicBezTo>
                <a:cubicBezTo>
                  <a:pt x="8519" y="15675"/>
                  <a:pt x="8516" y="15704"/>
                  <a:pt x="8517" y="15721"/>
                </a:cubicBezTo>
                <a:cubicBezTo>
                  <a:pt x="8519" y="15743"/>
                  <a:pt x="8526" y="15766"/>
                  <a:pt x="8538" y="15784"/>
                </a:cubicBezTo>
                <a:cubicBezTo>
                  <a:pt x="8549" y="15801"/>
                  <a:pt x="8563" y="15812"/>
                  <a:pt x="8582" y="15818"/>
                </a:cubicBezTo>
                <a:cubicBezTo>
                  <a:pt x="8601" y="15824"/>
                  <a:pt x="8619" y="15812"/>
                  <a:pt x="8633" y="15802"/>
                </a:cubicBezTo>
                <a:cubicBezTo>
                  <a:pt x="8652" y="15788"/>
                  <a:pt x="8668" y="15769"/>
                  <a:pt x="8683" y="15750"/>
                </a:cubicBezTo>
                <a:cubicBezTo>
                  <a:pt x="8697" y="15731"/>
                  <a:pt x="8703" y="15720"/>
                  <a:pt x="8725" y="15712"/>
                </a:cubicBezTo>
                <a:cubicBezTo>
                  <a:pt x="8745" y="15738"/>
                  <a:pt x="8761" y="15765"/>
                  <a:pt x="8780" y="15792"/>
                </a:cubicBezTo>
                <a:cubicBezTo>
                  <a:pt x="8800" y="15820"/>
                  <a:pt x="8826" y="15849"/>
                  <a:pt x="8859" y="15862"/>
                </a:cubicBezTo>
                <a:cubicBezTo>
                  <a:pt x="8900" y="15879"/>
                  <a:pt x="8943" y="15865"/>
                  <a:pt x="8977" y="15839"/>
                </a:cubicBezTo>
                <a:cubicBezTo>
                  <a:pt x="9026" y="15801"/>
                  <a:pt x="9045" y="15744"/>
                  <a:pt x="9051" y="15684"/>
                </a:cubicBezTo>
                <a:cubicBezTo>
                  <a:pt x="9053" y="15660"/>
                  <a:pt x="9037" y="15589"/>
                  <a:pt x="9046" y="15608"/>
                </a:cubicBezTo>
                <a:cubicBezTo>
                  <a:pt x="9049" y="15614"/>
                  <a:pt x="9053" y="15621"/>
                  <a:pt x="9056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7"/>
          <p:cNvSpPr/>
          <p:nvPr/>
        </p:nvSpPr>
        <p:spPr>
          <a:xfrm>
            <a:off x="3754440" y="5567400"/>
            <a:ext cx="388800" cy="182520"/>
          </a:xfrm>
          <a:custGeom>
            <a:avLst/>
            <a:gdLst/>
            <a:ahLst/>
            <a:rect l="l" t="t" r="r" b="b"/>
            <a:pathLst>
              <a:path w="1080" h="504">
                <a:moveTo>
                  <a:pt x="10434" y="15547"/>
                </a:moveTo>
                <a:cubicBezTo>
                  <a:pt x="10446" y="15516"/>
                  <a:pt x="10447" y="15511"/>
                  <a:pt x="10479" y="15493"/>
                </a:cubicBezTo>
                <a:cubicBezTo>
                  <a:pt x="10518" y="15471"/>
                  <a:pt x="10561" y="15464"/>
                  <a:pt x="10606" y="15469"/>
                </a:cubicBezTo>
                <a:cubicBezTo>
                  <a:pt x="10652" y="15475"/>
                  <a:pt x="10689" y="15498"/>
                  <a:pt x="10699" y="15545"/>
                </a:cubicBezTo>
                <a:cubicBezTo>
                  <a:pt x="10713" y="15611"/>
                  <a:pt x="10675" y="15688"/>
                  <a:pt x="10641" y="15741"/>
                </a:cubicBezTo>
                <a:cubicBezTo>
                  <a:pt x="10618" y="15777"/>
                  <a:pt x="10585" y="15805"/>
                  <a:pt x="10564" y="15843"/>
                </a:cubicBezTo>
                <a:cubicBezTo>
                  <a:pt x="10562" y="15848"/>
                  <a:pt x="10560" y="15852"/>
                  <a:pt x="10558" y="15857"/>
                </a:cubicBezTo>
                <a:cubicBezTo>
                  <a:pt x="10584" y="15873"/>
                  <a:pt x="10597" y="15875"/>
                  <a:pt x="10632" y="15870"/>
                </a:cubicBezTo>
                <a:cubicBezTo>
                  <a:pt x="10680" y="15864"/>
                  <a:pt x="10729" y="15849"/>
                  <a:pt x="10775" y="15835"/>
                </a:cubicBezTo>
                <a:cubicBezTo>
                  <a:pt x="10820" y="15821"/>
                  <a:pt x="10862" y="15801"/>
                  <a:pt x="10904" y="15780"/>
                </a:cubicBezTo>
              </a:path>
              <a:path w="1080" h="504">
                <a:moveTo>
                  <a:pt x="11039" y="15509"/>
                </a:moveTo>
                <a:cubicBezTo>
                  <a:pt x="11056" y="15503"/>
                  <a:pt x="11069" y="15500"/>
                  <a:pt x="11096" y="15500"/>
                </a:cubicBezTo>
                <a:cubicBezTo>
                  <a:pt x="11139" y="15501"/>
                  <a:pt x="11180" y="15497"/>
                  <a:pt x="11223" y="15493"/>
                </a:cubicBezTo>
                <a:cubicBezTo>
                  <a:pt x="11278" y="15488"/>
                  <a:pt x="11331" y="15477"/>
                  <a:pt x="11385" y="15471"/>
                </a:cubicBezTo>
                <a:cubicBezTo>
                  <a:pt x="11421" y="15467"/>
                  <a:pt x="11470" y="15461"/>
                  <a:pt x="11496" y="15493"/>
                </a:cubicBezTo>
                <a:cubicBezTo>
                  <a:pt x="11525" y="15528"/>
                  <a:pt x="11508" y="15599"/>
                  <a:pt x="11497" y="15637"/>
                </a:cubicBezTo>
                <a:cubicBezTo>
                  <a:pt x="11477" y="15705"/>
                  <a:pt x="11444" y="15778"/>
                  <a:pt x="11411" y="15840"/>
                </a:cubicBezTo>
                <a:cubicBezTo>
                  <a:pt x="11387" y="15885"/>
                  <a:pt x="11357" y="15929"/>
                  <a:pt x="11326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8"/>
          <p:cNvSpPr/>
          <p:nvPr/>
        </p:nvSpPr>
        <p:spPr>
          <a:xfrm>
            <a:off x="4722840" y="6124680"/>
            <a:ext cx="372960" cy="304560"/>
          </a:xfrm>
          <a:custGeom>
            <a:avLst/>
            <a:gdLst/>
            <a:ahLst/>
            <a:rect l="l" t="t" r="r" b="b"/>
            <a:pathLst>
              <a:path w="1036" h="845">
                <a:moveTo>
                  <a:pt x="13118" y="17091"/>
                </a:moveTo>
                <a:cubicBezTo>
                  <a:pt x="13137" y="17070"/>
                  <a:pt x="13155" y="17066"/>
                  <a:pt x="13183" y="17059"/>
                </a:cubicBezTo>
                <a:cubicBezTo>
                  <a:pt x="13225" y="17048"/>
                  <a:pt x="13266" y="17043"/>
                  <a:pt x="13309" y="17036"/>
                </a:cubicBezTo>
                <a:cubicBezTo>
                  <a:pt x="13354" y="17028"/>
                  <a:pt x="13400" y="17017"/>
                  <a:pt x="13446" y="17015"/>
                </a:cubicBezTo>
                <a:cubicBezTo>
                  <a:pt x="13472" y="17014"/>
                  <a:pt x="13499" y="17015"/>
                  <a:pt x="13525" y="17014"/>
                </a:cubicBezTo>
              </a:path>
              <a:path w="1036" h="845">
                <a:moveTo>
                  <a:pt x="13313" y="17057"/>
                </a:moveTo>
                <a:cubicBezTo>
                  <a:pt x="13274" y="17085"/>
                  <a:pt x="13230" y="17108"/>
                  <a:pt x="13200" y="17146"/>
                </a:cubicBezTo>
                <a:cubicBezTo>
                  <a:pt x="13175" y="17178"/>
                  <a:pt x="13149" y="17216"/>
                  <a:pt x="13135" y="17255"/>
                </a:cubicBezTo>
                <a:cubicBezTo>
                  <a:pt x="13127" y="17276"/>
                  <a:pt x="13117" y="17313"/>
                  <a:pt x="13144" y="17324"/>
                </a:cubicBezTo>
                <a:cubicBezTo>
                  <a:pt x="13176" y="17336"/>
                  <a:pt x="13217" y="17328"/>
                  <a:pt x="13249" y="17327"/>
                </a:cubicBezTo>
                <a:cubicBezTo>
                  <a:pt x="13293" y="17326"/>
                  <a:pt x="13342" y="17320"/>
                  <a:pt x="13385" y="17331"/>
                </a:cubicBezTo>
                <a:cubicBezTo>
                  <a:pt x="13412" y="17338"/>
                  <a:pt x="13447" y="17354"/>
                  <a:pt x="13453" y="17385"/>
                </a:cubicBezTo>
                <a:cubicBezTo>
                  <a:pt x="13460" y="17422"/>
                  <a:pt x="13428" y="17456"/>
                  <a:pt x="13403" y="17478"/>
                </a:cubicBezTo>
                <a:cubicBezTo>
                  <a:pt x="13363" y="17514"/>
                  <a:pt x="13314" y="17537"/>
                  <a:pt x="13263" y="17552"/>
                </a:cubicBezTo>
                <a:cubicBezTo>
                  <a:pt x="13224" y="17564"/>
                  <a:pt x="13182" y="17570"/>
                  <a:pt x="13142" y="17574"/>
                </a:cubicBezTo>
                <a:cubicBezTo>
                  <a:pt x="13121" y="17575"/>
                  <a:pt x="13114" y="17575"/>
                  <a:pt x="13141" y="17581"/>
                </a:cubicBezTo>
              </a:path>
              <a:path w="1036" h="845">
                <a:moveTo>
                  <a:pt x="13661" y="17689"/>
                </a:moveTo>
                <a:cubicBezTo>
                  <a:pt x="13651" y="17714"/>
                  <a:pt x="13644" y="17738"/>
                  <a:pt x="13636" y="17764"/>
                </a:cubicBezTo>
                <a:cubicBezTo>
                  <a:pt x="13624" y="17804"/>
                  <a:pt x="13621" y="17816"/>
                  <a:pt x="13611" y="17841"/>
                </a:cubicBezTo>
                <a:cubicBezTo>
                  <a:pt x="13604" y="17889"/>
                  <a:pt x="13628" y="17784"/>
                  <a:pt x="13630" y="17778"/>
                </a:cubicBezTo>
                <a:cubicBezTo>
                  <a:pt x="13695" y="17600"/>
                  <a:pt x="13815" y="17390"/>
                  <a:pt x="13979" y="17286"/>
                </a:cubicBezTo>
                <a:cubicBezTo>
                  <a:pt x="14020" y="17260"/>
                  <a:pt x="14080" y="17237"/>
                  <a:pt x="14126" y="17264"/>
                </a:cubicBezTo>
                <a:cubicBezTo>
                  <a:pt x="14163" y="17286"/>
                  <a:pt x="14156" y="17329"/>
                  <a:pt x="14142" y="17362"/>
                </a:cubicBezTo>
                <a:cubicBezTo>
                  <a:pt x="14123" y="17406"/>
                  <a:pt x="14082" y="17437"/>
                  <a:pt x="14040" y="17456"/>
                </a:cubicBezTo>
                <a:cubicBezTo>
                  <a:pt x="14006" y="17472"/>
                  <a:pt x="13963" y="17483"/>
                  <a:pt x="13927" y="17464"/>
                </a:cubicBezTo>
                <a:cubicBezTo>
                  <a:pt x="13891" y="17445"/>
                  <a:pt x="13895" y="17413"/>
                  <a:pt x="13898" y="17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29"/>
          <p:cNvSpPr/>
          <p:nvPr/>
        </p:nvSpPr>
        <p:spPr>
          <a:xfrm>
            <a:off x="5288040" y="6134040"/>
            <a:ext cx="190440" cy="130320"/>
          </a:xfrm>
          <a:custGeom>
            <a:avLst/>
            <a:gdLst/>
            <a:ahLst/>
            <a:rect l="l" t="t" r="r" b="b"/>
            <a:pathLst>
              <a:path w="526" h="362">
                <a:moveTo>
                  <a:pt x="14690" y="17324"/>
                </a:moveTo>
                <a:cubicBezTo>
                  <a:pt x="14722" y="17315"/>
                  <a:pt x="14753" y="17297"/>
                  <a:pt x="14786" y="17287"/>
                </a:cubicBezTo>
                <a:cubicBezTo>
                  <a:pt x="14846" y="17269"/>
                  <a:pt x="14906" y="17254"/>
                  <a:pt x="14967" y="17240"/>
                </a:cubicBezTo>
                <a:cubicBezTo>
                  <a:pt x="15022" y="17228"/>
                  <a:pt x="15077" y="17218"/>
                  <a:pt x="15131" y="17205"/>
                </a:cubicBezTo>
                <a:cubicBezTo>
                  <a:pt x="15163" y="17197"/>
                  <a:pt x="15188" y="17189"/>
                  <a:pt x="15215" y="17170"/>
                </a:cubicBezTo>
              </a:path>
              <a:path w="526" h="362">
                <a:moveTo>
                  <a:pt x="14950" y="17040"/>
                </a:moveTo>
                <a:cubicBezTo>
                  <a:pt x="14936" y="17061"/>
                  <a:pt x="14924" y="17079"/>
                  <a:pt x="14919" y="17104"/>
                </a:cubicBezTo>
                <a:cubicBezTo>
                  <a:pt x="14911" y="17143"/>
                  <a:pt x="14917" y="17187"/>
                  <a:pt x="14917" y="17227"/>
                </a:cubicBezTo>
                <a:cubicBezTo>
                  <a:pt x="14918" y="17268"/>
                  <a:pt x="14915" y="17310"/>
                  <a:pt x="14915" y="17350"/>
                </a:cubicBezTo>
                <a:cubicBezTo>
                  <a:pt x="14915" y="17367"/>
                  <a:pt x="14917" y="17384"/>
                  <a:pt x="14919" y="17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30"/>
          <p:cNvSpPr/>
          <p:nvPr/>
        </p:nvSpPr>
        <p:spPr>
          <a:xfrm>
            <a:off x="5735520" y="6075360"/>
            <a:ext cx="509760" cy="206280"/>
          </a:xfrm>
          <a:custGeom>
            <a:avLst/>
            <a:gdLst/>
            <a:ahLst/>
            <a:rect l="l" t="t" r="r" b="b"/>
            <a:pathLst>
              <a:path w="1413" h="571">
                <a:moveTo>
                  <a:pt x="16037" y="16891"/>
                </a:moveTo>
                <a:cubicBezTo>
                  <a:pt x="16014" y="16870"/>
                  <a:pt x="16020" y="16926"/>
                  <a:pt x="16015" y="16949"/>
                </a:cubicBezTo>
                <a:cubicBezTo>
                  <a:pt x="16003" y="17008"/>
                  <a:pt x="15993" y="17067"/>
                  <a:pt x="15981" y="17126"/>
                </a:cubicBezTo>
                <a:cubicBezTo>
                  <a:pt x="15970" y="17178"/>
                  <a:pt x="15957" y="17229"/>
                  <a:pt x="15946" y="17281"/>
                </a:cubicBezTo>
                <a:cubicBezTo>
                  <a:pt x="15940" y="17308"/>
                  <a:pt x="15921" y="17337"/>
                  <a:pt x="15948" y="17326"/>
                </a:cubicBezTo>
              </a:path>
              <a:path w="1413" h="571">
                <a:moveTo>
                  <a:pt x="16301" y="16877"/>
                </a:moveTo>
                <a:cubicBezTo>
                  <a:pt x="16322" y="16890"/>
                  <a:pt x="16308" y="16912"/>
                  <a:pt x="16299" y="16937"/>
                </a:cubicBezTo>
                <a:cubicBezTo>
                  <a:pt x="16279" y="16993"/>
                  <a:pt x="16265" y="17051"/>
                  <a:pt x="16247" y="17108"/>
                </a:cubicBezTo>
                <a:cubicBezTo>
                  <a:pt x="16231" y="17161"/>
                  <a:pt x="16206" y="17221"/>
                  <a:pt x="16200" y="17276"/>
                </a:cubicBezTo>
                <a:cubicBezTo>
                  <a:pt x="16198" y="17296"/>
                  <a:pt x="16193" y="17345"/>
                  <a:pt x="16211" y="17362"/>
                </a:cubicBezTo>
                <a:cubicBezTo>
                  <a:pt x="16215" y="17364"/>
                  <a:pt x="16219" y="17366"/>
                  <a:pt x="16223" y="17368"/>
                </a:cubicBezTo>
              </a:path>
              <a:path w="1413" h="571">
                <a:moveTo>
                  <a:pt x="16664" y="17220"/>
                </a:moveTo>
                <a:cubicBezTo>
                  <a:pt x="16660" y="17245"/>
                  <a:pt x="16653" y="17267"/>
                  <a:pt x="16645" y="17291"/>
                </a:cubicBezTo>
                <a:cubicBezTo>
                  <a:pt x="16639" y="17309"/>
                  <a:pt x="16634" y="17326"/>
                  <a:pt x="16629" y="17344"/>
                </a:cubicBezTo>
                <a:cubicBezTo>
                  <a:pt x="16650" y="17325"/>
                  <a:pt x="16671" y="17302"/>
                  <a:pt x="16692" y="17282"/>
                </a:cubicBezTo>
                <a:cubicBezTo>
                  <a:pt x="16740" y="17236"/>
                  <a:pt x="16800" y="17188"/>
                  <a:pt x="16862" y="17163"/>
                </a:cubicBezTo>
                <a:cubicBezTo>
                  <a:pt x="16888" y="17153"/>
                  <a:pt x="16928" y="17146"/>
                  <a:pt x="16946" y="17174"/>
                </a:cubicBezTo>
                <a:cubicBezTo>
                  <a:pt x="16961" y="17197"/>
                  <a:pt x="16949" y="17227"/>
                  <a:pt x="16960" y="17249"/>
                </a:cubicBezTo>
                <a:cubicBezTo>
                  <a:pt x="16975" y="17280"/>
                  <a:pt x="16984" y="17270"/>
                  <a:pt x="17012" y="17255"/>
                </a:cubicBezTo>
                <a:cubicBezTo>
                  <a:pt x="17071" y="17224"/>
                  <a:pt x="17131" y="17180"/>
                  <a:pt x="17200" y="17177"/>
                </a:cubicBezTo>
                <a:cubicBezTo>
                  <a:pt x="17245" y="17175"/>
                  <a:pt x="17279" y="17203"/>
                  <a:pt x="17303" y="17239"/>
                </a:cubicBezTo>
                <a:cubicBezTo>
                  <a:pt x="17329" y="17279"/>
                  <a:pt x="17340" y="17325"/>
                  <a:pt x="17345" y="17373"/>
                </a:cubicBezTo>
                <a:cubicBezTo>
                  <a:pt x="17348" y="17399"/>
                  <a:pt x="17345" y="17422"/>
                  <a:pt x="17341" y="174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ED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5 – 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3 + 4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2 + 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8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e first 3 multiples o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3(2k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+ 8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5"/>
              <p:cNvSpPr txBox="1"/>
              <p:nvPr/>
            </p:nvSpPr>
            <p:spPr>
              <a:xfrm>
                <a:off x="971640" y="2486160"/>
                <a:ext cx="86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EDMA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5 – 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3 + 4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2 + 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8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e first 3 multiples o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3(2k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+ 8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971640" y="2486160"/>
                <a:ext cx="86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6"/>
          <p:cNvSpPr/>
          <p:nvPr/>
        </p:nvSpPr>
        <p:spPr>
          <a:xfrm>
            <a:off x="2733840" y="932040"/>
            <a:ext cx="191880" cy="183960"/>
          </a:xfrm>
          <a:custGeom>
            <a:avLst/>
            <a:gdLst/>
            <a:ahLst/>
            <a:rect l="l" t="t" r="r" b="b"/>
            <a:pathLst>
              <a:path w="535" h="511">
                <a:moveTo>
                  <a:pt x="7806" y="2612"/>
                </a:moveTo>
                <a:cubicBezTo>
                  <a:pt x="7787" y="2592"/>
                  <a:pt x="7803" y="2587"/>
                  <a:pt x="7776" y="2602"/>
                </a:cubicBezTo>
                <a:cubicBezTo>
                  <a:pt x="7742" y="2621"/>
                  <a:pt x="7717" y="2672"/>
                  <a:pt x="7696" y="2703"/>
                </a:cubicBezTo>
                <a:cubicBezTo>
                  <a:pt x="7657" y="2761"/>
                  <a:pt x="7623" y="2825"/>
                  <a:pt x="7604" y="2892"/>
                </a:cubicBezTo>
                <a:cubicBezTo>
                  <a:pt x="7589" y="2946"/>
                  <a:pt x="7586" y="3007"/>
                  <a:pt x="7624" y="3053"/>
                </a:cubicBezTo>
                <a:cubicBezTo>
                  <a:pt x="7664" y="3100"/>
                  <a:pt x="7730" y="3103"/>
                  <a:pt x="7786" y="3093"/>
                </a:cubicBezTo>
                <a:cubicBezTo>
                  <a:pt x="7864" y="3080"/>
                  <a:pt x="7940" y="3036"/>
                  <a:pt x="8002" y="2988"/>
                </a:cubicBezTo>
                <a:cubicBezTo>
                  <a:pt x="8066" y="2938"/>
                  <a:pt x="8135" y="2865"/>
                  <a:pt x="8128" y="2778"/>
                </a:cubicBezTo>
                <a:cubicBezTo>
                  <a:pt x="8123" y="2720"/>
                  <a:pt x="8068" y="2689"/>
                  <a:pt x="8017" y="2676"/>
                </a:cubicBezTo>
                <a:cubicBezTo>
                  <a:pt x="7942" y="2657"/>
                  <a:pt x="7864" y="2676"/>
                  <a:pt x="7794" y="2700"/>
                </a:cubicBezTo>
                <a:cubicBezTo>
                  <a:pt x="7746" y="2716"/>
                  <a:pt x="7705" y="2738"/>
                  <a:pt x="7662" y="2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7"/>
          <p:cNvSpPr/>
          <p:nvPr/>
        </p:nvSpPr>
        <p:spPr>
          <a:xfrm>
            <a:off x="3778200" y="3121200"/>
            <a:ext cx="684360" cy="318960"/>
          </a:xfrm>
          <a:custGeom>
            <a:avLst/>
            <a:gdLst/>
            <a:ahLst/>
            <a:rect l="l" t="t" r="r" b="b"/>
            <a:pathLst>
              <a:path w="1902" h="884">
                <a:moveTo>
                  <a:pt x="10757" y="8810"/>
                </a:moveTo>
                <a:cubicBezTo>
                  <a:pt x="10716" y="8830"/>
                  <a:pt x="10681" y="8849"/>
                  <a:pt x="10645" y="8878"/>
                </a:cubicBezTo>
                <a:cubicBezTo>
                  <a:pt x="10590" y="8922"/>
                  <a:pt x="10542" y="8978"/>
                  <a:pt x="10511" y="9041"/>
                </a:cubicBezTo>
                <a:cubicBezTo>
                  <a:pt x="10473" y="9118"/>
                  <a:pt x="10513" y="9167"/>
                  <a:pt x="10582" y="9203"/>
                </a:cubicBezTo>
                <a:cubicBezTo>
                  <a:pt x="10649" y="9237"/>
                  <a:pt x="10724" y="9253"/>
                  <a:pt x="10790" y="9290"/>
                </a:cubicBezTo>
                <a:cubicBezTo>
                  <a:pt x="10839" y="9317"/>
                  <a:pt x="10886" y="9359"/>
                  <a:pt x="10876" y="9420"/>
                </a:cubicBezTo>
                <a:cubicBezTo>
                  <a:pt x="10867" y="9479"/>
                  <a:pt x="10805" y="9515"/>
                  <a:pt x="10755" y="9535"/>
                </a:cubicBezTo>
                <a:cubicBezTo>
                  <a:pt x="10706" y="9555"/>
                  <a:pt x="10633" y="9570"/>
                  <a:pt x="10587" y="9533"/>
                </a:cubicBezTo>
                <a:cubicBezTo>
                  <a:pt x="10537" y="9492"/>
                  <a:pt x="10580" y="9411"/>
                  <a:pt x="10606" y="9372"/>
                </a:cubicBezTo>
                <a:cubicBezTo>
                  <a:pt x="10700" y="9231"/>
                  <a:pt x="10841" y="9120"/>
                  <a:pt x="10952" y="8993"/>
                </a:cubicBezTo>
                <a:cubicBezTo>
                  <a:pt x="10992" y="8948"/>
                  <a:pt x="11032" y="8909"/>
                  <a:pt x="11020" y="8850"/>
                </a:cubicBezTo>
                <a:cubicBezTo>
                  <a:pt x="10964" y="8838"/>
                  <a:pt x="10926" y="8851"/>
                  <a:pt x="10873" y="8874"/>
                </a:cubicBezTo>
                <a:cubicBezTo>
                  <a:pt x="10822" y="8896"/>
                  <a:pt x="10760" y="8940"/>
                  <a:pt x="10749" y="9000"/>
                </a:cubicBezTo>
                <a:cubicBezTo>
                  <a:pt x="10752" y="9033"/>
                  <a:pt x="10754" y="9045"/>
                  <a:pt x="10774" y="9061"/>
                </a:cubicBezTo>
              </a:path>
              <a:path w="1902" h="884">
                <a:moveTo>
                  <a:pt x="11154" y="9132"/>
                </a:moveTo>
                <a:cubicBezTo>
                  <a:pt x="11184" y="9177"/>
                  <a:pt x="11152" y="9190"/>
                  <a:pt x="11128" y="9234"/>
                </a:cubicBezTo>
                <a:cubicBezTo>
                  <a:pt x="11099" y="9287"/>
                  <a:pt x="11062" y="9351"/>
                  <a:pt x="11060" y="9413"/>
                </a:cubicBezTo>
                <a:cubicBezTo>
                  <a:pt x="11058" y="9476"/>
                  <a:pt x="11118" y="9486"/>
                  <a:pt x="11168" y="9482"/>
                </a:cubicBezTo>
                <a:cubicBezTo>
                  <a:pt x="11254" y="9475"/>
                  <a:pt x="11336" y="9429"/>
                  <a:pt x="11406" y="9383"/>
                </a:cubicBezTo>
                <a:cubicBezTo>
                  <a:pt x="11462" y="9346"/>
                  <a:pt x="11525" y="9295"/>
                  <a:pt x="11533" y="9222"/>
                </a:cubicBezTo>
                <a:cubicBezTo>
                  <a:pt x="11539" y="9166"/>
                  <a:pt x="11489" y="9133"/>
                  <a:pt x="11443" y="9117"/>
                </a:cubicBezTo>
                <a:cubicBezTo>
                  <a:pt x="11400" y="9102"/>
                  <a:pt x="11350" y="9100"/>
                  <a:pt x="11305" y="9103"/>
                </a:cubicBezTo>
                <a:cubicBezTo>
                  <a:pt x="11287" y="9104"/>
                  <a:pt x="11285" y="9104"/>
                  <a:pt x="11312" y="9097"/>
                </a:cubicBezTo>
              </a:path>
              <a:path w="1902" h="884">
                <a:moveTo>
                  <a:pt x="11805" y="8804"/>
                </a:moveTo>
                <a:cubicBezTo>
                  <a:pt x="11814" y="8788"/>
                  <a:pt x="11817" y="8785"/>
                  <a:pt x="11817" y="8773"/>
                </a:cubicBezTo>
                <a:cubicBezTo>
                  <a:pt x="11796" y="8761"/>
                  <a:pt x="11778" y="8765"/>
                  <a:pt x="11755" y="8775"/>
                </a:cubicBezTo>
                <a:cubicBezTo>
                  <a:pt x="11735" y="8784"/>
                  <a:pt x="11729" y="8790"/>
                  <a:pt x="11718" y="8808"/>
                </a:cubicBezTo>
                <a:cubicBezTo>
                  <a:pt x="11735" y="8834"/>
                  <a:pt x="11767" y="8823"/>
                  <a:pt x="11795" y="8818"/>
                </a:cubicBezTo>
                <a:cubicBezTo>
                  <a:pt x="11849" y="8808"/>
                  <a:pt x="11905" y="8786"/>
                  <a:pt x="11951" y="8755"/>
                </a:cubicBezTo>
                <a:cubicBezTo>
                  <a:pt x="11966" y="8745"/>
                  <a:pt x="12021" y="8706"/>
                  <a:pt x="11995" y="8680"/>
                </a:cubicBezTo>
                <a:cubicBezTo>
                  <a:pt x="11975" y="8660"/>
                  <a:pt x="11924" y="8674"/>
                  <a:pt x="11902" y="8680"/>
                </a:cubicBezTo>
                <a:cubicBezTo>
                  <a:pt x="11878" y="8687"/>
                  <a:pt x="11832" y="8708"/>
                  <a:pt x="11838" y="8739"/>
                </a:cubicBezTo>
                <a:cubicBezTo>
                  <a:pt x="11849" y="8751"/>
                  <a:pt x="11856" y="8756"/>
                  <a:pt x="11870" y="8757"/>
                </a:cubicBezTo>
              </a:path>
              <a:path w="1902" h="884">
                <a:moveTo>
                  <a:pt x="12233" y="8784"/>
                </a:moveTo>
                <a:cubicBezTo>
                  <a:pt x="12208" y="8852"/>
                  <a:pt x="12163" y="8896"/>
                  <a:pt x="12110" y="8946"/>
                </a:cubicBezTo>
                <a:cubicBezTo>
                  <a:pt x="12014" y="9036"/>
                  <a:pt x="11916" y="9123"/>
                  <a:pt x="11822" y="9216"/>
                </a:cubicBezTo>
                <a:cubicBezTo>
                  <a:pt x="11759" y="9279"/>
                  <a:pt x="11706" y="9332"/>
                  <a:pt x="11666" y="9411"/>
                </a:cubicBezTo>
                <a:cubicBezTo>
                  <a:pt x="11713" y="9456"/>
                  <a:pt x="11759" y="9433"/>
                  <a:pt x="11820" y="9416"/>
                </a:cubicBezTo>
                <a:cubicBezTo>
                  <a:pt x="11914" y="9390"/>
                  <a:pt x="12003" y="9354"/>
                  <a:pt x="12093" y="9318"/>
                </a:cubicBezTo>
                <a:cubicBezTo>
                  <a:pt x="12127" y="9303"/>
                  <a:pt x="12134" y="9299"/>
                  <a:pt x="12157" y="9297"/>
                </a:cubicBezTo>
                <a:cubicBezTo>
                  <a:pt x="12139" y="9318"/>
                  <a:pt x="12108" y="9347"/>
                  <a:pt x="12090" y="9373"/>
                </a:cubicBezTo>
                <a:cubicBezTo>
                  <a:pt x="12086" y="9380"/>
                  <a:pt x="12083" y="9387"/>
                  <a:pt x="12079" y="9394"/>
                </a:cubicBezTo>
                <a:cubicBezTo>
                  <a:pt x="12117" y="9415"/>
                  <a:pt x="12134" y="9419"/>
                  <a:pt x="12189" y="9403"/>
                </a:cubicBezTo>
                <a:cubicBezTo>
                  <a:pt x="12249" y="9386"/>
                  <a:pt x="12366" y="9348"/>
                  <a:pt x="12395" y="9285"/>
                </a:cubicBezTo>
                <a:cubicBezTo>
                  <a:pt x="12395" y="9278"/>
                  <a:pt x="12396" y="9270"/>
                  <a:pt x="12396" y="9263"/>
                </a:cubicBezTo>
                <a:cubicBezTo>
                  <a:pt x="12355" y="9233"/>
                  <a:pt x="12319" y="9229"/>
                  <a:pt x="12267" y="9232"/>
                </a:cubicBezTo>
                <a:cubicBezTo>
                  <a:pt x="12225" y="9237"/>
                  <a:pt x="12211" y="9239"/>
                  <a:pt x="12183" y="9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8"/>
          <p:cNvSpPr/>
          <p:nvPr/>
        </p:nvSpPr>
        <p:spPr>
          <a:xfrm>
            <a:off x="4417920" y="3745080"/>
            <a:ext cx="184320" cy="339480"/>
          </a:xfrm>
          <a:custGeom>
            <a:avLst/>
            <a:gdLst/>
            <a:ahLst/>
            <a:rect l="l" t="t" r="r" b="b"/>
            <a:pathLst>
              <a:path w="511" h="943">
                <a:moveTo>
                  <a:pt x="12432" y="10413"/>
                </a:moveTo>
                <a:cubicBezTo>
                  <a:pt x="12427" y="10412"/>
                  <a:pt x="12417" y="10399"/>
                  <a:pt x="12397" y="10434"/>
                </a:cubicBezTo>
                <a:cubicBezTo>
                  <a:pt x="12368" y="10483"/>
                  <a:pt x="12343" y="10538"/>
                  <a:pt x="12323" y="10592"/>
                </a:cubicBezTo>
                <a:cubicBezTo>
                  <a:pt x="12285" y="10696"/>
                  <a:pt x="12248" y="10827"/>
                  <a:pt x="12285" y="10936"/>
                </a:cubicBezTo>
                <a:cubicBezTo>
                  <a:pt x="12303" y="10988"/>
                  <a:pt x="12343" y="11013"/>
                  <a:pt x="12397" y="11006"/>
                </a:cubicBezTo>
                <a:cubicBezTo>
                  <a:pt x="12454" y="10998"/>
                  <a:pt x="12532" y="10938"/>
                  <a:pt x="12513" y="10873"/>
                </a:cubicBezTo>
                <a:cubicBezTo>
                  <a:pt x="12501" y="10834"/>
                  <a:pt x="12451" y="10824"/>
                  <a:pt x="12417" y="10821"/>
                </a:cubicBezTo>
                <a:cubicBezTo>
                  <a:pt x="12416" y="10821"/>
                  <a:pt x="12332" y="10826"/>
                  <a:pt x="12344" y="10846"/>
                </a:cubicBezTo>
                <a:cubicBezTo>
                  <a:pt x="12354" y="10850"/>
                  <a:pt x="12365" y="10854"/>
                  <a:pt x="12375" y="10858"/>
                </a:cubicBezTo>
              </a:path>
              <a:path w="511" h="943">
                <a:moveTo>
                  <a:pt x="12772" y="10900"/>
                </a:moveTo>
                <a:cubicBezTo>
                  <a:pt x="12784" y="10971"/>
                  <a:pt x="12771" y="11019"/>
                  <a:pt x="12739" y="11086"/>
                </a:cubicBezTo>
                <a:cubicBezTo>
                  <a:pt x="12705" y="11156"/>
                  <a:pt x="12665" y="11224"/>
                  <a:pt x="12628" y="11293"/>
                </a:cubicBezTo>
                <a:cubicBezTo>
                  <a:pt x="12614" y="11321"/>
                  <a:pt x="12610" y="11327"/>
                  <a:pt x="12603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9"/>
          <p:cNvSpPr/>
          <p:nvPr/>
        </p:nvSpPr>
        <p:spPr>
          <a:xfrm>
            <a:off x="4905360" y="3803760"/>
            <a:ext cx="322200" cy="236520"/>
          </a:xfrm>
          <a:custGeom>
            <a:avLst/>
            <a:gdLst/>
            <a:ahLst/>
            <a:rect l="l" t="t" r="r" b="b"/>
            <a:pathLst>
              <a:path w="897" h="657">
                <a:moveTo>
                  <a:pt x="13711" y="10616"/>
                </a:moveTo>
                <a:cubicBezTo>
                  <a:pt x="13728" y="10594"/>
                  <a:pt x="13738" y="10573"/>
                  <a:pt x="13763" y="10567"/>
                </a:cubicBezTo>
                <a:cubicBezTo>
                  <a:pt x="13770" y="10614"/>
                  <a:pt x="13752" y="10651"/>
                  <a:pt x="13736" y="10697"/>
                </a:cubicBezTo>
                <a:cubicBezTo>
                  <a:pt x="13712" y="10766"/>
                  <a:pt x="13686" y="10837"/>
                  <a:pt x="13655" y="10904"/>
                </a:cubicBezTo>
                <a:cubicBezTo>
                  <a:pt x="13635" y="10946"/>
                  <a:pt x="13608" y="10976"/>
                  <a:pt x="13647" y="11001"/>
                </a:cubicBezTo>
              </a:path>
              <a:path w="897" h="657">
                <a:moveTo>
                  <a:pt x="13914" y="10704"/>
                </a:moveTo>
                <a:cubicBezTo>
                  <a:pt x="13938" y="10668"/>
                  <a:pt x="13959" y="10638"/>
                  <a:pt x="13994" y="10613"/>
                </a:cubicBezTo>
                <a:cubicBezTo>
                  <a:pt x="14022" y="10593"/>
                  <a:pt x="14054" y="10585"/>
                  <a:pt x="14085" y="10607"/>
                </a:cubicBezTo>
                <a:cubicBezTo>
                  <a:pt x="14120" y="10632"/>
                  <a:pt x="14121" y="10684"/>
                  <a:pt x="14117" y="10722"/>
                </a:cubicBezTo>
                <a:cubicBezTo>
                  <a:pt x="14110" y="10783"/>
                  <a:pt x="14087" y="10838"/>
                  <a:pt x="14061" y="10893"/>
                </a:cubicBezTo>
                <a:cubicBezTo>
                  <a:pt x="14043" y="10931"/>
                  <a:pt x="14012" y="10974"/>
                  <a:pt x="14012" y="11018"/>
                </a:cubicBezTo>
                <a:cubicBezTo>
                  <a:pt x="14012" y="11050"/>
                  <a:pt x="14064" y="11052"/>
                  <a:pt x="14085" y="11052"/>
                </a:cubicBezTo>
                <a:cubicBezTo>
                  <a:pt x="14142" y="11052"/>
                  <a:pt x="14202" y="11036"/>
                  <a:pt x="14259" y="11029"/>
                </a:cubicBezTo>
                <a:cubicBezTo>
                  <a:pt x="14298" y="11024"/>
                  <a:pt x="14336" y="11018"/>
                  <a:pt x="14375" y="11011"/>
                </a:cubicBezTo>
              </a:path>
              <a:path w="897" h="657">
                <a:moveTo>
                  <a:pt x="14521" y="11029"/>
                </a:moveTo>
                <a:cubicBezTo>
                  <a:pt x="14516" y="11066"/>
                  <a:pt x="14506" y="11102"/>
                  <a:pt x="14496" y="11138"/>
                </a:cubicBezTo>
                <a:cubicBezTo>
                  <a:pt x="14491" y="11157"/>
                  <a:pt x="14470" y="11200"/>
                  <a:pt x="14485" y="11219"/>
                </a:cubicBezTo>
                <a:cubicBezTo>
                  <a:pt x="14488" y="11220"/>
                  <a:pt x="14492" y="11222"/>
                  <a:pt x="14495" y="11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20"/>
          <p:cNvSpPr/>
          <p:nvPr/>
        </p:nvSpPr>
        <p:spPr>
          <a:xfrm>
            <a:off x="5560920" y="3833640"/>
            <a:ext cx="206640" cy="190800"/>
          </a:xfrm>
          <a:custGeom>
            <a:avLst/>
            <a:gdLst/>
            <a:ahLst/>
            <a:rect l="l" t="t" r="r" b="b"/>
            <a:pathLst>
              <a:path w="573" h="527">
                <a:moveTo>
                  <a:pt x="15516" y="10651"/>
                </a:moveTo>
                <a:cubicBezTo>
                  <a:pt x="15540" y="10662"/>
                  <a:pt x="15549" y="10687"/>
                  <a:pt x="15544" y="10716"/>
                </a:cubicBezTo>
                <a:cubicBezTo>
                  <a:pt x="15534" y="10773"/>
                  <a:pt x="15507" y="10828"/>
                  <a:pt x="15487" y="10881"/>
                </a:cubicBezTo>
                <a:cubicBezTo>
                  <a:pt x="15477" y="10907"/>
                  <a:pt x="15429" y="10982"/>
                  <a:pt x="15450" y="11013"/>
                </a:cubicBezTo>
                <a:cubicBezTo>
                  <a:pt x="15456" y="11016"/>
                  <a:pt x="15461" y="11019"/>
                  <a:pt x="15467" y="11022"/>
                </a:cubicBezTo>
              </a:path>
              <a:path w="573" h="527">
                <a:moveTo>
                  <a:pt x="15938" y="10702"/>
                </a:moveTo>
                <a:cubicBezTo>
                  <a:pt x="15896" y="10695"/>
                  <a:pt x="15868" y="10710"/>
                  <a:pt x="15832" y="10737"/>
                </a:cubicBezTo>
                <a:cubicBezTo>
                  <a:pt x="15805" y="10757"/>
                  <a:pt x="15769" y="10789"/>
                  <a:pt x="15788" y="10827"/>
                </a:cubicBezTo>
                <a:cubicBezTo>
                  <a:pt x="15811" y="10873"/>
                  <a:pt x="15876" y="10896"/>
                  <a:pt x="15913" y="10927"/>
                </a:cubicBezTo>
                <a:cubicBezTo>
                  <a:pt x="15961" y="10967"/>
                  <a:pt x="15997" y="11008"/>
                  <a:pt x="16004" y="11072"/>
                </a:cubicBezTo>
                <a:cubicBezTo>
                  <a:pt x="16008" y="11111"/>
                  <a:pt x="15990" y="11158"/>
                  <a:pt x="15951" y="11174"/>
                </a:cubicBezTo>
                <a:cubicBezTo>
                  <a:pt x="15930" y="11177"/>
                  <a:pt x="15923" y="11178"/>
                  <a:pt x="15910" y="11170"/>
                </a:cubicBezTo>
                <a:cubicBezTo>
                  <a:pt x="15895" y="11126"/>
                  <a:pt x="15904" y="11091"/>
                  <a:pt x="15920" y="11046"/>
                </a:cubicBezTo>
                <a:cubicBezTo>
                  <a:pt x="15950" y="10961"/>
                  <a:pt x="16016" y="10876"/>
                  <a:pt x="16019" y="10783"/>
                </a:cubicBezTo>
                <a:cubicBezTo>
                  <a:pt x="16016" y="10761"/>
                  <a:pt x="16017" y="10754"/>
                  <a:pt x="16006" y="10744"/>
                </a:cubicBezTo>
                <a:cubicBezTo>
                  <a:pt x="15980" y="10738"/>
                  <a:pt x="15958" y="10736"/>
                  <a:pt x="15939" y="10761"/>
                </a:cubicBezTo>
                <a:cubicBezTo>
                  <a:pt x="15925" y="10779"/>
                  <a:pt x="15930" y="10793"/>
                  <a:pt x="15934" y="10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21"/>
          <p:cNvSpPr/>
          <p:nvPr/>
        </p:nvSpPr>
        <p:spPr>
          <a:xfrm>
            <a:off x="1936800" y="4148280"/>
            <a:ext cx="798480" cy="212760"/>
          </a:xfrm>
          <a:custGeom>
            <a:avLst/>
            <a:gdLst/>
            <a:ahLst/>
            <a:rect l="l" t="t" r="r" b="b"/>
            <a:pathLst>
              <a:path w="2216" h="592">
                <a:moveTo>
                  <a:pt x="5412" y="12112"/>
                </a:moveTo>
                <a:cubicBezTo>
                  <a:pt x="5391" y="12100"/>
                  <a:pt x="5380" y="12091"/>
                  <a:pt x="5386" y="12065"/>
                </a:cubicBezTo>
                <a:cubicBezTo>
                  <a:pt x="5396" y="12018"/>
                  <a:pt x="5435" y="11988"/>
                  <a:pt x="5471" y="11960"/>
                </a:cubicBezTo>
                <a:cubicBezTo>
                  <a:pt x="5528" y="11917"/>
                  <a:pt x="5595" y="11888"/>
                  <a:pt x="5664" y="11870"/>
                </a:cubicBezTo>
                <a:cubicBezTo>
                  <a:pt x="5731" y="11852"/>
                  <a:pt x="5805" y="11847"/>
                  <a:pt x="5872" y="11870"/>
                </a:cubicBezTo>
                <a:cubicBezTo>
                  <a:pt x="5925" y="11888"/>
                  <a:pt x="5965" y="11926"/>
                  <a:pt x="5994" y="11972"/>
                </a:cubicBezTo>
                <a:cubicBezTo>
                  <a:pt x="6012" y="12000"/>
                  <a:pt x="6016" y="12059"/>
                  <a:pt x="6047" y="12078"/>
                </a:cubicBezTo>
                <a:cubicBezTo>
                  <a:pt x="6054" y="12079"/>
                  <a:pt x="6060" y="12081"/>
                  <a:pt x="6067" y="12082"/>
                </a:cubicBezTo>
              </a:path>
              <a:path w="2216" h="592">
                <a:moveTo>
                  <a:pt x="5542" y="11880"/>
                </a:moveTo>
                <a:cubicBezTo>
                  <a:pt x="5549" y="11864"/>
                  <a:pt x="5537" y="11858"/>
                  <a:pt x="5572" y="11825"/>
                </a:cubicBezTo>
                <a:cubicBezTo>
                  <a:pt x="5623" y="11777"/>
                  <a:pt x="5699" y="11747"/>
                  <a:pt x="5763" y="11719"/>
                </a:cubicBezTo>
                <a:cubicBezTo>
                  <a:pt x="5876" y="11670"/>
                  <a:pt x="5993" y="11635"/>
                  <a:pt x="6112" y="11603"/>
                </a:cubicBezTo>
                <a:cubicBezTo>
                  <a:pt x="6258" y="11564"/>
                  <a:pt x="6406" y="11540"/>
                  <a:pt x="6557" y="11528"/>
                </a:cubicBezTo>
                <a:cubicBezTo>
                  <a:pt x="6737" y="11513"/>
                  <a:pt x="6918" y="11521"/>
                  <a:pt x="7092" y="11570"/>
                </a:cubicBezTo>
                <a:cubicBezTo>
                  <a:pt x="7264" y="11618"/>
                  <a:pt x="7444" y="11710"/>
                  <a:pt x="7549" y="11860"/>
                </a:cubicBezTo>
                <a:cubicBezTo>
                  <a:pt x="7576" y="11899"/>
                  <a:pt x="7585" y="11936"/>
                  <a:pt x="7594" y="11982"/>
                </a:cubicBezTo>
                <a:cubicBezTo>
                  <a:pt x="7595" y="12001"/>
                  <a:pt x="7595" y="12005"/>
                  <a:pt x="7597" y="12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22"/>
          <p:cNvSpPr/>
          <p:nvPr/>
        </p:nvSpPr>
        <p:spPr>
          <a:xfrm>
            <a:off x="3513240" y="4357800"/>
            <a:ext cx="290520" cy="250560"/>
          </a:xfrm>
          <a:custGeom>
            <a:avLst/>
            <a:gdLst/>
            <a:ahLst/>
            <a:rect l="l" t="t" r="r" b="b"/>
            <a:pathLst>
              <a:path w="809" h="697">
                <a:moveTo>
                  <a:pt x="9930" y="12120"/>
                </a:moveTo>
                <a:cubicBezTo>
                  <a:pt x="9914" y="12123"/>
                  <a:pt x="9915" y="12109"/>
                  <a:pt x="9890" y="12144"/>
                </a:cubicBezTo>
                <a:cubicBezTo>
                  <a:pt x="9860" y="12187"/>
                  <a:pt x="9842" y="12240"/>
                  <a:pt x="9824" y="12289"/>
                </a:cubicBezTo>
                <a:cubicBezTo>
                  <a:pt x="9796" y="12369"/>
                  <a:pt x="9774" y="12452"/>
                  <a:pt x="9763" y="12536"/>
                </a:cubicBezTo>
                <a:cubicBezTo>
                  <a:pt x="9754" y="12602"/>
                  <a:pt x="9747" y="12678"/>
                  <a:pt x="9779" y="12739"/>
                </a:cubicBezTo>
                <a:cubicBezTo>
                  <a:pt x="9804" y="12786"/>
                  <a:pt x="9853" y="12793"/>
                  <a:pt x="9900" y="12783"/>
                </a:cubicBezTo>
                <a:cubicBezTo>
                  <a:pt x="9948" y="12773"/>
                  <a:pt x="10003" y="12737"/>
                  <a:pt x="10032" y="12697"/>
                </a:cubicBezTo>
                <a:cubicBezTo>
                  <a:pt x="10055" y="12665"/>
                  <a:pt x="10065" y="12617"/>
                  <a:pt x="10043" y="12582"/>
                </a:cubicBezTo>
                <a:cubicBezTo>
                  <a:pt x="10018" y="12543"/>
                  <a:pt x="9960" y="12541"/>
                  <a:pt x="9919" y="12545"/>
                </a:cubicBezTo>
                <a:cubicBezTo>
                  <a:pt x="9876" y="12549"/>
                  <a:pt x="9828" y="12560"/>
                  <a:pt x="9792" y="12586"/>
                </a:cubicBezTo>
                <a:cubicBezTo>
                  <a:pt x="9789" y="12590"/>
                  <a:pt x="9785" y="12594"/>
                  <a:pt x="9782" y="12598"/>
                </a:cubicBezTo>
              </a:path>
              <a:path w="809" h="697">
                <a:moveTo>
                  <a:pt x="10423" y="12156"/>
                </a:moveTo>
                <a:cubicBezTo>
                  <a:pt x="10409" y="12136"/>
                  <a:pt x="10399" y="12113"/>
                  <a:pt x="10373" y="12138"/>
                </a:cubicBezTo>
                <a:cubicBezTo>
                  <a:pt x="10343" y="12167"/>
                  <a:pt x="10329" y="12245"/>
                  <a:pt x="10317" y="12282"/>
                </a:cubicBezTo>
                <a:cubicBezTo>
                  <a:pt x="10279" y="12402"/>
                  <a:pt x="10252" y="12524"/>
                  <a:pt x="10223" y="12647"/>
                </a:cubicBezTo>
                <a:cubicBezTo>
                  <a:pt x="10213" y="12690"/>
                  <a:pt x="10203" y="12726"/>
                  <a:pt x="10207" y="12770"/>
                </a:cubicBezTo>
              </a:path>
              <a:path w="809" h="697">
                <a:moveTo>
                  <a:pt x="10314" y="12621"/>
                </a:moveTo>
                <a:cubicBezTo>
                  <a:pt x="10330" y="12596"/>
                  <a:pt x="10346" y="12565"/>
                  <a:pt x="10366" y="12544"/>
                </a:cubicBezTo>
                <a:cubicBezTo>
                  <a:pt x="10400" y="12510"/>
                  <a:pt x="10440" y="12487"/>
                  <a:pt x="10479" y="12460"/>
                </a:cubicBezTo>
                <a:cubicBezTo>
                  <a:pt x="10508" y="12440"/>
                  <a:pt x="10531" y="12428"/>
                  <a:pt x="10565" y="12418"/>
                </a:cubicBezTo>
              </a:path>
              <a:path w="809" h="697">
                <a:moveTo>
                  <a:pt x="10444" y="12484"/>
                </a:moveTo>
                <a:cubicBezTo>
                  <a:pt x="10438" y="12514"/>
                  <a:pt x="10432" y="12548"/>
                  <a:pt x="10434" y="12579"/>
                </a:cubicBezTo>
                <a:cubicBezTo>
                  <a:pt x="10437" y="12625"/>
                  <a:pt x="10446" y="12668"/>
                  <a:pt x="10458" y="12713"/>
                </a:cubicBezTo>
                <a:cubicBezTo>
                  <a:pt x="10470" y="12759"/>
                  <a:pt x="10487" y="12777"/>
                  <a:pt x="10526" y="12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23"/>
          <p:cNvSpPr/>
          <p:nvPr/>
        </p:nvSpPr>
        <p:spPr>
          <a:xfrm>
            <a:off x="4051440" y="4378320"/>
            <a:ext cx="628560" cy="185760"/>
          </a:xfrm>
          <a:custGeom>
            <a:avLst/>
            <a:gdLst/>
            <a:ahLst/>
            <a:rect l="l" t="t" r="r" b="b"/>
            <a:pathLst>
              <a:path w="1748" h="513">
                <a:moveTo>
                  <a:pt x="11263" y="12498"/>
                </a:moveTo>
                <a:cubicBezTo>
                  <a:pt x="11260" y="12497"/>
                  <a:pt x="11256" y="12496"/>
                  <a:pt x="11253" y="12495"/>
                </a:cubicBezTo>
                <a:cubicBezTo>
                  <a:pt x="11286" y="12509"/>
                  <a:pt x="11318" y="12517"/>
                  <a:pt x="11353" y="12522"/>
                </a:cubicBezTo>
                <a:cubicBezTo>
                  <a:pt x="11404" y="12529"/>
                  <a:pt x="11456" y="12529"/>
                  <a:pt x="11508" y="12527"/>
                </a:cubicBezTo>
                <a:cubicBezTo>
                  <a:pt x="11561" y="12525"/>
                  <a:pt x="11615" y="12519"/>
                  <a:pt x="11668" y="12512"/>
                </a:cubicBezTo>
                <a:cubicBezTo>
                  <a:pt x="11696" y="12508"/>
                  <a:pt x="11718" y="12501"/>
                  <a:pt x="11742" y="12487"/>
                </a:cubicBezTo>
              </a:path>
              <a:path w="1748" h="513">
                <a:moveTo>
                  <a:pt x="11492" y="12325"/>
                </a:moveTo>
                <a:cubicBezTo>
                  <a:pt x="11472" y="12320"/>
                  <a:pt x="11458" y="12321"/>
                  <a:pt x="11454" y="12346"/>
                </a:cubicBezTo>
                <a:cubicBezTo>
                  <a:pt x="11448" y="12385"/>
                  <a:pt x="11445" y="12427"/>
                  <a:pt x="11444" y="12466"/>
                </a:cubicBezTo>
                <a:cubicBezTo>
                  <a:pt x="11443" y="12519"/>
                  <a:pt x="11441" y="12576"/>
                  <a:pt x="11459" y="12626"/>
                </a:cubicBezTo>
                <a:cubicBezTo>
                  <a:pt x="11472" y="12664"/>
                  <a:pt x="11491" y="12670"/>
                  <a:pt x="11527" y="12676"/>
                </a:cubicBezTo>
              </a:path>
              <a:path w="1748" h="513">
                <a:moveTo>
                  <a:pt x="12246" y="12183"/>
                </a:moveTo>
                <a:cubicBezTo>
                  <a:pt x="12231" y="12208"/>
                  <a:pt x="12211" y="12237"/>
                  <a:pt x="12203" y="12264"/>
                </a:cubicBezTo>
                <a:cubicBezTo>
                  <a:pt x="12186" y="12318"/>
                  <a:pt x="12169" y="12373"/>
                  <a:pt x="12152" y="12428"/>
                </a:cubicBezTo>
                <a:cubicBezTo>
                  <a:pt x="12135" y="12482"/>
                  <a:pt x="12125" y="12538"/>
                  <a:pt x="12109" y="12592"/>
                </a:cubicBezTo>
                <a:cubicBezTo>
                  <a:pt x="12104" y="12610"/>
                  <a:pt x="12092" y="12657"/>
                  <a:pt x="12123" y="12665"/>
                </a:cubicBezTo>
                <a:cubicBezTo>
                  <a:pt x="12128" y="12664"/>
                  <a:pt x="12133" y="12663"/>
                  <a:pt x="12138" y="12662"/>
                </a:cubicBezTo>
              </a:path>
              <a:path w="1748" h="513">
                <a:moveTo>
                  <a:pt x="12536" y="12222"/>
                </a:moveTo>
                <a:cubicBezTo>
                  <a:pt x="12537" y="12207"/>
                  <a:pt x="12538" y="12181"/>
                  <a:pt x="12519" y="12173"/>
                </a:cubicBezTo>
                <a:cubicBezTo>
                  <a:pt x="12498" y="12165"/>
                  <a:pt x="12471" y="12185"/>
                  <a:pt x="12459" y="12199"/>
                </a:cubicBezTo>
                <a:cubicBezTo>
                  <a:pt x="12442" y="12220"/>
                  <a:pt x="12451" y="12244"/>
                  <a:pt x="12466" y="12263"/>
                </a:cubicBezTo>
                <a:cubicBezTo>
                  <a:pt x="12495" y="12300"/>
                  <a:pt x="12539" y="12323"/>
                  <a:pt x="12578" y="12347"/>
                </a:cubicBezTo>
                <a:cubicBezTo>
                  <a:pt x="12632" y="12381"/>
                  <a:pt x="12700" y="12413"/>
                  <a:pt x="12736" y="12468"/>
                </a:cubicBezTo>
                <a:cubicBezTo>
                  <a:pt x="12770" y="12520"/>
                  <a:pt x="12738" y="12568"/>
                  <a:pt x="12702" y="12606"/>
                </a:cubicBezTo>
                <a:cubicBezTo>
                  <a:pt x="12671" y="12638"/>
                  <a:pt x="12627" y="12661"/>
                  <a:pt x="12581" y="12656"/>
                </a:cubicBezTo>
                <a:cubicBezTo>
                  <a:pt x="12559" y="12649"/>
                  <a:pt x="12552" y="12645"/>
                  <a:pt x="12546" y="12627"/>
                </a:cubicBezTo>
              </a:path>
              <a:path w="1748" h="513">
                <a:moveTo>
                  <a:pt x="12587" y="12202"/>
                </a:moveTo>
                <a:cubicBezTo>
                  <a:pt x="12620" y="12179"/>
                  <a:pt x="12645" y="12168"/>
                  <a:pt x="12686" y="12167"/>
                </a:cubicBezTo>
                <a:cubicBezTo>
                  <a:pt x="12742" y="12166"/>
                  <a:pt x="12801" y="12177"/>
                  <a:pt x="12853" y="12195"/>
                </a:cubicBezTo>
                <a:cubicBezTo>
                  <a:pt x="12912" y="12215"/>
                  <a:pt x="12955" y="12249"/>
                  <a:pt x="13000" y="12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24"/>
          <p:cNvSpPr/>
          <p:nvPr/>
        </p:nvSpPr>
        <p:spPr>
          <a:xfrm>
            <a:off x="3614760" y="4842000"/>
            <a:ext cx="363600" cy="268200"/>
          </a:xfrm>
          <a:custGeom>
            <a:avLst/>
            <a:gdLst/>
            <a:ahLst/>
            <a:rect l="l" t="t" r="r" b="b"/>
            <a:pathLst>
              <a:path w="1011" h="746">
                <a:moveTo>
                  <a:pt x="10127" y="13886"/>
                </a:moveTo>
                <a:cubicBezTo>
                  <a:pt x="10106" y="13878"/>
                  <a:pt x="10102" y="13857"/>
                  <a:pt x="10081" y="13880"/>
                </a:cubicBezTo>
                <a:cubicBezTo>
                  <a:pt x="10066" y="13896"/>
                  <a:pt x="10061" y="13932"/>
                  <a:pt x="10055" y="13952"/>
                </a:cubicBezTo>
                <a:cubicBezTo>
                  <a:pt x="10044" y="13990"/>
                  <a:pt x="10040" y="14029"/>
                  <a:pt x="10039" y="14068"/>
                </a:cubicBezTo>
                <a:cubicBezTo>
                  <a:pt x="10039" y="14095"/>
                  <a:pt x="10042" y="14120"/>
                  <a:pt x="10049" y="14146"/>
                </a:cubicBezTo>
                <a:cubicBezTo>
                  <a:pt x="10053" y="14159"/>
                  <a:pt x="10064" y="14190"/>
                  <a:pt x="10080" y="14193"/>
                </a:cubicBezTo>
                <a:cubicBezTo>
                  <a:pt x="10104" y="14197"/>
                  <a:pt x="10119" y="14182"/>
                  <a:pt x="10137" y="14169"/>
                </a:cubicBezTo>
                <a:cubicBezTo>
                  <a:pt x="10157" y="14155"/>
                  <a:pt x="10174" y="14138"/>
                  <a:pt x="10193" y="14123"/>
                </a:cubicBezTo>
                <a:cubicBezTo>
                  <a:pt x="10215" y="14105"/>
                  <a:pt x="10235" y="14086"/>
                  <a:pt x="10256" y="14067"/>
                </a:cubicBezTo>
                <a:cubicBezTo>
                  <a:pt x="10274" y="14051"/>
                  <a:pt x="10290" y="14032"/>
                  <a:pt x="10310" y="14019"/>
                </a:cubicBezTo>
                <a:cubicBezTo>
                  <a:pt x="10328" y="14006"/>
                  <a:pt x="10335" y="14000"/>
                  <a:pt x="10353" y="14021"/>
                </a:cubicBezTo>
                <a:cubicBezTo>
                  <a:pt x="10368" y="14040"/>
                  <a:pt x="10371" y="14072"/>
                  <a:pt x="10383" y="14093"/>
                </a:cubicBezTo>
                <a:cubicBezTo>
                  <a:pt x="10396" y="14116"/>
                  <a:pt x="10416" y="14139"/>
                  <a:pt x="10443" y="14145"/>
                </a:cubicBezTo>
                <a:cubicBezTo>
                  <a:pt x="10472" y="14152"/>
                  <a:pt x="10501" y="14137"/>
                  <a:pt x="10524" y="14121"/>
                </a:cubicBezTo>
                <a:cubicBezTo>
                  <a:pt x="10554" y="14100"/>
                  <a:pt x="10577" y="14071"/>
                  <a:pt x="10594" y="14039"/>
                </a:cubicBezTo>
                <a:cubicBezTo>
                  <a:pt x="10617" y="13997"/>
                  <a:pt x="10623" y="13958"/>
                  <a:pt x="10624" y="13912"/>
                </a:cubicBezTo>
                <a:cubicBezTo>
                  <a:pt x="10626" y="13901"/>
                  <a:pt x="10627" y="13897"/>
                  <a:pt x="10626" y="13889"/>
                </a:cubicBezTo>
              </a:path>
              <a:path w="1011" h="746">
                <a:moveTo>
                  <a:pt x="10927" y="13471"/>
                </a:moveTo>
                <a:cubicBezTo>
                  <a:pt x="10906" y="13459"/>
                  <a:pt x="10893" y="13452"/>
                  <a:pt x="10873" y="13474"/>
                </a:cubicBezTo>
                <a:cubicBezTo>
                  <a:pt x="10858" y="13491"/>
                  <a:pt x="10848" y="13519"/>
                  <a:pt x="10844" y="13541"/>
                </a:cubicBezTo>
                <a:cubicBezTo>
                  <a:pt x="10840" y="13563"/>
                  <a:pt x="10843" y="13588"/>
                  <a:pt x="10864" y="13600"/>
                </a:cubicBezTo>
                <a:cubicBezTo>
                  <a:pt x="10889" y="13614"/>
                  <a:pt x="10917" y="13608"/>
                  <a:pt x="10942" y="13598"/>
                </a:cubicBezTo>
                <a:cubicBezTo>
                  <a:pt x="10971" y="13587"/>
                  <a:pt x="10994" y="13564"/>
                  <a:pt x="11008" y="13536"/>
                </a:cubicBezTo>
                <a:cubicBezTo>
                  <a:pt x="11018" y="13516"/>
                  <a:pt x="11018" y="13484"/>
                  <a:pt x="11001" y="13467"/>
                </a:cubicBezTo>
                <a:cubicBezTo>
                  <a:pt x="10980" y="13446"/>
                  <a:pt x="10954" y="13451"/>
                  <a:pt x="10930" y="13456"/>
                </a:cubicBezTo>
                <a:cubicBezTo>
                  <a:pt x="10897" y="13463"/>
                  <a:pt x="10876" y="13476"/>
                  <a:pt x="10861" y="13508"/>
                </a:cubicBezTo>
                <a:cubicBezTo>
                  <a:pt x="10859" y="13515"/>
                  <a:pt x="10856" y="13521"/>
                  <a:pt x="10854" y="13528"/>
                </a:cubicBezTo>
              </a:path>
              <a:path w="1011" h="746">
                <a:moveTo>
                  <a:pt x="10920" y="13644"/>
                </a:moveTo>
                <a:cubicBezTo>
                  <a:pt x="10908" y="13651"/>
                  <a:pt x="10878" y="13661"/>
                  <a:pt x="10870" y="13672"/>
                </a:cubicBezTo>
                <a:cubicBezTo>
                  <a:pt x="10855" y="13691"/>
                  <a:pt x="10839" y="13719"/>
                  <a:pt x="10834" y="13744"/>
                </a:cubicBezTo>
                <a:cubicBezTo>
                  <a:pt x="10829" y="13768"/>
                  <a:pt x="10833" y="13796"/>
                  <a:pt x="10861" y="13803"/>
                </a:cubicBezTo>
                <a:cubicBezTo>
                  <a:pt x="10897" y="13812"/>
                  <a:pt x="10936" y="13793"/>
                  <a:pt x="10966" y="13776"/>
                </a:cubicBezTo>
                <a:cubicBezTo>
                  <a:pt x="11000" y="13757"/>
                  <a:pt x="11030" y="13732"/>
                  <a:pt x="11045" y="13695"/>
                </a:cubicBezTo>
                <a:cubicBezTo>
                  <a:pt x="11056" y="13668"/>
                  <a:pt x="11041" y="13651"/>
                  <a:pt x="11016" y="13642"/>
                </a:cubicBezTo>
                <a:cubicBezTo>
                  <a:pt x="10985" y="13631"/>
                  <a:pt x="10960" y="13643"/>
                  <a:pt x="10930" y="13653"/>
                </a:cubicBezTo>
                <a:cubicBezTo>
                  <a:pt x="10926" y="13654"/>
                  <a:pt x="10923" y="13655"/>
                  <a:pt x="10919" y="1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25"/>
          <p:cNvSpPr/>
          <p:nvPr/>
        </p:nvSpPr>
        <p:spPr>
          <a:xfrm>
            <a:off x="4944960" y="4781520"/>
            <a:ext cx="952560" cy="268200"/>
          </a:xfrm>
          <a:custGeom>
            <a:avLst/>
            <a:gdLst/>
            <a:ahLst/>
            <a:rect l="l" t="t" r="r" b="b"/>
            <a:pathLst>
              <a:path w="2643" h="745">
                <a:moveTo>
                  <a:pt x="13920" y="13592"/>
                </a:moveTo>
                <a:cubicBezTo>
                  <a:pt x="13894" y="13582"/>
                  <a:pt x="13874" y="13578"/>
                  <a:pt x="13847" y="13593"/>
                </a:cubicBezTo>
                <a:cubicBezTo>
                  <a:pt x="13812" y="13612"/>
                  <a:pt x="13781" y="13648"/>
                  <a:pt x="13762" y="13682"/>
                </a:cubicBezTo>
                <a:cubicBezTo>
                  <a:pt x="13742" y="13718"/>
                  <a:pt x="13727" y="13761"/>
                  <a:pt x="13747" y="13800"/>
                </a:cubicBezTo>
                <a:cubicBezTo>
                  <a:pt x="13767" y="13839"/>
                  <a:pt x="13815" y="13856"/>
                  <a:pt x="13854" y="13869"/>
                </a:cubicBezTo>
                <a:cubicBezTo>
                  <a:pt x="13896" y="13883"/>
                  <a:pt x="13944" y="13884"/>
                  <a:pt x="13984" y="13906"/>
                </a:cubicBezTo>
                <a:cubicBezTo>
                  <a:pt x="14011" y="13921"/>
                  <a:pt x="14021" y="13941"/>
                  <a:pt x="14000" y="13965"/>
                </a:cubicBezTo>
                <a:cubicBezTo>
                  <a:pt x="13975" y="13993"/>
                  <a:pt x="13931" y="14010"/>
                  <a:pt x="13896" y="14018"/>
                </a:cubicBezTo>
                <a:cubicBezTo>
                  <a:pt x="13871" y="14023"/>
                  <a:pt x="13822" y="14036"/>
                  <a:pt x="13799" y="14017"/>
                </a:cubicBezTo>
                <a:cubicBezTo>
                  <a:pt x="13793" y="14004"/>
                  <a:pt x="13791" y="13999"/>
                  <a:pt x="13800" y="13990"/>
                </a:cubicBezTo>
              </a:path>
              <a:path w="2643" h="745">
                <a:moveTo>
                  <a:pt x="14141" y="13754"/>
                </a:moveTo>
                <a:cubicBezTo>
                  <a:pt x="14145" y="13752"/>
                  <a:pt x="14149" y="13749"/>
                  <a:pt x="14153" y="13747"/>
                </a:cubicBezTo>
                <a:cubicBezTo>
                  <a:pt x="14145" y="13769"/>
                  <a:pt x="14129" y="13788"/>
                  <a:pt x="14120" y="13810"/>
                </a:cubicBezTo>
                <a:cubicBezTo>
                  <a:pt x="14112" y="13828"/>
                  <a:pt x="14111" y="13846"/>
                  <a:pt x="14110" y="13865"/>
                </a:cubicBezTo>
                <a:cubicBezTo>
                  <a:pt x="14137" y="13878"/>
                  <a:pt x="14164" y="13874"/>
                  <a:pt x="14193" y="13863"/>
                </a:cubicBezTo>
                <a:cubicBezTo>
                  <a:pt x="14237" y="13846"/>
                  <a:pt x="14279" y="13823"/>
                  <a:pt x="14322" y="13804"/>
                </a:cubicBezTo>
                <a:cubicBezTo>
                  <a:pt x="14343" y="13795"/>
                  <a:pt x="14374" y="13782"/>
                  <a:pt x="14383" y="13812"/>
                </a:cubicBezTo>
                <a:cubicBezTo>
                  <a:pt x="14391" y="13839"/>
                  <a:pt x="14378" y="13869"/>
                  <a:pt x="14381" y="13896"/>
                </a:cubicBezTo>
                <a:cubicBezTo>
                  <a:pt x="14385" y="13931"/>
                  <a:pt x="14401" y="13929"/>
                  <a:pt x="14428" y="13923"/>
                </a:cubicBezTo>
              </a:path>
              <a:path w="2643" h="745">
                <a:moveTo>
                  <a:pt x="14626" y="13427"/>
                </a:moveTo>
                <a:cubicBezTo>
                  <a:pt x="14598" y="13456"/>
                  <a:pt x="14588" y="13481"/>
                  <a:pt x="14581" y="13522"/>
                </a:cubicBezTo>
                <a:cubicBezTo>
                  <a:pt x="14573" y="13567"/>
                  <a:pt x="14568" y="13616"/>
                  <a:pt x="14575" y="13662"/>
                </a:cubicBezTo>
                <a:cubicBezTo>
                  <a:pt x="14579" y="13689"/>
                  <a:pt x="14588" y="13721"/>
                  <a:pt x="14617" y="13728"/>
                </a:cubicBezTo>
                <a:cubicBezTo>
                  <a:pt x="14641" y="13734"/>
                  <a:pt x="14670" y="13722"/>
                  <a:pt x="14693" y="13715"/>
                </a:cubicBezTo>
                <a:cubicBezTo>
                  <a:pt x="14716" y="13708"/>
                  <a:pt x="14737" y="13702"/>
                  <a:pt x="14755" y="13723"/>
                </a:cubicBezTo>
                <a:cubicBezTo>
                  <a:pt x="14774" y="13745"/>
                  <a:pt x="14767" y="13780"/>
                  <a:pt x="14759" y="13804"/>
                </a:cubicBezTo>
                <a:cubicBezTo>
                  <a:pt x="14746" y="13843"/>
                  <a:pt x="14718" y="13868"/>
                  <a:pt x="14680" y="13882"/>
                </a:cubicBezTo>
                <a:cubicBezTo>
                  <a:pt x="14645" y="13895"/>
                  <a:pt x="14601" y="13893"/>
                  <a:pt x="14575" y="13863"/>
                </a:cubicBezTo>
                <a:cubicBezTo>
                  <a:pt x="14548" y="13833"/>
                  <a:pt x="14554" y="13794"/>
                  <a:pt x="14552" y="13758"/>
                </a:cubicBezTo>
              </a:path>
              <a:path w="2643" h="745">
                <a:moveTo>
                  <a:pt x="15036" y="13319"/>
                </a:moveTo>
                <a:cubicBezTo>
                  <a:pt x="15031" y="13307"/>
                  <a:pt x="15027" y="13296"/>
                  <a:pt x="15023" y="13283"/>
                </a:cubicBezTo>
                <a:cubicBezTo>
                  <a:pt x="15024" y="13322"/>
                  <a:pt x="15022" y="13361"/>
                  <a:pt x="15021" y="13400"/>
                </a:cubicBezTo>
                <a:cubicBezTo>
                  <a:pt x="15019" y="13485"/>
                  <a:pt x="15013" y="13571"/>
                  <a:pt x="15007" y="13656"/>
                </a:cubicBezTo>
                <a:cubicBezTo>
                  <a:pt x="15002" y="13723"/>
                  <a:pt x="14990" y="13789"/>
                  <a:pt x="14986" y="13856"/>
                </a:cubicBezTo>
                <a:cubicBezTo>
                  <a:pt x="14986" y="13874"/>
                  <a:pt x="14985" y="13877"/>
                  <a:pt x="14989" y="13887"/>
                </a:cubicBezTo>
              </a:path>
              <a:path w="2643" h="745">
                <a:moveTo>
                  <a:pt x="14991" y="13627"/>
                </a:moveTo>
                <a:cubicBezTo>
                  <a:pt x="14987" y="13626"/>
                  <a:pt x="14983" y="13626"/>
                  <a:pt x="14979" y="13625"/>
                </a:cubicBezTo>
                <a:cubicBezTo>
                  <a:pt x="14983" y="13651"/>
                  <a:pt x="15001" y="13658"/>
                  <a:pt x="15024" y="13672"/>
                </a:cubicBezTo>
              </a:path>
              <a:path w="2643" h="745">
                <a:moveTo>
                  <a:pt x="15241" y="13796"/>
                </a:moveTo>
                <a:cubicBezTo>
                  <a:pt x="15245" y="13809"/>
                  <a:pt x="15247" y="13820"/>
                  <a:pt x="15249" y="13834"/>
                </a:cubicBezTo>
                <a:cubicBezTo>
                  <a:pt x="15245" y="13801"/>
                  <a:pt x="15255" y="13776"/>
                  <a:pt x="15270" y="13746"/>
                </a:cubicBezTo>
                <a:cubicBezTo>
                  <a:pt x="15289" y="13707"/>
                  <a:pt x="15314" y="13671"/>
                  <a:pt x="15345" y="13641"/>
                </a:cubicBezTo>
                <a:cubicBezTo>
                  <a:pt x="15376" y="13611"/>
                  <a:pt x="15417" y="13605"/>
                  <a:pt x="15459" y="13602"/>
                </a:cubicBezTo>
                <a:cubicBezTo>
                  <a:pt x="15492" y="13601"/>
                  <a:pt x="15504" y="13601"/>
                  <a:pt x="15526" y="13602"/>
                </a:cubicBezTo>
              </a:path>
              <a:path w="2643" h="745">
                <a:moveTo>
                  <a:pt x="15673" y="13619"/>
                </a:moveTo>
                <a:cubicBezTo>
                  <a:pt x="15649" y="13630"/>
                  <a:pt x="15625" y="13638"/>
                  <a:pt x="15600" y="13648"/>
                </a:cubicBezTo>
                <a:cubicBezTo>
                  <a:pt x="15566" y="13661"/>
                  <a:pt x="15531" y="13682"/>
                  <a:pt x="15504" y="13708"/>
                </a:cubicBezTo>
                <a:cubicBezTo>
                  <a:pt x="15488" y="13723"/>
                  <a:pt x="15488" y="13725"/>
                  <a:pt x="15499" y="13738"/>
                </a:cubicBezTo>
                <a:cubicBezTo>
                  <a:pt x="15539" y="13735"/>
                  <a:pt x="15574" y="13723"/>
                  <a:pt x="15612" y="13710"/>
                </a:cubicBezTo>
                <a:cubicBezTo>
                  <a:pt x="15649" y="13697"/>
                  <a:pt x="15681" y="13685"/>
                  <a:pt x="15720" y="13682"/>
                </a:cubicBezTo>
                <a:cubicBezTo>
                  <a:pt x="15729" y="13717"/>
                  <a:pt x="15714" y="13721"/>
                  <a:pt x="15707" y="13754"/>
                </a:cubicBezTo>
                <a:cubicBezTo>
                  <a:pt x="15703" y="13770"/>
                  <a:pt x="15696" y="13803"/>
                  <a:pt x="15720" y="13807"/>
                </a:cubicBezTo>
                <a:cubicBezTo>
                  <a:pt x="15727" y="13807"/>
                  <a:pt x="15735" y="13807"/>
                  <a:pt x="15742" y="13807"/>
                </a:cubicBezTo>
              </a:path>
              <a:path w="2643" h="745">
                <a:moveTo>
                  <a:pt x="15972" y="13679"/>
                </a:moveTo>
                <a:cubicBezTo>
                  <a:pt x="15965" y="13679"/>
                  <a:pt x="15932" y="13683"/>
                  <a:pt x="15904" y="13702"/>
                </a:cubicBezTo>
                <a:cubicBezTo>
                  <a:pt x="15872" y="13724"/>
                  <a:pt x="15833" y="13752"/>
                  <a:pt x="15822" y="13792"/>
                </a:cubicBezTo>
                <a:cubicBezTo>
                  <a:pt x="15822" y="13798"/>
                  <a:pt x="15822" y="13803"/>
                  <a:pt x="15822" y="13809"/>
                </a:cubicBezTo>
                <a:cubicBezTo>
                  <a:pt x="15860" y="13829"/>
                  <a:pt x="15899" y="13820"/>
                  <a:pt x="15941" y="13804"/>
                </a:cubicBezTo>
                <a:cubicBezTo>
                  <a:pt x="16014" y="13775"/>
                  <a:pt x="16092" y="13733"/>
                  <a:pt x="16151" y="13681"/>
                </a:cubicBezTo>
                <a:cubicBezTo>
                  <a:pt x="16212" y="13627"/>
                  <a:pt x="16274" y="13542"/>
                  <a:pt x="16278" y="13458"/>
                </a:cubicBezTo>
                <a:cubicBezTo>
                  <a:pt x="16280" y="13412"/>
                  <a:pt x="16263" y="13399"/>
                  <a:pt x="16238" y="13373"/>
                </a:cubicBezTo>
                <a:cubicBezTo>
                  <a:pt x="16201" y="13387"/>
                  <a:pt x="16184" y="13420"/>
                  <a:pt x="16168" y="13461"/>
                </a:cubicBezTo>
                <a:cubicBezTo>
                  <a:pt x="16144" y="13522"/>
                  <a:pt x="16132" y="13593"/>
                  <a:pt x="16127" y="13658"/>
                </a:cubicBezTo>
                <a:cubicBezTo>
                  <a:pt x="16124" y="13699"/>
                  <a:pt x="16129" y="13741"/>
                  <a:pt x="16133" y="13782"/>
                </a:cubicBezTo>
              </a:path>
              <a:path w="2643" h="745">
                <a:moveTo>
                  <a:pt x="16124" y="13718"/>
                </a:moveTo>
                <a:cubicBezTo>
                  <a:pt x="16154" y="13698"/>
                  <a:pt x="16182" y="13688"/>
                  <a:pt x="16217" y="13678"/>
                </a:cubicBezTo>
                <a:cubicBezTo>
                  <a:pt x="16272" y="13662"/>
                  <a:pt x="16326" y="13645"/>
                  <a:pt x="16380" y="13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26"/>
          <p:cNvSpPr/>
          <p:nvPr/>
        </p:nvSpPr>
        <p:spPr>
          <a:xfrm>
            <a:off x="6272280" y="4838760"/>
            <a:ext cx="736560" cy="217440"/>
          </a:xfrm>
          <a:custGeom>
            <a:avLst/>
            <a:gdLst/>
            <a:ahLst/>
            <a:rect l="l" t="t" r="r" b="b"/>
            <a:pathLst>
              <a:path w="2047" h="600">
                <a:moveTo>
                  <a:pt x="17490" y="13817"/>
                </a:moveTo>
                <a:cubicBezTo>
                  <a:pt x="17480" y="13865"/>
                  <a:pt x="17469" y="13915"/>
                  <a:pt x="17453" y="13961"/>
                </a:cubicBezTo>
                <a:cubicBezTo>
                  <a:pt x="17444" y="13988"/>
                  <a:pt x="17433" y="14015"/>
                  <a:pt x="17424" y="14042"/>
                </a:cubicBezTo>
                <a:cubicBezTo>
                  <a:pt x="17443" y="13998"/>
                  <a:pt x="17463" y="13954"/>
                  <a:pt x="17482" y="13910"/>
                </a:cubicBezTo>
                <a:cubicBezTo>
                  <a:pt x="17520" y="13824"/>
                  <a:pt x="17556" y="13737"/>
                  <a:pt x="17598" y="13653"/>
                </a:cubicBezTo>
                <a:cubicBezTo>
                  <a:pt x="17629" y="13591"/>
                  <a:pt x="17660" y="13515"/>
                  <a:pt x="17707" y="13463"/>
                </a:cubicBezTo>
                <a:cubicBezTo>
                  <a:pt x="17715" y="13457"/>
                  <a:pt x="17722" y="13451"/>
                  <a:pt x="17730" y="13445"/>
                </a:cubicBezTo>
                <a:cubicBezTo>
                  <a:pt x="17765" y="13449"/>
                  <a:pt x="17773" y="13467"/>
                  <a:pt x="17774" y="13505"/>
                </a:cubicBezTo>
                <a:cubicBezTo>
                  <a:pt x="17776" y="13558"/>
                  <a:pt x="17760" y="13614"/>
                  <a:pt x="17733" y="13660"/>
                </a:cubicBezTo>
                <a:cubicBezTo>
                  <a:pt x="17707" y="13703"/>
                  <a:pt x="17669" y="13739"/>
                  <a:pt x="17621" y="13753"/>
                </a:cubicBezTo>
                <a:cubicBezTo>
                  <a:pt x="17581" y="13765"/>
                  <a:pt x="17579" y="13756"/>
                  <a:pt x="17558" y="13735"/>
                </a:cubicBezTo>
              </a:path>
              <a:path w="2047" h="600">
                <a:moveTo>
                  <a:pt x="17905" y="13601"/>
                </a:moveTo>
                <a:cubicBezTo>
                  <a:pt x="17914" y="13641"/>
                  <a:pt x="17900" y="13659"/>
                  <a:pt x="17895" y="13697"/>
                </a:cubicBezTo>
                <a:cubicBezTo>
                  <a:pt x="17892" y="13717"/>
                  <a:pt x="17887" y="13771"/>
                  <a:pt x="17914" y="13780"/>
                </a:cubicBezTo>
                <a:cubicBezTo>
                  <a:pt x="17953" y="13793"/>
                  <a:pt x="18004" y="13754"/>
                  <a:pt x="18032" y="13732"/>
                </a:cubicBezTo>
                <a:cubicBezTo>
                  <a:pt x="18066" y="13706"/>
                  <a:pt x="18106" y="13662"/>
                  <a:pt x="18112" y="13618"/>
                </a:cubicBezTo>
                <a:cubicBezTo>
                  <a:pt x="18118" y="13579"/>
                  <a:pt x="18080" y="13571"/>
                  <a:pt x="18050" y="13574"/>
                </a:cubicBezTo>
                <a:cubicBezTo>
                  <a:pt x="18012" y="13577"/>
                  <a:pt x="17970" y="13598"/>
                  <a:pt x="17943" y="13624"/>
                </a:cubicBezTo>
                <a:cubicBezTo>
                  <a:pt x="17924" y="13643"/>
                  <a:pt x="17923" y="13648"/>
                  <a:pt x="17930" y="13669"/>
                </a:cubicBezTo>
              </a:path>
              <a:path w="2047" h="600">
                <a:moveTo>
                  <a:pt x="18273" y="13543"/>
                </a:moveTo>
                <a:cubicBezTo>
                  <a:pt x="18253" y="13539"/>
                  <a:pt x="18222" y="13540"/>
                  <a:pt x="18205" y="13558"/>
                </a:cubicBezTo>
                <a:cubicBezTo>
                  <a:pt x="18187" y="13577"/>
                  <a:pt x="18176" y="13616"/>
                  <a:pt x="18179" y="13642"/>
                </a:cubicBezTo>
                <a:cubicBezTo>
                  <a:pt x="18183" y="13675"/>
                  <a:pt x="18203" y="13704"/>
                  <a:pt x="18236" y="13714"/>
                </a:cubicBezTo>
                <a:cubicBezTo>
                  <a:pt x="18272" y="13725"/>
                  <a:pt x="18313" y="13713"/>
                  <a:pt x="18348" y="13704"/>
                </a:cubicBezTo>
                <a:cubicBezTo>
                  <a:pt x="18378" y="13696"/>
                  <a:pt x="18405" y="13683"/>
                  <a:pt x="18436" y="13689"/>
                </a:cubicBezTo>
                <a:cubicBezTo>
                  <a:pt x="18466" y="13694"/>
                  <a:pt x="18476" y="13719"/>
                  <a:pt x="18500" y="13733"/>
                </a:cubicBezTo>
                <a:cubicBezTo>
                  <a:pt x="18523" y="13747"/>
                  <a:pt x="18540" y="13727"/>
                  <a:pt x="18555" y="13711"/>
                </a:cubicBezTo>
                <a:cubicBezTo>
                  <a:pt x="18585" y="13679"/>
                  <a:pt x="18603" y="13641"/>
                  <a:pt x="18627" y="13604"/>
                </a:cubicBezTo>
                <a:cubicBezTo>
                  <a:pt x="18647" y="13573"/>
                  <a:pt x="18662" y="13536"/>
                  <a:pt x="18687" y="13508"/>
                </a:cubicBezTo>
                <a:cubicBezTo>
                  <a:pt x="18692" y="13504"/>
                  <a:pt x="18696" y="13500"/>
                  <a:pt x="18701" y="13496"/>
                </a:cubicBezTo>
              </a:path>
              <a:path w="2047" h="600">
                <a:moveTo>
                  <a:pt x="18818" y="13538"/>
                </a:moveTo>
                <a:cubicBezTo>
                  <a:pt x="18845" y="13544"/>
                  <a:pt x="18876" y="13551"/>
                  <a:pt x="18903" y="13547"/>
                </a:cubicBezTo>
                <a:cubicBezTo>
                  <a:pt x="18918" y="13545"/>
                  <a:pt x="18966" y="13539"/>
                  <a:pt x="18977" y="13528"/>
                </a:cubicBezTo>
                <a:cubicBezTo>
                  <a:pt x="18986" y="13521"/>
                  <a:pt x="18990" y="13518"/>
                  <a:pt x="18988" y="13508"/>
                </a:cubicBezTo>
                <a:cubicBezTo>
                  <a:pt x="18961" y="13503"/>
                  <a:pt x="18943" y="13502"/>
                  <a:pt x="18915" y="13508"/>
                </a:cubicBezTo>
                <a:cubicBezTo>
                  <a:pt x="18888" y="13514"/>
                  <a:pt x="18847" y="13524"/>
                  <a:pt x="18834" y="13553"/>
                </a:cubicBezTo>
                <a:cubicBezTo>
                  <a:pt x="18820" y="13585"/>
                  <a:pt x="18868" y="13603"/>
                  <a:pt x="18887" y="13611"/>
                </a:cubicBezTo>
                <a:cubicBezTo>
                  <a:pt x="18931" y="13630"/>
                  <a:pt x="18977" y="13643"/>
                  <a:pt x="19021" y="13662"/>
                </a:cubicBezTo>
                <a:cubicBezTo>
                  <a:pt x="19050" y="13675"/>
                  <a:pt x="19073" y="13688"/>
                  <a:pt x="19088" y="13714"/>
                </a:cubicBezTo>
                <a:cubicBezTo>
                  <a:pt x="19069" y="13695"/>
                  <a:pt x="19061" y="13693"/>
                  <a:pt x="19067" y="13660"/>
                </a:cubicBezTo>
                <a:cubicBezTo>
                  <a:pt x="19074" y="13618"/>
                  <a:pt x="19099" y="13586"/>
                  <a:pt x="19129" y="13558"/>
                </a:cubicBezTo>
                <a:cubicBezTo>
                  <a:pt x="19170" y="13520"/>
                  <a:pt x="19214" y="13514"/>
                  <a:pt x="19265" y="13499"/>
                </a:cubicBezTo>
                <a:cubicBezTo>
                  <a:pt x="19286" y="13493"/>
                  <a:pt x="19373" y="13480"/>
                  <a:pt x="19387" y="13461"/>
                </a:cubicBezTo>
                <a:cubicBezTo>
                  <a:pt x="19383" y="13458"/>
                  <a:pt x="19378" y="13455"/>
                  <a:pt x="19374" y="13452"/>
                </a:cubicBezTo>
                <a:cubicBezTo>
                  <a:pt x="19355" y="13466"/>
                  <a:pt x="19337" y="13471"/>
                  <a:pt x="19338" y="13500"/>
                </a:cubicBezTo>
                <a:cubicBezTo>
                  <a:pt x="19339" y="13538"/>
                  <a:pt x="19374" y="13572"/>
                  <a:pt x="19397" y="13598"/>
                </a:cubicBezTo>
                <a:cubicBezTo>
                  <a:pt x="19427" y="13633"/>
                  <a:pt x="19481" y="13680"/>
                  <a:pt x="19470" y="13733"/>
                </a:cubicBezTo>
                <a:cubicBezTo>
                  <a:pt x="19462" y="13772"/>
                  <a:pt x="19417" y="13785"/>
                  <a:pt x="19384" y="13788"/>
                </a:cubicBezTo>
                <a:cubicBezTo>
                  <a:pt x="19344" y="13792"/>
                  <a:pt x="19327" y="13780"/>
                  <a:pt x="19307" y="13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27"/>
          <p:cNvSpPr/>
          <p:nvPr/>
        </p:nvSpPr>
        <p:spPr>
          <a:xfrm>
            <a:off x="7348680" y="4762440"/>
            <a:ext cx="649080" cy="214200"/>
          </a:xfrm>
          <a:custGeom>
            <a:avLst/>
            <a:gdLst/>
            <a:ahLst/>
            <a:rect l="l" t="t" r="r" b="b"/>
            <a:pathLst>
              <a:path w="1801" h="594">
                <a:moveTo>
                  <a:pt x="20516" y="13500"/>
                </a:moveTo>
                <a:cubicBezTo>
                  <a:pt x="20517" y="13496"/>
                  <a:pt x="20518" y="13493"/>
                  <a:pt x="20519" y="13489"/>
                </a:cubicBezTo>
                <a:cubicBezTo>
                  <a:pt x="20498" y="13496"/>
                  <a:pt x="20487" y="13511"/>
                  <a:pt x="20472" y="13529"/>
                </a:cubicBezTo>
                <a:cubicBezTo>
                  <a:pt x="20452" y="13553"/>
                  <a:pt x="20437" y="13578"/>
                  <a:pt x="20424" y="13607"/>
                </a:cubicBezTo>
                <a:cubicBezTo>
                  <a:pt x="20416" y="13624"/>
                  <a:pt x="20405" y="13651"/>
                  <a:pt x="20424" y="13666"/>
                </a:cubicBezTo>
                <a:cubicBezTo>
                  <a:pt x="20442" y="13681"/>
                  <a:pt x="20475" y="13663"/>
                  <a:pt x="20492" y="13656"/>
                </a:cubicBezTo>
                <a:cubicBezTo>
                  <a:pt x="20518" y="13646"/>
                  <a:pt x="20548" y="13626"/>
                  <a:pt x="20576" y="13622"/>
                </a:cubicBezTo>
                <a:cubicBezTo>
                  <a:pt x="20603" y="13618"/>
                  <a:pt x="20618" y="13634"/>
                  <a:pt x="20634" y="13652"/>
                </a:cubicBezTo>
                <a:cubicBezTo>
                  <a:pt x="20650" y="13670"/>
                  <a:pt x="20661" y="13691"/>
                  <a:pt x="20683" y="13703"/>
                </a:cubicBezTo>
                <a:cubicBezTo>
                  <a:pt x="20709" y="13718"/>
                  <a:pt x="20751" y="13711"/>
                  <a:pt x="20776" y="13697"/>
                </a:cubicBezTo>
                <a:cubicBezTo>
                  <a:pt x="20810" y="13678"/>
                  <a:pt x="20835" y="13654"/>
                  <a:pt x="20861" y="13626"/>
                </a:cubicBezTo>
                <a:cubicBezTo>
                  <a:pt x="20883" y="13602"/>
                  <a:pt x="20900" y="13577"/>
                  <a:pt x="20917" y="13550"/>
                </a:cubicBezTo>
              </a:path>
              <a:path w="1801" h="594">
                <a:moveTo>
                  <a:pt x="21045" y="13229"/>
                </a:moveTo>
                <a:cubicBezTo>
                  <a:pt x="21040" y="13266"/>
                  <a:pt x="21030" y="13298"/>
                  <a:pt x="21020" y="13334"/>
                </a:cubicBezTo>
                <a:cubicBezTo>
                  <a:pt x="21005" y="13388"/>
                  <a:pt x="20988" y="13443"/>
                  <a:pt x="20980" y="13499"/>
                </a:cubicBezTo>
                <a:cubicBezTo>
                  <a:pt x="20976" y="13526"/>
                  <a:pt x="20967" y="13581"/>
                  <a:pt x="20997" y="13598"/>
                </a:cubicBezTo>
                <a:cubicBezTo>
                  <a:pt x="21035" y="13620"/>
                  <a:pt x="21090" y="13580"/>
                  <a:pt x="21120" y="13562"/>
                </a:cubicBezTo>
                <a:cubicBezTo>
                  <a:pt x="21149" y="13545"/>
                  <a:pt x="21173" y="13529"/>
                  <a:pt x="21203" y="13516"/>
                </a:cubicBezTo>
                <a:cubicBezTo>
                  <a:pt x="21212" y="13539"/>
                  <a:pt x="21216" y="13562"/>
                  <a:pt x="21225" y="13590"/>
                </a:cubicBezTo>
                <a:cubicBezTo>
                  <a:pt x="21239" y="13636"/>
                  <a:pt x="21254" y="13659"/>
                  <a:pt x="21298" y="13678"/>
                </a:cubicBezTo>
                <a:cubicBezTo>
                  <a:pt x="21362" y="13705"/>
                  <a:pt x="21463" y="13648"/>
                  <a:pt x="21510" y="13611"/>
                </a:cubicBezTo>
                <a:cubicBezTo>
                  <a:pt x="21542" y="13585"/>
                  <a:pt x="21580" y="13544"/>
                  <a:pt x="21573" y="13498"/>
                </a:cubicBezTo>
                <a:cubicBezTo>
                  <a:pt x="21567" y="13462"/>
                  <a:pt x="21536" y="13465"/>
                  <a:pt x="21508" y="13468"/>
                </a:cubicBezTo>
                <a:cubicBezTo>
                  <a:pt x="21480" y="13471"/>
                  <a:pt x="21430" y="13515"/>
                  <a:pt x="21424" y="13543"/>
                </a:cubicBezTo>
                <a:cubicBezTo>
                  <a:pt x="21412" y="13602"/>
                  <a:pt x="21439" y="13632"/>
                  <a:pt x="21489" y="13661"/>
                </a:cubicBezTo>
                <a:cubicBezTo>
                  <a:pt x="21541" y="13691"/>
                  <a:pt x="21601" y="13710"/>
                  <a:pt x="21658" y="13727"/>
                </a:cubicBezTo>
                <a:cubicBezTo>
                  <a:pt x="21671" y="13731"/>
                  <a:pt x="21703" y="13746"/>
                  <a:pt x="21718" y="13744"/>
                </a:cubicBezTo>
                <a:cubicBezTo>
                  <a:pt x="21745" y="13739"/>
                  <a:pt x="21776" y="13701"/>
                  <a:pt x="21797" y="13687"/>
                </a:cubicBezTo>
                <a:cubicBezTo>
                  <a:pt x="21840" y="13658"/>
                  <a:pt x="21890" y="13630"/>
                  <a:pt x="21943" y="13624"/>
                </a:cubicBezTo>
                <a:cubicBezTo>
                  <a:pt x="22020" y="13615"/>
                  <a:pt x="22056" y="13681"/>
                  <a:pt x="22096" y="13733"/>
                </a:cubicBezTo>
                <a:cubicBezTo>
                  <a:pt x="22130" y="13777"/>
                  <a:pt x="22165" y="13798"/>
                  <a:pt x="22214" y="13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8"/>
          <p:cNvSpPr/>
          <p:nvPr/>
        </p:nvSpPr>
        <p:spPr>
          <a:xfrm>
            <a:off x="8217000" y="4819680"/>
            <a:ext cx="193680" cy="196920"/>
          </a:xfrm>
          <a:custGeom>
            <a:avLst/>
            <a:gdLst/>
            <a:ahLst/>
            <a:rect l="l" t="t" r="r" b="b"/>
            <a:pathLst>
              <a:path w="539" h="549">
                <a:moveTo>
                  <a:pt x="22824" y="13622"/>
                </a:moveTo>
                <a:cubicBezTo>
                  <a:pt x="22843" y="13636"/>
                  <a:pt x="22866" y="13637"/>
                  <a:pt x="22891" y="13638"/>
                </a:cubicBezTo>
                <a:cubicBezTo>
                  <a:pt x="22945" y="13639"/>
                  <a:pt x="23000" y="13640"/>
                  <a:pt x="23054" y="13640"/>
                </a:cubicBezTo>
                <a:cubicBezTo>
                  <a:pt x="23122" y="13640"/>
                  <a:pt x="23189" y="13638"/>
                  <a:pt x="23257" y="13640"/>
                </a:cubicBezTo>
                <a:cubicBezTo>
                  <a:pt x="23264" y="13640"/>
                  <a:pt x="23356" y="13645"/>
                  <a:pt x="23362" y="13634"/>
                </a:cubicBezTo>
                <a:cubicBezTo>
                  <a:pt x="23360" y="13630"/>
                  <a:pt x="23358" y="13627"/>
                  <a:pt x="23356" y="13623"/>
                </a:cubicBezTo>
              </a:path>
              <a:path w="539" h="549">
                <a:moveTo>
                  <a:pt x="23103" y="13401"/>
                </a:moveTo>
                <a:cubicBezTo>
                  <a:pt x="23083" y="13388"/>
                  <a:pt x="23067" y="13379"/>
                  <a:pt x="23047" y="13399"/>
                </a:cubicBezTo>
                <a:cubicBezTo>
                  <a:pt x="23040" y="13406"/>
                  <a:pt x="23021" y="13457"/>
                  <a:pt x="23048" y="13447"/>
                </a:cubicBezTo>
                <a:cubicBezTo>
                  <a:pt x="23070" y="13439"/>
                  <a:pt x="23063" y="13420"/>
                  <a:pt x="23059" y="13408"/>
                </a:cubicBezTo>
                <a:cubicBezTo>
                  <a:pt x="23046" y="13429"/>
                  <a:pt x="23036" y="13447"/>
                  <a:pt x="23026" y="13469"/>
                </a:cubicBezTo>
              </a:path>
              <a:path w="539" h="549">
                <a:moveTo>
                  <a:pt x="23079" y="13935"/>
                </a:moveTo>
                <a:cubicBezTo>
                  <a:pt x="23068" y="13932"/>
                  <a:pt x="23064" y="13930"/>
                  <a:pt x="23059" y="13922"/>
                </a:cubicBezTo>
                <a:cubicBezTo>
                  <a:pt x="23082" y="13943"/>
                  <a:pt x="23087" y="13916"/>
                  <a:pt x="23074" y="13913"/>
                </a:cubicBezTo>
                <a:cubicBezTo>
                  <a:pt x="23055" y="13908"/>
                  <a:pt x="23032" y="13920"/>
                  <a:pt x="23019" y="13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9"/>
          <p:cNvSpPr/>
          <p:nvPr/>
        </p:nvSpPr>
        <p:spPr>
          <a:xfrm>
            <a:off x="3476520" y="5318280"/>
            <a:ext cx="2313000" cy="707760"/>
          </a:xfrm>
          <a:custGeom>
            <a:avLst/>
            <a:gdLst/>
            <a:ahLst/>
            <a:rect l="l" t="t" r="r" b="b"/>
            <a:pathLst>
              <a:path w="6426" h="1968">
                <a:moveTo>
                  <a:pt x="9697" y="15650"/>
                </a:moveTo>
                <a:cubicBezTo>
                  <a:pt x="9688" y="15631"/>
                  <a:pt x="9680" y="15615"/>
                  <a:pt x="9670" y="15597"/>
                </a:cubicBezTo>
                <a:cubicBezTo>
                  <a:pt x="9662" y="15612"/>
                  <a:pt x="9658" y="15620"/>
                  <a:pt x="9658" y="15644"/>
                </a:cubicBezTo>
                <a:cubicBezTo>
                  <a:pt x="9657" y="15672"/>
                  <a:pt x="9661" y="15703"/>
                  <a:pt x="9668" y="15730"/>
                </a:cubicBezTo>
                <a:cubicBezTo>
                  <a:pt x="9673" y="15747"/>
                  <a:pt x="9682" y="15774"/>
                  <a:pt x="9702" y="15779"/>
                </a:cubicBezTo>
                <a:cubicBezTo>
                  <a:pt x="9729" y="15785"/>
                  <a:pt x="9756" y="15753"/>
                  <a:pt x="9773" y="15738"/>
                </a:cubicBezTo>
                <a:cubicBezTo>
                  <a:pt x="9788" y="15724"/>
                  <a:pt x="9807" y="15693"/>
                  <a:pt x="9832" y="15707"/>
                </a:cubicBezTo>
                <a:cubicBezTo>
                  <a:pt x="9871" y="15728"/>
                  <a:pt x="9889" y="15788"/>
                  <a:pt x="9916" y="15820"/>
                </a:cubicBezTo>
                <a:cubicBezTo>
                  <a:pt x="9940" y="15849"/>
                  <a:pt x="9972" y="15877"/>
                  <a:pt x="10012" y="15870"/>
                </a:cubicBezTo>
                <a:cubicBezTo>
                  <a:pt x="10051" y="15864"/>
                  <a:pt x="10082" y="15830"/>
                  <a:pt x="10104" y="15800"/>
                </a:cubicBezTo>
                <a:cubicBezTo>
                  <a:pt x="10132" y="15761"/>
                  <a:pt x="10146" y="15714"/>
                  <a:pt x="10154" y="15668"/>
                </a:cubicBezTo>
                <a:cubicBezTo>
                  <a:pt x="10160" y="15634"/>
                  <a:pt x="10166" y="15607"/>
                  <a:pt x="10189" y="15583"/>
                </a:cubicBezTo>
                <a:cubicBezTo>
                  <a:pt x="10211" y="15560"/>
                  <a:pt x="10240" y="15553"/>
                  <a:pt x="10269" y="15540"/>
                </a:cubicBezTo>
              </a:path>
              <a:path w="6426" h="1968">
                <a:moveTo>
                  <a:pt x="10490" y="15521"/>
                </a:moveTo>
                <a:cubicBezTo>
                  <a:pt x="10473" y="15535"/>
                  <a:pt x="10456" y="15545"/>
                  <a:pt x="10437" y="15555"/>
                </a:cubicBezTo>
                <a:cubicBezTo>
                  <a:pt x="10466" y="15536"/>
                  <a:pt x="10494" y="15516"/>
                  <a:pt x="10523" y="15497"/>
                </a:cubicBezTo>
                <a:cubicBezTo>
                  <a:pt x="10573" y="15464"/>
                  <a:pt x="10623" y="15431"/>
                  <a:pt x="10674" y="15400"/>
                </a:cubicBezTo>
                <a:cubicBezTo>
                  <a:pt x="10729" y="15367"/>
                  <a:pt x="10782" y="15330"/>
                  <a:pt x="10838" y="15298"/>
                </a:cubicBezTo>
                <a:cubicBezTo>
                  <a:pt x="10875" y="15276"/>
                  <a:pt x="10912" y="15254"/>
                  <a:pt x="10949" y="15231"/>
                </a:cubicBezTo>
                <a:cubicBezTo>
                  <a:pt x="10968" y="15219"/>
                  <a:pt x="10972" y="15211"/>
                  <a:pt x="10986" y="15194"/>
                </a:cubicBezTo>
                <a:cubicBezTo>
                  <a:pt x="10969" y="15168"/>
                  <a:pt x="10954" y="15164"/>
                  <a:pt x="10921" y="15164"/>
                </a:cubicBezTo>
                <a:cubicBezTo>
                  <a:pt x="10867" y="15164"/>
                  <a:pt x="10813" y="15176"/>
                  <a:pt x="10760" y="15183"/>
                </a:cubicBezTo>
                <a:cubicBezTo>
                  <a:pt x="10798" y="15172"/>
                  <a:pt x="10835" y="15164"/>
                  <a:pt x="10874" y="15160"/>
                </a:cubicBezTo>
                <a:cubicBezTo>
                  <a:pt x="10919" y="15156"/>
                  <a:pt x="10964" y="15157"/>
                  <a:pt x="11004" y="15179"/>
                </a:cubicBezTo>
                <a:cubicBezTo>
                  <a:pt x="11052" y="15205"/>
                  <a:pt x="11045" y="15254"/>
                  <a:pt x="11043" y="15300"/>
                </a:cubicBezTo>
                <a:cubicBezTo>
                  <a:pt x="11042" y="15331"/>
                  <a:pt x="11036" y="15360"/>
                  <a:pt x="11032" y="15390"/>
                </a:cubicBezTo>
              </a:path>
              <a:path w="6426" h="1968">
                <a:moveTo>
                  <a:pt x="11688" y="15100"/>
                </a:moveTo>
                <a:cubicBezTo>
                  <a:pt x="11683" y="15127"/>
                  <a:pt x="11672" y="15150"/>
                  <a:pt x="11656" y="15173"/>
                </a:cubicBezTo>
                <a:cubicBezTo>
                  <a:pt x="11625" y="15216"/>
                  <a:pt x="11590" y="15258"/>
                  <a:pt x="11555" y="15298"/>
                </a:cubicBezTo>
                <a:cubicBezTo>
                  <a:pt x="11527" y="15330"/>
                  <a:pt x="11496" y="15368"/>
                  <a:pt x="11461" y="15393"/>
                </a:cubicBezTo>
                <a:cubicBezTo>
                  <a:pt x="11448" y="15400"/>
                  <a:pt x="11443" y="15402"/>
                  <a:pt x="11442" y="15386"/>
                </a:cubicBezTo>
              </a:path>
              <a:path w="6426" h="1968">
                <a:moveTo>
                  <a:pt x="11497" y="15183"/>
                </a:moveTo>
                <a:cubicBezTo>
                  <a:pt x="11502" y="15162"/>
                  <a:pt x="11516" y="15187"/>
                  <a:pt x="11539" y="15200"/>
                </a:cubicBezTo>
                <a:cubicBezTo>
                  <a:pt x="11572" y="15219"/>
                  <a:pt x="11604" y="15236"/>
                  <a:pt x="11641" y="15246"/>
                </a:cubicBezTo>
                <a:cubicBezTo>
                  <a:pt x="11684" y="15258"/>
                  <a:pt x="11721" y="15260"/>
                  <a:pt x="11765" y="15256"/>
                </a:cubicBezTo>
              </a:path>
              <a:path w="6426" h="1968">
                <a:moveTo>
                  <a:pt x="11957" y="14959"/>
                </a:moveTo>
                <a:cubicBezTo>
                  <a:pt x="11963" y="14933"/>
                  <a:pt x="11968" y="14924"/>
                  <a:pt x="11995" y="14915"/>
                </a:cubicBezTo>
                <a:cubicBezTo>
                  <a:pt x="12022" y="14906"/>
                  <a:pt x="12040" y="14928"/>
                  <a:pt x="12051" y="14950"/>
                </a:cubicBezTo>
                <a:cubicBezTo>
                  <a:pt x="12069" y="14987"/>
                  <a:pt x="12066" y="15031"/>
                  <a:pt x="12060" y="15071"/>
                </a:cubicBezTo>
                <a:cubicBezTo>
                  <a:pt x="12053" y="15122"/>
                  <a:pt x="12030" y="15169"/>
                  <a:pt x="12025" y="15220"/>
                </a:cubicBezTo>
                <a:cubicBezTo>
                  <a:pt x="12022" y="15257"/>
                  <a:pt x="12048" y="15262"/>
                  <a:pt x="12079" y="15262"/>
                </a:cubicBezTo>
                <a:cubicBezTo>
                  <a:pt x="12121" y="15262"/>
                  <a:pt x="12156" y="15248"/>
                  <a:pt x="12196" y="15240"/>
                </a:cubicBezTo>
                <a:cubicBezTo>
                  <a:pt x="12229" y="15234"/>
                  <a:pt x="12257" y="15231"/>
                  <a:pt x="12285" y="15213"/>
                </a:cubicBezTo>
              </a:path>
              <a:path w="6426" h="1968">
                <a:moveTo>
                  <a:pt x="11375" y="14929"/>
                </a:moveTo>
                <a:cubicBezTo>
                  <a:pt x="11355" y="14949"/>
                  <a:pt x="11354" y="14914"/>
                  <a:pt x="11341" y="14969"/>
                </a:cubicBezTo>
                <a:cubicBezTo>
                  <a:pt x="11324" y="15042"/>
                  <a:pt x="11327" y="15127"/>
                  <a:pt x="11323" y="15201"/>
                </a:cubicBezTo>
                <a:cubicBezTo>
                  <a:pt x="11318" y="15297"/>
                  <a:pt x="11310" y="15398"/>
                  <a:pt x="11333" y="15492"/>
                </a:cubicBezTo>
                <a:cubicBezTo>
                  <a:pt x="11341" y="15526"/>
                  <a:pt x="11354" y="15569"/>
                  <a:pt x="11388" y="15586"/>
                </a:cubicBezTo>
                <a:cubicBezTo>
                  <a:pt x="11424" y="15605"/>
                  <a:pt x="11474" y="15596"/>
                  <a:pt x="11512" y="15593"/>
                </a:cubicBezTo>
                <a:cubicBezTo>
                  <a:pt x="11619" y="15583"/>
                  <a:pt x="11723" y="15562"/>
                  <a:pt x="11831" y="15556"/>
                </a:cubicBezTo>
                <a:cubicBezTo>
                  <a:pt x="11918" y="15551"/>
                  <a:pt x="12005" y="15544"/>
                  <a:pt x="12092" y="15541"/>
                </a:cubicBezTo>
                <a:cubicBezTo>
                  <a:pt x="12157" y="15539"/>
                  <a:pt x="12221" y="15537"/>
                  <a:pt x="12286" y="15531"/>
                </a:cubicBezTo>
                <a:cubicBezTo>
                  <a:pt x="12310" y="15529"/>
                  <a:pt x="12335" y="15527"/>
                  <a:pt x="12359" y="15525"/>
                </a:cubicBezTo>
                <a:cubicBezTo>
                  <a:pt x="12359" y="15505"/>
                  <a:pt x="12358" y="15486"/>
                  <a:pt x="12358" y="15465"/>
                </a:cubicBezTo>
                <a:cubicBezTo>
                  <a:pt x="12360" y="15352"/>
                  <a:pt x="12368" y="15235"/>
                  <a:pt x="12388" y="15124"/>
                </a:cubicBezTo>
                <a:cubicBezTo>
                  <a:pt x="12400" y="15059"/>
                  <a:pt x="12414" y="14994"/>
                  <a:pt x="12428" y="14930"/>
                </a:cubicBezTo>
                <a:cubicBezTo>
                  <a:pt x="12434" y="14903"/>
                  <a:pt x="12455" y="14854"/>
                  <a:pt x="12429" y="14831"/>
                </a:cubicBezTo>
                <a:cubicBezTo>
                  <a:pt x="12404" y="14809"/>
                  <a:pt x="12355" y="14819"/>
                  <a:pt x="12327" y="14823"/>
                </a:cubicBezTo>
                <a:cubicBezTo>
                  <a:pt x="12124" y="14851"/>
                  <a:pt x="11927" y="14865"/>
                  <a:pt x="11722" y="14875"/>
                </a:cubicBezTo>
                <a:cubicBezTo>
                  <a:pt x="11632" y="14879"/>
                  <a:pt x="11538" y="14884"/>
                  <a:pt x="11450" y="14905"/>
                </a:cubicBezTo>
                <a:cubicBezTo>
                  <a:pt x="11414" y="14913"/>
                  <a:pt x="11388" y="14929"/>
                  <a:pt x="11356" y="14944"/>
                </a:cubicBezTo>
              </a:path>
              <a:path w="6426" h="1968">
                <a:moveTo>
                  <a:pt x="13175" y="15240"/>
                </a:moveTo>
                <a:cubicBezTo>
                  <a:pt x="13161" y="15234"/>
                  <a:pt x="13148" y="15228"/>
                  <a:pt x="13135" y="15220"/>
                </a:cubicBezTo>
                <a:cubicBezTo>
                  <a:pt x="13151" y="15235"/>
                  <a:pt x="13172" y="15239"/>
                  <a:pt x="13195" y="15241"/>
                </a:cubicBezTo>
                <a:cubicBezTo>
                  <a:pt x="13237" y="15245"/>
                  <a:pt x="13282" y="15242"/>
                  <a:pt x="13324" y="15238"/>
                </a:cubicBezTo>
                <a:cubicBezTo>
                  <a:pt x="13379" y="15233"/>
                  <a:pt x="13440" y="15230"/>
                  <a:pt x="13493" y="15216"/>
                </a:cubicBezTo>
                <a:cubicBezTo>
                  <a:pt x="13514" y="15211"/>
                  <a:pt x="13534" y="15206"/>
                  <a:pt x="13554" y="15197"/>
                </a:cubicBezTo>
              </a:path>
              <a:path w="6426" h="1968">
                <a:moveTo>
                  <a:pt x="13366" y="15095"/>
                </a:moveTo>
                <a:cubicBezTo>
                  <a:pt x="13348" y="15101"/>
                  <a:pt x="13329" y="15112"/>
                  <a:pt x="13323" y="15133"/>
                </a:cubicBezTo>
                <a:cubicBezTo>
                  <a:pt x="13311" y="15171"/>
                  <a:pt x="13309" y="15220"/>
                  <a:pt x="13309" y="15259"/>
                </a:cubicBezTo>
                <a:cubicBezTo>
                  <a:pt x="13309" y="15301"/>
                  <a:pt x="13310" y="15348"/>
                  <a:pt x="13337" y="15382"/>
                </a:cubicBezTo>
                <a:cubicBezTo>
                  <a:pt x="13363" y="15415"/>
                  <a:pt x="13398" y="15396"/>
                  <a:pt x="13430" y="15385"/>
                </a:cubicBezTo>
              </a:path>
              <a:path w="6426" h="1968">
                <a:moveTo>
                  <a:pt x="13835" y="14875"/>
                </a:moveTo>
                <a:cubicBezTo>
                  <a:pt x="13824" y="14873"/>
                  <a:pt x="13814" y="14866"/>
                  <a:pt x="13791" y="14895"/>
                </a:cubicBezTo>
                <a:cubicBezTo>
                  <a:pt x="13761" y="14934"/>
                  <a:pt x="13719" y="14998"/>
                  <a:pt x="13732" y="15050"/>
                </a:cubicBezTo>
                <a:cubicBezTo>
                  <a:pt x="13741" y="15087"/>
                  <a:pt x="13790" y="15097"/>
                  <a:pt x="13821" y="15105"/>
                </a:cubicBezTo>
                <a:cubicBezTo>
                  <a:pt x="13871" y="15119"/>
                  <a:pt x="13925" y="15127"/>
                  <a:pt x="13971" y="15153"/>
                </a:cubicBezTo>
                <a:cubicBezTo>
                  <a:pt x="14011" y="15175"/>
                  <a:pt x="14032" y="15214"/>
                  <a:pt x="14025" y="15259"/>
                </a:cubicBezTo>
                <a:cubicBezTo>
                  <a:pt x="14015" y="15321"/>
                  <a:pt x="13961" y="15368"/>
                  <a:pt x="13906" y="15391"/>
                </a:cubicBezTo>
                <a:cubicBezTo>
                  <a:pt x="13874" y="15405"/>
                  <a:pt x="13828" y="15409"/>
                  <a:pt x="13810" y="15371"/>
                </a:cubicBezTo>
                <a:cubicBezTo>
                  <a:pt x="13787" y="15323"/>
                  <a:pt x="13829" y="15257"/>
                  <a:pt x="13850" y="15216"/>
                </a:cubicBezTo>
                <a:cubicBezTo>
                  <a:pt x="13888" y="15143"/>
                  <a:pt x="13936" y="15078"/>
                  <a:pt x="13980" y="15009"/>
                </a:cubicBezTo>
                <a:cubicBezTo>
                  <a:pt x="14005" y="14969"/>
                  <a:pt x="14026" y="14934"/>
                  <a:pt x="14021" y="14888"/>
                </a:cubicBezTo>
                <a:cubicBezTo>
                  <a:pt x="13983" y="14882"/>
                  <a:pt x="13954" y="14896"/>
                  <a:pt x="13919" y="14914"/>
                </a:cubicBezTo>
                <a:cubicBezTo>
                  <a:pt x="13888" y="14929"/>
                  <a:pt x="13859" y="14947"/>
                  <a:pt x="13828" y="14962"/>
                </a:cubicBezTo>
              </a:path>
              <a:path w="6426" h="1968">
                <a:moveTo>
                  <a:pt x="13297" y="14838"/>
                </a:moveTo>
                <a:cubicBezTo>
                  <a:pt x="13232" y="14861"/>
                  <a:pt x="13212" y="14871"/>
                  <a:pt x="13194" y="14946"/>
                </a:cubicBezTo>
                <a:cubicBezTo>
                  <a:pt x="13177" y="15019"/>
                  <a:pt x="13170" y="15095"/>
                  <a:pt x="13168" y="15169"/>
                </a:cubicBezTo>
                <a:cubicBezTo>
                  <a:pt x="13166" y="15247"/>
                  <a:pt x="13170" y="15324"/>
                  <a:pt x="13179" y="15402"/>
                </a:cubicBezTo>
                <a:cubicBezTo>
                  <a:pt x="13184" y="15443"/>
                  <a:pt x="13190" y="15529"/>
                  <a:pt x="13236" y="15550"/>
                </a:cubicBezTo>
                <a:cubicBezTo>
                  <a:pt x="13280" y="15569"/>
                  <a:pt x="13348" y="15530"/>
                  <a:pt x="13388" y="15517"/>
                </a:cubicBezTo>
                <a:cubicBezTo>
                  <a:pt x="13556" y="15464"/>
                  <a:pt x="13736" y="15449"/>
                  <a:pt x="13911" y="15453"/>
                </a:cubicBezTo>
                <a:cubicBezTo>
                  <a:pt x="14014" y="15456"/>
                  <a:pt x="14165" y="15468"/>
                  <a:pt x="14239" y="15552"/>
                </a:cubicBezTo>
                <a:cubicBezTo>
                  <a:pt x="14256" y="15571"/>
                  <a:pt x="14267" y="15592"/>
                  <a:pt x="14282" y="15613"/>
                </a:cubicBezTo>
                <a:cubicBezTo>
                  <a:pt x="14287" y="15579"/>
                  <a:pt x="14291" y="15547"/>
                  <a:pt x="14292" y="15513"/>
                </a:cubicBezTo>
                <a:cubicBezTo>
                  <a:pt x="14298" y="15319"/>
                  <a:pt x="14299" y="15120"/>
                  <a:pt x="14294" y="14926"/>
                </a:cubicBezTo>
                <a:cubicBezTo>
                  <a:pt x="14293" y="14872"/>
                  <a:pt x="14293" y="14822"/>
                  <a:pt x="14243" y="14792"/>
                </a:cubicBezTo>
                <a:cubicBezTo>
                  <a:pt x="14185" y="14757"/>
                  <a:pt x="14082" y="14770"/>
                  <a:pt x="14018" y="14772"/>
                </a:cubicBezTo>
                <a:cubicBezTo>
                  <a:pt x="13856" y="14777"/>
                  <a:pt x="13676" y="14790"/>
                  <a:pt x="13522" y="14845"/>
                </a:cubicBezTo>
                <a:cubicBezTo>
                  <a:pt x="13444" y="14873"/>
                  <a:pt x="13357" y="14912"/>
                  <a:pt x="13288" y="14958"/>
                </a:cubicBezTo>
                <a:cubicBezTo>
                  <a:pt x="13279" y="14966"/>
                  <a:pt x="13269" y="14973"/>
                  <a:pt x="13260" y="14981"/>
                </a:cubicBezTo>
              </a:path>
              <a:path w="6426" h="1968">
                <a:moveTo>
                  <a:pt x="14684" y="15204"/>
                </a:moveTo>
                <a:cubicBezTo>
                  <a:pt x="14681" y="15213"/>
                  <a:pt x="14672" y="15221"/>
                  <a:pt x="14685" y="15256"/>
                </a:cubicBezTo>
                <a:cubicBezTo>
                  <a:pt x="14702" y="15300"/>
                  <a:pt x="14727" y="15340"/>
                  <a:pt x="14751" y="15381"/>
                </a:cubicBezTo>
                <a:cubicBezTo>
                  <a:pt x="14782" y="15433"/>
                  <a:pt x="14816" y="15476"/>
                  <a:pt x="14858" y="15520"/>
                </a:cubicBezTo>
                <a:cubicBezTo>
                  <a:pt x="14906" y="15571"/>
                  <a:pt x="14956" y="15621"/>
                  <a:pt x="15006" y="15670"/>
                </a:cubicBezTo>
                <a:cubicBezTo>
                  <a:pt x="15041" y="15704"/>
                  <a:pt x="15075" y="15738"/>
                  <a:pt x="15110" y="15772"/>
                </a:cubicBezTo>
                <a:cubicBezTo>
                  <a:pt x="15083" y="15773"/>
                  <a:pt x="15065" y="15771"/>
                  <a:pt x="15035" y="15760"/>
                </a:cubicBezTo>
                <a:cubicBezTo>
                  <a:pt x="14983" y="15741"/>
                  <a:pt x="14931" y="15725"/>
                  <a:pt x="14880" y="15705"/>
                </a:cubicBezTo>
                <a:cubicBezTo>
                  <a:pt x="14840" y="15689"/>
                  <a:pt x="14799" y="15670"/>
                  <a:pt x="14758" y="15657"/>
                </a:cubicBezTo>
                <a:cubicBezTo>
                  <a:pt x="14754" y="15656"/>
                  <a:pt x="14749" y="15655"/>
                  <a:pt x="14745" y="15654"/>
                </a:cubicBezTo>
                <a:cubicBezTo>
                  <a:pt x="14794" y="15681"/>
                  <a:pt x="14844" y="15702"/>
                  <a:pt x="14897" y="15721"/>
                </a:cubicBezTo>
                <a:cubicBezTo>
                  <a:pt x="14933" y="15734"/>
                  <a:pt x="15035" y="15800"/>
                  <a:pt x="15074" y="15781"/>
                </a:cubicBezTo>
                <a:cubicBezTo>
                  <a:pt x="15106" y="15765"/>
                  <a:pt x="15116" y="15716"/>
                  <a:pt x="15128" y="15687"/>
                </a:cubicBezTo>
                <a:cubicBezTo>
                  <a:pt x="15156" y="15616"/>
                  <a:pt x="15174" y="15545"/>
                  <a:pt x="15189" y="15471"/>
                </a:cubicBezTo>
              </a:path>
              <a:path w="6426" h="1968">
                <a:moveTo>
                  <a:pt x="12573" y="15322"/>
                </a:moveTo>
                <a:cubicBezTo>
                  <a:pt x="12562" y="15328"/>
                  <a:pt x="12558" y="15330"/>
                  <a:pt x="12555" y="15338"/>
                </a:cubicBezTo>
                <a:cubicBezTo>
                  <a:pt x="12587" y="15351"/>
                  <a:pt x="12620" y="15355"/>
                  <a:pt x="12654" y="15356"/>
                </a:cubicBezTo>
                <a:cubicBezTo>
                  <a:pt x="12698" y="15358"/>
                  <a:pt x="12740" y="15354"/>
                  <a:pt x="12784" y="15351"/>
                </a:cubicBezTo>
                <a:cubicBezTo>
                  <a:pt x="12823" y="15348"/>
                  <a:pt x="12861" y="15344"/>
                  <a:pt x="12900" y="15340"/>
                </a:cubicBezTo>
                <a:cubicBezTo>
                  <a:pt x="12917" y="15338"/>
                  <a:pt x="12922" y="15338"/>
                  <a:pt x="12933" y="15335"/>
                </a:cubicBezTo>
                <a:cubicBezTo>
                  <a:pt x="12901" y="15337"/>
                  <a:pt x="12870" y="15339"/>
                  <a:pt x="12838" y="15335"/>
                </a:cubicBezTo>
                <a:cubicBezTo>
                  <a:pt x="12802" y="15330"/>
                  <a:pt x="12768" y="15322"/>
                  <a:pt x="12736" y="15305"/>
                </a:cubicBezTo>
                <a:cubicBezTo>
                  <a:pt x="12719" y="15295"/>
                  <a:pt x="12714" y="15290"/>
                  <a:pt x="12707" y="15273"/>
                </a:cubicBezTo>
                <a:cubicBezTo>
                  <a:pt x="12727" y="15252"/>
                  <a:pt x="12749" y="15246"/>
                  <a:pt x="12778" y="15241"/>
                </a:cubicBezTo>
                <a:cubicBezTo>
                  <a:pt x="12833" y="15232"/>
                  <a:pt x="12898" y="15228"/>
                  <a:pt x="12953" y="15238"/>
                </a:cubicBezTo>
                <a:cubicBezTo>
                  <a:pt x="12984" y="15244"/>
                  <a:pt x="13015" y="15257"/>
                  <a:pt x="13018" y="15292"/>
                </a:cubicBezTo>
                <a:cubicBezTo>
                  <a:pt x="13022" y="15336"/>
                  <a:pt x="12981" y="15379"/>
                  <a:pt x="12955" y="15409"/>
                </a:cubicBezTo>
                <a:cubicBezTo>
                  <a:pt x="12936" y="15430"/>
                  <a:pt x="12930" y="15437"/>
                  <a:pt x="12916" y="15450"/>
                </a:cubicBezTo>
              </a:path>
              <a:path w="6426" h="1968">
                <a:moveTo>
                  <a:pt x="15442" y="15631"/>
                </a:moveTo>
                <a:cubicBezTo>
                  <a:pt x="15444" y="15606"/>
                  <a:pt x="15445" y="15600"/>
                  <a:pt x="15462" y="15579"/>
                </a:cubicBezTo>
                <a:cubicBezTo>
                  <a:pt x="15479" y="15558"/>
                  <a:pt x="15502" y="15548"/>
                  <a:pt x="15529" y="15542"/>
                </a:cubicBezTo>
                <a:cubicBezTo>
                  <a:pt x="15559" y="15536"/>
                  <a:pt x="15599" y="15537"/>
                  <a:pt x="15611" y="15571"/>
                </a:cubicBezTo>
                <a:cubicBezTo>
                  <a:pt x="15623" y="15604"/>
                  <a:pt x="15603" y="15649"/>
                  <a:pt x="15589" y="15678"/>
                </a:cubicBezTo>
                <a:cubicBezTo>
                  <a:pt x="15567" y="15721"/>
                  <a:pt x="15539" y="15762"/>
                  <a:pt x="15511" y="15801"/>
                </a:cubicBezTo>
                <a:cubicBezTo>
                  <a:pt x="15496" y="15823"/>
                  <a:pt x="15489" y="15834"/>
                  <a:pt x="15484" y="15859"/>
                </a:cubicBezTo>
                <a:cubicBezTo>
                  <a:pt x="15511" y="15877"/>
                  <a:pt x="15519" y="15881"/>
                  <a:pt x="15557" y="15877"/>
                </a:cubicBezTo>
                <a:cubicBezTo>
                  <a:pt x="15610" y="15871"/>
                  <a:pt x="15662" y="15848"/>
                  <a:pt x="15710" y="15825"/>
                </a:cubicBezTo>
                <a:cubicBezTo>
                  <a:pt x="15761" y="15801"/>
                  <a:pt x="15809" y="15768"/>
                  <a:pt x="15854" y="15733"/>
                </a:cubicBezTo>
                <a:cubicBezTo>
                  <a:pt x="15872" y="15719"/>
                  <a:pt x="15889" y="15702"/>
                  <a:pt x="15907" y="15687"/>
                </a:cubicBezTo>
                <a:cubicBezTo>
                  <a:pt x="15903" y="15715"/>
                  <a:pt x="15891" y="15741"/>
                  <a:pt x="15888" y="15769"/>
                </a:cubicBezTo>
                <a:cubicBezTo>
                  <a:pt x="15888" y="15789"/>
                  <a:pt x="15887" y="15794"/>
                  <a:pt x="15894" y="15805"/>
                </a:cubicBezTo>
                <a:cubicBezTo>
                  <a:pt x="15929" y="15823"/>
                  <a:pt x="15949" y="15802"/>
                  <a:pt x="15980" y="15777"/>
                </a:cubicBezTo>
                <a:cubicBezTo>
                  <a:pt x="16023" y="15743"/>
                  <a:pt x="16058" y="15701"/>
                  <a:pt x="16076" y="15648"/>
                </a:cubicBezTo>
                <a:cubicBezTo>
                  <a:pt x="16092" y="15600"/>
                  <a:pt x="16069" y="15573"/>
                  <a:pt x="16024" y="15561"/>
                </a:cubicBezTo>
                <a:cubicBezTo>
                  <a:pt x="15959" y="15543"/>
                  <a:pt x="15902" y="15565"/>
                  <a:pt x="15841" y="15585"/>
                </a:cubicBezTo>
                <a:cubicBezTo>
                  <a:pt x="15824" y="15590"/>
                  <a:pt x="15808" y="15596"/>
                  <a:pt x="15791" y="15601"/>
                </a:cubicBezTo>
              </a:path>
              <a:path w="6426" h="1968">
                <a:moveTo>
                  <a:pt x="15272" y="16099"/>
                </a:moveTo>
                <a:cubicBezTo>
                  <a:pt x="15253" y="16098"/>
                  <a:pt x="15236" y="16095"/>
                  <a:pt x="15216" y="16101"/>
                </a:cubicBezTo>
                <a:cubicBezTo>
                  <a:pt x="15175" y="16112"/>
                  <a:pt x="15137" y="16130"/>
                  <a:pt x="15100" y="16150"/>
                </a:cubicBezTo>
                <a:cubicBezTo>
                  <a:pt x="14985" y="16210"/>
                  <a:pt x="14876" y="16281"/>
                  <a:pt x="14758" y="16335"/>
                </a:cubicBezTo>
                <a:cubicBezTo>
                  <a:pt x="14730" y="16348"/>
                  <a:pt x="14701" y="16358"/>
                  <a:pt x="14672" y="16368"/>
                </a:cubicBezTo>
                <a:cubicBezTo>
                  <a:pt x="14685" y="16348"/>
                  <a:pt x="14697" y="16334"/>
                  <a:pt x="14717" y="16315"/>
                </a:cubicBezTo>
                <a:cubicBezTo>
                  <a:pt x="14754" y="16279"/>
                  <a:pt x="14790" y="16242"/>
                  <a:pt x="14823" y="16202"/>
                </a:cubicBezTo>
                <a:cubicBezTo>
                  <a:pt x="14844" y="16177"/>
                  <a:pt x="14868" y="16147"/>
                  <a:pt x="14878" y="16115"/>
                </a:cubicBezTo>
                <a:cubicBezTo>
                  <a:pt x="14879" y="16110"/>
                  <a:pt x="14879" y="16106"/>
                  <a:pt x="14880" y="16101"/>
                </a:cubicBezTo>
                <a:cubicBezTo>
                  <a:pt x="14853" y="16085"/>
                  <a:pt x="14837" y="16095"/>
                  <a:pt x="14809" y="16113"/>
                </a:cubicBezTo>
                <a:cubicBezTo>
                  <a:pt x="14775" y="16135"/>
                  <a:pt x="14743" y="16164"/>
                  <a:pt x="14718" y="16195"/>
                </a:cubicBezTo>
                <a:cubicBezTo>
                  <a:pt x="14694" y="16226"/>
                  <a:pt x="14662" y="16273"/>
                  <a:pt x="14686" y="16313"/>
                </a:cubicBezTo>
                <a:cubicBezTo>
                  <a:pt x="14700" y="16336"/>
                  <a:pt x="14734" y="16353"/>
                  <a:pt x="14759" y="16358"/>
                </a:cubicBezTo>
                <a:cubicBezTo>
                  <a:pt x="14802" y="16367"/>
                  <a:pt x="14862" y="16362"/>
                  <a:pt x="14904" y="16356"/>
                </a:cubicBezTo>
                <a:cubicBezTo>
                  <a:pt x="14954" y="16349"/>
                  <a:pt x="15004" y="16338"/>
                  <a:pt x="15053" y="16328"/>
                </a:cubicBezTo>
              </a:path>
              <a:path w="6426" h="1968">
                <a:moveTo>
                  <a:pt x="13208" y="16239"/>
                </a:moveTo>
                <a:cubicBezTo>
                  <a:pt x="13229" y="16251"/>
                  <a:pt x="13246" y="16255"/>
                  <a:pt x="13267" y="16260"/>
                </a:cubicBezTo>
                <a:cubicBezTo>
                  <a:pt x="13294" y="16267"/>
                  <a:pt x="13320" y="16272"/>
                  <a:pt x="13349" y="16272"/>
                </a:cubicBezTo>
                <a:cubicBezTo>
                  <a:pt x="13387" y="16272"/>
                  <a:pt x="13428" y="16271"/>
                  <a:pt x="13465" y="16263"/>
                </a:cubicBezTo>
                <a:cubicBezTo>
                  <a:pt x="13498" y="16252"/>
                  <a:pt x="13510" y="16249"/>
                  <a:pt x="13534" y="16245"/>
                </a:cubicBezTo>
              </a:path>
              <a:path w="6426" h="1968">
                <a:moveTo>
                  <a:pt x="13765" y="16106"/>
                </a:moveTo>
                <a:cubicBezTo>
                  <a:pt x="13742" y="16090"/>
                  <a:pt x="13733" y="16097"/>
                  <a:pt x="13708" y="16111"/>
                </a:cubicBezTo>
                <a:cubicBezTo>
                  <a:pt x="13681" y="16126"/>
                  <a:pt x="13659" y="16153"/>
                  <a:pt x="13653" y="16184"/>
                </a:cubicBezTo>
                <a:cubicBezTo>
                  <a:pt x="13646" y="16220"/>
                  <a:pt x="13671" y="16239"/>
                  <a:pt x="13698" y="16255"/>
                </a:cubicBezTo>
                <a:cubicBezTo>
                  <a:pt x="13739" y="16280"/>
                  <a:pt x="13784" y="16295"/>
                  <a:pt x="13823" y="16324"/>
                </a:cubicBezTo>
                <a:cubicBezTo>
                  <a:pt x="13862" y="16353"/>
                  <a:pt x="13884" y="16384"/>
                  <a:pt x="13882" y="16433"/>
                </a:cubicBezTo>
                <a:cubicBezTo>
                  <a:pt x="13880" y="16475"/>
                  <a:pt x="13853" y="16513"/>
                  <a:pt x="13818" y="16535"/>
                </a:cubicBezTo>
                <a:cubicBezTo>
                  <a:pt x="13794" y="16550"/>
                  <a:pt x="13751" y="16561"/>
                  <a:pt x="13733" y="16532"/>
                </a:cubicBezTo>
                <a:cubicBezTo>
                  <a:pt x="13709" y="16494"/>
                  <a:pt x="13744" y="16434"/>
                  <a:pt x="13760" y="16402"/>
                </a:cubicBezTo>
                <a:cubicBezTo>
                  <a:pt x="13793" y="16337"/>
                  <a:pt x="13836" y="16279"/>
                  <a:pt x="13872" y="16216"/>
                </a:cubicBezTo>
                <a:cubicBezTo>
                  <a:pt x="13894" y="16178"/>
                  <a:pt x="13925" y="16132"/>
                  <a:pt x="13926" y="16087"/>
                </a:cubicBezTo>
                <a:cubicBezTo>
                  <a:pt x="13925" y="16083"/>
                  <a:pt x="13924" y="16079"/>
                  <a:pt x="13923" y="16075"/>
                </a:cubicBezTo>
                <a:cubicBezTo>
                  <a:pt x="13891" y="16068"/>
                  <a:pt x="13870" y="16083"/>
                  <a:pt x="13840" y="16099"/>
                </a:cubicBezTo>
                <a:cubicBezTo>
                  <a:pt x="13830" y="16105"/>
                  <a:pt x="13820" y="16110"/>
                  <a:pt x="13810" y="16116"/>
                </a:cubicBezTo>
              </a:path>
              <a:path w="6426" h="1968">
                <a:moveTo>
                  <a:pt x="14044" y="15923"/>
                </a:moveTo>
                <a:cubicBezTo>
                  <a:pt x="14073" y="15897"/>
                  <a:pt x="14070" y="15899"/>
                  <a:pt x="14103" y="15890"/>
                </a:cubicBezTo>
                <a:cubicBezTo>
                  <a:pt x="14129" y="15953"/>
                  <a:pt x="14139" y="16012"/>
                  <a:pt x="14143" y="16082"/>
                </a:cubicBezTo>
                <a:cubicBezTo>
                  <a:pt x="14154" y="16267"/>
                  <a:pt x="14124" y="16453"/>
                  <a:pt x="14145" y="16637"/>
                </a:cubicBezTo>
                <a:cubicBezTo>
                  <a:pt x="14147" y="16657"/>
                  <a:pt x="14152" y="16678"/>
                  <a:pt x="14155" y="16698"/>
                </a:cubicBezTo>
                <a:cubicBezTo>
                  <a:pt x="14122" y="16695"/>
                  <a:pt x="14089" y="16692"/>
                  <a:pt x="14056" y="16689"/>
                </a:cubicBezTo>
                <a:cubicBezTo>
                  <a:pt x="13939" y="16680"/>
                  <a:pt x="13820" y="16691"/>
                  <a:pt x="13703" y="16692"/>
                </a:cubicBezTo>
                <a:cubicBezTo>
                  <a:pt x="13575" y="16693"/>
                  <a:pt x="13446" y="16693"/>
                  <a:pt x="13318" y="16699"/>
                </a:cubicBezTo>
                <a:cubicBezTo>
                  <a:pt x="13192" y="16705"/>
                  <a:pt x="13058" y="16744"/>
                  <a:pt x="12933" y="16738"/>
                </a:cubicBezTo>
                <a:cubicBezTo>
                  <a:pt x="12929" y="16736"/>
                  <a:pt x="12926" y="16735"/>
                  <a:pt x="12922" y="16733"/>
                </a:cubicBezTo>
                <a:cubicBezTo>
                  <a:pt x="12937" y="16701"/>
                  <a:pt x="12951" y="16675"/>
                  <a:pt x="12972" y="16644"/>
                </a:cubicBezTo>
                <a:cubicBezTo>
                  <a:pt x="13005" y="16595"/>
                  <a:pt x="13031" y="16546"/>
                  <a:pt x="13049" y="16490"/>
                </a:cubicBezTo>
                <a:cubicBezTo>
                  <a:pt x="13096" y="16344"/>
                  <a:pt x="13094" y="16192"/>
                  <a:pt x="13109" y="16041"/>
                </a:cubicBezTo>
                <a:cubicBezTo>
                  <a:pt x="13113" y="15998"/>
                  <a:pt x="13117" y="15953"/>
                  <a:pt x="13153" y="15924"/>
                </a:cubicBezTo>
                <a:cubicBezTo>
                  <a:pt x="13200" y="15885"/>
                  <a:pt x="13273" y="15891"/>
                  <a:pt x="13330" y="15890"/>
                </a:cubicBezTo>
                <a:cubicBezTo>
                  <a:pt x="13520" y="15888"/>
                  <a:pt x="13713" y="15886"/>
                  <a:pt x="13903" y="15897"/>
                </a:cubicBezTo>
                <a:cubicBezTo>
                  <a:pt x="13974" y="15901"/>
                  <a:pt x="14047" y="15906"/>
                  <a:pt x="14114" y="15931"/>
                </a:cubicBezTo>
                <a:cubicBezTo>
                  <a:pt x="14142" y="15941"/>
                  <a:pt x="14153" y="15954"/>
                  <a:pt x="14174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30"/>
          <p:cNvSpPr/>
          <p:nvPr/>
        </p:nvSpPr>
        <p:spPr>
          <a:xfrm>
            <a:off x="4041720" y="5716440"/>
            <a:ext cx="468360" cy="344520"/>
          </a:xfrm>
          <a:custGeom>
            <a:avLst/>
            <a:gdLst/>
            <a:ahLst/>
            <a:rect l="l" t="t" r="r" b="b"/>
            <a:pathLst>
              <a:path w="1299" h="958">
                <a:moveTo>
                  <a:pt x="11394" y="16386"/>
                </a:moveTo>
                <a:cubicBezTo>
                  <a:pt x="11391" y="16391"/>
                  <a:pt x="11388" y="16395"/>
                  <a:pt x="11385" y="16400"/>
                </a:cubicBezTo>
                <a:cubicBezTo>
                  <a:pt x="11402" y="16418"/>
                  <a:pt x="11419" y="16424"/>
                  <a:pt x="11445" y="16424"/>
                </a:cubicBezTo>
                <a:cubicBezTo>
                  <a:pt x="11482" y="16423"/>
                  <a:pt x="11520" y="16414"/>
                  <a:pt x="11554" y="16402"/>
                </a:cubicBezTo>
                <a:cubicBezTo>
                  <a:pt x="11589" y="16390"/>
                  <a:pt x="11619" y="16368"/>
                  <a:pt x="11652" y="16352"/>
                </a:cubicBezTo>
                <a:cubicBezTo>
                  <a:pt x="11675" y="16341"/>
                  <a:pt x="11686" y="16336"/>
                  <a:pt x="11700" y="16314"/>
                </a:cubicBezTo>
              </a:path>
              <a:path w="1299" h="958">
                <a:moveTo>
                  <a:pt x="11604" y="16221"/>
                </a:moveTo>
                <a:cubicBezTo>
                  <a:pt x="11587" y="16211"/>
                  <a:pt x="11581" y="16208"/>
                  <a:pt x="11562" y="16205"/>
                </a:cubicBezTo>
                <a:cubicBezTo>
                  <a:pt x="11561" y="16227"/>
                  <a:pt x="11566" y="16248"/>
                  <a:pt x="11571" y="16270"/>
                </a:cubicBezTo>
                <a:cubicBezTo>
                  <a:pt x="11573" y="16277"/>
                  <a:pt x="11574" y="16285"/>
                  <a:pt x="11576" y="16292"/>
                </a:cubicBezTo>
              </a:path>
              <a:path w="1299" h="958">
                <a:moveTo>
                  <a:pt x="11620" y="16557"/>
                </a:moveTo>
                <a:cubicBezTo>
                  <a:pt x="11605" y="16575"/>
                  <a:pt x="11594" y="16581"/>
                  <a:pt x="11601" y="16591"/>
                </a:cubicBezTo>
              </a:path>
              <a:path w="1299" h="958">
                <a:moveTo>
                  <a:pt x="11814" y="16249"/>
                </a:moveTo>
                <a:cubicBezTo>
                  <a:pt x="11823" y="16221"/>
                  <a:pt x="11828" y="16196"/>
                  <a:pt x="11846" y="16173"/>
                </a:cubicBezTo>
                <a:cubicBezTo>
                  <a:pt x="11863" y="16151"/>
                  <a:pt x="11887" y="16145"/>
                  <a:pt x="11913" y="16154"/>
                </a:cubicBezTo>
                <a:cubicBezTo>
                  <a:pt x="11950" y="16167"/>
                  <a:pt x="11964" y="16204"/>
                  <a:pt x="11971" y="16239"/>
                </a:cubicBezTo>
                <a:cubicBezTo>
                  <a:pt x="11982" y="16291"/>
                  <a:pt x="11976" y="16347"/>
                  <a:pt x="11966" y="16399"/>
                </a:cubicBezTo>
                <a:cubicBezTo>
                  <a:pt x="11957" y="16445"/>
                  <a:pt x="11940" y="16489"/>
                  <a:pt x="11932" y="16535"/>
                </a:cubicBezTo>
                <a:cubicBezTo>
                  <a:pt x="11928" y="16558"/>
                  <a:pt x="11927" y="16586"/>
                  <a:pt x="11952" y="16596"/>
                </a:cubicBezTo>
                <a:cubicBezTo>
                  <a:pt x="11979" y="16606"/>
                  <a:pt x="12015" y="16592"/>
                  <a:pt x="12040" y="16586"/>
                </a:cubicBezTo>
                <a:cubicBezTo>
                  <a:pt x="12078" y="16577"/>
                  <a:pt x="12111" y="16557"/>
                  <a:pt x="12150" y="16548"/>
                </a:cubicBezTo>
                <a:cubicBezTo>
                  <a:pt x="12177" y="16543"/>
                  <a:pt x="12185" y="16542"/>
                  <a:pt x="12202" y="16535"/>
                </a:cubicBezTo>
              </a:path>
              <a:path w="1299" h="958">
                <a:moveTo>
                  <a:pt x="12384" y="16044"/>
                </a:moveTo>
                <a:cubicBezTo>
                  <a:pt x="12382" y="16014"/>
                  <a:pt x="12390" y="16093"/>
                  <a:pt x="12391" y="16098"/>
                </a:cubicBezTo>
                <a:cubicBezTo>
                  <a:pt x="12401" y="16163"/>
                  <a:pt x="12408" y="16229"/>
                  <a:pt x="12418" y="16294"/>
                </a:cubicBezTo>
                <a:cubicBezTo>
                  <a:pt x="12429" y="16369"/>
                  <a:pt x="12441" y="16445"/>
                  <a:pt x="12452" y="16520"/>
                </a:cubicBezTo>
                <a:cubicBezTo>
                  <a:pt x="12458" y="16562"/>
                  <a:pt x="12464" y="16607"/>
                  <a:pt x="12476" y="16648"/>
                </a:cubicBezTo>
                <a:cubicBezTo>
                  <a:pt x="12481" y="16659"/>
                  <a:pt x="12482" y="16664"/>
                  <a:pt x="12486" y="16652"/>
                </a:cubicBezTo>
              </a:path>
              <a:path w="1299" h="958">
                <a:moveTo>
                  <a:pt x="12394" y="16004"/>
                </a:moveTo>
                <a:cubicBezTo>
                  <a:pt x="12364" y="15938"/>
                  <a:pt x="12355" y="15922"/>
                  <a:pt x="12279" y="15906"/>
                </a:cubicBezTo>
                <a:cubicBezTo>
                  <a:pt x="12108" y="15871"/>
                  <a:pt x="11910" y="15915"/>
                  <a:pt x="11741" y="15938"/>
                </a:cubicBezTo>
                <a:cubicBezTo>
                  <a:pt x="11646" y="15951"/>
                  <a:pt x="11548" y="15965"/>
                  <a:pt x="11452" y="15961"/>
                </a:cubicBezTo>
                <a:cubicBezTo>
                  <a:pt x="11366" y="15957"/>
                  <a:pt x="11325" y="15931"/>
                  <a:pt x="11261" y="15886"/>
                </a:cubicBezTo>
                <a:cubicBezTo>
                  <a:pt x="11257" y="15884"/>
                  <a:pt x="11253" y="15882"/>
                  <a:pt x="11249" y="15880"/>
                </a:cubicBezTo>
                <a:cubicBezTo>
                  <a:pt x="11243" y="15904"/>
                  <a:pt x="11232" y="15923"/>
                  <a:pt x="11230" y="15951"/>
                </a:cubicBezTo>
                <a:cubicBezTo>
                  <a:pt x="11219" y="16128"/>
                  <a:pt x="11273" y="16308"/>
                  <a:pt x="11293" y="16483"/>
                </a:cubicBezTo>
                <a:cubicBezTo>
                  <a:pt x="11307" y="16604"/>
                  <a:pt x="11303" y="16717"/>
                  <a:pt x="11286" y="16836"/>
                </a:cubicBezTo>
                <a:cubicBezTo>
                  <a:pt x="11359" y="16836"/>
                  <a:pt x="11431" y="16831"/>
                  <a:pt x="11504" y="16823"/>
                </a:cubicBezTo>
                <a:cubicBezTo>
                  <a:pt x="11692" y="16803"/>
                  <a:pt x="11879" y="16770"/>
                  <a:pt x="12068" y="16753"/>
                </a:cubicBezTo>
                <a:cubicBezTo>
                  <a:pt x="12193" y="16742"/>
                  <a:pt x="12323" y="16734"/>
                  <a:pt x="12447" y="16756"/>
                </a:cubicBezTo>
                <a:cubicBezTo>
                  <a:pt x="12482" y="16762"/>
                  <a:pt x="12493" y="16760"/>
                  <a:pt x="12527" y="16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31"/>
          <p:cNvSpPr/>
          <p:nvPr/>
        </p:nvSpPr>
        <p:spPr>
          <a:xfrm>
            <a:off x="1979640" y="6365880"/>
            <a:ext cx="2178000" cy="81000"/>
          </a:xfrm>
          <a:custGeom>
            <a:avLst/>
            <a:gdLst/>
            <a:ahLst/>
            <a:rect l="l" t="t" r="r" b="b"/>
            <a:pathLst>
              <a:path w="6046" h="228">
                <a:moveTo>
                  <a:pt x="5501" y="17870"/>
                </a:moveTo>
                <a:cubicBezTo>
                  <a:pt x="5532" y="17882"/>
                  <a:pt x="5558" y="17881"/>
                  <a:pt x="5591" y="17882"/>
                </a:cubicBezTo>
                <a:cubicBezTo>
                  <a:pt x="5654" y="17883"/>
                  <a:pt x="5716" y="17878"/>
                  <a:pt x="5778" y="17869"/>
                </a:cubicBezTo>
                <a:cubicBezTo>
                  <a:pt x="5853" y="17859"/>
                  <a:pt x="5929" y="17850"/>
                  <a:pt x="6004" y="17841"/>
                </a:cubicBezTo>
                <a:cubicBezTo>
                  <a:pt x="6076" y="17832"/>
                  <a:pt x="6158" y="17815"/>
                  <a:pt x="6231" y="17822"/>
                </a:cubicBezTo>
                <a:cubicBezTo>
                  <a:pt x="6250" y="17824"/>
                  <a:pt x="6262" y="17824"/>
                  <a:pt x="6280" y="17815"/>
                </a:cubicBezTo>
                <a:cubicBezTo>
                  <a:pt x="6294" y="17809"/>
                  <a:pt x="6300" y="17806"/>
                  <a:pt x="6308" y="17797"/>
                </a:cubicBezTo>
              </a:path>
              <a:path w="6046" h="228">
                <a:moveTo>
                  <a:pt x="8900" y="17843"/>
                </a:moveTo>
                <a:cubicBezTo>
                  <a:pt x="8877" y="17837"/>
                  <a:pt x="8845" y="17835"/>
                  <a:pt x="8826" y="17820"/>
                </a:cubicBezTo>
                <a:cubicBezTo>
                  <a:pt x="8826" y="17817"/>
                  <a:pt x="8826" y="17814"/>
                  <a:pt x="8826" y="17811"/>
                </a:cubicBezTo>
                <a:cubicBezTo>
                  <a:pt x="8856" y="17808"/>
                  <a:pt x="8887" y="17804"/>
                  <a:pt x="8917" y="17802"/>
                </a:cubicBezTo>
                <a:cubicBezTo>
                  <a:pt x="9026" y="17795"/>
                  <a:pt x="9138" y="17799"/>
                  <a:pt x="9247" y="17799"/>
                </a:cubicBezTo>
                <a:cubicBezTo>
                  <a:pt x="9338" y="17799"/>
                  <a:pt x="9430" y="17804"/>
                  <a:pt x="9521" y="17807"/>
                </a:cubicBezTo>
                <a:cubicBezTo>
                  <a:pt x="9623" y="17810"/>
                  <a:pt x="9725" y="17808"/>
                  <a:pt x="9827" y="17814"/>
                </a:cubicBezTo>
                <a:cubicBezTo>
                  <a:pt x="9876" y="17817"/>
                  <a:pt x="9929" y="17825"/>
                  <a:pt x="9979" y="17821"/>
                </a:cubicBezTo>
                <a:cubicBezTo>
                  <a:pt x="9982" y="17820"/>
                  <a:pt x="9986" y="17818"/>
                  <a:pt x="9989" y="17817"/>
                </a:cubicBezTo>
              </a:path>
              <a:path w="6046" h="228">
                <a:moveTo>
                  <a:pt x="7081" y="17907"/>
                </a:moveTo>
                <a:cubicBezTo>
                  <a:pt x="7052" y="17907"/>
                  <a:pt x="7021" y="17912"/>
                  <a:pt x="7000" y="17887"/>
                </a:cubicBezTo>
                <a:cubicBezTo>
                  <a:pt x="6984" y="17869"/>
                  <a:pt x="6991" y="17851"/>
                  <a:pt x="6997" y="17831"/>
                </a:cubicBezTo>
                <a:cubicBezTo>
                  <a:pt x="7003" y="17809"/>
                  <a:pt x="7012" y="17805"/>
                  <a:pt x="7034" y="17798"/>
                </a:cubicBezTo>
                <a:cubicBezTo>
                  <a:pt x="7068" y="17787"/>
                  <a:pt x="7123" y="17794"/>
                  <a:pt x="7158" y="17793"/>
                </a:cubicBezTo>
                <a:cubicBezTo>
                  <a:pt x="7253" y="17791"/>
                  <a:pt x="7347" y="17788"/>
                  <a:pt x="7442" y="17787"/>
                </a:cubicBezTo>
                <a:cubicBezTo>
                  <a:pt x="7523" y="17786"/>
                  <a:pt x="7602" y="17799"/>
                  <a:pt x="7683" y="17802"/>
                </a:cubicBezTo>
                <a:cubicBezTo>
                  <a:pt x="7741" y="17804"/>
                  <a:pt x="7795" y="17815"/>
                  <a:pt x="7852" y="17820"/>
                </a:cubicBezTo>
                <a:cubicBezTo>
                  <a:pt x="7880" y="17823"/>
                  <a:pt x="7907" y="17823"/>
                  <a:pt x="7934" y="17827"/>
                </a:cubicBezTo>
                <a:cubicBezTo>
                  <a:pt x="7951" y="17829"/>
                  <a:pt x="7965" y="17838"/>
                  <a:pt x="7985" y="17837"/>
                </a:cubicBezTo>
                <a:cubicBezTo>
                  <a:pt x="8000" y="17838"/>
                  <a:pt x="8007" y="17838"/>
                  <a:pt x="8017" y="17834"/>
                </a:cubicBezTo>
              </a:path>
              <a:path w="6046" h="228">
                <a:moveTo>
                  <a:pt x="10310" y="17789"/>
                </a:moveTo>
                <a:cubicBezTo>
                  <a:pt x="10267" y="17773"/>
                  <a:pt x="10226" y="17753"/>
                  <a:pt x="10184" y="17733"/>
                </a:cubicBezTo>
                <a:cubicBezTo>
                  <a:pt x="10156" y="17720"/>
                  <a:pt x="10129" y="17704"/>
                  <a:pt x="10103" y="17689"/>
                </a:cubicBezTo>
                <a:cubicBezTo>
                  <a:pt x="10099" y="17687"/>
                  <a:pt x="10095" y="17684"/>
                  <a:pt x="10091" y="17682"/>
                </a:cubicBezTo>
                <a:cubicBezTo>
                  <a:pt x="10124" y="17682"/>
                  <a:pt x="10155" y="17684"/>
                  <a:pt x="10188" y="17688"/>
                </a:cubicBezTo>
                <a:cubicBezTo>
                  <a:pt x="10270" y="17697"/>
                  <a:pt x="10352" y="17707"/>
                  <a:pt x="10434" y="17714"/>
                </a:cubicBezTo>
                <a:cubicBezTo>
                  <a:pt x="10565" y="17725"/>
                  <a:pt x="10696" y="17736"/>
                  <a:pt x="10827" y="17741"/>
                </a:cubicBezTo>
                <a:cubicBezTo>
                  <a:pt x="10955" y="17746"/>
                  <a:pt x="11085" y="17749"/>
                  <a:pt x="11213" y="17746"/>
                </a:cubicBezTo>
                <a:cubicBezTo>
                  <a:pt x="11284" y="17744"/>
                  <a:pt x="11355" y="17744"/>
                  <a:pt x="11426" y="17749"/>
                </a:cubicBezTo>
                <a:cubicBezTo>
                  <a:pt x="11456" y="17751"/>
                  <a:pt x="11512" y="17749"/>
                  <a:pt x="11536" y="17773"/>
                </a:cubicBezTo>
                <a:cubicBezTo>
                  <a:pt x="11559" y="17796"/>
                  <a:pt x="11530" y="17787"/>
                  <a:pt x="11531" y="1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32"/>
          <p:cNvSpPr/>
          <p:nvPr/>
        </p:nvSpPr>
        <p:spPr>
          <a:xfrm>
            <a:off x="5249880" y="6094440"/>
            <a:ext cx="1509840" cy="434880"/>
          </a:xfrm>
          <a:custGeom>
            <a:avLst/>
            <a:gdLst/>
            <a:ahLst/>
            <a:rect l="l" t="t" r="r" b="b"/>
            <a:pathLst>
              <a:path w="4196" h="1212">
                <a:moveTo>
                  <a:pt x="14606" y="17419"/>
                </a:moveTo>
                <a:cubicBezTo>
                  <a:pt x="14603" y="17415"/>
                  <a:pt x="14600" y="17412"/>
                  <a:pt x="14597" y="17408"/>
                </a:cubicBezTo>
                <a:cubicBezTo>
                  <a:pt x="14580" y="17430"/>
                  <a:pt x="14586" y="17459"/>
                  <a:pt x="14584" y="17489"/>
                </a:cubicBezTo>
                <a:cubicBezTo>
                  <a:pt x="14581" y="17532"/>
                  <a:pt x="14580" y="17577"/>
                  <a:pt x="14584" y="17620"/>
                </a:cubicBezTo>
                <a:cubicBezTo>
                  <a:pt x="14587" y="17648"/>
                  <a:pt x="14586" y="17683"/>
                  <a:pt x="14600" y="17708"/>
                </a:cubicBezTo>
                <a:cubicBezTo>
                  <a:pt x="14603" y="17712"/>
                  <a:pt x="14606" y="17715"/>
                  <a:pt x="14609" y="17719"/>
                </a:cubicBezTo>
              </a:path>
              <a:path w="4196" h="1212">
                <a:moveTo>
                  <a:pt x="14765" y="17418"/>
                </a:moveTo>
                <a:cubicBezTo>
                  <a:pt x="14794" y="17363"/>
                  <a:pt x="14827" y="17317"/>
                  <a:pt x="14878" y="17280"/>
                </a:cubicBezTo>
                <a:cubicBezTo>
                  <a:pt x="14927" y="17245"/>
                  <a:pt x="14985" y="17227"/>
                  <a:pt x="15045" y="17219"/>
                </a:cubicBezTo>
                <a:cubicBezTo>
                  <a:pt x="15104" y="17211"/>
                  <a:pt x="15158" y="17218"/>
                  <a:pt x="15195" y="17270"/>
                </a:cubicBezTo>
                <a:cubicBezTo>
                  <a:pt x="15222" y="17308"/>
                  <a:pt x="15212" y="17343"/>
                  <a:pt x="15198" y="17384"/>
                </a:cubicBezTo>
                <a:cubicBezTo>
                  <a:pt x="15181" y="17431"/>
                  <a:pt x="15153" y="17467"/>
                  <a:pt x="15122" y="17505"/>
                </a:cubicBezTo>
                <a:cubicBezTo>
                  <a:pt x="15102" y="17529"/>
                  <a:pt x="15073" y="17552"/>
                  <a:pt x="15063" y="17583"/>
                </a:cubicBezTo>
                <a:cubicBezTo>
                  <a:pt x="15062" y="17588"/>
                  <a:pt x="15062" y="17593"/>
                  <a:pt x="15061" y="17598"/>
                </a:cubicBezTo>
                <a:cubicBezTo>
                  <a:pt x="15092" y="17617"/>
                  <a:pt x="15123" y="17623"/>
                  <a:pt x="15160" y="17627"/>
                </a:cubicBezTo>
                <a:cubicBezTo>
                  <a:pt x="15228" y="17634"/>
                  <a:pt x="15301" y="17634"/>
                  <a:pt x="15369" y="17629"/>
                </a:cubicBezTo>
                <a:cubicBezTo>
                  <a:pt x="15414" y="17626"/>
                  <a:pt x="15458" y="17616"/>
                  <a:pt x="15502" y="17606"/>
                </a:cubicBezTo>
              </a:path>
              <a:path w="4196" h="1212">
                <a:moveTo>
                  <a:pt x="15694" y="17374"/>
                </a:moveTo>
                <a:cubicBezTo>
                  <a:pt x="15682" y="17380"/>
                  <a:pt x="15673" y="17380"/>
                  <a:pt x="15664" y="17409"/>
                </a:cubicBezTo>
                <a:cubicBezTo>
                  <a:pt x="15659" y="17426"/>
                  <a:pt x="15655" y="17444"/>
                  <a:pt x="15662" y="17462"/>
                </a:cubicBezTo>
                <a:cubicBezTo>
                  <a:pt x="15668" y="17477"/>
                  <a:pt x="15681" y="17487"/>
                  <a:pt x="15696" y="17493"/>
                </a:cubicBezTo>
                <a:cubicBezTo>
                  <a:pt x="15718" y="17502"/>
                  <a:pt x="15740" y="17490"/>
                  <a:pt x="15760" y="17481"/>
                </a:cubicBezTo>
                <a:cubicBezTo>
                  <a:pt x="15785" y="17470"/>
                  <a:pt x="15808" y="17456"/>
                  <a:pt x="15833" y="17445"/>
                </a:cubicBezTo>
                <a:cubicBezTo>
                  <a:pt x="15863" y="17432"/>
                  <a:pt x="15869" y="17430"/>
                  <a:pt x="15888" y="17459"/>
                </a:cubicBezTo>
                <a:cubicBezTo>
                  <a:pt x="15902" y="17480"/>
                  <a:pt x="15900" y="17511"/>
                  <a:pt x="15910" y="17534"/>
                </a:cubicBezTo>
                <a:cubicBezTo>
                  <a:pt x="15921" y="17557"/>
                  <a:pt x="15935" y="17573"/>
                  <a:pt x="15962" y="17569"/>
                </a:cubicBezTo>
                <a:cubicBezTo>
                  <a:pt x="15998" y="17564"/>
                  <a:pt x="16027" y="17536"/>
                  <a:pt x="16052" y="17512"/>
                </a:cubicBezTo>
                <a:cubicBezTo>
                  <a:pt x="16085" y="17480"/>
                  <a:pt x="16118" y="17442"/>
                  <a:pt x="16141" y="17402"/>
                </a:cubicBezTo>
                <a:cubicBezTo>
                  <a:pt x="16152" y="17382"/>
                  <a:pt x="16179" y="17341"/>
                  <a:pt x="16172" y="17316"/>
                </a:cubicBezTo>
                <a:cubicBezTo>
                  <a:pt x="16175" y="17305"/>
                  <a:pt x="16175" y="17301"/>
                  <a:pt x="16163" y="17299"/>
                </a:cubicBezTo>
              </a:path>
              <a:path w="4196" h="1212">
                <a:moveTo>
                  <a:pt x="17105" y="17302"/>
                </a:moveTo>
                <a:cubicBezTo>
                  <a:pt x="17081" y="17294"/>
                  <a:pt x="17060" y="17284"/>
                  <a:pt x="17034" y="17289"/>
                </a:cubicBezTo>
                <a:cubicBezTo>
                  <a:pt x="17029" y="17290"/>
                  <a:pt x="17024" y="17292"/>
                  <a:pt x="17019" y="17293"/>
                </a:cubicBezTo>
                <a:cubicBezTo>
                  <a:pt x="17044" y="17300"/>
                  <a:pt x="17068" y="17297"/>
                  <a:pt x="17094" y="17295"/>
                </a:cubicBezTo>
                <a:cubicBezTo>
                  <a:pt x="17139" y="17291"/>
                  <a:pt x="17183" y="17282"/>
                  <a:pt x="17228" y="17280"/>
                </a:cubicBezTo>
                <a:cubicBezTo>
                  <a:pt x="17274" y="17278"/>
                  <a:pt x="17321" y="17276"/>
                  <a:pt x="17367" y="17278"/>
                </a:cubicBezTo>
                <a:cubicBezTo>
                  <a:pt x="17402" y="17279"/>
                  <a:pt x="17437" y="17281"/>
                  <a:pt x="17471" y="17271"/>
                </a:cubicBezTo>
                <a:cubicBezTo>
                  <a:pt x="17488" y="17264"/>
                  <a:pt x="17494" y="17263"/>
                  <a:pt x="17501" y="17252"/>
                </a:cubicBezTo>
              </a:path>
              <a:path w="4196" h="1212">
                <a:moveTo>
                  <a:pt x="17171" y="17132"/>
                </a:moveTo>
                <a:cubicBezTo>
                  <a:pt x="17162" y="17132"/>
                  <a:pt x="17158" y="17132"/>
                  <a:pt x="17152" y="17131"/>
                </a:cubicBezTo>
                <a:cubicBezTo>
                  <a:pt x="17154" y="17148"/>
                  <a:pt x="17162" y="17166"/>
                  <a:pt x="17168" y="17183"/>
                </a:cubicBezTo>
                <a:cubicBezTo>
                  <a:pt x="17181" y="17222"/>
                  <a:pt x="17188" y="17262"/>
                  <a:pt x="17195" y="17303"/>
                </a:cubicBezTo>
                <a:cubicBezTo>
                  <a:pt x="17202" y="17345"/>
                  <a:pt x="17206" y="17395"/>
                  <a:pt x="17221" y="17435"/>
                </a:cubicBezTo>
                <a:cubicBezTo>
                  <a:pt x="17229" y="17458"/>
                  <a:pt x="17241" y="17468"/>
                  <a:pt x="17259" y="17482"/>
                </a:cubicBezTo>
              </a:path>
              <a:path w="4196" h="1212">
                <a:moveTo>
                  <a:pt x="17751" y="16928"/>
                </a:moveTo>
                <a:cubicBezTo>
                  <a:pt x="17778" y="16930"/>
                  <a:pt x="17805" y="16936"/>
                  <a:pt x="17832" y="16940"/>
                </a:cubicBezTo>
                <a:cubicBezTo>
                  <a:pt x="17891" y="16948"/>
                  <a:pt x="17951" y="16949"/>
                  <a:pt x="18010" y="16953"/>
                </a:cubicBezTo>
                <a:cubicBezTo>
                  <a:pt x="18088" y="16959"/>
                  <a:pt x="18167" y="16951"/>
                  <a:pt x="18244" y="16963"/>
                </a:cubicBezTo>
                <a:cubicBezTo>
                  <a:pt x="18275" y="16968"/>
                  <a:pt x="18314" y="16979"/>
                  <a:pt x="18310" y="17017"/>
                </a:cubicBezTo>
                <a:cubicBezTo>
                  <a:pt x="18305" y="17069"/>
                  <a:pt x="18253" y="17119"/>
                  <a:pt x="18223" y="17158"/>
                </a:cubicBezTo>
                <a:cubicBezTo>
                  <a:pt x="18177" y="17217"/>
                  <a:pt x="18128" y="17272"/>
                  <a:pt x="18082" y="17330"/>
                </a:cubicBezTo>
                <a:cubicBezTo>
                  <a:pt x="18057" y="17362"/>
                  <a:pt x="18041" y="17385"/>
                  <a:pt x="18027" y="17421"/>
                </a:cubicBezTo>
              </a:path>
              <a:path w="4196" h="1212">
                <a:moveTo>
                  <a:pt x="18699" y="17183"/>
                </a:moveTo>
                <a:cubicBezTo>
                  <a:pt x="18691" y="17173"/>
                  <a:pt x="18691" y="17152"/>
                  <a:pt x="18658" y="17154"/>
                </a:cubicBezTo>
                <a:cubicBezTo>
                  <a:pt x="18631" y="17156"/>
                  <a:pt x="18597" y="17173"/>
                  <a:pt x="18576" y="17189"/>
                </a:cubicBezTo>
                <a:cubicBezTo>
                  <a:pt x="18552" y="17208"/>
                  <a:pt x="18515" y="17241"/>
                  <a:pt x="18506" y="17272"/>
                </a:cubicBezTo>
                <a:cubicBezTo>
                  <a:pt x="18501" y="17290"/>
                  <a:pt x="18498" y="17294"/>
                  <a:pt x="18502" y="17305"/>
                </a:cubicBezTo>
                <a:cubicBezTo>
                  <a:pt x="18535" y="17315"/>
                  <a:pt x="18544" y="17316"/>
                  <a:pt x="18580" y="17302"/>
                </a:cubicBezTo>
                <a:cubicBezTo>
                  <a:pt x="18632" y="17281"/>
                  <a:pt x="18679" y="17253"/>
                  <a:pt x="18726" y="17222"/>
                </a:cubicBezTo>
                <a:cubicBezTo>
                  <a:pt x="18741" y="17212"/>
                  <a:pt x="18757" y="17204"/>
                  <a:pt x="18771" y="17197"/>
                </a:cubicBezTo>
                <a:cubicBezTo>
                  <a:pt x="18776" y="17256"/>
                  <a:pt x="18761" y="17309"/>
                  <a:pt x="18747" y="17367"/>
                </a:cubicBezTo>
                <a:cubicBezTo>
                  <a:pt x="18726" y="17453"/>
                  <a:pt x="18703" y="17538"/>
                  <a:pt x="18678" y="17623"/>
                </a:cubicBezTo>
                <a:cubicBezTo>
                  <a:pt x="18642" y="17749"/>
                  <a:pt x="18588" y="17869"/>
                  <a:pt x="18528" y="17985"/>
                </a:cubicBezTo>
                <a:cubicBezTo>
                  <a:pt x="18490" y="18058"/>
                  <a:pt x="18435" y="18132"/>
                  <a:pt x="18346" y="18138"/>
                </a:cubicBezTo>
                <a:cubicBezTo>
                  <a:pt x="18332" y="18135"/>
                  <a:pt x="18318" y="18133"/>
                  <a:pt x="18304" y="18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3"/>
          <p:cNvSpPr/>
          <p:nvPr/>
        </p:nvSpPr>
        <p:spPr>
          <a:xfrm>
            <a:off x="6808680" y="5445000"/>
            <a:ext cx="611280" cy="182520"/>
          </a:xfrm>
          <a:custGeom>
            <a:avLst/>
            <a:gdLst/>
            <a:ahLst/>
            <a:rect l="l" t="t" r="r" b="b"/>
            <a:pathLst>
              <a:path w="1699" h="507">
                <a:moveTo>
                  <a:pt x="19021" y="15378"/>
                </a:moveTo>
                <a:cubicBezTo>
                  <a:pt x="19010" y="15364"/>
                  <a:pt x="18997" y="15333"/>
                  <a:pt x="18974" y="15338"/>
                </a:cubicBezTo>
                <a:cubicBezTo>
                  <a:pt x="18960" y="15341"/>
                  <a:pt x="18942" y="15395"/>
                  <a:pt x="18938" y="15406"/>
                </a:cubicBezTo>
                <a:cubicBezTo>
                  <a:pt x="18923" y="15451"/>
                  <a:pt x="18914" y="15500"/>
                  <a:pt x="18914" y="15547"/>
                </a:cubicBezTo>
                <a:cubicBezTo>
                  <a:pt x="18914" y="15576"/>
                  <a:pt x="18916" y="15621"/>
                  <a:pt x="18951" y="15631"/>
                </a:cubicBezTo>
                <a:cubicBezTo>
                  <a:pt x="18986" y="15641"/>
                  <a:pt x="19027" y="15604"/>
                  <a:pt x="19051" y="15585"/>
                </a:cubicBezTo>
                <a:cubicBezTo>
                  <a:pt x="19088" y="15556"/>
                  <a:pt x="19120" y="15523"/>
                  <a:pt x="19158" y="15496"/>
                </a:cubicBezTo>
                <a:cubicBezTo>
                  <a:pt x="19191" y="15472"/>
                  <a:pt x="19213" y="15477"/>
                  <a:pt x="19244" y="15501"/>
                </a:cubicBezTo>
                <a:cubicBezTo>
                  <a:pt x="19267" y="15519"/>
                  <a:pt x="19288" y="15545"/>
                  <a:pt x="19320" y="15534"/>
                </a:cubicBezTo>
                <a:cubicBezTo>
                  <a:pt x="19367" y="15518"/>
                  <a:pt x="19400" y="15455"/>
                  <a:pt x="19423" y="15415"/>
                </a:cubicBezTo>
                <a:cubicBezTo>
                  <a:pt x="19442" y="15382"/>
                  <a:pt x="19461" y="15350"/>
                  <a:pt x="19482" y="15320"/>
                </a:cubicBezTo>
                <a:cubicBezTo>
                  <a:pt x="19502" y="15292"/>
                  <a:pt x="19497" y="15306"/>
                  <a:pt x="19524" y="15302"/>
                </a:cubicBezTo>
              </a:path>
              <a:path w="1699" h="507">
                <a:moveTo>
                  <a:pt x="19732" y="15342"/>
                </a:moveTo>
                <a:cubicBezTo>
                  <a:pt x="19749" y="15338"/>
                  <a:pt x="19763" y="15334"/>
                  <a:pt x="19780" y="15332"/>
                </a:cubicBezTo>
                <a:cubicBezTo>
                  <a:pt x="19799" y="15330"/>
                  <a:pt x="19818" y="15328"/>
                  <a:pt x="19837" y="15331"/>
                </a:cubicBezTo>
                <a:cubicBezTo>
                  <a:pt x="19854" y="15334"/>
                  <a:pt x="19879" y="15332"/>
                  <a:pt x="19882" y="15355"/>
                </a:cubicBezTo>
                <a:cubicBezTo>
                  <a:pt x="19881" y="15358"/>
                  <a:pt x="19879" y="15361"/>
                  <a:pt x="19878" y="15364"/>
                </a:cubicBezTo>
              </a:path>
              <a:path w="1699" h="507">
                <a:moveTo>
                  <a:pt x="19698" y="15487"/>
                </a:moveTo>
                <a:cubicBezTo>
                  <a:pt x="19713" y="15522"/>
                  <a:pt x="19730" y="15517"/>
                  <a:pt x="19766" y="15520"/>
                </a:cubicBezTo>
                <a:cubicBezTo>
                  <a:pt x="19829" y="15526"/>
                  <a:pt x="19890" y="15522"/>
                  <a:pt x="19953" y="15514"/>
                </a:cubicBezTo>
              </a:path>
              <a:path w="1699" h="507">
                <a:moveTo>
                  <a:pt x="20401" y="15137"/>
                </a:moveTo>
                <a:cubicBezTo>
                  <a:pt x="20391" y="15132"/>
                  <a:pt x="20365" y="15184"/>
                  <a:pt x="20354" y="15214"/>
                </a:cubicBezTo>
                <a:cubicBezTo>
                  <a:pt x="20331" y="15276"/>
                  <a:pt x="20315" y="15341"/>
                  <a:pt x="20318" y="15408"/>
                </a:cubicBezTo>
                <a:cubicBezTo>
                  <a:pt x="20321" y="15464"/>
                  <a:pt x="20338" y="15522"/>
                  <a:pt x="20391" y="15551"/>
                </a:cubicBezTo>
                <a:cubicBezTo>
                  <a:pt x="20432" y="15573"/>
                  <a:pt x="20495" y="15568"/>
                  <a:pt x="20535" y="15547"/>
                </a:cubicBezTo>
                <a:cubicBezTo>
                  <a:pt x="20576" y="15526"/>
                  <a:pt x="20595" y="15495"/>
                  <a:pt x="20612" y="15455"/>
                </a:cubicBezTo>
                <a:cubicBezTo>
                  <a:pt x="20599" y="15423"/>
                  <a:pt x="20574" y="15416"/>
                  <a:pt x="20536" y="15425"/>
                </a:cubicBezTo>
                <a:cubicBezTo>
                  <a:pt x="20485" y="15437"/>
                  <a:pt x="20437" y="15466"/>
                  <a:pt x="20398" y="15500"/>
                </a:cubicBezTo>
                <a:cubicBezTo>
                  <a:pt x="20376" y="15523"/>
                  <a:pt x="20370" y="15529"/>
                  <a:pt x="20360" y="15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34"/>
          <p:cNvSpPr/>
          <p:nvPr/>
        </p:nvSpPr>
        <p:spPr>
          <a:xfrm>
            <a:off x="2106720" y="1486080"/>
            <a:ext cx="33120" cy="176040"/>
          </a:xfrm>
          <a:custGeom>
            <a:avLst/>
            <a:gdLst/>
            <a:ahLst/>
            <a:rect l="l" t="t" r="r" b="b"/>
            <a:pathLst>
              <a:path w="94" h="490">
                <a:moveTo>
                  <a:pt x="5944" y="4127"/>
                </a:moveTo>
                <a:cubicBezTo>
                  <a:pt x="5931" y="4150"/>
                  <a:pt x="5922" y="4172"/>
                  <a:pt x="5916" y="4198"/>
                </a:cubicBezTo>
                <a:cubicBezTo>
                  <a:pt x="5903" y="4252"/>
                  <a:pt x="5888" y="4307"/>
                  <a:pt x="5877" y="4361"/>
                </a:cubicBezTo>
                <a:cubicBezTo>
                  <a:pt x="5865" y="4421"/>
                  <a:pt x="5859" y="4480"/>
                  <a:pt x="5854" y="4540"/>
                </a:cubicBezTo>
                <a:cubicBezTo>
                  <a:pt x="5852" y="4570"/>
                  <a:pt x="5855" y="4614"/>
                  <a:pt x="5896" y="4616"/>
                </a:cubicBezTo>
                <a:cubicBezTo>
                  <a:pt x="5905" y="4614"/>
                  <a:pt x="5913" y="4613"/>
                  <a:pt x="5922" y="4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35"/>
          <p:cNvSpPr/>
          <p:nvPr/>
        </p:nvSpPr>
        <p:spPr>
          <a:xfrm>
            <a:off x="2212920" y="1486080"/>
            <a:ext cx="117360" cy="207720"/>
          </a:xfrm>
          <a:custGeom>
            <a:avLst/>
            <a:gdLst/>
            <a:ahLst/>
            <a:rect l="l" t="t" r="r" b="b"/>
            <a:pathLst>
              <a:path w="326" h="576">
                <a:moveTo>
                  <a:pt x="6450" y="4235"/>
                </a:moveTo>
                <a:cubicBezTo>
                  <a:pt x="6453" y="4213"/>
                  <a:pt x="6452" y="4196"/>
                  <a:pt x="6440" y="4175"/>
                </a:cubicBezTo>
                <a:cubicBezTo>
                  <a:pt x="6425" y="4150"/>
                  <a:pt x="6401" y="4135"/>
                  <a:pt x="6373" y="4131"/>
                </a:cubicBezTo>
                <a:cubicBezTo>
                  <a:pt x="6332" y="4125"/>
                  <a:pt x="6291" y="4136"/>
                  <a:pt x="6256" y="4157"/>
                </a:cubicBezTo>
                <a:cubicBezTo>
                  <a:pt x="6204" y="4188"/>
                  <a:pt x="6159" y="4238"/>
                  <a:pt x="6148" y="4299"/>
                </a:cubicBezTo>
                <a:cubicBezTo>
                  <a:pt x="6140" y="4342"/>
                  <a:pt x="6164" y="4363"/>
                  <a:pt x="6206" y="4364"/>
                </a:cubicBezTo>
                <a:cubicBezTo>
                  <a:pt x="6259" y="4366"/>
                  <a:pt x="6310" y="4337"/>
                  <a:pt x="6352" y="4309"/>
                </a:cubicBezTo>
                <a:cubicBezTo>
                  <a:pt x="6393" y="4282"/>
                  <a:pt x="6429" y="4249"/>
                  <a:pt x="6460" y="4211"/>
                </a:cubicBezTo>
                <a:cubicBezTo>
                  <a:pt x="6464" y="4205"/>
                  <a:pt x="6468" y="4200"/>
                  <a:pt x="6472" y="4194"/>
                </a:cubicBezTo>
                <a:cubicBezTo>
                  <a:pt x="6466" y="4238"/>
                  <a:pt x="6446" y="4281"/>
                  <a:pt x="6432" y="4324"/>
                </a:cubicBezTo>
                <a:cubicBezTo>
                  <a:pt x="6409" y="4392"/>
                  <a:pt x="6384" y="4464"/>
                  <a:pt x="6373" y="4535"/>
                </a:cubicBezTo>
                <a:cubicBezTo>
                  <a:pt x="6365" y="4583"/>
                  <a:pt x="6360" y="4637"/>
                  <a:pt x="6368" y="4686"/>
                </a:cubicBezTo>
                <a:cubicBezTo>
                  <a:pt x="6370" y="4692"/>
                  <a:pt x="6371" y="4698"/>
                  <a:pt x="6373" y="4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36"/>
          <p:cNvSpPr/>
          <p:nvPr/>
        </p:nvSpPr>
        <p:spPr>
          <a:xfrm>
            <a:off x="2916360" y="2019240"/>
            <a:ext cx="133200" cy="239760"/>
          </a:xfrm>
          <a:custGeom>
            <a:avLst/>
            <a:gdLst/>
            <a:ahLst/>
            <a:rect l="l" t="t" r="r" b="b"/>
            <a:pathLst>
              <a:path w="369" h="664">
                <a:moveTo>
                  <a:pt x="8341" y="5644"/>
                </a:moveTo>
                <a:cubicBezTo>
                  <a:pt x="8338" y="5631"/>
                  <a:pt x="8335" y="5621"/>
                  <a:pt x="8330" y="5609"/>
                </a:cubicBezTo>
                <a:cubicBezTo>
                  <a:pt x="8300" y="5630"/>
                  <a:pt x="8284" y="5651"/>
                  <a:pt x="8260" y="5689"/>
                </a:cubicBezTo>
                <a:cubicBezTo>
                  <a:pt x="8213" y="5766"/>
                  <a:pt x="8174" y="5847"/>
                  <a:pt x="8144" y="5933"/>
                </a:cubicBezTo>
                <a:cubicBezTo>
                  <a:pt x="8117" y="6009"/>
                  <a:pt x="8091" y="6097"/>
                  <a:pt x="8107" y="6178"/>
                </a:cubicBezTo>
                <a:cubicBezTo>
                  <a:pt x="8119" y="6237"/>
                  <a:pt x="8164" y="6273"/>
                  <a:pt x="8224" y="6272"/>
                </a:cubicBezTo>
                <a:cubicBezTo>
                  <a:pt x="8291" y="6271"/>
                  <a:pt x="8356" y="6238"/>
                  <a:pt x="8406" y="6196"/>
                </a:cubicBezTo>
                <a:cubicBezTo>
                  <a:pt x="8438" y="6169"/>
                  <a:pt x="8491" y="6114"/>
                  <a:pt x="8465" y="6066"/>
                </a:cubicBezTo>
                <a:cubicBezTo>
                  <a:pt x="8441" y="6022"/>
                  <a:pt x="8351" y="6025"/>
                  <a:pt x="8311" y="6031"/>
                </a:cubicBezTo>
                <a:cubicBezTo>
                  <a:pt x="8258" y="6039"/>
                  <a:pt x="8185" y="6064"/>
                  <a:pt x="8142" y="6097"/>
                </a:cubicBezTo>
                <a:cubicBezTo>
                  <a:pt x="8136" y="6104"/>
                  <a:pt x="8129" y="6112"/>
                  <a:pt x="8123" y="6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37"/>
          <p:cNvSpPr/>
          <p:nvPr/>
        </p:nvSpPr>
        <p:spPr>
          <a:xfrm>
            <a:off x="2239920" y="2568600"/>
            <a:ext cx="133560" cy="198360"/>
          </a:xfrm>
          <a:custGeom>
            <a:avLst/>
            <a:gdLst/>
            <a:ahLst/>
            <a:rect l="l" t="t" r="r" b="b"/>
            <a:pathLst>
              <a:path w="368" h="553">
                <a:moveTo>
                  <a:pt x="6427" y="7150"/>
                </a:moveTo>
                <a:cubicBezTo>
                  <a:pt x="6423" y="7118"/>
                  <a:pt x="6389" y="7154"/>
                  <a:pt x="6364" y="7169"/>
                </a:cubicBezTo>
                <a:cubicBezTo>
                  <a:pt x="6319" y="7196"/>
                  <a:pt x="6281" y="7226"/>
                  <a:pt x="6249" y="7268"/>
                </a:cubicBezTo>
                <a:cubicBezTo>
                  <a:pt x="6222" y="7303"/>
                  <a:pt x="6213" y="7337"/>
                  <a:pt x="6245" y="7372"/>
                </a:cubicBezTo>
                <a:cubicBezTo>
                  <a:pt x="6299" y="7432"/>
                  <a:pt x="6388" y="7449"/>
                  <a:pt x="6446" y="7506"/>
                </a:cubicBezTo>
                <a:cubicBezTo>
                  <a:pt x="6477" y="7536"/>
                  <a:pt x="6495" y="7578"/>
                  <a:pt x="6473" y="7619"/>
                </a:cubicBezTo>
                <a:cubicBezTo>
                  <a:pt x="6451" y="7661"/>
                  <a:pt x="6393" y="7682"/>
                  <a:pt x="6349" y="7687"/>
                </a:cubicBezTo>
                <a:cubicBezTo>
                  <a:pt x="6313" y="7691"/>
                  <a:pt x="6256" y="7686"/>
                  <a:pt x="6253" y="7638"/>
                </a:cubicBezTo>
                <a:cubicBezTo>
                  <a:pt x="6249" y="7576"/>
                  <a:pt x="6310" y="7514"/>
                  <a:pt x="6347" y="7474"/>
                </a:cubicBezTo>
                <a:cubicBezTo>
                  <a:pt x="6405" y="7411"/>
                  <a:pt x="6473" y="7357"/>
                  <a:pt x="6530" y="7293"/>
                </a:cubicBezTo>
                <a:cubicBezTo>
                  <a:pt x="6561" y="7258"/>
                  <a:pt x="6589" y="7230"/>
                  <a:pt x="6588" y="7184"/>
                </a:cubicBezTo>
                <a:cubicBezTo>
                  <a:pt x="6544" y="7173"/>
                  <a:pt x="6513" y="7183"/>
                  <a:pt x="6471" y="7203"/>
                </a:cubicBezTo>
                <a:cubicBezTo>
                  <a:pt x="6417" y="7229"/>
                  <a:pt x="6373" y="7262"/>
                  <a:pt x="6325" y="7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38"/>
          <p:cNvSpPr/>
          <p:nvPr/>
        </p:nvSpPr>
        <p:spPr>
          <a:xfrm>
            <a:off x="2098800" y="2790720"/>
            <a:ext cx="350640" cy="36720"/>
          </a:xfrm>
          <a:custGeom>
            <a:avLst/>
            <a:gdLst/>
            <a:ahLst/>
            <a:rect l="l" t="t" r="r" b="b"/>
            <a:pathLst>
              <a:path w="978" h="101">
                <a:moveTo>
                  <a:pt x="5828" y="7851"/>
                </a:moveTo>
                <a:cubicBezTo>
                  <a:pt x="5880" y="7842"/>
                  <a:pt x="5930" y="7835"/>
                  <a:pt x="5982" y="7825"/>
                </a:cubicBezTo>
                <a:cubicBezTo>
                  <a:pt x="6077" y="7807"/>
                  <a:pt x="6173" y="7797"/>
                  <a:pt x="6269" y="7786"/>
                </a:cubicBezTo>
                <a:cubicBezTo>
                  <a:pt x="6372" y="7774"/>
                  <a:pt x="6476" y="7760"/>
                  <a:pt x="6580" y="7755"/>
                </a:cubicBezTo>
                <a:cubicBezTo>
                  <a:pt x="6643" y="7752"/>
                  <a:pt x="6717" y="7742"/>
                  <a:pt x="6779" y="7762"/>
                </a:cubicBezTo>
                <a:cubicBezTo>
                  <a:pt x="6798" y="7772"/>
                  <a:pt x="6804" y="7774"/>
                  <a:pt x="6805" y="7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39"/>
          <p:cNvSpPr/>
          <p:nvPr/>
        </p:nvSpPr>
        <p:spPr>
          <a:xfrm>
            <a:off x="2195640" y="2916360"/>
            <a:ext cx="176040" cy="134640"/>
          </a:xfrm>
          <a:custGeom>
            <a:avLst/>
            <a:gdLst/>
            <a:ahLst/>
            <a:rect l="l" t="t" r="r" b="b"/>
            <a:pathLst>
              <a:path w="488" h="374">
                <a:moveTo>
                  <a:pt x="6264" y="8102"/>
                </a:moveTo>
                <a:cubicBezTo>
                  <a:pt x="6246" y="8137"/>
                  <a:pt x="6221" y="8169"/>
                  <a:pt x="6201" y="8204"/>
                </a:cubicBezTo>
                <a:cubicBezTo>
                  <a:pt x="6171" y="8258"/>
                  <a:pt x="6140" y="8312"/>
                  <a:pt x="6118" y="8370"/>
                </a:cubicBezTo>
                <a:cubicBezTo>
                  <a:pt x="6108" y="8396"/>
                  <a:pt x="6087" y="8441"/>
                  <a:pt x="6109" y="8467"/>
                </a:cubicBezTo>
                <a:cubicBezTo>
                  <a:pt x="6130" y="8491"/>
                  <a:pt x="6188" y="8467"/>
                  <a:pt x="6210" y="8460"/>
                </a:cubicBezTo>
                <a:cubicBezTo>
                  <a:pt x="6313" y="8428"/>
                  <a:pt x="6406" y="8377"/>
                  <a:pt x="6504" y="8335"/>
                </a:cubicBezTo>
                <a:cubicBezTo>
                  <a:pt x="6534" y="8322"/>
                  <a:pt x="6562" y="8312"/>
                  <a:pt x="6587" y="8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40"/>
          <p:cNvSpPr/>
          <p:nvPr/>
        </p:nvSpPr>
        <p:spPr>
          <a:xfrm>
            <a:off x="2287440" y="2944800"/>
            <a:ext cx="47880" cy="138240"/>
          </a:xfrm>
          <a:custGeom>
            <a:avLst/>
            <a:gdLst/>
            <a:ahLst/>
            <a:rect l="l" t="t" r="r" b="b"/>
            <a:pathLst>
              <a:path w="133" h="384">
                <a:moveTo>
                  <a:pt x="6450" y="8179"/>
                </a:moveTo>
                <a:cubicBezTo>
                  <a:pt x="6423" y="8208"/>
                  <a:pt x="6409" y="8228"/>
                  <a:pt x="6394" y="8265"/>
                </a:cubicBezTo>
                <a:cubicBezTo>
                  <a:pt x="6372" y="8317"/>
                  <a:pt x="6351" y="8376"/>
                  <a:pt x="6355" y="8433"/>
                </a:cubicBezTo>
                <a:cubicBezTo>
                  <a:pt x="6359" y="8490"/>
                  <a:pt x="6384" y="8534"/>
                  <a:pt x="6439" y="8553"/>
                </a:cubicBezTo>
                <a:cubicBezTo>
                  <a:pt x="6455" y="8556"/>
                  <a:pt x="6471" y="8559"/>
                  <a:pt x="6487" y="8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41"/>
          <p:cNvSpPr/>
          <p:nvPr/>
        </p:nvSpPr>
        <p:spPr>
          <a:xfrm>
            <a:off x="2724120" y="2786040"/>
            <a:ext cx="88920" cy="25560"/>
          </a:xfrm>
          <a:custGeom>
            <a:avLst/>
            <a:gdLst/>
            <a:ahLst/>
            <a:rect l="l" t="t" r="r" b="b"/>
            <a:pathLst>
              <a:path w="245" h="71">
                <a:moveTo>
                  <a:pt x="7567" y="7809"/>
                </a:moveTo>
                <a:cubicBezTo>
                  <a:pt x="7578" y="7775"/>
                  <a:pt x="7591" y="7769"/>
                  <a:pt x="7623" y="7757"/>
                </a:cubicBezTo>
                <a:cubicBezTo>
                  <a:pt x="7663" y="7743"/>
                  <a:pt x="7707" y="7735"/>
                  <a:pt x="7750" y="7739"/>
                </a:cubicBezTo>
                <a:cubicBezTo>
                  <a:pt x="7777" y="7742"/>
                  <a:pt x="7790" y="7750"/>
                  <a:pt x="7811" y="7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2"/>
          <p:cNvSpPr/>
          <p:nvPr/>
        </p:nvSpPr>
        <p:spPr>
          <a:xfrm>
            <a:off x="2698920" y="2859120"/>
            <a:ext cx="126720" cy="22320"/>
          </a:xfrm>
          <a:custGeom>
            <a:avLst/>
            <a:gdLst/>
            <a:ahLst/>
            <a:rect l="l" t="t" r="r" b="b"/>
            <a:pathLst>
              <a:path w="354" h="61">
                <a:moveTo>
                  <a:pt x="7502" y="7981"/>
                </a:moveTo>
                <a:cubicBezTo>
                  <a:pt x="7501" y="8016"/>
                  <a:pt x="7551" y="8007"/>
                  <a:pt x="7583" y="8002"/>
                </a:cubicBezTo>
                <a:cubicBezTo>
                  <a:pt x="7673" y="7988"/>
                  <a:pt x="7762" y="7967"/>
                  <a:pt x="7850" y="7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43"/>
          <p:cNvSpPr/>
          <p:nvPr/>
        </p:nvSpPr>
        <p:spPr>
          <a:xfrm>
            <a:off x="3022560" y="2690640"/>
            <a:ext cx="214200" cy="217800"/>
          </a:xfrm>
          <a:custGeom>
            <a:avLst/>
            <a:gdLst/>
            <a:ahLst/>
            <a:rect l="l" t="t" r="r" b="b"/>
            <a:pathLst>
              <a:path w="593" h="605">
                <a:moveTo>
                  <a:pt x="8398" y="7539"/>
                </a:moveTo>
                <a:cubicBezTo>
                  <a:pt x="8417" y="7506"/>
                  <a:pt x="8438" y="7495"/>
                  <a:pt x="8476" y="7484"/>
                </a:cubicBezTo>
                <a:cubicBezTo>
                  <a:pt x="8524" y="7471"/>
                  <a:pt x="8580" y="7468"/>
                  <a:pt x="8627" y="7486"/>
                </a:cubicBezTo>
                <a:cubicBezTo>
                  <a:pt x="8679" y="7506"/>
                  <a:pt x="8690" y="7558"/>
                  <a:pt x="8679" y="7608"/>
                </a:cubicBezTo>
                <a:cubicBezTo>
                  <a:pt x="8658" y="7706"/>
                  <a:pt x="8580" y="7800"/>
                  <a:pt x="8519" y="7876"/>
                </a:cubicBezTo>
                <a:cubicBezTo>
                  <a:pt x="8487" y="7916"/>
                  <a:pt x="8423" y="7969"/>
                  <a:pt x="8421" y="8026"/>
                </a:cubicBezTo>
                <a:cubicBezTo>
                  <a:pt x="8419" y="8077"/>
                  <a:pt x="8507" y="8075"/>
                  <a:pt x="8536" y="8077"/>
                </a:cubicBezTo>
                <a:cubicBezTo>
                  <a:pt x="8625" y="8082"/>
                  <a:pt x="8718" y="8078"/>
                  <a:pt x="8807" y="8074"/>
                </a:cubicBezTo>
                <a:cubicBezTo>
                  <a:pt x="8868" y="8071"/>
                  <a:pt x="8929" y="8065"/>
                  <a:pt x="8990" y="80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es Factors &amp; Pr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Factors of 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Factors of 6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2000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Highest common factors of 24 &amp;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Next prime number after 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24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w(w + 8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2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– 5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g + 3a + 12g – 6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123920" y="3573360"/>
                <a:ext cx="9907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es Factors &amp; Primes: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Factors of 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Factors of 6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2000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Highest common factors of 24 &amp;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Next prime number after 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24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w(w + 8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2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– 5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g + 3a + 12g – 6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1123920" y="3573360"/>
                <a:ext cx="9907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19:30Z</dcterms:created>
  <dc:creator>maxr</dc:creator>
  <dc:description/>
  <dc:language>en-US</dc:language>
  <cp:lastModifiedBy>max</cp:lastModifiedBy>
  <dcterms:modified xsi:type="dcterms:W3CDTF">2009-10-21T01:47:35Z</dcterms:modified>
  <cp:revision>23</cp:revision>
  <dc:subject/>
  <dc:title>Level_1_number</dc:title>
</cp:coreProperties>
</file>